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D4770BF6-FD52-4F86-A36A-CA213E3CB05B}" type="doc">
      <dgm:prSet loTypeId="urn:microsoft.com/office/officeart/2005/8/layout/process4" loCatId="process" qsTypeId="urn:microsoft.com/office/officeart/2005/8/quickstyle/simple1" qsCatId="simple" csTypeId="urn:microsoft.com/office/officeart/2005/8/colors/accent0_3" csCatId="mainScheme" phldr="1"/>
      <dgm:spPr/>
      <dgm:t>
        <a:bodyPr/>
        <a:lstStyle/>
        <a:p>
          <a:endParaRPr lang="ru-RU"/>
        </a:p>
      </dgm:t>
    </dgm:pt>
    <dgm:pt modelId="{05B0481D-88B5-423E-A858-A563CE313E5C}">
      <dgm:prSet phldrT="[Текст]" custT="1"/>
      <dgm:spPr/>
      <dgm:t>
        <a:bodyPr/>
        <a:lstStyle/>
        <a:p>
          <a:r>
            <a:rPr lang="ru-RU" sz="2400" dirty="0" smtClean="0"/>
            <a:t>Заявление о государственной регистрации по утвержденной форме</a:t>
          </a:r>
          <a:endParaRPr lang="ru-RU" sz="2400" dirty="0"/>
        </a:p>
      </dgm:t>
    </dgm:pt>
    <dgm:pt modelId="{811A8091-72ED-4677-BDD5-57FEAB44D5D5}" type="parTrans" cxnId="{7BF84540-831E-4A82-AB78-442D02269C1E}">
      <dgm:prSet/>
      <dgm:spPr/>
      <dgm:t>
        <a:bodyPr/>
        <a:lstStyle/>
        <a:p>
          <a:endParaRPr lang="ru-RU"/>
        </a:p>
      </dgm:t>
    </dgm:pt>
    <dgm:pt modelId="{28C335E0-F0AF-44FD-A15E-7C3EF48626D6}" type="sibTrans" cxnId="{7BF84540-831E-4A82-AB78-442D02269C1E}">
      <dgm:prSet/>
      <dgm:spPr/>
      <dgm:t>
        <a:bodyPr/>
        <a:lstStyle/>
        <a:p>
          <a:endParaRPr lang="ru-RU"/>
        </a:p>
      </dgm:t>
    </dgm:pt>
    <dgm:pt modelId="{FFB865EA-3069-46CB-B684-E920ADF2A4A3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accent4">
                  <a:lumMod val="25000"/>
                </a:schemeClr>
              </a:solidFill>
            </a:rPr>
            <a:t>Соответствие законодательству</a:t>
          </a:r>
          <a:endParaRPr lang="ru-RU" sz="2400" dirty="0">
            <a:solidFill>
              <a:schemeClr val="accent4">
                <a:lumMod val="25000"/>
              </a:schemeClr>
            </a:solidFill>
          </a:endParaRPr>
        </a:p>
      </dgm:t>
    </dgm:pt>
    <dgm:pt modelId="{6928509F-772A-4449-BFEA-311532B81DCE}" type="parTrans" cxnId="{0AE64590-42FF-47D0-B0EE-4BDCA366ADE3}">
      <dgm:prSet/>
      <dgm:spPr/>
      <dgm:t>
        <a:bodyPr/>
        <a:lstStyle/>
        <a:p>
          <a:endParaRPr lang="ru-RU"/>
        </a:p>
      </dgm:t>
    </dgm:pt>
    <dgm:pt modelId="{AB611444-ED2D-4868-8B5B-53848D3327C2}" type="sibTrans" cxnId="{0AE64590-42FF-47D0-B0EE-4BDCA366ADE3}">
      <dgm:prSet/>
      <dgm:spPr/>
      <dgm:t>
        <a:bodyPr/>
        <a:lstStyle/>
        <a:p>
          <a:endParaRPr lang="ru-RU"/>
        </a:p>
      </dgm:t>
    </dgm:pt>
    <dgm:pt modelId="{E479182E-475A-49E3-A4FC-132DB044586B}">
      <dgm:prSet phldrT="[Текст]" custT="1"/>
      <dgm:spPr/>
      <dgm:t>
        <a:bodyPr/>
        <a:lstStyle/>
        <a:p>
          <a:r>
            <a:rPr lang="ru-RU" sz="2000" dirty="0" smtClean="0">
              <a:solidFill>
                <a:schemeClr val="accent4">
                  <a:lumMod val="25000"/>
                </a:schemeClr>
              </a:solidFill>
            </a:rPr>
            <a:t>Подпись заявителя нотариально удостоверена</a:t>
          </a:r>
          <a:endParaRPr lang="ru-RU" sz="2000" dirty="0">
            <a:solidFill>
              <a:schemeClr val="accent4">
                <a:lumMod val="25000"/>
              </a:schemeClr>
            </a:solidFill>
          </a:endParaRPr>
        </a:p>
      </dgm:t>
    </dgm:pt>
    <dgm:pt modelId="{EC4466F6-64C4-4562-AC4A-343DB93C5B11}" type="parTrans" cxnId="{1C3B1061-BEE2-4EBB-995B-2B899EC02F7A}">
      <dgm:prSet/>
      <dgm:spPr/>
      <dgm:t>
        <a:bodyPr/>
        <a:lstStyle/>
        <a:p>
          <a:endParaRPr lang="ru-RU"/>
        </a:p>
      </dgm:t>
    </dgm:pt>
    <dgm:pt modelId="{8D721A98-BBE8-42D1-A845-3C0C587F644C}" type="sibTrans" cxnId="{1C3B1061-BEE2-4EBB-995B-2B899EC02F7A}">
      <dgm:prSet/>
      <dgm:spPr/>
      <dgm:t>
        <a:bodyPr/>
        <a:lstStyle/>
        <a:p>
          <a:endParaRPr lang="ru-RU"/>
        </a:p>
      </dgm:t>
    </dgm:pt>
    <dgm:pt modelId="{E4047B94-7889-4E65-9E50-6D75C53915C5}">
      <dgm:prSet phldrT="[Текст]" custT="1"/>
      <dgm:spPr/>
      <dgm:t>
        <a:bodyPr/>
        <a:lstStyle/>
        <a:p>
          <a:r>
            <a:rPr lang="ru-RU" sz="2400" dirty="0" smtClean="0"/>
            <a:t>Решение о создании юридического лица</a:t>
          </a:r>
          <a:endParaRPr lang="ru-RU" sz="2400" dirty="0"/>
        </a:p>
      </dgm:t>
    </dgm:pt>
    <dgm:pt modelId="{5DB177AB-4378-43C9-9E8A-AE31DEA130EA}" type="parTrans" cxnId="{222EA6A9-8F71-4B32-B399-EACC10F5C5D6}">
      <dgm:prSet/>
      <dgm:spPr/>
      <dgm:t>
        <a:bodyPr/>
        <a:lstStyle/>
        <a:p>
          <a:endParaRPr lang="ru-RU"/>
        </a:p>
      </dgm:t>
    </dgm:pt>
    <dgm:pt modelId="{93584925-3986-43DC-A068-58196ABD5FBA}" type="sibTrans" cxnId="{222EA6A9-8F71-4B32-B399-EACC10F5C5D6}">
      <dgm:prSet/>
      <dgm:spPr/>
      <dgm:t>
        <a:bodyPr/>
        <a:lstStyle/>
        <a:p>
          <a:endParaRPr lang="ru-RU"/>
        </a:p>
      </dgm:t>
    </dgm:pt>
    <dgm:pt modelId="{917E5BDA-4B40-4EB5-9A5C-E22EB6631D9C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accent4">
                  <a:lumMod val="25000"/>
                </a:schemeClr>
              </a:solidFill>
            </a:rPr>
            <a:t>Протокол собрания учредителей</a:t>
          </a:r>
          <a:endParaRPr lang="ru-RU" sz="2400" dirty="0">
            <a:solidFill>
              <a:schemeClr val="accent4">
                <a:lumMod val="25000"/>
              </a:schemeClr>
            </a:solidFill>
          </a:endParaRPr>
        </a:p>
      </dgm:t>
    </dgm:pt>
    <dgm:pt modelId="{5A9A2E1E-EE3C-42BD-9449-B0ED512E4F83}" type="parTrans" cxnId="{B3D3CB37-5E0C-4BBE-A6B3-6520DA402114}">
      <dgm:prSet/>
      <dgm:spPr/>
      <dgm:t>
        <a:bodyPr/>
        <a:lstStyle/>
        <a:p>
          <a:endParaRPr lang="ru-RU"/>
        </a:p>
      </dgm:t>
    </dgm:pt>
    <dgm:pt modelId="{0C9AF6E3-2986-4CDD-8F84-33A393335F36}" type="sibTrans" cxnId="{B3D3CB37-5E0C-4BBE-A6B3-6520DA402114}">
      <dgm:prSet/>
      <dgm:spPr/>
      <dgm:t>
        <a:bodyPr/>
        <a:lstStyle/>
        <a:p>
          <a:endParaRPr lang="ru-RU"/>
        </a:p>
      </dgm:t>
    </dgm:pt>
    <dgm:pt modelId="{7A94CCE8-9225-460F-B25A-9F05E8CF09B9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accent4">
                  <a:lumMod val="25000"/>
                </a:schemeClr>
              </a:solidFill>
            </a:rPr>
            <a:t>Учредительный договор</a:t>
          </a:r>
          <a:endParaRPr lang="ru-RU" sz="2400" dirty="0">
            <a:solidFill>
              <a:schemeClr val="accent4">
                <a:lumMod val="25000"/>
              </a:schemeClr>
            </a:solidFill>
          </a:endParaRPr>
        </a:p>
      </dgm:t>
    </dgm:pt>
    <dgm:pt modelId="{C57918BD-7E3F-467C-9383-2A2C57C395E2}" type="parTrans" cxnId="{6ACC496A-7071-49A7-B4F3-5E8DEE08CC5A}">
      <dgm:prSet/>
      <dgm:spPr/>
      <dgm:t>
        <a:bodyPr/>
        <a:lstStyle/>
        <a:p>
          <a:endParaRPr lang="ru-RU"/>
        </a:p>
      </dgm:t>
    </dgm:pt>
    <dgm:pt modelId="{AE2BB42E-2495-400D-A7DE-A52A8E51D045}" type="sibTrans" cxnId="{6ACC496A-7071-49A7-B4F3-5E8DEE08CC5A}">
      <dgm:prSet/>
      <dgm:spPr/>
      <dgm:t>
        <a:bodyPr/>
        <a:lstStyle/>
        <a:p>
          <a:endParaRPr lang="ru-RU"/>
        </a:p>
      </dgm:t>
    </dgm:pt>
    <dgm:pt modelId="{003D479D-02D3-46CF-867F-6CF6BE468952}">
      <dgm:prSet phldrT="[Текст]" custT="1"/>
      <dgm:spPr/>
      <dgm:t>
        <a:bodyPr/>
        <a:lstStyle/>
        <a:p>
          <a:r>
            <a:rPr lang="ru-RU" sz="2400" dirty="0" smtClean="0"/>
            <a:t>Учредительные документы юридического лица</a:t>
          </a:r>
          <a:endParaRPr lang="ru-RU" sz="2400" dirty="0"/>
        </a:p>
      </dgm:t>
    </dgm:pt>
    <dgm:pt modelId="{87064D13-6B35-498E-83F0-FAE6AED2BC66}" type="parTrans" cxnId="{16B0AF41-D249-4CE7-815A-B8393C97966A}">
      <dgm:prSet/>
      <dgm:spPr/>
      <dgm:t>
        <a:bodyPr/>
        <a:lstStyle/>
        <a:p>
          <a:endParaRPr lang="ru-RU"/>
        </a:p>
      </dgm:t>
    </dgm:pt>
    <dgm:pt modelId="{C501512F-756C-4FD2-A937-E808633FE9C2}" type="sibTrans" cxnId="{16B0AF41-D249-4CE7-815A-B8393C97966A}">
      <dgm:prSet/>
      <dgm:spPr/>
      <dgm:t>
        <a:bodyPr/>
        <a:lstStyle/>
        <a:p>
          <a:endParaRPr lang="ru-RU"/>
        </a:p>
      </dgm:t>
    </dgm:pt>
    <dgm:pt modelId="{E4CBBA0B-D009-4A95-AE4F-81BCBE8DD3A8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accent4">
                  <a:lumMod val="25000"/>
                </a:schemeClr>
              </a:solidFill>
            </a:rPr>
            <a:t>Подлинники     или</a:t>
          </a:r>
          <a:endParaRPr lang="ru-RU" sz="2400" dirty="0">
            <a:solidFill>
              <a:schemeClr val="accent4">
                <a:lumMod val="25000"/>
              </a:schemeClr>
            </a:solidFill>
          </a:endParaRPr>
        </a:p>
      </dgm:t>
    </dgm:pt>
    <dgm:pt modelId="{F45918C7-943E-4FE7-AB62-E641BB9F7C21}" type="parTrans" cxnId="{D76E7AAA-6F94-4BF2-A5CF-980E3952B426}">
      <dgm:prSet/>
      <dgm:spPr/>
      <dgm:t>
        <a:bodyPr/>
        <a:lstStyle/>
        <a:p>
          <a:endParaRPr lang="ru-RU"/>
        </a:p>
      </dgm:t>
    </dgm:pt>
    <dgm:pt modelId="{EE3E4CEB-1CD4-48B7-888F-F41EB4135642}" type="sibTrans" cxnId="{D76E7AAA-6F94-4BF2-A5CF-980E3952B426}">
      <dgm:prSet/>
      <dgm:spPr/>
      <dgm:t>
        <a:bodyPr/>
        <a:lstStyle/>
        <a:p>
          <a:endParaRPr lang="ru-RU"/>
        </a:p>
      </dgm:t>
    </dgm:pt>
    <dgm:pt modelId="{395868F1-595A-4B70-8696-7CC7F2F68880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accent4">
                  <a:lumMod val="25000"/>
                </a:schemeClr>
              </a:solidFill>
            </a:rPr>
            <a:t>нотариально заверенные копии</a:t>
          </a:r>
          <a:endParaRPr lang="ru-RU" sz="2400" dirty="0">
            <a:solidFill>
              <a:schemeClr val="accent4">
                <a:lumMod val="25000"/>
              </a:schemeClr>
            </a:solidFill>
          </a:endParaRPr>
        </a:p>
      </dgm:t>
    </dgm:pt>
    <dgm:pt modelId="{86ACE86C-099E-4891-915A-93CDB0238E97}" type="parTrans" cxnId="{DEBFB144-B1C1-4CBA-9E9E-181DD69F433A}">
      <dgm:prSet/>
      <dgm:spPr/>
      <dgm:t>
        <a:bodyPr/>
        <a:lstStyle/>
        <a:p>
          <a:endParaRPr lang="ru-RU"/>
        </a:p>
      </dgm:t>
    </dgm:pt>
    <dgm:pt modelId="{DECA824D-8DBE-416C-957D-91AEFB2F4A7E}" type="sibTrans" cxnId="{DEBFB144-B1C1-4CBA-9E9E-181DD69F433A}">
      <dgm:prSet/>
      <dgm:spPr/>
      <dgm:t>
        <a:bodyPr/>
        <a:lstStyle/>
        <a:p>
          <a:endParaRPr lang="ru-RU"/>
        </a:p>
      </dgm:t>
    </dgm:pt>
    <dgm:pt modelId="{B68B99B9-EE40-4A62-8BC7-8DA5846F7062}" type="pres">
      <dgm:prSet presAssocID="{D4770BF6-FD52-4F86-A36A-CA213E3CB05B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5874204-1782-40CC-A191-047EC16CA1FC}" type="pres">
      <dgm:prSet presAssocID="{003D479D-02D3-46CF-867F-6CF6BE468952}" presName="boxAndChildren" presStyleCnt="0"/>
      <dgm:spPr/>
    </dgm:pt>
    <dgm:pt modelId="{9ECB8B8B-D104-4A54-9E17-09D6213251C7}" type="pres">
      <dgm:prSet presAssocID="{003D479D-02D3-46CF-867F-6CF6BE468952}" presName="parentTextBox" presStyleLbl="node1" presStyleIdx="0" presStyleCnt="3"/>
      <dgm:spPr/>
      <dgm:t>
        <a:bodyPr/>
        <a:lstStyle/>
        <a:p>
          <a:endParaRPr lang="ru-RU"/>
        </a:p>
      </dgm:t>
    </dgm:pt>
    <dgm:pt modelId="{50031457-002C-43DA-A4B5-F482C38A4665}" type="pres">
      <dgm:prSet presAssocID="{003D479D-02D3-46CF-867F-6CF6BE468952}" presName="entireBox" presStyleLbl="node1" presStyleIdx="0" presStyleCnt="3"/>
      <dgm:spPr/>
      <dgm:t>
        <a:bodyPr/>
        <a:lstStyle/>
        <a:p>
          <a:endParaRPr lang="ru-RU"/>
        </a:p>
      </dgm:t>
    </dgm:pt>
    <dgm:pt modelId="{88D2C980-631A-4AC0-BA26-C68360320C9B}" type="pres">
      <dgm:prSet presAssocID="{003D479D-02D3-46CF-867F-6CF6BE468952}" presName="descendantBox" presStyleCnt="0"/>
      <dgm:spPr/>
    </dgm:pt>
    <dgm:pt modelId="{F8443376-F8F7-4ECD-809E-6DB2D68DBAD4}" type="pres">
      <dgm:prSet presAssocID="{E4CBBA0B-D009-4A95-AE4F-81BCBE8DD3A8}" presName="childTextBox" presStyleLbl="fg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B3C300B-7F29-4619-A88F-2B0421AEE403}" type="pres">
      <dgm:prSet presAssocID="{395868F1-595A-4B70-8696-7CC7F2F68880}" presName="childTextBox" presStyleLbl="fgAccFollowNode1" presStyleIdx="1" presStyleCnt="6" custScaleX="9990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C63BE14-53D3-4382-8FC0-50A0BB5DB547}" type="pres">
      <dgm:prSet presAssocID="{93584925-3986-43DC-A068-58196ABD5FBA}" presName="sp" presStyleCnt="0"/>
      <dgm:spPr/>
    </dgm:pt>
    <dgm:pt modelId="{F16CF741-C795-4796-A093-ED1D8E225BB6}" type="pres">
      <dgm:prSet presAssocID="{E4047B94-7889-4E65-9E50-6D75C53915C5}" presName="arrowAndChildren" presStyleCnt="0"/>
      <dgm:spPr/>
    </dgm:pt>
    <dgm:pt modelId="{4E5D8322-C7A1-494D-A6DF-00AAF9410622}" type="pres">
      <dgm:prSet presAssocID="{E4047B94-7889-4E65-9E50-6D75C53915C5}" presName="parentTextArrow" presStyleLbl="node1" presStyleIdx="0" presStyleCnt="3"/>
      <dgm:spPr/>
      <dgm:t>
        <a:bodyPr/>
        <a:lstStyle/>
        <a:p>
          <a:endParaRPr lang="ru-RU"/>
        </a:p>
      </dgm:t>
    </dgm:pt>
    <dgm:pt modelId="{DD8E14BB-EE53-479F-BE4F-598AF6FC9E0C}" type="pres">
      <dgm:prSet presAssocID="{E4047B94-7889-4E65-9E50-6D75C53915C5}" presName="arrow" presStyleLbl="node1" presStyleIdx="1" presStyleCnt="3"/>
      <dgm:spPr/>
      <dgm:t>
        <a:bodyPr/>
        <a:lstStyle/>
        <a:p>
          <a:endParaRPr lang="ru-RU"/>
        </a:p>
      </dgm:t>
    </dgm:pt>
    <dgm:pt modelId="{784FB348-787A-44D4-84F1-D8596B31F5DD}" type="pres">
      <dgm:prSet presAssocID="{E4047B94-7889-4E65-9E50-6D75C53915C5}" presName="descendantArrow" presStyleCnt="0"/>
      <dgm:spPr/>
    </dgm:pt>
    <dgm:pt modelId="{980CFFA8-A32B-40ED-B319-B08D26C3C2C2}" type="pres">
      <dgm:prSet presAssocID="{917E5BDA-4B40-4EB5-9A5C-E22EB6631D9C}" presName="childTextArrow" presStyleLbl="fg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5057AAD-A1BB-4416-96B2-504D84FC90AB}" type="pres">
      <dgm:prSet presAssocID="{7A94CCE8-9225-460F-B25A-9F05E8CF09B9}" presName="childTextArrow" presStyleLbl="fg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1E6E1AF-383D-4208-9986-4292B5D2C21A}" type="pres">
      <dgm:prSet presAssocID="{28C335E0-F0AF-44FD-A15E-7C3EF48626D6}" presName="sp" presStyleCnt="0"/>
      <dgm:spPr/>
    </dgm:pt>
    <dgm:pt modelId="{35415F2C-7919-4EB7-8D23-E0DBE22BEE4B}" type="pres">
      <dgm:prSet presAssocID="{05B0481D-88B5-423E-A858-A563CE313E5C}" presName="arrowAndChildren" presStyleCnt="0"/>
      <dgm:spPr/>
    </dgm:pt>
    <dgm:pt modelId="{B21A0EF0-674C-42F0-A673-BC81CB649DDA}" type="pres">
      <dgm:prSet presAssocID="{05B0481D-88B5-423E-A858-A563CE313E5C}" presName="parentTextArrow" presStyleLbl="node1" presStyleIdx="1" presStyleCnt="3"/>
      <dgm:spPr/>
      <dgm:t>
        <a:bodyPr/>
        <a:lstStyle/>
        <a:p>
          <a:endParaRPr lang="ru-RU"/>
        </a:p>
      </dgm:t>
    </dgm:pt>
    <dgm:pt modelId="{107E379E-0B68-4483-A742-351346565E08}" type="pres">
      <dgm:prSet presAssocID="{05B0481D-88B5-423E-A858-A563CE313E5C}" presName="arrow" presStyleLbl="node1" presStyleIdx="2" presStyleCnt="3"/>
      <dgm:spPr/>
      <dgm:t>
        <a:bodyPr/>
        <a:lstStyle/>
        <a:p>
          <a:endParaRPr lang="ru-RU"/>
        </a:p>
      </dgm:t>
    </dgm:pt>
    <dgm:pt modelId="{D5E56F63-11D0-41BE-823B-776DE28B527D}" type="pres">
      <dgm:prSet presAssocID="{05B0481D-88B5-423E-A858-A563CE313E5C}" presName="descendantArrow" presStyleCnt="0"/>
      <dgm:spPr/>
    </dgm:pt>
    <dgm:pt modelId="{65B5696B-A1DD-415A-8B79-2C3C1F354165}" type="pres">
      <dgm:prSet presAssocID="{FFB865EA-3069-46CB-B684-E920ADF2A4A3}" presName="childTextArrow" presStyleLbl="fg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11F5865-FFF5-496C-BB69-3DF99AFA22F8}" type="pres">
      <dgm:prSet presAssocID="{E479182E-475A-49E3-A4FC-132DB044586B}" presName="childTextArrow" presStyleLbl="fg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0AE64590-42FF-47D0-B0EE-4BDCA366ADE3}" srcId="{05B0481D-88B5-423E-A858-A563CE313E5C}" destId="{FFB865EA-3069-46CB-B684-E920ADF2A4A3}" srcOrd="0" destOrd="0" parTransId="{6928509F-772A-4449-BFEA-311532B81DCE}" sibTransId="{AB611444-ED2D-4868-8B5B-53848D3327C2}"/>
    <dgm:cxn modelId="{328DB031-0239-4F53-A038-79ED593E645C}" type="presOf" srcId="{917E5BDA-4B40-4EB5-9A5C-E22EB6631D9C}" destId="{980CFFA8-A32B-40ED-B319-B08D26C3C2C2}" srcOrd="0" destOrd="0" presId="urn:microsoft.com/office/officeart/2005/8/layout/process4"/>
    <dgm:cxn modelId="{222EA6A9-8F71-4B32-B399-EACC10F5C5D6}" srcId="{D4770BF6-FD52-4F86-A36A-CA213E3CB05B}" destId="{E4047B94-7889-4E65-9E50-6D75C53915C5}" srcOrd="1" destOrd="0" parTransId="{5DB177AB-4378-43C9-9E8A-AE31DEA130EA}" sibTransId="{93584925-3986-43DC-A068-58196ABD5FBA}"/>
    <dgm:cxn modelId="{1450EB50-D7D8-49E0-B055-0DEEFAE8B550}" type="presOf" srcId="{003D479D-02D3-46CF-867F-6CF6BE468952}" destId="{9ECB8B8B-D104-4A54-9E17-09D6213251C7}" srcOrd="0" destOrd="0" presId="urn:microsoft.com/office/officeart/2005/8/layout/process4"/>
    <dgm:cxn modelId="{FD72CE96-2314-4EDA-B9AA-5C6FE68CBDED}" type="presOf" srcId="{7A94CCE8-9225-460F-B25A-9F05E8CF09B9}" destId="{75057AAD-A1BB-4416-96B2-504D84FC90AB}" srcOrd="0" destOrd="0" presId="urn:microsoft.com/office/officeart/2005/8/layout/process4"/>
    <dgm:cxn modelId="{9279316A-1AAA-4FB5-ABCF-630996FD35EC}" type="presOf" srcId="{E4047B94-7889-4E65-9E50-6D75C53915C5}" destId="{4E5D8322-C7A1-494D-A6DF-00AAF9410622}" srcOrd="0" destOrd="0" presId="urn:microsoft.com/office/officeart/2005/8/layout/process4"/>
    <dgm:cxn modelId="{038722A9-2D77-437F-9839-EF81DF17F247}" type="presOf" srcId="{05B0481D-88B5-423E-A858-A563CE313E5C}" destId="{107E379E-0B68-4483-A742-351346565E08}" srcOrd="1" destOrd="0" presId="urn:microsoft.com/office/officeart/2005/8/layout/process4"/>
    <dgm:cxn modelId="{B3D3CB37-5E0C-4BBE-A6B3-6520DA402114}" srcId="{E4047B94-7889-4E65-9E50-6D75C53915C5}" destId="{917E5BDA-4B40-4EB5-9A5C-E22EB6631D9C}" srcOrd="0" destOrd="0" parTransId="{5A9A2E1E-EE3C-42BD-9449-B0ED512E4F83}" sibTransId="{0C9AF6E3-2986-4CDD-8F84-33A393335F36}"/>
    <dgm:cxn modelId="{6ACC496A-7071-49A7-B4F3-5E8DEE08CC5A}" srcId="{E4047B94-7889-4E65-9E50-6D75C53915C5}" destId="{7A94CCE8-9225-460F-B25A-9F05E8CF09B9}" srcOrd="1" destOrd="0" parTransId="{C57918BD-7E3F-467C-9383-2A2C57C395E2}" sibTransId="{AE2BB42E-2495-400D-A7DE-A52A8E51D045}"/>
    <dgm:cxn modelId="{D76E7AAA-6F94-4BF2-A5CF-980E3952B426}" srcId="{003D479D-02D3-46CF-867F-6CF6BE468952}" destId="{E4CBBA0B-D009-4A95-AE4F-81BCBE8DD3A8}" srcOrd="0" destOrd="0" parTransId="{F45918C7-943E-4FE7-AB62-E641BB9F7C21}" sibTransId="{EE3E4CEB-1CD4-48B7-888F-F41EB4135642}"/>
    <dgm:cxn modelId="{DAD31C0F-B8C9-485D-A2F4-DBB9DE623846}" type="presOf" srcId="{E479182E-475A-49E3-A4FC-132DB044586B}" destId="{411F5865-FFF5-496C-BB69-3DF99AFA22F8}" srcOrd="0" destOrd="0" presId="urn:microsoft.com/office/officeart/2005/8/layout/process4"/>
    <dgm:cxn modelId="{1C3B1061-BEE2-4EBB-995B-2B899EC02F7A}" srcId="{05B0481D-88B5-423E-A858-A563CE313E5C}" destId="{E479182E-475A-49E3-A4FC-132DB044586B}" srcOrd="1" destOrd="0" parTransId="{EC4466F6-64C4-4562-AC4A-343DB93C5B11}" sibTransId="{8D721A98-BBE8-42D1-A845-3C0C587F644C}"/>
    <dgm:cxn modelId="{16B0AF41-D249-4CE7-815A-B8393C97966A}" srcId="{D4770BF6-FD52-4F86-A36A-CA213E3CB05B}" destId="{003D479D-02D3-46CF-867F-6CF6BE468952}" srcOrd="2" destOrd="0" parTransId="{87064D13-6B35-498E-83F0-FAE6AED2BC66}" sibTransId="{C501512F-756C-4FD2-A937-E808633FE9C2}"/>
    <dgm:cxn modelId="{DEBFB144-B1C1-4CBA-9E9E-181DD69F433A}" srcId="{003D479D-02D3-46CF-867F-6CF6BE468952}" destId="{395868F1-595A-4B70-8696-7CC7F2F68880}" srcOrd="1" destOrd="0" parTransId="{86ACE86C-099E-4891-915A-93CDB0238E97}" sibTransId="{DECA824D-8DBE-416C-957D-91AEFB2F4A7E}"/>
    <dgm:cxn modelId="{7BF84540-831E-4A82-AB78-442D02269C1E}" srcId="{D4770BF6-FD52-4F86-A36A-CA213E3CB05B}" destId="{05B0481D-88B5-423E-A858-A563CE313E5C}" srcOrd="0" destOrd="0" parTransId="{811A8091-72ED-4677-BDD5-57FEAB44D5D5}" sibTransId="{28C335E0-F0AF-44FD-A15E-7C3EF48626D6}"/>
    <dgm:cxn modelId="{A8F134D9-98DD-4FF8-B623-0DAC975619B5}" type="presOf" srcId="{D4770BF6-FD52-4F86-A36A-CA213E3CB05B}" destId="{B68B99B9-EE40-4A62-8BC7-8DA5846F7062}" srcOrd="0" destOrd="0" presId="urn:microsoft.com/office/officeart/2005/8/layout/process4"/>
    <dgm:cxn modelId="{950B48CF-1218-4F4F-8BA7-128D19639823}" type="presOf" srcId="{395868F1-595A-4B70-8696-7CC7F2F68880}" destId="{5B3C300B-7F29-4619-A88F-2B0421AEE403}" srcOrd="0" destOrd="0" presId="urn:microsoft.com/office/officeart/2005/8/layout/process4"/>
    <dgm:cxn modelId="{1359CDDC-787F-4651-8E6E-AAC62E971F54}" type="presOf" srcId="{FFB865EA-3069-46CB-B684-E920ADF2A4A3}" destId="{65B5696B-A1DD-415A-8B79-2C3C1F354165}" srcOrd="0" destOrd="0" presId="urn:microsoft.com/office/officeart/2005/8/layout/process4"/>
    <dgm:cxn modelId="{1733923B-0BC1-4445-B70B-2C34781AFC71}" type="presOf" srcId="{05B0481D-88B5-423E-A858-A563CE313E5C}" destId="{B21A0EF0-674C-42F0-A673-BC81CB649DDA}" srcOrd="0" destOrd="0" presId="urn:microsoft.com/office/officeart/2005/8/layout/process4"/>
    <dgm:cxn modelId="{D7CB2E59-C8E3-4F51-B30C-0202AB082D46}" type="presOf" srcId="{E4047B94-7889-4E65-9E50-6D75C53915C5}" destId="{DD8E14BB-EE53-479F-BE4F-598AF6FC9E0C}" srcOrd="1" destOrd="0" presId="urn:microsoft.com/office/officeart/2005/8/layout/process4"/>
    <dgm:cxn modelId="{AFA6F8D6-9636-4C17-A105-7984B89A1F6C}" type="presOf" srcId="{E4CBBA0B-D009-4A95-AE4F-81BCBE8DD3A8}" destId="{F8443376-F8F7-4ECD-809E-6DB2D68DBAD4}" srcOrd="0" destOrd="0" presId="urn:microsoft.com/office/officeart/2005/8/layout/process4"/>
    <dgm:cxn modelId="{E0A708F6-C913-4567-B449-FD5FF8003788}" type="presOf" srcId="{003D479D-02D3-46CF-867F-6CF6BE468952}" destId="{50031457-002C-43DA-A4B5-F482C38A4665}" srcOrd="1" destOrd="0" presId="urn:microsoft.com/office/officeart/2005/8/layout/process4"/>
    <dgm:cxn modelId="{F50DFB54-8F3A-4A4C-A74E-F7C54DDFCE08}" type="presParOf" srcId="{B68B99B9-EE40-4A62-8BC7-8DA5846F7062}" destId="{95874204-1782-40CC-A191-047EC16CA1FC}" srcOrd="0" destOrd="0" presId="urn:microsoft.com/office/officeart/2005/8/layout/process4"/>
    <dgm:cxn modelId="{9C7741C8-8045-4A94-842B-8F0F6E67DFC7}" type="presParOf" srcId="{95874204-1782-40CC-A191-047EC16CA1FC}" destId="{9ECB8B8B-D104-4A54-9E17-09D6213251C7}" srcOrd="0" destOrd="0" presId="urn:microsoft.com/office/officeart/2005/8/layout/process4"/>
    <dgm:cxn modelId="{4B1B1C38-236B-479D-9A93-A2F13CA40087}" type="presParOf" srcId="{95874204-1782-40CC-A191-047EC16CA1FC}" destId="{50031457-002C-43DA-A4B5-F482C38A4665}" srcOrd="1" destOrd="0" presId="urn:microsoft.com/office/officeart/2005/8/layout/process4"/>
    <dgm:cxn modelId="{37AEDD6D-6907-4B48-9609-440E706F3364}" type="presParOf" srcId="{95874204-1782-40CC-A191-047EC16CA1FC}" destId="{88D2C980-631A-4AC0-BA26-C68360320C9B}" srcOrd="2" destOrd="0" presId="urn:microsoft.com/office/officeart/2005/8/layout/process4"/>
    <dgm:cxn modelId="{5F3D4C97-AA3A-4A2D-9265-9607D978EA2B}" type="presParOf" srcId="{88D2C980-631A-4AC0-BA26-C68360320C9B}" destId="{F8443376-F8F7-4ECD-809E-6DB2D68DBAD4}" srcOrd="0" destOrd="0" presId="urn:microsoft.com/office/officeart/2005/8/layout/process4"/>
    <dgm:cxn modelId="{B759E0B6-E461-4359-8C71-7B513716298B}" type="presParOf" srcId="{88D2C980-631A-4AC0-BA26-C68360320C9B}" destId="{5B3C300B-7F29-4619-A88F-2B0421AEE403}" srcOrd="1" destOrd="0" presId="urn:microsoft.com/office/officeart/2005/8/layout/process4"/>
    <dgm:cxn modelId="{B1D6A299-D31E-4144-B15C-418DDA7BE176}" type="presParOf" srcId="{B68B99B9-EE40-4A62-8BC7-8DA5846F7062}" destId="{DC63BE14-53D3-4382-8FC0-50A0BB5DB547}" srcOrd="1" destOrd="0" presId="urn:microsoft.com/office/officeart/2005/8/layout/process4"/>
    <dgm:cxn modelId="{7AFF77E3-B8BE-4D5D-BEC6-F5842FD80EA1}" type="presParOf" srcId="{B68B99B9-EE40-4A62-8BC7-8DA5846F7062}" destId="{F16CF741-C795-4796-A093-ED1D8E225BB6}" srcOrd="2" destOrd="0" presId="urn:microsoft.com/office/officeart/2005/8/layout/process4"/>
    <dgm:cxn modelId="{DA7FEA02-8EE6-42CA-BA9B-F1DABE331A2A}" type="presParOf" srcId="{F16CF741-C795-4796-A093-ED1D8E225BB6}" destId="{4E5D8322-C7A1-494D-A6DF-00AAF9410622}" srcOrd="0" destOrd="0" presId="urn:microsoft.com/office/officeart/2005/8/layout/process4"/>
    <dgm:cxn modelId="{EDDC64C5-1784-4A41-9B48-90ED7C7D1906}" type="presParOf" srcId="{F16CF741-C795-4796-A093-ED1D8E225BB6}" destId="{DD8E14BB-EE53-479F-BE4F-598AF6FC9E0C}" srcOrd="1" destOrd="0" presId="urn:microsoft.com/office/officeart/2005/8/layout/process4"/>
    <dgm:cxn modelId="{3E5267F9-F1CB-40D9-B82B-00910DC5BA20}" type="presParOf" srcId="{F16CF741-C795-4796-A093-ED1D8E225BB6}" destId="{784FB348-787A-44D4-84F1-D8596B31F5DD}" srcOrd="2" destOrd="0" presId="urn:microsoft.com/office/officeart/2005/8/layout/process4"/>
    <dgm:cxn modelId="{CD4DFEC9-58E0-4755-ACDC-80D74B9D3A5E}" type="presParOf" srcId="{784FB348-787A-44D4-84F1-D8596B31F5DD}" destId="{980CFFA8-A32B-40ED-B319-B08D26C3C2C2}" srcOrd="0" destOrd="0" presId="urn:microsoft.com/office/officeart/2005/8/layout/process4"/>
    <dgm:cxn modelId="{9B6099E4-8998-4E63-BFF5-7FCC83D5440E}" type="presParOf" srcId="{784FB348-787A-44D4-84F1-D8596B31F5DD}" destId="{75057AAD-A1BB-4416-96B2-504D84FC90AB}" srcOrd="1" destOrd="0" presId="urn:microsoft.com/office/officeart/2005/8/layout/process4"/>
    <dgm:cxn modelId="{7AF6B357-5803-4271-A298-888D20C21093}" type="presParOf" srcId="{B68B99B9-EE40-4A62-8BC7-8DA5846F7062}" destId="{D1E6E1AF-383D-4208-9986-4292B5D2C21A}" srcOrd="3" destOrd="0" presId="urn:microsoft.com/office/officeart/2005/8/layout/process4"/>
    <dgm:cxn modelId="{755A90A1-C2C0-47B5-A704-64DA9DC9A914}" type="presParOf" srcId="{B68B99B9-EE40-4A62-8BC7-8DA5846F7062}" destId="{35415F2C-7919-4EB7-8D23-E0DBE22BEE4B}" srcOrd="4" destOrd="0" presId="urn:microsoft.com/office/officeart/2005/8/layout/process4"/>
    <dgm:cxn modelId="{43F79320-39E1-48CA-A85B-C52180130396}" type="presParOf" srcId="{35415F2C-7919-4EB7-8D23-E0DBE22BEE4B}" destId="{B21A0EF0-674C-42F0-A673-BC81CB649DDA}" srcOrd="0" destOrd="0" presId="urn:microsoft.com/office/officeart/2005/8/layout/process4"/>
    <dgm:cxn modelId="{E01C6942-E274-454D-9C03-4D856A633096}" type="presParOf" srcId="{35415F2C-7919-4EB7-8D23-E0DBE22BEE4B}" destId="{107E379E-0B68-4483-A742-351346565E08}" srcOrd="1" destOrd="0" presId="urn:microsoft.com/office/officeart/2005/8/layout/process4"/>
    <dgm:cxn modelId="{55D47374-E2D1-41F9-82EE-102B85910389}" type="presParOf" srcId="{35415F2C-7919-4EB7-8D23-E0DBE22BEE4B}" destId="{D5E56F63-11D0-41BE-823B-776DE28B527D}" srcOrd="2" destOrd="0" presId="urn:microsoft.com/office/officeart/2005/8/layout/process4"/>
    <dgm:cxn modelId="{A1887571-45ED-4ED9-842A-1DCC6AB40A96}" type="presParOf" srcId="{D5E56F63-11D0-41BE-823B-776DE28B527D}" destId="{65B5696B-A1DD-415A-8B79-2C3C1F354165}" srcOrd="0" destOrd="0" presId="urn:microsoft.com/office/officeart/2005/8/layout/process4"/>
    <dgm:cxn modelId="{0B83E884-506B-4203-82DF-BF928F54219D}" type="presParOf" srcId="{D5E56F63-11D0-41BE-823B-776DE28B527D}" destId="{411F5865-FFF5-496C-BB69-3DF99AFA22F8}" srcOrd="1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0031457-002C-43DA-A4B5-F482C38A4665}">
      <dsp:nvSpPr>
        <dsp:cNvPr id="0" name=""/>
        <dsp:cNvSpPr/>
      </dsp:nvSpPr>
      <dsp:spPr>
        <a:xfrm>
          <a:off x="0" y="3577480"/>
          <a:ext cx="8352927" cy="117420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Учредительные документы юридического лица</a:t>
          </a:r>
          <a:endParaRPr lang="ru-RU" sz="2400" kern="1200" dirty="0"/>
        </a:p>
      </dsp:txBody>
      <dsp:txXfrm>
        <a:off x="0" y="3577480"/>
        <a:ext cx="8352927" cy="634072"/>
      </dsp:txXfrm>
    </dsp:sp>
    <dsp:sp modelId="{F8443376-F8F7-4ECD-809E-6DB2D68DBAD4}">
      <dsp:nvSpPr>
        <dsp:cNvPr id="0" name=""/>
        <dsp:cNvSpPr/>
      </dsp:nvSpPr>
      <dsp:spPr>
        <a:xfrm>
          <a:off x="2046" y="4188068"/>
          <a:ext cx="4176463" cy="540136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30480" rIns="170688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accent4">
                  <a:lumMod val="25000"/>
                </a:schemeClr>
              </a:solidFill>
            </a:rPr>
            <a:t>Подлинники     или</a:t>
          </a:r>
          <a:endParaRPr lang="ru-RU" sz="24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2046" y="4188068"/>
        <a:ext cx="4176463" cy="540136"/>
      </dsp:txXfrm>
    </dsp:sp>
    <dsp:sp modelId="{5B3C300B-7F29-4619-A88F-2B0421AEE403}">
      <dsp:nvSpPr>
        <dsp:cNvPr id="0" name=""/>
        <dsp:cNvSpPr/>
      </dsp:nvSpPr>
      <dsp:spPr>
        <a:xfrm>
          <a:off x="4178509" y="4188068"/>
          <a:ext cx="4172370" cy="540136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30480" rIns="170688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accent4">
                  <a:lumMod val="25000"/>
                </a:schemeClr>
              </a:solidFill>
            </a:rPr>
            <a:t>нотариально заверенные копии</a:t>
          </a:r>
          <a:endParaRPr lang="ru-RU" sz="24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4178509" y="4188068"/>
        <a:ext cx="4172370" cy="540136"/>
      </dsp:txXfrm>
    </dsp:sp>
    <dsp:sp modelId="{DD8E14BB-EE53-479F-BE4F-598AF6FC9E0C}">
      <dsp:nvSpPr>
        <dsp:cNvPr id="0" name=""/>
        <dsp:cNvSpPr/>
      </dsp:nvSpPr>
      <dsp:spPr>
        <a:xfrm rot="10800000">
          <a:off x="0" y="1789160"/>
          <a:ext cx="8352927" cy="1805933"/>
        </a:xfrm>
        <a:prstGeom prst="upArrowCallou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Решение о создании юридического лица</a:t>
          </a:r>
          <a:endParaRPr lang="ru-RU" sz="2400" kern="1200" dirty="0"/>
        </a:p>
      </dsp:txBody>
      <dsp:txXfrm>
        <a:off x="0" y="1789160"/>
        <a:ext cx="8352927" cy="633882"/>
      </dsp:txXfrm>
    </dsp:sp>
    <dsp:sp modelId="{980CFFA8-A32B-40ED-B319-B08D26C3C2C2}">
      <dsp:nvSpPr>
        <dsp:cNvPr id="0" name=""/>
        <dsp:cNvSpPr/>
      </dsp:nvSpPr>
      <dsp:spPr>
        <a:xfrm>
          <a:off x="0" y="2423042"/>
          <a:ext cx="4176463" cy="539974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30480" rIns="170688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accent4">
                  <a:lumMod val="25000"/>
                </a:schemeClr>
              </a:solidFill>
            </a:rPr>
            <a:t>Протокол собрания учредителей</a:t>
          </a:r>
          <a:endParaRPr lang="ru-RU" sz="24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0" y="2423042"/>
        <a:ext cx="4176463" cy="539974"/>
      </dsp:txXfrm>
    </dsp:sp>
    <dsp:sp modelId="{75057AAD-A1BB-4416-96B2-504D84FC90AB}">
      <dsp:nvSpPr>
        <dsp:cNvPr id="0" name=""/>
        <dsp:cNvSpPr/>
      </dsp:nvSpPr>
      <dsp:spPr>
        <a:xfrm>
          <a:off x="4176463" y="2423042"/>
          <a:ext cx="4176463" cy="539974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30480" rIns="170688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accent4">
                  <a:lumMod val="25000"/>
                </a:schemeClr>
              </a:solidFill>
            </a:rPr>
            <a:t>Учредительный договор</a:t>
          </a:r>
          <a:endParaRPr lang="ru-RU" sz="24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4176463" y="2423042"/>
        <a:ext cx="4176463" cy="539974"/>
      </dsp:txXfrm>
    </dsp:sp>
    <dsp:sp modelId="{107E379E-0B68-4483-A742-351346565E08}">
      <dsp:nvSpPr>
        <dsp:cNvPr id="0" name=""/>
        <dsp:cNvSpPr/>
      </dsp:nvSpPr>
      <dsp:spPr>
        <a:xfrm rot="10800000">
          <a:off x="0" y="840"/>
          <a:ext cx="8352927" cy="1805933"/>
        </a:xfrm>
        <a:prstGeom prst="upArrowCallou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Заявление о государственной регистрации по утвержденной форме</a:t>
          </a:r>
          <a:endParaRPr lang="ru-RU" sz="2400" kern="1200" dirty="0"/>
        </a:p>
      </dsp:txBody>
      <dsp:txXfrm>
        <a:off x="0" y="840"/>
        <a:ext cx="8352927" cy="633882"/>
      </dsp:txXfrm>
    </dsp:sp>
    <dsp:sp modelId="{65B5696B-A1DD-415A-8B79-2C3C1F354165}">
      <dsp:nvSpPr>
        <dsp:cNvPr id="0" name=""/>
        <dsp:cNvSpPr/>
      </dsp:nvSpPr>
      <dsp:spPr>
        <a:xfrm>
          <a:off x="0" y="634722"/>
          <a:ext cx="4176463" cy="539974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30480" rIns="170688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accent4">
                  <a:lumMod val="25000"/>
                </a:schemeClr>
              </a:solidFill>
            </a:rPr>
            <a:t>Соответствие законодательству</a:t>
          </a:r>
          <a:endParaRPr lang="ru-RU" sz="24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0" y="634722"/>
        <a:ext cx="4176463" cy="539974"/>
      </dsp:txXfrm>
    </dsp:sp>
    <dsp:sp modelId="{411F5865-FFF5-496C-BB69-3DF99AFA22F8}">
      <dsp:nvSpPr>
        <dsp:cNvPr id="0" name=""/>
        <dsp:cNvSpPr/>
      </dsp:nvSpPr>
      <dsp:spPr>
        <a:xfrm>
          <a:off x="4176463" y="634722"/>
          <a:ext cx="4176463" cy="539974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42240" tIns="25400" rIns="14224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solidFill>
                <a:schemeClr val="accent4">
                  <a:lumMod val="25000"/>
                </a:schemeClr>
              </a:solidFill>
            </a:rPr>
            <a:t>Подпись заявителя нотариально удостоверена</a:t>
          </a:r>
          <a:endParaRPr lang="ru-RU" sz="20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4176463" y="634722"/>
        <a:ext cx="4176463" cy="53997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655000-3C58-493F-B516-B79875793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D91137-08E1-458E-9099-7592E7CA87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D5A5-27FA-434F-A027-613A5564D4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16DE-1981-426C-9027-C4B0D78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1D8C-4192-4A78-968C-FF5A194E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8F73-C84D-4617-8911-B0A8EFC579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A4509-646A-419D-9520-C838A8D7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019C9-7286-47EA-9E04-6F3EBA31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CCB5E-B046-4FCA-AD6A-CD82986F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6F949-C669-4DF9-A46B-F9CEAFB8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2DE21-A753-4E44-BC71-CA97C95A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66290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19397-24A8-4FFC-8391-F0117C81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604C1-FE01-4771-9138-19C2C6BF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6F32-4958-41FB-8A38-0377A3E9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AEAD0-81CE-4C9D-8934-3573AD77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9A908-2599-4215-8DCC-6851CC82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027ED-4EE5-4B54-8EE6-2DC12095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DEF8F-39D5-4553-BABA-2DBE8CD2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0F8AE-B8C0-44DF-A63D-8387A2FF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5C49B-1C86-4FA5-A669-D22434AF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77104-206C-48CA-BBF7-4DD8456C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F991B-087F-47BF-B2C0-2830173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5B252-BA3B-49C3-8186-6EF6E6D3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875EA-AEB6-4D37-A8A8-F2C9A9E4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326F-D334-4224-9AC3-C0C32437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66290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D8FEC-5CAF-4009-A032-6E760BC7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4CC1E-112B-48BB-A77A-66334D8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B0D36-E39B-416B-B1B3-8217FE92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60E1F-A764-438B-82FC-93EF79F4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A6057-A828-4557-9EC2-FAB50F2D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01BD6-0900-4DAA-9604-D0229E2A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37191-1684-4EA4-9864-87359358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D4F21-A06E-477C-BCA3-8EC52A09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B6F13-7C44-4D67-82F0-187EED72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05699-204E-45B9-9730-546AF220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CFC0-1298-4815-9D2A-02717A23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AF029-37BA-4CB9-BF1F-D4C13F1F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FED9D-238B-4770-A232-41BCD22A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66290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F8AE1-754C-483A-A9EF-0609D227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BEBB5-B352-4D82-81AD-1702BD7F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B5A84-03B5-48FA-A034-427D16DC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376E3-A3D8-4B8B-8A04-832631D7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F2C27-CA73-4876-8F23-0F21E57F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FB155-5988-4D9A-BF8F-4A8C0ED9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18724-A0BE-4FE1-AA1E-6EAABF6A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6076-72BE-4B9C-8992-3AAA235B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66290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C137-D360-4322-97D4-E50F02EB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0D69-1C5D-47BF-9633-11545771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A927-BC7F-4065-8181-FAE9D06F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909C-8860-44CD-88CB-8092EA83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 hidden="1"/>
          <p:cNvSpPr/>
          <p:nvPr/>
        </p:nvSpPr>
        <p:spPr>
          <a:xfrm>
            <a:off x="0" y="380880"/>
            <a:ext cx="9143640" cy="6091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5ab14b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28" descr="p12"/>
          <p:cNvPicPr/>
          <p:nvPr/>
        </p:nvPicPr>
        <p:blipFill>
          <a:blip r:embed="rId3"/>
          <a:stretch/>
        </p:blipFill>
        <p:spPr>
          <a:xfrm>
            <a:off x="7162920" y="152280"/>
            <a:ext cx="1371240" cy="198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6200" y="3124080"/>
            <a:ext cx="52574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610320"/>
            <a:ext cx="2133360" cy="17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3080" y="6610320"/>
            <a:ext cx="2133360" cy="17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C42E5C-1F52-4915-91A1-9445D79B1E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7391520" y="6095880"/>
            <a:ext cx="13838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85d9f7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21"/>
          <p:cNvSpPr/>
          <p:nvPr/>
        </p:nvSpPr>
        <p:spPr>
          <a:xfrm>
            <a:off x="5486400" y="304920"/>
            <a:ext cx="3276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5" descr="cube"/>
          <p:cNvPicPr/>
          <p:nvPr/>
        </p:nvPicPr>
        <p:blipFill>
          <a:blip r:embed="rId4"/>
          <a:stretch/>
        </p:blipFill>
        <p:spPr>
          <a:xfrm>
            <a:off x="228600" y="838080"/>
            <a:ext cx="3638160" cy="5829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7"/>
          <p:cNvSpPr/>
          <p:nvPr/>
        </p:nvSpPr>
        <p:spPr>
          <a:xfrm>
            <a:off x="0" y="380880"/>
            <a:ext cx="9143640" cy="6091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5ab14b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8" descr="p12"/>
          <p:cNvPicPr/>
          <p:nvPr/>
        </p:nvPicPr>
        <p:blipFill>
          <a:blip r:embed="rId3"/>
          <a:stretch/>
        </p:blipFill>
        <p:spPr>
          <a:xfrm>
            <a:off x="7162920" y="152280"/>
            <a:ext cx="1371240" cy="198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3812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5ab14b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1219320"/>
            <a:ext cx="403812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5ab14b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45720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655308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621E09-5EE6-48C2-8492-94EFCE8795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7"/>
          <p:cNvSpPr/>
          <p:nvPr/>
        </p:nvSpPr>
        <p:spPr>
          <a:xfrm>
            <a:off x="0" y="380880"/>
            <a:ext cx="9143640" cy="6091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5ab14b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8" descr="p12"/>
          <p:cNvPicPr/>
          <p:nvPr/>
        </p:nvPicPr>
        <p:blipFill>
          <a:blip r:embed="rId3"/>
          <a:stretch/>
        </p:blipFill>
        <p:spPr>
          <a:xfrm>
            <a:off x="7162920" y="152280"/>
            <a:ext cx="1371240" cy="1980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ab14b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720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308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D7D851-71BF-4E64-853F-0AB1A9B4B0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7"/>
          <p:cNvSpPr/>
          <p:nvPr/>
        </p:nvSpPr>
        <p:spPr>
          <a:xfrm>
            <a:off x="0" y="380880"/>
            <a:ext cx="9143640" cy="6091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5ab14b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8" descr="p12"/>
          <p:cNvPicPr/>
          <p:nvPr/>
        </p:nvPicPr>
        <p:blipFill>
          <a:blip r:embed="rId3"/>
          <a:stretch/>
        </p:blipFill>
        <p:spPr>
          <a:xfrm>
            <a:off x="7162920" y="152280"/>
            <a:ext cx="1371240" cy="1980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9"/>
          </p:nvPr>
        </p:nvSpPr>
        <p:spPr>
          <a:xfrm>
            <a:off x="45720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10"/>
          </p:nvPr>
        </p:nvSpPr>
        <p:spPr>
          <a:xfrm>
            <a:off x="3124080" y="655308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655308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094C3A-8584-4273-90CD-DF8068DCFA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F:/Deyat%20(F)/Mng/Media/Intro.mp3" TargetMode="External"/><Relationship Id="rId2" Type="http://schemas.microsoft.com/office/2007/relationships/media" Target="file:///F:/Deyat%20(F)/Mng/Media/Intro.mp3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F:/Deyat%20(F)/Mng/Media/000160.avi" TargetMode="External"/><Relationship Id="rId2" Type="http://schemas.microsoft.com/office/2007/relationships/media" Target="file:///F:/Deyat%20(F)/Mng/Media/000160.avi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80000" y="2925000"/>
            <a:ext cx="53636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00"/>
                </a:solidFill>
                <a:latin typeface="Candara"/>
              </a:rPr>
              <a:t>Правовые основы предпринимательской деятель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 useBgFill="1"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420000" y="260640"/>
            <a:ext cx="5544360" cy="456840"/>
          </a:xfrm>
          <a:prstGeom prst="rect">
            <a:avLst/>
          </a:prstGeom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d9d9d9"/>
                </a:solidFill>
                <a:latin typeface="Courier New"/>
                <a:ea typeface="Adobe Heiti Std R"/>
              </a:rPr>
              <a:t>ЭКОНОМИЧЕСКИЙ ФОРУ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 useBgFill="1">
        <p:nvSpPr>
          <p:cNvPr id="183" name="Скругленный прямоугольник 7"/>
          <p:cNvSpPr/>
          <p:nvPr/>
        </p:nvSpPr>
        <p:spPr>
          <a:xfrm>
            <a:off x="6263640" y="6165360"/>
            <a:ext cx="2700360" cy="572040"/>
          </a:xfrm>
          <a:prstGeom prst="roundRect">
            <a:avLst>
              <a:gd name="adj" fmla="val 16667"/>
            </a:avLst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640" y="6381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929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3800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организации экономической деятельности фир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55640" y="1484640"/>
            <a:ext cx="6840360" cy="53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764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0862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Этапы открытия своего де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916360" y="2925720"/>
            <a:ext cx="504360" cy="576000"/>
          </a:xfrm>
          <a:prstGeom prst="chevron">
            <a:avLst>
              <a:gd name="adj" fmla="val 52514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5651640" y="2925720"/>
            <a:ext cx="504360" cy="576000"/>
          </a:xfrm>
          <a:prstGeom prst="chevron">
            <a:avLst>
              <a:gd name="adj" fmla="val 52514"/>
            </a:avLst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6227640" y="213372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6227640" y="213372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6369120" y="227484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4a2c6c"/>
              </a:gs>
              <a:gs pos="50000">
                <a:srgbClr val="8a52c8"/>
              </a:gs>
              <a:gs pos="100000">
                <a:srgbClr val="4a2c6c"/>
              </a:gs>
            </a:gsLst>
            <a:lin ang="189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6400800" y="228600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57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6470640" y="2368440"/>
            <a:ext cx="1690200" cy="1690200"/>
          </a:xfrm>
          <a:prstGeom prst="ellipse">
            <a:avLst/>
          </a:prstGeom>
          <a:solidFill>
            <a:srgbClr val="333333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755640" y="212724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755640" y="212724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896760" y="226836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6a462c"/>
              </a:gs>
              <a:gs pos="50000">
                <a:srgbClr val="c48352"/>
              </a:gs>
              <a:gs pos="100000">
                <a:srgbClr val="6a462c"/>
              </a:gs>
            </a:gsLst>
            <a:lin ang="189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13"/>
          <p:cNvSpPr/>
          <p:nvPr/>
        </p:nvSpPr>
        <p:spPr>
          <a:xfrm>
            <a:off x="898560" y="227160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7c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14"/>
          <p:cNvSpPr/>
          <p:nvPr/>
        </p:nvSpPr>
        <p:spPr>
          <a:xfrm>
            <a:off x="990720" y="2362320"/>
            <a:ext cx="1690200" cy="1690200"/>
          </a:xfrm>
          <a:prstGeom prst="ellipse">
            <a:avLst/>
          </a:prstGeom>
          <a:solidFill>
            <a:srgbClr val="333333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1017720" y="2387520"/>
            <a:ext cx="1636200" cy="1636200"/>
            <a:chOff x="1017720" y="2387520"/>
            <a:chExt cx="1636200" cy="1636200"/>
          </a:xfrm>
        </p:grpSpPr>
        <p:sp>
          <p:nvSpPr>
            <p:cNvPr id="270" name="Oval 16"/>
            <p:cNvSpPr/>
            <p:nvPr/>
          </p:nvSpPr>
          <p:spPr>
            <a:xfrm>
              <a:off x="1017720" y="2387520"/>
              <a:ext cx="1636200" cy="163620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7"/>
            <p:cNvSpPr/>
            <p:nvPr/>
          </p:nvSpPr>
          <p:spPr>
            <a:xfrm>
              <a:off x="1038600" y="239688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18"/>
            <p:cNvSpPr/>
            <p:nvPr/>
          </p:nvSpPr>
          <p:spPr>
            <a:xfrm>
              <a:off x="1055520" y="241236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Oval 20"/>
          <p:cNvSpPr/>
          <p:nvPr/>
        </p:nvSpPr>
        <p:spPr>
          <a:xfrm>
            <a:off x="3492360" y="213372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3492360" y="213372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95122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3633840" y="227484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305f28"/>
              </a:gs>
              <a:gs pos="50000">
                <a:srgbClr val="5ab14b"/>
              </a:gs>
              <a:gs pos="100000">
                <a:srgbClr val="305f28"/>
              </a:gs>
            </a:gsLst>
            <a:lin ang="189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3635280" y="227808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39702f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24"/>
          <p:cNvSpPr/>
          <p:nvPr/>
        </p:nvSpPr>
        <p:spPr>
          <a:xfrm>
            <a:off x="3727440" y="2368440"/>
            <a:ext cx="1690200" cy="1690200"/>
          </a:xfrm>
          <a:prstGeom prst="ellipse">
            <a:avLst/>
          </a:prstGeom>
          <a:solidFill>
            <a:srgbClr val="333333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5"/>
          <p:cNvGrpSpPr/>
          <p:nvPr/>
        </p:nvGrpSpPr>
        <p:grpSpPr>
          <a:xfrm>
            <a:off x="3754440" y="2387520"/>
            <a:ext cx="1636200" cy="1636200"/>
            <a:chOff x="3754440" y="2387520"/>
            <a:chExt cx="1636200" cy="1636200"/>
          </a:xfrm>
        </p:grpSpPr>
        <p:sp>
          <p:nvSpPr>
            <p:cNvPr id="280" name="Oval 26"/>
            <p:cNvSpPr/>
            <p:nvPr/>
          </p:nvSpPr>
          <p:spPr>
            <a:xfrm>
              <a:off x="3754440" y="2387520"/>
              <a:ext cx="1636200" cy="163620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27"/>
            <p:cNvSpPr/>
            <p:nvPr/>
          </p:nvSpPr>
          <p:spPr>
            <a:xfrm>
              <a:off x="3775320" y="239688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8"/>
            <p:cNvSpPr/>
            <p:nvPr/>
          </p:nvSpPr>
          <p:spPr>
            <a:xfrm>
              <a:off x="3792240" y="241236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30"/>
          <p:cNvGrpSpPr/>
          <p:nvPr/>
        </p:nvGrpSpPr>
        <p:grpSpPr>
          <a:xfrm>
            <a:off x="6500880" y="2387520"/>
            <a:ext cx="1636200" cy="1636200"/>
            <a:chOff x="6500880" y="2387520"/>
            <a:chExt cx="1636200" cy="1636200"/>
          </a:xfrm>
        </p:grpSpPr>
        <p:sp>
          <p:nvSpPr>
            <p:cNvPr id="285" name="Oval 31"/>
            <p:cNvSpPr/>
            <p:nvPr/>
          </p:nvSpPr>
          <p:spPr>
            <a:xfrm>
              <a:off x="6500880" y="2387520"/>
              <a:ext cx="1636200" cy="163620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32"/>
            <p:cNvSpPr/>
            <p:nvPr/>
          </p:nvSpPr>
          <p:spPr>
            <a:xfrm>
              <a:off x="6521760" y="239688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3"/>
            <p:cNvSpPr/>
            <p:nvPr/>
          </p:nvSpPr>
          <p:spPr>
            <a:xfrm>
              <a:off x="6538680" y="241236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AutoShape 35"/>
          <p:cNvSpPr/>
          <p:nvPr/>
        </p:nvSpPr>
        <p:spPr>
          <a:xfrm>
            <a:off x="357120" y="4665600"/>
            <a:ext cx="2504880" cy="2192040"/>
          </a:xfrm>
          <a:prstGeom prst="roundRect">
            <a:avLst>
              <a:gd name="adj" fmla="val 50000"/>
            </a:avLst>
          </a:pr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Эконом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интерес и мо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6"/>
          <p:cNvSpPr/>
          <p:nvPr/>
        </p:nvSpPr>
        <p:spPr>
          <a:xfrm>
            <a:off x="3000240" y="4665600"/>
            <a:ext cx="2999880" cy="2192040"/>
          </a:xfrm>
          <a:prstGeom prst="roundRect">
            <a:avLst>
              <a:gd name="adj" fmla="val 50000"/>
            </a:avLst>
          </a:pr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Состав учредител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разрабо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наиме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37"/>
          <p:cNvSpPr/>
          <p:nvPr/>
        </p:nvSpPr>
        <p:spPr>
          <a:xfrm>
            <a:off x="6215040" y="4665600"/>
            <a:ext cx="2785680" cy="2192040"/>
          </a:xfrm>
          <a:prstGeom prst="roundRect">
            <a:avLst>
              <a:gd name="adj" fmla="val 50000"/>
            </a:avLst>
          </a:pr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Устав организац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Учредите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огов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8"/>
          <p:cNvSpPr/>
          <p:nvPr/>
        </p:nvSpPr>
        <p:spPr>
          <a:xfrm>
            <a:off x="860400" y="2992320"/>
            <a:ext cx="1956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сн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9"/>
          <p:cNvSpPr/>
          <p:nvPr/>
        </p:nvSpPr>
        <p:spPr>
          <a:xfrm>
            <a:off x="3448080" y="2571840"/>
            <a:ext cx="233460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6192360" y="2643120"/>
            <a:ext cx="225540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орм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редитель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умен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548640"/>
            <a:ext cx="72360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Оформление учредительных доку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36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3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4e59c"/>
                </a:solidFill>
                <a:latin typeface="Arial"/>
              </a:rPr>
              <a:t>Устав (свод норм и прави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ключает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ие разделы, как общие положения, цели и предмет деятель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характеризует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атериально-техническую базу и средства предприятия, органы управления и контрол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исыва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производственную, финансово-хозяйственную деятельность предприят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едусматрива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условия реорганизации и прекращения деятельности создаваемой организ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Оформление учредительных доку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36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4e59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4e59c"/>
                </a:solidFill>
                <a:latin typeface="Arial"/>
              </a:rPr>
              <a:t>Учредительный договор</a:t>
            </a:r>
            <a:r>
              <a:rPr b="0" i="1" lang="ru-RU" sz="2800" spc="-1" strike="noStrike">
                <a:solidFill>
                  <a:srgbClr val="f4e59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4e59c"/>
                </a:solidFill>
                <a:latin typeface="Arial"/>
              </a:rPr>
              <a:t>(соглашение двух и более сторон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крепля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юридический статус создаваемого предприят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иксиру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уставной капитал и порядок его формирова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станавлива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порядок распределения доходов, обязанности стор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Являясь многосторонним документом, договор подписывается физическими и юридическими лицами, заключившими 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0862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Этапы открытия своего де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33"/>
          <p:cNvGrpSpPr/>
          <p:nvPr/>
        </p:nvGrpSpPr>
        <p:grpSpPr>
          <a:xfrm>
            <a:off x="11160" y="1124640"/>
            <a:ext cx="9131400" cy="5497920"/>
            <a:chOff x="11160" y="1124640"/>
            <a:chExt cx="9131400" cy="5497920"/>
          </a:xfrm>
        </p:grpSpPr>
        <p:sp>
          <p:nvSpPr>
            <p:cNvPr id="301" name="Freeform 3"/>
            <p:cNvSpPr/>
            <p:nvPr/>
          </p:nvSpPr>
          <p:spPr>
            <a:xfrm>
              <a:off x="615600" y="2057760"/>
              <a:ext cx="7153200" cy="4495680"/>
            </a:xfrm>
            <a:custGeom>
              <a:avLst/>
              <a:gdLst>
                <a:gd name="textAreaLeft" fmla="*/ 0 w 7153200"/>
                <a:gd name="textAreaRight" fmla="*/ 7153560 w 7153200"/>
                <a:gd name="textAreaTop" fmla="*/ 0 h 4495680"/>
                <a:gd name="textAreaBottom" fmla="*/ 4496040 h 4495680"/>
              </a:gdLst>
              <a:ahLst/>
              <a:rect l="textAreaLeft" t="textAreaTop" r="textAreaRight" b="textAreaBottom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85d9f7"/>
                </a:gs>
              </a:gsLst>
              <a:lin ang="5400000"/>
            </a:gradFill>
            <a:ln w="0">
              <a:noFill/>
            </a:ln>
            <a:effectLst>
              <a:outerShdw algn="ctr" dir="8252688" dist="206395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Group 4"/>
            <p:cNvGrpSpPr/>
            <p:nvPr/>
          </p:nvGrpSpPr>
          <p:grpSpPr>
            <a:xfrm>
              <a:off x="2664720" y="4123800"/>
              <a:ext cx="4376880" cy="2498760"/>
              <a:chOff x="2664720" y="4123800"/>
              <a:chExt cx="4376880" cy="2498760"/>
            </a:xfrm>
          </p:grpSpPr>
          <p:pic>
            <p:nvPicPr>
              <p:cNvPr id="303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2664720" y="5778000"/>
                <a:ext cx="204876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Oval 6"/>
              <p:cNvSpPr/>
              <p:nvPr/>
            </p:nvSpPr>
            <p:spPr>
              <a:xfrm>
                <a:off x="2830680" y="4123800"/>
                <a:ext cx="1762920" cy="189936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7"/>
              <p:cNvSpPr/>
              <p:nvPr/>
            </p:nvSpPr>
            <p:spPr>
              <a:xfrm>
                <a:off x="4410000" y="4203360"/>
                <a:ext cx="2631600" cy="2419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8"/>
              <p:cNvSpPr/>
              <p:nvPr/>
            </p:nvSpPr>
            <p:spPr>
              <a:xfrm>
                <a:off x="2869920" y="4152240"/>
                <a:ext cx="1638360" cy="173160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"/>
              <p:cNvSpPr/>
              <p:nvPr/>
            </p:nvSpPr>
            <p:spPr>
              <a:xfrm>
                <a:off x="2825640" y="4850280"/>
                <a:ext cx="1457640" cy="140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0"/>
            <p:cNvGrpSpPr/>
            <p:nvPr/>
          </p:nvGrpSpPr>
          <p:grpSpPr>
            <a:xfrm>
              <a:off x="339840" y="3719160"/>
              <a:ext cx="2427840" cy="2495160"/>
              <a:chOff x="339840" y="3719160"/>
              <a:chExt cx="2427840" cy="2495160"/>
            </a:xfrm>
          </p:grpSpPr>
          <p:pic>
            <p:nvPicPr>
              <p:cNvPr id="309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694440" y="5019840"/>
                <a:ext cx="173340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Oval 12"/>
              <p:cNvSpPr/>
              <p:nvPr/>
            </p:nvSpPr>
            <p:spPr>
              <a:xfrm>
                <a:off x="921240" y="3719160"/>
                <a:ext cx="1411560" cy="151956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3"/>
              <p:cNvSpPr/>
              <p:nvPr/>
            </p:nvSpPr>
            <p:spPr>
              <a:xfrm>
                <a:off x="939240" y="3728160"/>
                <a:ext cx="1377000" cy="1480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4"/>
              <p:cNvSpPr/>
              <p:nvPr/>
            </p:nvSpPr>
            <p:spPr>
              <a:xfrm>
                <a:off x="339840" y="3742200"/>
                <a:ext cx="2427840" cy="2472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5"/>
              <p:cNvSpPr/>
              <p:nvPr/>
            </p:nvSpPr>
            <p:spPr>
              <a:xfrm>
                <a:off x="1029600" y="3781080"/>
                <a:ext cx="1165320" cy="112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6"/>
            <p:cNvGrpSpPr/>
            <p:nvPr/>
          </p:nvGrpSpPr>
          <p:grpSpPr>
            <a:xfrm>
              <a:off x="54360" y="1999440"/>
              <a:ext cx="2411640" cy="1554840"/>
              <a:chOff x="54360" y="1999440"/>
              <a:chExt cx="2411640" cy="1554840"/>
            </a:xfrm>
          </p:grpSpPr>
          <p:pic>
            <p:nvPicPr>
              <p:cNvPr id="315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457920" y="3116520"/>
                <a:ext cx="1418040" cy="42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Oval 18"/>
              <p:cNvSpPr/>
              <p:nvPr/>
            </p:nvSpPr>
            <p:spPr>
              <a:xfrm>
                <a:off x="668160" y="2195640"/>
                <a:ext cx="1058760" cy="11394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9"/>
              <p:cNvSpPr/>
              <p:nvPr/>
            </p:nvSpPr>
            <p:spPr>
              <a:xfrm>
                <a:off x="681480" y="2201040"/>
                <a:ext cx="1033920" cy="1113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0"/>
              <p:cNvSpPr/>
              <p:nvPr/>
            </p:nvSpPr>
            <p:spPr>
              <a:xfrm>
                <a:off x="54360" y="1999440"/>
                <a:ext cx="2411640" cy="15548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1"/>
              <p:cNvSpPr/>
              <p:nvPr/>
            </p:nvSpPr>
            <p:spPr>
              <a:xfrm>
                <a:off x="748800" y="2241720"/>
                <a:ext cx="876240" cy="84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22"/>
            <p:cNvGrpSpPr/>
            <p:nvPr/>
          </p:nvGrpSpPr>
          <p:grpSpPr>
            <a:xfrm>
              <a:off x="2113200" y="1549080"/>
              <a:ext cx="1103040" cy="921960"/>
              <a:chOff x="2113200" y="1549080"/>
              <a:chExt cx="1103040" cy="921960"/>
            </a:xfrm>
          </p:grpSpPr>
          <p:pic>
            <p:nvPicPr>
              <p:cNvPr id="321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113200" y="2142720"/>
                <a:ext cx="11030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Oval 24"/>
              <p:cNvSpPr/>
              <p:nvPr/>
            </p:nvSpPr>
            <p:spPr>
              <a:xfrm>
                <a:off x="2318400" y="1549080"/>
                <a:ext cx="705600" cy="7596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5"/>
              <p:cNvSpPr/>
              <p:nvPr/>
            </p:nvSpPr>
            <p:spPr>
              <a:xfrm>
                <a:off x="2328120" y="1552320"/>
                <a:ext cx="687600" cy="741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6"/>
              <p:cNvSpPr/>
              <p:nvPr/>
            </p:nvSpPr>
            <p:spPr>
              <a:xfrm>
                <a:off x="2187000" y="1559520"/>
                <a:ext cx="960120" cy="83736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7"/>
              <p:cNvSpPr/>
              <p:nvPr/>
            </p:nvSpPr>
            <p:spPr>
              <a:xfrm>
                <a:off x="2334600" y="1681560"/>
                <a:ext cx="582480" cy="559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i="1" lang="ru-RU" sz="2000" spc="-1" strike="noStrike">
                    <a:solidFill>
                      <a:srgbClr val="c00000"/>
                    </a:solidFill>
                    <a:latin typeface="Arial"/>
                  </a:rPr>
                  <a:t>ФН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28"/>
            <p:cNvSpPr/>
            <p:nvPr/>
          </p:nvSpPr>
          <p:spPr>
            <a:xfrm>
              <a:off x="295200" y="1124640"/>
              <a:ext cx="47682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4e59c"/>
                  </a:solidFill>
                  <a:latin typeface="Arial"/>
                </a:rPr>
                <a:t>Государственная регистрац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29"/>
            <p:cNvSpPr/>
            <p:nvPr/>
          </p:nvSpPr>
          <p:spPr>
            <a:xfrm>
              <a:off x="11160" y="2317680"/>
              <a:ext cx="239076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Свидетельств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о регистр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30"/>
            <p:cNvSpPr/>
            <p:nvPr/>
          </p:nvSpPr>
          <p:spPr>
            <a:xfrm>
              <a:off x="552240" y="4253040"/>
              <a:ext cx="2124360" cy="1735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ечат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организаци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лучение код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еятельност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открытие счё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 банк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31"/>
            <p:cNvSpPr/>
            <p:nvPr/>
          </p:nvSpPr>
          <p:spPr>
            <a:xfrm>
              <a:off x="7044120" y="3860640"/>
              <a:ext cx="2098440" cy="942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Получ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лицензи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6125760" y="3696120"/>
              <a:ext cx="2915640" cy="584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1" name="Picture 2" descr=""/>
          <p:cNvPicPr/>
          <p:nvPr/>
        </p:nvPicPr>
        <p:blipFill>
          <a:blip r:embed="rId5"/>
          <a:stretch/>
        </p:blipFill>
        <p:spPr>
          <a:xfrm>
            <a:off x="5143680" y="1214280"/>
            <a:ext cx="1807560" cy="2499840"/>
          </a:xfrm>
          <a:prstGeom prst="rect">
            <a:avLst/>
          </a:prstGeom>
          <a:ln w="9525">
            <a:noFill/>
          </a:ln>
        </p:spPr>
      </p:pic>
      <p:sp>
        <p:nvSpPr>
          <p:cNvPr id="332" name="Прямоугольник 35"/>
          <p:cNvSpPr/>
          <p:nvPr/>
        </p:nvSpPr>
        <p:spPr>
          <a:xfrm>
            <a:off x="2555640" y="5013000"/>
            <a:ext cx="221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видетельство о постановке на учет в налоговые служ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36"/>
          <p:cNvSpPr/>
          <p:nvPr/>
        </p:nvSpPr>
        <p:spPr>
          <a:xfrm>
            <a:off x="5004000" y="4725000"/>
            <a:ext cx="2160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становка на учет в государственные внебюджетные социальные фон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Документы для регист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297105771"/>
              </p:ext>
            </p:extLst>
          </p:nvPr>
        </p:nvGraphicFramePr>
        <p:xfrm>
          <a:off x="467640" y="1196640"/>
          <a:ext cx="8352720" cy="4752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335" name="Группа 7"/>
          <p:cNvGrpSpPr/>
          <p:nvPr/>
        </p:nvGrpSpPr>
        <p:grpSpPr>
          <a:xfrm>
            <a:off x="827640" y="6093360"/>
            <a:ext cx="7704360" cy="503640"/>
            <a:chOff x="827640" y="6093360"/>
            <a:chExt cx="7704360" cy="503640"/>
          </a:xfrm>
        </p:grpSpPr>
        <p:sp>
          <p:nvSpPr>
            <p:cNvPr id="336" name="Прямоугольник 8"/>
            <p:cNvSpPr/>
            <p:nvPr/>
          </p:nvSpPr>
          <p:spPr>
            <a:xfrm>
              <a:off x="827640" y="6093360"/>
              <a:ext cx="7704360" cy="503640"/>
            </a:xfrm>
            <a:prstGeom prst="rect">
              <a:avLst/>
            </a:prstGeom>
            <a:solidFill>
              <a:srgbClr val="0a2068"/>
            </a:solidFill>
            <a:ln>
              <a:solidFill>
                <a:srgbClr val="85d9f7"/>
              </a:solidFill>
              <a:round/>
            </a:ln>
          </p:spPr>
          <p:style>
            <a:lnRef idx="2">
              <a:schemeClr val="lt2">
                <a:hueOff val="0"/>
                <a:satOff val="0"/>
                <a:lumOff val="0"/>
                <a:alphaOff val="0"/>
              </a:schemeClr>
            </a:lnRef>
            <a:fillRef idx="1">
              <a:schemeClr val="dk2">
                <a:hueOff val="0"/>
                <a:satOff val="0"/>
                <a:lumOff val="0"/>
                <a:alphaOff val="0"/>
              </a:schemeClr>
            </a:fillRef>
            <a:effectRef idx="0">
              <a:schemeClr val="dk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Прямоугольник 9"/>
            <p:cNvSpPr/>
            <p:nvPr/>
          </p:nvSpPr>
          <p:spPr>
            <a:xfrm>
              <a:off x="827640" y="6093360"/>
              <a:ext cx="770436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70640" rIns="170640" tIns="136080" bIns="13608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0" lang="ru-RU" sz="2400" spc="-1" strike="noStrike">
                  <a:solidFill>
                    <a:schemeClr val="lt1"/>
                  </a:solidFill>
                  <a:latin typeface="Arial"/>
                </a:rPr>
                <a:t>Документ об оплате государственной пошлин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Содержимое 9" descr="2-14i.jpg"/>
          <p:cNvPicPr/>
          <p:nvPr/>
        </p:nvPicPr>
        <p:blipFill>
          <a:blip r:embed="rId1"/>
          <a:stretch/>
        </p:blipFill>
        <p:spPr>
          <a:xfrm>
            <a:off x="3060000" y="1628640"/>
            <a:ext cx="2736000" cy="3761640"/>
          </a:xfrm>
          <a:prstGeom prst="rect">
            <a:avLst/>
          </a:prstGeom>
          <a:ln w="9525">
            <a:noFill/>
          </a:ln>
        </p:spPr>
      </p:pic>
      <p:pic>
        <p:nvPicPr>
          <p:cNvPr id="340" name="Содержимое 8" descr="untitled.bmp"/>
          <p:cNvPicPr/>
          <p:nvPr/>
        </p:nvPicPr>
        <p:blipFill>
          <a:blip r:embed="rId2"/>
          <a:stretch/>
        </p:blipFill>
        <p:spPr>
          <a:xfrm>
            <a:off x="251640" y="404640"/>
            <a:ext cx="2448000" cy="3530520"/>
          </a:xfrm>
          <a:prstGeom prst="rect">
            <a:avLst/>
          </a:prstGeom>
          <a:ln w="9525">
            <a:noFill/>
          </a:ln>
        </p:spPr>
      </p:pic>
      <p:pic>
        <p:nvPicPr>
          <p:cNvPr id="341" name="Содержимое 6" descr="1.gif"/>
          <p:cNvPicPr/>
          <p:nvPr/>
        </p:nvPicPr>
        <p:blipFill>
          <a:blip r:embed="rId3"/>
          <a:stretch/>
        </p:blipFill>
        <p:spPr>
          <a:xfrm>
            <a:off x="6300360" y="2709000"/>
            <a:ext cx="2592000" cy="372960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906440" cy="505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сущест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едпринимательской                      деятель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ез государственной регистраци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авонарушение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 влечет за собой административную 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головную ответствен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одержимое 12"/>
          <p:cNvSpPr/>
          <p:nvPr/>
        </p:nvSpPr>
        <p:spPr>
          <a:xfrm>
            <a:off x="5868000" y="3357000"/>
            <a:ext cx="2724840" cy="2043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9525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7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7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77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77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DS VTCorona Cyr"/>
              </a:rPr>
              <a:t>Слово предпринимателя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12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Название фир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Организационно-правовая фор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Уст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Учредительный дого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Arial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Средства воздействия на потребите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Arial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Проблемы в ведении бизнеса и пути их ре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Содержимое 5" descr="t.php.jpg"/>
          <p:cNvPicPr/>
          <p:nvPr/>
        </p:nvPicPr>
        <p:blipFill>
          <a:blip r:embed="rId1"/>
          <a:stretch/>
        </p:blipFill>
        <p:spPr>
          <a:xfrm>
            <a:off x="5003640" y="2132640"/>
            <a:ext cx="3672000" cy="27540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prst="relaxedInset" w="25400" h="19050"/>
            <a:contourClr>
              <a:srgbClr val="969696"/>
            </a:contourClr>
          </a:sp3d>
        </p:spPr>
      </p:pic>
    </p:spTree>
  </p:cSld>
  <p:transition>
    <p:randomBar dir="horz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Содержимое 5" descr="1.gif"/>
          <p:cNvPicPr/>
          <p:nvPr/>
        </p:nvPicPr>
        <p:blipFill>
          <a:blip r:embed="rId1"/>
          <a:stretch/>
        </p:blipFill>
        <p:spPr>
          <a:xfrm>
            <a:off x="4751640" y="4046400"/>
            <a:ext cx="4392000" cy="281124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640" y="33264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ль фору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640" y="1268640"/>
            <a:ext cx="8424720" cy="525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ссмотрение основ правового регулирования предпринимательской деятель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том числе формирование целостного представления об основных нормах предпринимательского права и регулирования правоотношений предпринимателей на практи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80880"/>
            <a:ext cx="6048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АКТИЧЕСКИЕ ВЫВО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568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Успешный американский бизнесмен М. Смолл, исходя из собственного</a:t>
            </a:r>
            <a:endParaRPr b="0" lang="en-US" sz="175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опыта, сформулировал пять правил достижения предпринимательской</a:t>
            </a:r>
            <a:endParaRPr b="0" lang="en-US" sz="175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цели (идеи). Возможно, они помогут и вам: </a:t>
            </a:r>
            <a:br>
              <a:rPr sz="1750"/>
            </a:b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— Примите решение: «Я могу делать деньги». В наше время в нашей стране человек может стать богатым. </a:t>
            </a:r>
            <a:br>
              <a:rPr sz="1750"/>
            </a:b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— Для того чтобы зарабатывать деньги, вы должны думать об этом постоянно — во время еды, прогулки и даже ночью, когда спите. </a:t>
            </a:r>
            <a:br>
              <a:rPr sz="1750"/>
            </a:b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— Существует много областей деятельности, в которых вы можете добиться успеха. Ищите, и вы найдете их. </a:t>
            </a:r>
            <a:br>
              <a:rPr sz="1750"/>
            </a:b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— Вы будете ошибаться. Но не падайте духом. Учитесь на своих и чужих ошибках. Начинайте с того момента, где вы споткнулись. Идите вперед! </a:t>
            </a:r>
            <a:br>
              <a:rPr sz="1750"/>
            </a:b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— Когда вы остановитесь на какой-либо идее, постоянно продумывайте ее, развивайте и не оставляйте до тех пор, пока не достигнете цели. </a:t>
            </a:r>
            <a:endParaRPr b="0" lang="en-US" sz="175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К приведенным советам стоит добавить и еще один: не забывайте о правовых нормах регулирования предпринимательской деятельности, следите за изменениям и в законодательстве. Это действительно немаловажно для успешного развития вашего бизнеса: ошибка в правовых вопросах предпринимательской деятельности может вам обойтись слишком дорого. </a:t>
            </a:r>
            <a:endParaRPr b="0" lang="en-US" sz="175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86200" y="3124080"/>
            <a:ext cx="52574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 useBgFill="1"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996000" y="1556640"/>
            <a:ext cx="5147640" cy="5157000"/>
          </a:xfrm>
          <a:prstGeom prst="rect">
            <a:avLst/>
          </a:prstGeom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85d9f7"/>
                </a:solidFill>
                <a:latin typeface="Arial"/>
              </a:rPr>
              <a:t>Современный американский экономист П. Друкер написал: «То, что фирма думает о своей продукции, не самое главное, особенно для будущего бизнеса или для его успеха. Что потребитель думает о своей покупке, в чем видит ее ценность — вот что имеет решающее значение, определяет сущность бизнеса, его направленность и шансы на успех». Прокомментируйте это высказы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Содержимое 9"/>
          <p:cNvSpPr/>
          <p:nvPr/>
        </p:nvSpPr>
        <p:spPr>
          <a:xfrm>
            <a:off x="323640" y="4437000"/>
            <a:ext cx="2952000" cy="2214000"/>
          </a:xfrm>
          <a:prstGeom prst="roundRect">
            <a:avLst>
              <a:gd name="adj" fmla="val 11111"/>
            </a:avLst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miter/>
          </a:ln>
          <a:effectLst>
            <a:outerShdw algn="tl" blurRad="101520" dir="7190755" dist="50636" rotWithShape="0">
              <a:srgbClr val="000000">
                <a:alpha val="45000"/>
              </a:srgbClr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53" name="TextBox 3"/>
          <p:cNvSpPr/>
          <p:nvPr/>
        </p:nvSpPr>
        <p:spPr>
          <a:xfrm>
            <a:off x="4644000" y="332640"/>
            <a:ext cx="4214520" cy="118692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Информация к размышл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3640" y="2277000"/>
            <a:ext cx="6706800" cy="292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_OldTyper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_OldTyper"/>
              </a:rPr>
              <a:t>До новых встреч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просы для обсужд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496720" cy="54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Зачем человеку открывать свое дело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Чем рискует предприниматель? Может ли быть прибыль без риска? А риск без прибыли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Каждый ли может стать предпринимателем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Что значит создать свой бизнес на практике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В какой форме лучше открыть свое дело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Каковы средства воздействия предпринимателя на потребителя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7708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едприниматель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000640" cy="441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остоятельная инициативная экономическая деятельность, направленная на получение прибы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принимательские способности экономисты называют четвёртым фактором произво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0040" y="260640"/>
            <a:ext cx="6249960" cy="106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Факторы, влияющие на решение стать предпринимате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34290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34290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2231640" cy="1704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96" name="AutoShape 7"/>
          <p:cNvSpPr/>
          <p:nvPr/>
        </p:nvSpPr>
        <p:spPr>
          <a:xfrm>
            <a:off x="611640" y="3285000"/>
            <a:ext cx="2375280" cy="143964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мление обр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зависим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б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1259640" y="4941000"/>
            <a:ext cx="3383280" cy="172836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чески неогранич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мо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учения прибы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га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5868000" y="5373360"/>
            <a:ext cx="1800000" cy="107928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преж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084000" y="3141720"/>
            <a:ext cx="2880000" cy="172692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можность заним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имым д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доб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ебя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5219640" y="1557360"/>
            <a:ext cx="2447640" cy="107928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1692360" y="1557360"/>
            <a:ext cx="2231640" cy="122364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ружа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Условия успешного развития предпринимательств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23"/>
          <p:cNvGrpSpPr/>
          <p:nvPr/>
        </p:nvGrpSpPr>
        <p:grpSpPr>
          <a:xfrm>
            <a:off x="457200" y="1556640"/>
            <a:ext cx="8005320" cy="5224320"/>
            <a:chOff x="457200" y="1556640"/>
            <a:chExt cx="8005320" cy="5224320"/>
          </a:xfrm>
        </p:grpSpPr>
        <p:sp>
          <p:nvSpPr>
            <p:cNvPr id="204" name="Freeform 3"/>
            <p:cNvSpPr/>
            <p:nvPr/>
          </p:nvSpPr>
          <p:spPr>
            <a:xfrm rot="20242200">
              <a:off x="1077840" y="2766960"/>
              <a:ext cx="6852960" cy="2803320"/>
            </a:xfrm>
            <a:custGeom>
              <a:avLst/>
              <a:gdLst>
                <a:gd name="textAreaLeft" fmla="*/ 0 w 6852960"/>
                <a:gd name="textAreaRight" fmla="*/ 6853320 w 6852960"/>
                <a:gd name="textAreaTop" fmla="*/ 0 h 2803320"/>
                <a:gd name="textAreaBottom" fmla="*/ 2803680 h 280332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bf2fb"/>
                </a:gs>
                <a:gs pos="100000">
                  <a:srgbClr val="2f7adf"/>
                </a:gs>
              </a:gsLst>
              <a:lin ang="202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18"/>
            <p:cNvSpPr/>
            <p:nvPr/>
          </p:nvSpPr>
          <p:spPr>
            <a:xfrm rot="20056200">
              <a:off x="4411440" y="2709720"/>
              <a:ext cx="121896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2005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9"/>
            <p:cNvSpPr/>
            <p:nvPr/>
          </p:nvSpPr>
          <p:spPr>
            <a:xfrm rot="20056200">
              <a:off x="7310160" y="2954520"/>
              <a:ext cx="114264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211e54"/>
                </a:gs>
              </a:gsLst>
              <a:lin ang="2005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"/>
            <p:cNvSpPr/>
            <p:nvPr/>
          </p:nvSpPr>
          <p:spPr>
            <a:xfrm rot="20056200">
              <a:off x="2811240" y="5910120"/>
              <a:ext cx="121896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211e54"/>
                </a:gs>
              </a:gsLst>
              <a:lin ang="2005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"/>
            <p:cNvSpPr/>
            <p:nvPr/>
          </p:nvSpPr>
          <p:spPr>
            <a:xfrm rot="20056200">
              <a:off x="5549760" y="5283360"/>
              <a:ext cx="129492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a2068"/>
                </a:gs>
              </a:gsLst>
              <a:lin ang="2005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2"/>
            <p:cNvSpPr/>
            <p:nvPr/>
          </p:nvSpPr>
          <p:spPr>
            <a:xfrm rot="20056200">
              <a:off x="1892160" y="4216320"/>
              <a:ext cx="129492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a2068"/>
                </a:gs>
              </a:gsLst>
              <a:lin ang="2005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4"/>
            <p:cNvSpPr/>
            <p:nvPr/>
          </p:nvSpPr>
          <p:spPr>
            <a:xfrm>
              <a:off x="3500280" y="1571760"/>
              <a:ext cx="2142720" cy="207144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2f1c45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>
              <a:off x="785880" y="2786040"/>
              <a:ext cx="2142720" cy="214272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717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6"/>
            <p:cNvSpPr/>
            <p:nvPr/>
          </p:nvSpPr>
          <p:spPr>
            <a:xfrm>
              <a:off x="1785960" y="4857840"/>
              <a:ext cx="1928520" cy="178560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02b4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7"/>
            <p:cNvSpPr/>
            <p:nvPr/>
          </p:nvSpPr>
          <p:spPr>
            <a:xfrm>
              <a:off x="4952880" y="4495680"/>
              <a:ext cx="2118960" cy="2004480"/>
            </a:xfrm>
            <a:prstGeom prst="ellipse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85b68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6286680" y="1785960"/>
              <a:ext cx="2142720" cy="199980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32d1c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928800" y="3143160"/>
              <a:ext cx="185688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Роль государства в поддержк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3429000" y="2286000"/>
              <a:ext cx="228564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Экономическая свобод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6601320" y="2643120"/>
              <a:ext cx="1846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Конкуренц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2"/>
            <p:cNvSpPr/>
            <p:nvPr/>
          </p:nvSpPr>
          <p:spPr>
            <a:xfrm>
              <a:off x="5160600" y="5143680"/>
              <a:ext cx="173844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Правово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обеспеч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1945440" y="5357880"/>
              <a:ext cx="195660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Защи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всех фор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собственност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2928960" y="3714840"/>
              <a:ext cx="4571640" cy="942840"/>
            </a:xfrm>
            <a:prstGeom prst="rect">
              <a:avLst/>
            </a:prstGeom>
            <a:noFill/>
            <a:ln w="9525">
              <a:noFill/>
            </a:ln>
            <a:effectLst>
              <a:outerShdw algn="ctr" dir="2700000" dist="35638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предпринимательски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лимат  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2473200" y="2192040"/>
              <a:ext cx="1793880" cy="16178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2" name="AutoShape 16"/>
            <p:cNvCxnSpPr/>
            <p:nvPr/>
          </p:nvCxnSpPr>
          <p:spPr>
            <a:xfrm flipH="1">
              <a:off x="457200" y="2192040"/>
              <a:ext cx="201636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</a:ln>
          </p:spPr>
        </p:cxnSp>
        <p:sp>
          <p:nvSpPr>
            <p:cNvPr id="223" name="Text Box 17"/>
            <p:cNvSpPr/>
            <p:nvPr/>
          </p:nvSpPr>
          <p:spPr>
            <a:xfrm>
              <a:off x="599040" y="1752480"/>
              <a:ext cx="28526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От чего зависит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7286760" y="4572000"/>
            <a:ext cx="1647360" cy="21189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3640" y="380880"/>
            <a:ext cx="5544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едпринимательские правоотношения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571320" y="1787760"/>
            <a:ext cx="8072280" cy="4024080"/>
            <a:chOff x="571320" y="1787760"/>
            <a:chExt cx="8072280" cy="4024080"/>
          </a:xfrm>
        </p:grpSpPr>
        <p:sp>
          <p:nvSpPr>
            <p:cNvPr id="227" name="AutoShape 4"/>
            <p:cNvSpPr/>
            <p:nvPr/>
          </p:nvSpPr>
          <p:spPr>
            <a:xfrm>
              <a:off x="571320" y="1787760"/>
              <a:ext cx="8072280" cy="4024080"/>
            </a:xfrm>
            <a:prstGeom prst="roundRect">
              <a:avLst>
                <a:gd name="adj" fmla="val 10889"/>
              </a:avLst>
            </a:prstGeom>
            <a:solidFill>
              <a:schemeClr val="bg2">
                <a:lumMod val="60000"/>
                <a:lumOff val="40000"/>
              </a:schemeClr>
            </a:soli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5"/>
            <p:cNvSpPr/>
            <p:nvPr/>
          </p:nvSpPr>
          <p:spPr>
            <a:xfrm>
              <a:off x="820440" y="2276640"/>
              <a:ext cx="1554840" cy="32904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916920" y="2486880"/>
              <a:ext cx="776160" cy="164736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1647360"/>
                <a:gd name="textAreaBottom" fmla="*/ 1647720 h 16473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be3"/>
                </a:gs>
                <a:gs pos="50000">
                  <a:srgbClr val="0066cc">
                    <a:alpha val="0"/>
                  </a:srgbClr>
                </a:gs>
                <a:gs pos="100000">
                  <a:srgbClr val="73a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2856960" y="1998000"/>
              <a:ext cx="5593320" cy="3502440"/>
            </a:xfrm>
            <a:prstGeom prst="rect">
              <a:avLst/>
            </a:prstGeom>
            <a:solidFill>
              <a:schemeClr val="bg2">
                <a:lumMod val="60000"/>
                <a:lumOff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бщественные отношения в сфере предпринимательской деятельности, связанные с ними некоммерческие отношения и отношения по государственному регулированию рыночной эконом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icture 2"/>
          <p:cNvSpPr/>
          <p:nvPr/>
        </p:nvSpPr>
        <p:spPr>
          <a:xfrm>
            <a:off x="714240" y="2357280"/>
            <a:ext cx="1985760" cy="3380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сточники предпринимательского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0" y="1357200"/>
            <a:ext cx="9130320" cy="5447160"/>
            <a:chOff x="0" y="1357200"/>
            <a:chExt cx="9130320" cy="5447160"/>
          </a:xfrm>
        </p:grpSpPr>
        <p:grpSp>
          <p:nvGrpSpPr>
            <p:cNvPr id="234" name="Group 4"/>
            <p:cNvGrpSpPr/>
            <p:nvPr/>
          </p:nvGrpSpPr>
          <p:grpSpPr>
            <a:xfrm>
              <a:off x="1887120" y="1357200"/>
              <a:ext cx="5472000" cy="5447160"/>
              <a:chOff x="1887120" y="1357200"/>
              <a:chExt cx="5472000" cy="5447160"/>
            </a:xfrm>
          </p:grpSpPr>
          <p:sp>
            <p:nvSpPr>
              <p:cNvPr id="235" name="Puzzle3"/>
              <p:cNvSpPr/>
              <p:nvPr/>
            </p:nvSpPr>
            <p:spPr>
              <a:xfrm>
                <a:off x="4551840" y="1357200"/>
                <a:ext cx="2150640" cy="2894400"/>
              </a:xfrm>
              <a:custGeom>
                <a:avLst/>
                <a:gdLst>
                  <a:gd name="textAreaLeft" fmla="*/ 226080 w 2150640"/>
                  <a:gd name="textAreaRight" fmla="*/ 1906920 w 2150640"/>
                  <a:gd name="textAreaTop" fmla="*/ 1034280 h 2894400"/>
                  <a:gd name="textAreaBottom" fmla="*/ 2711880 h 289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2f"/>
                  </a:gs>
                  <a:gs pos="100000">
                    <a:srgbClr val="5ab14b"/>
                  </a:gs>
                </a:gsLst>
                <a:lin ang="5400000"/>
              </a:gradFill>
              <a:ln w="57150">
                <a:solidFill>
                  <a:srgbClr val="ffffff"/>
                </a:solidFill>
                <a:miter/>
              </a:ln>
              <a:effectLst>
                <a:outerShdw algn="ctr" dir="2465970" dist="134718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Puzzle2"/>
              <p:cNvSpPr/>
              <p:nvPr/>
            </p:nvSpPr>
            <p:spPr>
              <a:xfrm>
                <a:off x="3926160" y="3466080"/>
                <a:ext cx="3432960" cy="2636280"/>
              </a:xfrm>
              <a:custGeom>
                <a:avLst/>
                <a:gdLst>
                  <a:gd name="textAreaLeft" fmla="*/ 856080 w 3432960"/>
                  <a:gd name="textAreaRight" fmla="*/ 2571120 w 3432960"/>
                  <a:gd name="textAreaTop" fmla="*/ 822960 h 2636280"/>
                  <a:gd name="textAreaBottom" fmla="*/ 2495160 h 263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150">
                <a:solidFill>
                  <a:srgbClr val="ffffff"/>
                </a:solidFill>
                <a:miter/>
              </a:ln>
              <a:effectLst>
                <a:outerShdw algn="ctr" dir="2465970" dist="134718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Puzzle4"/>
              <p:cNvSpPr/>
              <p:nvPr/>
            </p:nvSpPr>
            <p:spPr>
              <a:xfrm>
                <a:off x="2597400" y="3433680"/>
                <a:ext cx="2069640" cy="3370680"/>
              </a:xfrm>
              <a:custGeom>
                <a:avLst/>
                <a:gdLst>
                  <a:gd name="textAreaLeft" fmla="*/ 198720 w 2069640"/>
                  <a:gd name="textAreaRight" fmla="*/ 1936080 w 2069640"/>
                  <a:gd name="textAreaTop" fmla="*/ 883800 h 3370680"/>
                  <a:gd name="textAreaBottom" fmla="*/ 2493720 h 3370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2a6e2"/>
                  </a:gs>
                </a:gsLst>
                <a:lin ang="18900000"/>
              </a:gradFill>
              <a:ln w="57150">
                <a:solidFill>
                  <a:srgbClr val="ffffff"/>
                </a:solidFill>
                <a:miter/>
              </a:ln>
              <a:effectLst>
                <a:outerShdw algn="ctr" dir="2465970" dist="134718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Puzzle1"/>
              <p:cNvSpPr/>
              <p:nvPr/>
            </p:nvSpPr>
            <p:spPr>
              <a:xfrm>
                <a:off x="1887120" y="2233080"/>
                <a:ext cx="3475440" cy="2009160"/>
              </a:xfrm>
              <a:custGeom>
                <a:avLst/>
                <a:gdLst>
                  <a:gd name="textAreaLeft" fmla="*/ 979200 w 3475440"/>
                  <a:gd name="textAreaRight" fmla="*/ 2595600 w 3475440"/>
                  <a:gd name="textAreaTop" fmla="*/ 238680 h 2009160"/>
                  <a:gd name="textAreaBottom" fmla="*/ 1818720 h 200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a3c25"/>
                  </a:gs>
                </a:gsLst>
                <a:lin ang="2700000"/>
              </a:gradFill>
              <a:ln w="57150">
                <a:solidFill>
                  <a:srgbClr val="ffffff"/>
                </a:solidFill>
                <a:miter/>
              </a:ln>
              <a:effectLst>
                <a:outerShdw algn="ctr" dir="2465970" dist="134718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Text Box 9"/>
            <p:cNvSpPr/>
            <p:nvPr/>
          </p:nvSpPr>
          <p:spPr>
            <a:xfrm>
              <a:off x="6806520" y="4143240"/>
              <a:ext cx="2323800" cy="821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Федер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закон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0"/>
            <p:cNvSpPr/>
            <p:nvPr/>
          </p:nvSpPr>
          <p:spPr>
            <a:xfrm>
              <a:off x="0" y="3556440"/>
              <a:ext cx="2358360" cy="821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онституция Р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11"/>
            <p:cNvSpPr/>
            <p:nvPr/>
          </p:nvSpPr>
          <p:spPr>
            <a:xfrm>
              <a:off x="2170080" y="1452240"/>
              <a:ext cx="3018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одексы Р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2"/>
            <p:cNvSpPr/>
            <p:nvPr/>
          </p:nvSpPr>
          <p:spPr>
            <a:xfrm>
              <a:off x="4286880" y="6287040"/>
              <a:ext cx="44280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Управленческие реш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715000" y="2500200"/>
            <a:ext cx="3248640" cy="3123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нципы предпринимательск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0" y="1523880"/>
            <a:ext cx="6095520" cy="4495320"/>
          </a:xfrm>
          <a:prstGeom prst="rightArrow">
            <a:avLst>
              <a:gd name="adj1" fmla="val 79306"/>
              <a:gd name="adj2" fmla="val 33584"/>
            </a:avLst>
          </a:prstGeom>
          <a:gradFill rotWithShape="0">
            <a:gsLst>
              <a:gs pos="0">
                <a:srgbClr val="211e54"/>
              </a:gs>
              <a:gs pos="100000">
                <a:srgbClr val="727ea8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33520" y="2133720"/>
            <a:ext cx="403812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5400000"/>
          </a:gradFill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ная эконом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т. 34 Конституции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533520" y="3276720"/>
            <a:ext cx="403812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3f255c"/>
              </a:gs>
            </a:gsLst>
            <a:lin ang="5400000"/>
          </a:gradFill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ка добросовес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и, недопу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нополизации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428760" y="4419720"/>
            <a:ext cx="4285800" cy="1152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53867"/>
              </a:gs>
            </a:gsLst>
            <a:lin ang="5400000"/>
          </a:gradFill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образие форм собствен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ое равенство и раве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щиты (ст.8 Конституции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ая прямоугольная выноска 7"/>
          <p:cNvSpPr/>
          <p:nvPr/>
        </p:nvSpPr>
        <p:spPr>
          <a:xfrm>
            <a:off x="4429080" y="142920"/>
            <a:ext cx="4500360" cy="2714400"/>
          </a:xfrm>
          <a:prstGeom prst="wedgeRoundRectCallout">
            <a:avLst>
              <a:gd name="adj1" fmla="val -61451"/>
              <a:gd name="adj2" fmla="val 57892"/>
              <a:gd name="adj3" fmla="val 16667"/>
            </a:avLst>
          </a:prstGeom>
          <a:solidFill>
            <a:srgbClr val="5ab14b"/>
          </a:solidFill>
          <a:ln>
            <a:solidFill>
              <a:srgbClr val="42823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Arial"/>
              </a:rPr>
              <a:t>«Каждый имеет право на свободное использование своих способностей и своего имущества для предпринимательской и иной не запрещённой законом экономической деятельн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ая прямоугольная выноска 8"/>
          <p:cNvSpPr/>
          <p:nvPr/>
        </p:nvSpPr>
        <p:spPr>
          <a:xfrm>
            <a:off x="4500720" y="785880"/>
            <a:ext cx="4500360" cy="3142800"/>
          </a:xfrm>
          <a:prstGeom prst="wedgeRoundRectCallout">
            <a:avLst>
              <a:gd name="adj1" fmla="val -60230"/>
              <a:gd name="adj2" fmla="val 54611"/>
              <a:gd name="adj3" fmla="val 16667"/>
            </a:avLst>
          </a:prstGeom>
          <a:solidFill>
            <a:srgbClr val="824a7e"/>
          </a:solidFill>
          <a:ln>
            <a:solidFill>
              <a:srgbClr val="42823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Arial"/>
              </a:rPr>
              <a:t>ЗАК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Arial"/>
              </a:rPr>
              <a:t>"О КОНКУРЕНЦИИ И ОГРАНИЧЕНИИ МОНОПОЛИСТИЧЕСКОЙ ДЕЯТЕЛЬНОСТИ НА ТОВАРНЫХ РЫНКАХ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ая прямоугольная выноска 9"/>
          <p:cNvSpPr/>
          <p:nvPr/>
        </p:nvSpPr>
        <p:spPr>
          <a:xfrm>
            <a:off x="4500720" y="2214720"/>
            <a:ext cx="4500360" cy="3142800"/>
          </a:xfrm>
          <a:prstGeom prst="wedgeRoundRectCallout">
            <a:avLst>
              <a:gd name="adj1" fmla="val -57829"/>
              <a:gd name="adj2" fmla="val 44698"/>
              <a:gd name="adj3" fmla="val 16667"/>
            </a:avLst>
          </a:prstGeom>
          <a:solidFill>
            <a:schemeClr val="tx2">
              <a:lumMod val="50000"/>
            </a:schemeClr>
          </a:solidFill>
          <a:ln>
            <a:solidFill>
              <a:srgbClr val="42823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Arial"/>
              </a:rPr>
              <a:t>«В Российской Федерации признаются и защищаются равным образом частная, государственная, муниципальная и иные формы собствен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db2004199d">
  <a:themeElements>
    <a:clrScheme name="217tgp_cube_dark 3">
      <a:dk1>
        <a:srgbClr val="969696"/>
      </a:dk1>
      <a:lt1>
        <a:srgbClr val="ffffff"/>
      </a:lt1>
      <a:dk2>
        <a:srgbClr val="0a2068"/>
      </a:dk2>
      <a:lt2>
        <a:srgbClr val="85d9f7"/>
      </a:lt2>
      <a:accent1>
        <a:srgbClr val="5ab14b"/>
      </a:accent1>
      <a:accent2>
        <a:srgbClr val="2f7adf"/>
      </a:accent2>
      <a:accent3>
        <a:srgbClr val="aaabb9"/>
      </a:accent3>
      <a:accent4>
        <a:srgbClr val="dadada"/>
      </a:accent4>
      <a:accent5>
        <a:srgbClr val="b5d5b1"/>
      </a:accent5>
      <a:accent6>
        <a:srgbClr val="2a6eca"/>
      </a:accent6>
      <a:hlink>
        <a:srgbClr val="8a52c8"/>
      </a:hlink>
      <a:folHlink>
        <a:srgbClr val="c4835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db2004199d">
  <a:themeElements>
    <a:clrScheme name="217tgp_cube_dark 3">
      <a:dk1>
        <a:srgbClr val="969696"/>
      </a:dk1>
      <a:lt1>
        <a:srgbClr val="ffffff"/>
      </a:lt1>
      <a:dk2>
        <a:srgbClr val="0a2068"/>
      </a:dk2>
      <a:lt2>
        <a:srgbClr val="85d9f7"/>
      </a:lt2>
      <a:accent1>
        <a:srgbClr val="5ab14b"/>
      </a:accent1>
      <a:accent2>
        <a:srgbClr val="2f7adf"/>
      </a:accent2>
      <a:accent3>
        <a:srgbClr val="aaabb9"/>
      </a:accent3>
      <a:accent4>
        <a:srgbClr val="dadada"/>
      </a:accent4>
      <a:accent5>
        <a:srgbClr val="b5d5b1"/>
      </a:accent5>
      <a:accent6>
        <a:srgbClr val="2a6eca"/>
      </a:accent6>
      <a:hlink>
        <a:srgbClr val="8a52c8"/>
      </a:hlink>
      <a:folHlink>
        <a:srgbClr val="c4835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db2004199d">
  <a:themeElements>
    <a:clrScheme name="217tgp_cube_dark 3">
      <a:dk1>
        <a:srgbClr val="969696"/>
      </a:dk1>
      <a:lt1>
        <a:srgbClr val="ffffff"/>
      </a:lt1>
      <a:dk2>
        <a:srgbClr val="0a2068"/>
      </a:dk2>
      <a:lt2>
        <a:srgbClr val="85d9f7"/>
      </a:lt2>
      <a:accent1>
        <a:srgbClr val="5ab14b"/>
      </a:accent1>
      <a:accent2>
        <a:srgbClr val="2f7adf"/>
      </a:accent2>
      <a:accent3>
        <a:srgbClr val="aaabb9"/>
      </a:accent3>
      <a:accent4>
        <a:srgbClr val="dadada"/>
      </a:accent4>
      <a:accent5>
        <a:srgbClr val="b5d5b1"/>
      </a:accent5>
      <a:accent6>
        <a:srgbClr val="2a6eca"/>
      </a:accent6>
      <a:hlink>
        <a:srgbClr val="8a52c8"/>
      </a:hlink>
      <a:folHlink>
        <a:srgbClr val="c4835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db2004199d">
  <a:themeElements>
    <a:clrScheme name="217tgp_cube_dark 3">
      <a:dk1>
        <a:srgbClr val="969696"/>
      </a:dk1>
      <a:lt1>
        <a:srgbClr val="ffffff"/>
      </a:lt1>
      <a:dk2>
        <a:srgbClr val="0a2068"/>
      </a:dk2>
      <a:lt2>
        <a:srgbClr val="85d9f7"/>
      </a:lt2>
      <a:accent1>
        <a:srgbClr val="5ab14b"/>
      </a:accent1>
      <a:accent2>
        <a:srgbClr val="2f7adf"/>
      </a:accent2>
      <a:accent3>
        <a:srgbClr val="aaabb9"/>
      </a:accent3>
      <a:accent4>
        <a:srgbClr val="dadada"/>
      </a:accent4>
      <a:accent5>
        <a:srgbClr val="b5d5b1"/>
      </a:accent5>
      <a:accent6>
        <a:srgbClr val="2a6eca"/>
      </a:accent6>
      <a:hlink>
        <a:srgbClr val="8a52c8"/>
      </a:hlink>
      <a:folHlink>
        <a:srgbClr val="c4835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a2068"/>
      </a:dk2>
      <a:lt2>
        <a:srgbClr val="85d9f7"/>
      </a:lt2>
      <a:accent1>
        <a:srgbClr val="5ab14b"/>
      </a:accent1>
      <a:accent2>
        <a:srgbClr val="2f7adf"/>
      </a:accent2>
      <a:accent3>
        <a:srgbClr val="aaabb9"/>
      </a:accent3>
      <a:accent4>
        <a:srgbClr val="dadada"/>
      </a:accent4>
      <a:accent5>
        <a:srgbClr val="b5d5b1"/>
      </a:accent5>
      <a:accent6>
        <a:srgbClr val="2a6eca"/>
      </a:accent6>
      <a:hlink>
        <a:srgbClr val="8a52c8"/>
      </a:hlink>
      <a:folHlink>
        <a:srgbClr val="c4835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db2004199d</Template>
  <TotalTime>637</TotalTime>
  <Application>LibreOffice/7.4.7.2$Linux_X86_64 LibreOffice_project/40$Build-2</Application>
  <AppVersion>15.0000</AppVersion>
  <Words>643</Words>
  <Paragraphs>152</Paragraphs>
  <Company>Дом, милый дом..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ЦОР</cp:category>
  <dcterms:created xsi:type="dcterms:W3CDTF">2010-03-09T18:32:23Z</dcterms:created>
  <dc:creator>Г.И. Непершина, МОУ СОШ № 15 г.Балашова Саратовской области</dc:creator>
  <dc:description/>
  <dc:language>en-US</dc:language>
  <cp:lastModifiedBy>Анна</cp:lastModifiedBy>
  <dcterms:modified xsi:type="dcterms:W3CDTF">2010-12-20T16:26:28Z</dcterms:modified>
  <cp:revision>65</cp:revision>
  <dc:subject>Правовые основы предпринимательской деятельности</dc:subject>
  <dc:title>обществознание, 11 класс, базовый уровен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22</vt:r8>
  </property>
</Properties>
</file>