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4BC-7424-43DA-B6D9-720607BE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C94-CB32-4EE7-B578-7770CC76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869-F273-4D8D-8962-640F89E6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DC0-6CD4-4E05-A8D3-52F9618F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941-1B8C-47FA-BAB5-A4422E11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432-E812-45B1-9926-FADAC21E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5F9-5B8E-4CB0-9F20-BF671F61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2BB-4AEF-4F8D-A00E-49FFA410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BA3-6286-4420-ADD1-B1763E35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32E-D59B-4B8C-81FA-BC025FB0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620-C92B-4308-A643-3DBF0013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9D9-BB45-439A-B8B5-A76BE118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CA32-AF35-4B0C-AF5A-03DC8769254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2766960" y="1158840"/>
            <a:ext cx="6023160" cy="173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785880" y="1285920"/>
            <a:ext cx="1270080" cy="1279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8" descr=""/>
          <p:cNvPicPr/>
          <p:nvPr/>
        </p:nvPicPr>
        <p:blipFill>
          <a:blip r:embed="rId3"/>
          <a:stretch/>
        </p:blipFill>
        <p:spPr>
          <a:xfrm>
            <a:off x="695160" y="1432080"/>
            <a:ext cx="1803600" cy="976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5219640" y="5258160"/>
            <a:ext cx="33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МАОУ Абатская СОШ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. Абатское, Тюме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Усольцева Галина Ивано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9" descr=""/>
          <p:cNvPicPr/>
          <p:nvPr/>
        </p:nvPicPr>
        <p:blipFill>
          <a:blip r:embed="rId4"/>
          <a:stretch/>
        </p:blipFill>
        <p:spPr>
          <a:xfrm>
            <a:off x="5364000" y="2097000"/>
            <a:ext cx="28418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1"/>
          <a:stretch/>
        </p:blipFill>
        <p:spPr>
          <a:xfrm>
            <a:off x="676440" y="378000"/>
            <a:ext cx="7503840" cy="51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517760" y="3305160"/>
          <a:ext cx="610848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17760" y="3305160"/>
          <a:ext cx="610848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00120" y="4214880"/>
          <a:ext cx="610884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3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17760" y="3305160"/>
          <a:ext cx="610848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Прямоугольник 10" descr=""/>
          <p:cNvPicPr/>
          <p:nvPr/>
        </p:nvPicPr>
        <p:blipFill>
          <a:blip r:embed="rId2"/>
          <a:stretch/>
        </p:blipFill>
        <p:spPr>
          <a:xfrm>
            <a:off x="993600" y="1646280"/>
            <a:ext cx="687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1828800" y="231840"/>
            <a:ext cx="5638680" cy="5238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3" descr=""/>
          <p:cNvPicPr/>
          <p:nvPr/>
        </p:nvPicPr>
        <p:blipFill>
          <a:blip r:embed="rId2"/>
          <a:stretch/>
        </p:blipFill>
        <p:spPr>
          <a:xfrm>
            <a:off x="317520" y="1736640"/>
            <a:ext cx="140382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390600"/>
            <a:ext cx="6731280" cy="822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2" descr=""/>
          <p:cNvPicPr/>
          <p:nvPr/>
        </p:nvPicPr>
        <p:blipFill>
          <a:blip r:embed="rId2"/>
          <a:stretch/>
        </p:blipFill>
        <p:spPr>
          <a:xfrm>
            <a:off x="1133640" y="1657440"/>
            <a:ext cx="7632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450720"/>
            <a:ext cx="8016840" cy="5191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" descr=""/>
          <p:cNvPicPr/>
          <p:nvPr/>
        </p:nvPicPr>
        <p:blipFill>
          <a:blip r:embed="rId2"/>
          <a:stretch/>
        </p:blipFill>
        <p:spPr>
          <a:xfrm>
            <a:off x="858960" y="1657440"/>
            <a:ext cx="72914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ольник 1" descr=""/>
          <p:cNvPicPr/>
          <p:nvPr/>
        </p:nvPicPr>
        <p:blipFill>
          <a:blip r:embed="rId1"/>
          <a:stretch/>
        </p:blipFill>
        <p:spPr>
          <a:xfrm>
            <a:off x="-1219320" y="304920"/>
            <a:ext cx="11369880" cy="5173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901880" y="963720"/>
            <a:ext cx="4608360" cy="34988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3"/>
          <a:stretch/>
        </p:blipFill>
        <p:spPr>
          <a:xfrm>
            <a:off x="603360" y="5194440"/>
            <a:ext cx="815004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4" descr=""/>
          <p:cNvPicPr/>
          <p:nvPr/>
        </p:nvPicPr>
        <p:blipFill>
          <a:blip r:embed="rId4"/>
          <a:stretch/>
        </p:blipFill>
        <p:spPr>
          <a:xfrm>
            <a:off x="676440" y="5626080"/>
            <a:ext cx="7572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571680" y="285840"/>
          <a:ext cx="8286480" cy="6035760"/>
        </p:xfrm>
        <a:graphic>
          <a:graphicData uri="http://schemas.openxmlformats.org/drawingml/2006/table">
            <a:tbl>
              <a:tblPr/>
              <a:tblGrid>
                <a:gridCol w="2500200"/>
                <a:gridCol w="1214280"/>
                <a:gridCol w="1357560"/>
                <a:gridCol w="1714320"/>
                <a:gridCol w="15001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исследую (свойств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п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р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ёл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Какая поверхность(гладкость, шероховат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роховат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Какая плотность, мягк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б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ло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г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ны ли стороны (лицевая, изнаноч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 Сохраняет ли форму после сми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/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Как тянется (эластичность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Прозра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зрач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зрач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зра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зрач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Как ведёт себя при смачиван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мо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мо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мо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мок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987480" y="633240"/>
            <a:ext cx="1695240" cy="64152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566640" y="1639800"/>
            <a:ext cx="7371000" cy="359100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5" descr=""/>
          <p:cNvPicPr/>
          <p:nvPr/>
        </p:nvPicPr>
        <p:blipFill>
          <a:blip r:embed="rId3"/>
          <a:stretch/>
        </p:blipFill>
        <p:spPr>
          <a:xfrm>
            <a:off x="2292480" y="4359240"/>
            <a:ext cx="403524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585720" y="712800"/>
            <a:ext cx="5145120" cy="8301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395280" y="1413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я. Ступеньки к мастерству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асс. Е.А. Лутцева, издательство Вентана-Граф,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706320" y="201600"/>
            <a:ext cx="7731360" cy="11700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357120" y="1785960"/>
            <a:ext cx="435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дготовка рабочих мест. Проведение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блюдение и фиксация наблюдаемого (устная, письменна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суждение полученных результа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общение, вы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борка рабочих ме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286080" y="4500720"/>
            <a:ext cx="4786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Раздача объектов иссле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ведение поэтапного исследования совместно с учащими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имулирование взаимопомощ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бсуждение наблюдаемых яв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одведение к обобщениям и выво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341280" y="4992840"/>
            <a:ext cx="1920960" cy="6696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3"/>
          <a:stretch/>
        </p:blipFill>
        <p:spPr>
          <a:xfrm>
            <a:off x="5913360" y="2200320"/>
            <a:ext cx="2005200" cy="676080"/>
          </a:xfrm>
          <a:prstGeom prst="rect">
            <a:avLst/>
          </a:prstGeom>
          <a:ln w="0">
            <a:noFill/>
          </a:ln>
        </p:spPr>
      </p:pic>
      <p:sp>
        <p:nvSpPr>
          <p:cNvPr id="51" name="Стрелка вправо 6"/>
          <p:cNvSpPr/>
          <p:nvPr/>
        </p:nvSpPr>
        <p:spPr>
          <a:xfrm>
            <a:off x="5000760" y="250020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лево 7"/>
          <p:cNvSpPr/>
          <p:nvPr/>
        </p:nvSpPr>
        <p:spPr>
          <a:xfrm>
            <a:off x="2428920" y="5286240"/>
            <a:ext cx="642960" cy="214560"/>
          </a:xfrm>
          <a:prstGeom prst="left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Левая фигурная скобка 8"/>
          <p:cNvSpPr/>
          <p:nvPr/>
        </p:nvSpPr>
        <p:spPr>
          <a:xfrm>
            <a:off x="3143160" y="4572000"/>
            <a:ext cx="214560" cy="164304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1643040"/>
              <a:gd name="textAreaBottom" fmla="*/ 1637640 h 16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авая фигурная скобка 9"/>
          <p:cNvSpPr/>
          <p:nvPr/>
        </p:nvSpPr>
        <p:spPr>
          <a:xfrm>
            <a:off x="4714920" y="1785960"/>
            <a:ext cx="214200" cy="16430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643040"/>
              <a:gd name="textAreaBottom" fmla="*/ 16376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16200" y="10800"/>
                  <a:pt x="21600" y="10800"/>
                </a:cubicBezTo>
                <a:cubicBezTo>
                  <a:pt x="162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76440" y="328680"/>
            <a:ext cx="7718400" cy="351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1597320" cy="586080"/>
          </a:xfrm>
          <a:prstGeom prst="rect">
            <a:avLst/>
          </a:prstGeom>
          <a:ln w="0">
            <a:noFill/>
          </a:ln>
        </p:spPr>
      </p:pic>
      <p:sp>
        <p:nvSpPr>
          <p:cNvPr id="57" name="Минус 2"/>
          <p:cNvSpPr/>
          <p:nvPr/>
        </p:nvSpPr>
        <p:spPr>
          <a:xfrm>
            <a:off x="2050920" y="1052640"/>
            <a:ext cx="714600" cy="71280"/>
          </a:xfrm>
          <a:custGeom>
            <a:avLst/>
            <a:gdLst>
              <a:gd name="textAreaLeft" fmla="*/ 94680 w 714600"/>
              <a:gd name="textAreaRight" fmla="*/ 619920 w 714600"/>
              <a:gd name="textAreaTop" fmla="*/ 27360 h 71280"/>
              <a:gd name="textAreaBottom" fmla="*/ 43920 h 71280"/>
            </a:gdLst>
            <a:ahLst/>
            <a:rect l="textAreaLeft" t="textAreaTop" r="textAreaRight" b="textAreaBottom"/>
            <a:pathLst>
              <a:path w="714375" h="71437">
                <a:moveTo>
                  <a:pt x="94690" y="27318"/>
                </a:moveTo>
                <a:lnTo>
                  <a:pt x="619685" y="27318"/>
                </a:lnTo>
                <a:lnTo>
                  <a:pt x="619685" y="44119"/>
                </a:lnTo>
                <a:lnTo>
                  <a:pt x="94690" y="441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3" descr=""/>
          <p:cNvPicPr/>
          <p:nvPr/>
        </p:nvPicPr>
        <p:blipFill>
          <a:blip r:embed="rId2"/>
          <a:stretch/>
        </p:blipFill>
        <p:spPr>
          <a:xfrm>
            <a:off x="390600" y="3346560"/>
            <a:ext cx="2833560" cy="671400"/>
          </a:xfrm>
          <a:prstGeom prst="rect">
            <a:avLst/>
          </a:prstGeom>
          <a:ln w="0">
            <a:noFill/>
          </a:ln>
        </p:spPr>
      </p:pic>
      <p:sp>
        <p:nvSpPr>
          <p:cNvPr id="59" name="Минус 4"/>
          <p:cNvSpPr/>
          <p:nvPr/>
        </p:nvSpPr>
        <p:spPr>
          <a:xfrm>
            <a:off x="4714920" y="2357280"/>
            <a:ext cx="642960" cy="71640"/>
          </a:xfrm>
          <a:custGeom>
            <a:avLst/>
            <a:gdLst>
              <a:gd name="textAreaLeft" fmla="*/ 84960 w 642960"/>
              <a:gd name="textAreaRight" fmla="*/ 558000 w 642960"/>
              <a:gd name="textAreaTop" fmla="*/ 27360 h 71640"/>
              <a:gd name="textAreaBottom" fmla="*/ 44280 h 71640"/>
            </a:gdLst>
            <a:ahLst/>
            <a:rect l="textAreaLeft" t="textAreaTop" r="textAreaRight" b="textAreaBottom"/>
            <a:pathLst>
              <a:path w="642938" h="71437">
                <a:moveTo>
                  <a:pt x="85221" y="27318"/>
                </a:moveTo>
                <a:lnTo>
                  <a:pt x="557717" y="27318"/>
                </a:lnTo>
                <a:lnTo>
                  <a:pt x="557717" y="44119"/>
                </a:lnTo>
                <a:lnTo>
                  <a:pt x="85221" y="441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5" descr=""/>
          <p:cNvPicPr/>
          <p:nvPr/>
        </p:nvPicPr>
        <p:blipFill>
          <a:blip r:embed="rId3"/>
          <a:stretch/>
        </p:blipFill>
        <p:spPr>
          <a:xfrm>
            <a:off x="3786120" y="3151080"/>
            <a:ext cx="3254400" cy="177480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4"/>
          <a:stretch/>
        </p:blipFill>
        <p:spPr>
          <a:xfrm>
            <a:off x="3011400" y="590400"/>
            <a:ext cx="5761080" cy="22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163520"/>
            <a:ext cx="9021600" cy="137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500120" y="5072040"/>
          <a:ext cx="6108840" cy="2491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491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6" descr=""/>
          <p:cNvPicPr/>
          <p:nvPr/>
        </p:nvPicPr>
        <p:blipFill>
          <a:blip r:embed="rId2"/>
          <a:stretch/>
        </p:blipFill>
        <p:spPr>
          <a:xfrm>
            <a:off x="853920" y="3376440"/>
            <a:ext cx="5650200" cy="70200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7" descr=""/>
          <p:cNvPicPr/>
          <p:nvPr/>
        </p:nvPicPr>
        <p:blipFill>
          <a:blip r:embed="rId3"/>
          <a:stretch/>
        </p:blipFill>
        <p:spPr>
          <a:xfrm>
            <a:off x="2279520" y="4449600"/>
            <a:ext cx="5486400" cy="702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2" descr=""/>
          <p:cNvPicPr/>
          <p:nvPr/>
        </p:nvPicPr>
        <p:blipFill>
          <a:blip r:embed="rId1"/>
          <a:stretch/>
        </p:blipFill>
        <p:spPr>
          <a:xfrm>
            <a:off x="841320" y="1085760"/>
            <a:ext cx="7662960" cy="5842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3" descr=""/>
          <p:cNvPicPr/>
          <p:nvPr/>
        </p:nvPicPr>
        <p:blipFill>
          <a:blip r:embed="rId2"/>
          <a:stretch/>
        </p:blipFill>
        <p:spPr>
          <a:xfrm>
            <a:off x="944640" y="2133720"/>
            <a:ext cx="7327800" cy="66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1928880" y="142920"/>
            <a:ext cx="4886280" cy="67150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4"/>
          <p:cNvSpPr/>
          <p:nvPr/>
        </p:nvSpPr>
        <p:spPr>
          <a:xfrm flipH="1">
            <a:off x="6786720" y="785880"/>
            <a:ext cx="1440" cy="5859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878040" y="444600"/>
            <a:ext cx="6748200" cy="5857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2"/>
          <a:stretch/>
        </p:blipFill>
        <p:spPr>
          <a:xfrm>
            <a:off x="603360" y="2895480"/>
            <a:ext cx="1579320" cy="6652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" descr=""/>
          <p:cNvPicPr/>
          <p:nvPr/>
        </p:nvPicPr>
        <p:blipFill>
          <a:blip r:embed="rId3"/>
          <a:stretch/>
        </p:blipFill>
        <p:spPr>
          <a:xfrm>
            <a:off x="2206800" y="1066680"/>
            <a:ext cx="2657160" cy="7192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" descr=""/>
          <p:cNvPicPr/>
          <p:nvPr/>
        </p:nvPicPr>
        <p:blipFill>
          <a:blip r:embed="rId4"/>
          <a:stretch/>
        </p:blipFill>
        <p:spPr>
          <a:xfrm>
            <a:off x="2279520" y="1633680"/>
            <a:ext cx="4353120" cy="6714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5" descr=""/>
          <p:cNvPicPr/>
          <p:nvPr/>
        </p:nvPicPr>
        <p:blipFill>
          <a:blip r:embed="rId5"/>
          <a:stretch/>
        </p:blipFill>
        <p:spPr>
          <a:xfrm>
            <a:off x="-506520" y="2157480"/>
            <a:ext cx="96570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6" descr=""/>
          <p:cNvPicPr/>
          <p:nvPr/>
        </p:nvPicPr>
        <p:blipFill>
          <a:blip r:embed="rId6"/>
          <a:stretch/>
        </p:blipFill>
        <p:spPr>
          <a:xfrm>
            <a:off x="-6480" y="3230640"/>
            <a:ext cx="9796680" cy="5857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" descr=""/>
          <p:cNvPicPr/>
          <p:nvPr/>
        </p:nvPicPr>
        <p:blipFill>
          <a:blip r:embed="rId7"/>
          <a:stretch/>
        </p:blipFill>
        <p:spPr>
          <a:xfrm>
            <a:off x="2389320" y="3505320"/>
            <a:ext cx="3365280" cy="9745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8" descr=""/>
          <p:cNvPicPr/>
          <p:nvPr/>
        </p:nvPicPr>
        <p:blipFill>
          <a:blip r:embed="rId8"/>
          <a:stretch/>
        </p:blipFill>
        <p:spPr>
          <a:xfrm>
            <a:off x="2419200" y="4370400"/>
            <a:ext cx="3579840" cy="585720"/>
          </a:xfrm>
          <a:prstGeom prst="rect">
            <a:avLst/>
          </a:prstGeom>
          <a:ln w="0">
            <a:noFill/>
          </a:ln>
        </p:spPr>
      </p:pic>
      <p:sp>
        <p:nvSpPr>
          <p:cNvPr id="79" name="Левая фигурная скобка 9"/>
          <p:cNvSpPr/>
          <p:nvPr/>
        </p:nvSpPr>
        <p:spPr>
          <a:xfrm>
            <a:off x="2214720" y="1357200"/>
            <a:ext cx="285480" cy="3429000"/>
          </a:xfrm>
          <a:custGeom>
            <a:avLst/>
            <a:gdLst>
              <a:gd name="textAreaLeft" fmla="*/ 182520 w 285480"/>
              <a:gd name="textAreaRight" fmla="*/ 285840 w 285480"/>
              <a:gd name="textAreaTop" fmla="*/ 7200 h 3429000"/>
              <a:gd name="textAreaBottom" fmla="*/ 34218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2365200" y="225360"/>
            <a:ext cx="4883400" cy="5922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" descr=""/>
          <p:cNvPicPr/>
          <p:nvPr/>
        </p:nvPicPr>
        <p:blipFill>
          <a:blip r:embed="rId2"/>
          <a:stretch/>
        </p:blipFill>
        <p:spPr>
          <a:xfrm>
            <a:off x="993600" y="1468440"/>
            <a:ext cx="7601040" cy="3517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00120" y="5500800"/>
          <a:ext cx="6126120" cy="126720"/>
        </p:xfrm>
        <a:graphic>
          <a:graphicData uri="http://schemas.openxmlformats.org/drawingml/2006/table">
            <a:tbl>
              <a:tblPr/>
              <a:tblGrid>
                <a:gridCol w="6126120"/>
              </a:tblGrid>
              <a:tr h="1267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2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2:21:01Z</dcterms:created>
  <dc:creator>Усольцева</dc:creator>
  <dc:description/>
  <dc:language>en-US</dc:language>
  <cp:lastModifiedBy>Усольцева</cp:lastModifiedBy>
  <dcterms:modified xsi:type="dcterms:W3CDTF">2013-01-13T12:34:20Z</dcterms:modified>
  <cp:revision>3</cp:revision>
  <dc:subject/>
  <dc:title>Слайд 1</dc:title>
</cp:coreProperties>
</file>