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70D1-C609-4483-BD74-539D1788C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D188-8F4E-4CA6-B132-E5F63788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6F74-C0C6-4953-B633-66F8B2C6B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4152-633B-4F9D-BA34-AD0F1F0CC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9295A-7391-40F5-9FC3-34CFBECF6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2DE49-6BCF-48FF-97A9-536E98A75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B67F7-2A8D-41CA-BE22-431F4A462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F680F-A812-438C-B3C4-90CA13DF3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93BB9-3C7C-4083-A3DB-B15BF777D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BB910-3D54-4BA4-9A29-D9EA5B320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3DAB3-ECE4-4ECF-B9D2-CE6F4CC75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EA45-000F-4824-BE56-AF090D610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664C6-1218-45AF-9EB2-BC58FEDB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0F123-455F-4790-BA52-21A679C9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EFDD3-6673-4E90-B26F-A11203B24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0FFB3-5C9C-4E56-8635-29A531B24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6A902-A66C-4D5B-B01C-9816C6178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59C6-5703-48EA-9BA0-F5A9C051C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54EB-CE49-47F1-AD10-7FB1182B7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F6F7-0F22-42F8-8BA9-0523B3873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185A-D06C-47C5-8B40-260419BF6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B083-FF24-47AB-9ED8-7E2CEF55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2F01-E65C-4B57-96BC-EA8028B9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E5F4-CDD7-4A31-A214-100C7104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AC7D9-0993-48BD-B094-B204D917579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433E4-3AC3-4FA9-BDA3-53CAFC12FD4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19280" y="1773360"/>
            <a:ext cx="6400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ГРАММАТИК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ЛЕКСИК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В ЕГ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ПО АНГЛИЙСКОМ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ЯЗЫ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EXAM TIP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Задание</a:t>
            </a: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 (В4-В10)</a:t>
            </a:r>
            <a:br>
              <a:rPr sz="2400"/>
            </a:b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 Заполнение пропусков грамматически правильными формами слов</a:t>
            </a:r>
            <a:br>
              <a:rPr sz="2400"/>
            </a:b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этом задании вы должны заполнить пропуски в предложениях словами, данными в конце каждого предложения, поставив их в нужную грамматическую форму. В задании 7 пропус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дложения образуют единый связный тек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этом задании внимание сосредоточено на грамматике, особенно на видовременных формах глагола и степенях сравнения прилагатель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ОРЯДОК ВЫПОЛНЕ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начала быстро просмотрите все предложения, чтобы понять общее содержание текста и получить представление о том, что проверяется в каждом зада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тем изучите каждое предложение и данное после него слово. Является это слово глаголом или прилагательны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тем определите, в какую форму вы должны поставить данное слов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нимательно вчитайтесь в предложение и точно определите, какой грамматической формы требует контек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КЛЮЧ К УСПЕХУ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умайте, какую форму глагола имел в виду автор – личную (видовременную), герундий, инфинитив или причаст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мотрите, нужна ли вам форма активного или пассивного зало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ите, относится ли действие, выраженное глаголом к настоящему, прошедшему или будущему. Если оно описывает то, что случилось до других событий, вам нужно использовать форму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t Perfect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 перфектный инфинити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исав ответ, прочитайте предложение полностью, с заполненным пропуском, чтобы убедиться, что оно имеет смысл и ответ вер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же убедитесь, не сделали ли вы тривиальных ошибок по невнимательности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he have, can to g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что вы не допустили ошибки в правописа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Задание2 (В11-В16)</a:t>
            </a:r>
            <a:br>
              <a:rPr sz="2800"/>
            </a:b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Словообразование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этом задании вы должны заполнить пропуски в предложениях словами, данными в конце каждого предложения, поставив их в нужную форму. В задании 6 пропус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этом задании внимание сосредоточено на словообразовании. От данных к каждому предложению слов вам нужно будет образовать существительные, прилагательные, глаголы или нареч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лученные вами предложения образуют единый связный тек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ОРЯДОК ВЫПОЛНЕ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начала быстро просмотрите все предложения, чтобы понять, о чем текст и получить представление о том, что проверяется в каждом предлож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тем прочитайте каждое предложение и предложенные в задании слова. Очень внимательно прочитайте слова, стоящие до пропуска и после него, чтобы понять какого рода ответ вы должны дать. Установите, требует ли контекст существительного, прилагательного, наречия или глаго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КЛЮЧ К УСПЕХУ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помните суффиксы, характерные для данной части речи (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t, -ness, -ism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существительных,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, -al, -ous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прилагательны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е по контексту, имеет слово положительное или отрицательное знач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огда правила словообразования не дают ожидаемого результата – слова звучат неестественно и вы уверены, что видите их в первый раз (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ch – speecher)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значит, что вы должны просто знать ту форму, которая вам нужна в данном случа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Золотые правила общего характер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Для того чтобы успешно выполнить задания ЕГЭ не обязательно ЗНАТЬ все слова, которые используются в предлагаемых устных и письменных текстах. Не надо пугаться незнакомых слов - скорее всего, они не нужны для правильного ответа на тестовый вопро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брав правильную часть речи, обдумайте грамматическую форму слова, которое вы должны образовать. Какое окончание должно быть у существительного или глагола? Нужно ли поставить существительное в форму множественного числа? Какую приставку нужно употреби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брав ответ, прочитайте предложение полностью, с заполненным пропуском, чтобы убедиться, что оно имеет смысл и ответ вер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бедитесь, что вы не допустили ошибки в правописа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ЗАДАНИЕ 3 (А22-А28)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Заполнение пропусков в тексте с вариантами ответа</a:t>
            </a:r>
            <a:br>
              <a:rPr sz="2400"/>
            </a:b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этом задании внимание сосредоточено на лексике. Вы должны выбрать, какой из  данных вариантов ответа подходит для того или иного пропуска в тексте. В задании 7 пропус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некоторых предложениях вам нужно определить, какие слова подходят к данному контексту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ексичес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некоторых предложениях вы должны определить, какое слово, сочетаясь со словами из текста, образует с ним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стойчивое выраже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некоторых предложениях вы долж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пределить, какое слово подходи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 лексически, и грамматичес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задании также может проверяться знан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разовых глаголов, связующих слов и выраж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ОРЯДОК ВЫПОЛНЕ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начала быстро просмотрите весь текст. Это поможет составить представление о его содержа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ботая над каждым пропуском, внимательно изучите окружающие его слова, чтобы понять контек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пределите, должны ли вы просто подобрать слово лексически, или оно  должно сочетаться с другим словом или словами, стоящими до и после пропус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КЛЮЧ К УСПЕХУ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ед тем, как прочитать предложенные варианты ответов, внимательно прочитайте задание и подумайте, как бы вы заполнили пропус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мните, что правильный ответ легче найти путем отбрасывания неверных вариан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гда вы рассматриваете неверные варианты, обратите внимание на следующее. Потенциальн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р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ариант отв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является прямым переводом аналогичной русской струк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вляется  грамматически неверным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ust to 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 заполнения пропуска дает нелогичные или неверные предложения (например, гласная буква после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a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льно отличается от других вариантов ответа (имеет совершенно другую форму или является другой частью реч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ратите внимание на 2 или 3 похожих варианта ответа ( с точки зрения написания, произношения, грамматической формы) – один из них, скорее всего, является правиль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полнив пропуск, прочитайте предложение полностью, с выбранным вами вариантом ответа. Убедитесь, что оно имеет смысл. Читая все предложение целиком, а не только ту его часть, что содержит пропуск, вы можете понять, что сделали неправильный выбо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 окончании выполнения заданий из раздела «Грамматика и лексика» не забудьте перенести ваши ответы в специальный  бланк отве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кзамен проверяет ваше умение ИСПОЛЬЗОВАТЬ иностранный язык, а не то, ЧТО ВЫ ЗНАЕТЕ о нем, т. е. он проверяет, как вы умеете слушать и понимать, читать и понимать, употреблять грамматические формы и лексику в соответствии с коммуникативным заданием, писать личное письмо и письменное высказывание с элементами рассужд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ЗАДАНИЯ НА МНОЖЕСТВЕННЫЙ ВЫБОР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думывание возможного варианта отв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читайте предложения и подумайте, как можно заполнить пропуски. Вы можете вставить более одного слова в каждый пропуск. Определите, что проверяется в каждом предлож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riminal is supposed ______ the money in the forest near his home t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eats meat and drinks alcohol ______ being a Buddh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olphin is one of many _______ species of marine animals in our oce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have nowhere else to stay, I can ________ for a few nigh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ice of petrol has _______ for the fourth time this ye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60436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Выбор правильного ответа</a:t>
            </a:r>
            <a:br>
              <a:rPr sz="2000"/>
            </a:br>
            <a:r>
              <a:rPr b="1" lang="en-US" sz="2000" spc="-1" strike="noStrike">
                <a:solidFill>
                  <a:srgbClr val="330033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   Заполните пропуски в предложениях из упр1, выбрав</a:t>
            </a:r>
            <a:r>
              <a:rPr b="1" lang="en-US" sz="20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правильный вариант ответа из 4 предложенных. Объясните, почему остальные </a:t>
            </a:r>
            <a:r>
              <a:rPr b="1" lang="en-US" sz="20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варианты являются неправильными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55640" y="155700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criminal is supposed ______ the money in the forest n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 home tow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) to hide    b) to have hidden   c) hiding   d) to be hid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 eats meat and drinks alcohol ______ being a Buddh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) although   b) because   c) but    d) in spite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dolphin is one of many _______ species of marine anim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our ocea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) frightened   b) threatening   c) endangered   d) sc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you have nowhere else to stay, I can ________ for a few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gh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) put you in   b) put you up   c) put you through    d) put you b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rice of petrol has _______ for the fourth time this ye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) raised    b) rose    c) risen     d) r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пределение неверных вариантов ответа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.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приведенном ниже тексте проанализируйте варианты ответов Попробуйте, не читая текста, определить те, которые наверняка окажутся неверными (сильно отличаются от других вариантов по смыслу, по форме, грамматически неверны и т.п.). Затем прочитайте предложения и выберите  правильный вариан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oad was so ____ that I could hardly control the c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) slippery   b) sticky    c) smooth   d) 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They discussed the issue of unemployment for hours,  _______ almost made me  fall aslee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) what   b) when   c) for    d) wh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It’s a pity you  don’t come to the party. I’m sure you ____ yoursel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) may have enjoyed       b) would have enjoyed               c) enjoyed            d) can’t have enjoy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We can meet on Friday night. I ____ my essay by th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) will finish  b) am finishing  c) will have finished  d) will be fini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 I’ll be on time  _____ the car breaks down aga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) if    b) unless    c) as long as   d) b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 I like Adam because he is always in  a  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) Good humour b) good temper c) good mood d) good se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вы прилежно занимались иностранным языком, даже на базовом уровне, вы сможете успешно выполнить более половины тестовых зад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впадайте в панику, если вы не можете ответить на ВСЕ вопросы. Не зацикливайтесь на трудном для вас вопросе. Двигайтесь дальше, вернитесь к нему, когда ответите на другие вопросы этого зад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 подготовке к экзамену помните, что каждый раздел имеет свою специфику и требует разных подходов к подготовк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 подготовке к экзамену определите, какие виды заданий даются вам сложнее, и уделите им особое вним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 подготовке к экзамену постепенно сокращайте время тренировочного выполнения зад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готовка к экзамену предполагает серьезную тренировку в выполнении заданий и (само)анализ результа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 подготовке к экзамену используйте пособия, которые прошли экспертизу Федерального института педагогических измерений (ФИП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кзамен по каждому предмету, в том числе по английскому языку, включает вопросы и задания трех разных тип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задания с выбором ответа из трех или четырех предложенных — это задания типа 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задания с кратким свободным ответом (одним словом или числом) — это задания типа 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задания с развернутым свободным ответом (включающим словесное обоснование,  математический вывод и т.п.)  —  это задания типа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е ответы заносятся в бланк отв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971640" y="169992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чему в других предметах задания ти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, В и С сгруппированы по разделам, а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боте по английскому языку 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 и  В даны вперемешку в трех перв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здела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экзаменационной работе по иностранному языку нельзя судить о сложности задания по его тип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ложность задания во многом зависит от сложности текста, на котором оно основано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ложность задания также определяется проверяемыми умениями и навык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экзаменационной работе по иностранному языку задания располагаются по возрастающей степени трудност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нутр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каждого раздела 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08:37:51Z</dcterms:created>
  <dc:creator>Valeria</dc:creator>
  <dc:description/>
  <dc:language>en-US</dc:language>
  <cp:lastModifiedBy>Валерия</cp:lastModifiedBy>
  <dcterms:modified xsi:type="dcterms:W3CDTF">2013-01-12T15:39:26Z</dcterms:modified>
  <cp:revision>13</cp:revision>
  <dc:subject/>
  <dc:title>Слайд 1</dc:title>
</cp:coreProperties>
</file>