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FC3-13A4-4A67-A168-DFF5D35F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176-8238-4864-A56F-D2DA1838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34A-7497-4344-A060-535BA7F6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CBF-D26D-4F5B-A0A4-EF006FBC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5D3A-C21D-4FFD-9D4E-DA2DAE52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9A88-1FF6-42C8-A202-D88C286E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59AD-CA90-422F-B60A-C0A23440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8FF9-1A98-4161-A152-BA42A364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B95E-40D6-4DCB-9539-0CDB4D55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8997-CA1F-46D0-B7AF-3D2FDC02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6E2E-ED28-466B-A297-E859EBA1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838-3EA4-4D12-B3D9-BD18B35E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41A9-F239-40B4-82D9-56E3F64B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1A04-5B53-49F9-A46F-FE96704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8DF8-3A3B-40E4-8ADD-CE50BB15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01D9-96E5-4D2C-BD37-C80B4354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1801-C338-48A8-B75F-EE6C6C9E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C13-867C-44E9-9EBC-FD3AFADC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C75-1071-4111-A010-A411BCB1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6BD-7BC6-4A10-BB4B-6AF8EA85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548-7360-447F-B92D-3D43498E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8AB-95B1-428C-AF6F-3BDA0583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39E-37C1-4861-9878-F8A16CF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EBF-BA66-4F0A-9089-A4957A67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956D-A911-41AF-B4D8-E09F1A891F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D424-A496-4CB2-9D34-09DF4ACC7A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19280" y="1773360"/>
            <a:ext cx="6400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ГРАММА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ЕКС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 Е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 АНГЛИЙСКО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Я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XAM TIP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Задание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(В4-В10)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Заполнение пропусков грамматически правильными формами слов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задании вы должны заполнить пропуски в предложениях словами, данными в конце каждого предложения, поставив их в нужную грамматическую форму. В задании 7 пропус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ложения образуют единый связный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задании внимание сосредоточено на грамматике, особенно на видовременных формах глагола и степенях сравнения прилага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РЯДОК ВЫПОЛН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ачала быстро просмотрите все предложения, чтобы понять общее содержание текста и получить представление о том, что проверяется в каждом зад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ем изучите каждое предложение и данное после него слово. Является это слово глаголом или прилагате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ем определите, в какую форму вы должны поставить данное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имательно вчитайтесь в предложение и точно определите, какой грамматической формы требует кон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ЛЮЧ К УСПЕХ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умайте, какую форму глагола имел в виду автор – личную (видовременную), герундий, инфинитив или причас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мотрите, нужна ли вам форма активного или пассивного за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, относится ли действие, выраженное глаголом к настоящему, прошедшему или будущему. Если оно описывает то, что случилось до других событий, вам нужно использовать форм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ec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перфектный инфинит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ав ответ, прочитайте предложение полностью, с заполненным пропуском, чтобы убедиться, что оно имеет смысл и ответ вер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убедитесь, не сделали ли вы тривиальных ошибок по невнимательности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 have, can to 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что вы не допустили ошибки в правопис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Задание2 (В11-В16)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Словообразование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задании вы должны заполнить пропуски в предложениях словами, данными в конце каждого предложения, поставив их в нужную форму. В задании 6 пропус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задании внимание сосредоточено на словообразовании. От данных к каждому предложению слов вам нужно будет образовать существительные, прилагательные, глаголы или наре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ные вами предложения образуют единый связный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РЯДОК ВЫПОЛН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ачала быстро просмотрите все предложения, чтобы понять, о чем текст и получить представление о том, что проверяется в каждом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ем прочитайте каждое предложение и предложенные в задании слова. Очень внимательно прочитайте слова, стоящие до пропуска и после него, чтобы понять какого рода ответ вы должны дать. Установите, требует ли контекст существительного, прилагательного, наречия или глаг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ЛЮЧ К УСПЕХ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ните суффиксы, характерные для данной части речи (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, -ness, -is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уществительных,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, -al, -ou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илагатель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по контексту, имеет слово положительное или отрицательн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правила словообразования не дают ожидаемого результата – слова звучат неестественно и вы уверены, что видите их в первый раз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– speecher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начит, что вы должны просто знать ту форму, которая вам нужна в данном случ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олотые правила общего характе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Для того чтобы успешно выполнить задания ЕГЭ не обязательно ЗНАТЬ все слова, которые используются в предлагаемых устных и письменных текстах. Не надо пугаться незнакомых слов - скорее всего, они не нужны для правильного ответа на тестовый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в правильную часть речи, обдумайте грамматическую форму слова, которое вы должны образовать. Какое окончание должно быть у существительного или глагола? Нужно ли поставить существительное в форму множественного числа? Какую приставку нужно употреб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в ответ, прочитайте предложение полностью, с заполненным пропуском, чтобы убедиться, что оно имеет смысл и ответ вер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бедитесь, что вы не допустили ошибки в правопис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ЗАДАНИЕ 3 (А22-А28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Заполнение пропусков в тексте с вариантами ответа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задании внимание сосредоточено на лексике. Вы должны выбрать, какой из  данных вариантов ответа подходит для того или иного пропуска в тексте. В задании 7 пропус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которых предложениях вам нужно определить, какие слова подходят к данному контекст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ксич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которых предложениях вы должны определить, какое слово, сочетаясь со словами из текста, образует с ни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ойчивое 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которых предложениях вы долж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ь, какое слово подход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лексически, и грамматич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задании также может проверяться зн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разовых глаголов, связующих слов и вы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РЯДОК ВЫПОЛН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ачала быстро просмотрите весь текст. Это поможет составить представление о его содерж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я над каждым пропуском, внимательно изучите окружающие его слова, чтобы понять кон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, должны ли вы просто подобрать слово лексически, или оно  должно сочетаться с другим словом или словами, стоящими до и после пропу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ЛЮЧ К УСПЕХ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 тем, как прочитать предложенные варианты ответов, внимательно прочитайте задание и подумайте, как бы вы заполнили пропу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ните, что правильный ответ легче найти путем отбрасывания неверных вариа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вы рассматриваете неверные варианты, обратите внимание на следующее. Потенциаль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риант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является прямым переводом аналогичной русской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 грамматически неверным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st to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заполнения пропуска дает нелогичные или неверные предложения (например, гласная буква посл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о отличается от других вариантов ответа (имеет совершенно другую форму или является другой частью реч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тите внимание на 2 или 3 похожих варианта ответа ( с точки зрения написания, произношения, грамматической формы) – один из них, скорее всего, является прави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олнив пропуск, прочитайте предложение полностью, с выбранным вами вариантом ответа. Убедитесь, что оно имеет смысл. Читая все предложение целиком, а не только ту его часть, что содержит пропуск, вы можете понять, что сделали неправильный вы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окончании выполнения заданий из раздела «Грамматика и лексика» не забудьте перенести ваши ответы в специальный  бланк отв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замен проверяет ваше умение ИСПОЛЬЗОВАТЬ иностранный язык, а не то, ЧТО ВЫ ЗНАЕТЕ о нем, т. е. он проверяет, как вы умеете слушать и понимать, читать и понимать, употреблять грамматические формы и лексику в соответствии с коммуникативным заданием, писать личное письмо и письменное высказывание с элементами рассу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АДАНИЯ НА МНОЖЕСТВЕННЫЙ ВЫБОР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мывание возможного варианта от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итайте предложения и подумайте, как можно заполнить пропуски. Вы можете вставить более одного слова в каждый пропуск. Определите, что проверяется в каждом пред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iminal is supposed ______ the money in the forest near his home 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eats meat and drinks alcohol ______ being a Buddh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lphin is one of many _______ species of marine animals in our oc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nowhere else to stay, I can ________ for a few n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of petrol has _______ for the fourth time this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Выбор правильного ответа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Заполните пропуски в предложениях из упр1, выбрав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правильный вариант ответа из 4 предложенных. Объясните, почему остальные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варианты являются неправильны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riminal is supposed ______ the money in the forest n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 home t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to hide    b) to have hidden   c) hiding   d) to be h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eats meat and drinks alcohol ______ being a Buddh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although   b) because   c) but    d) in spit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olphin is one of many _______ species of marine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our oce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frightened   b) threatening   c) endangered   d) sc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have nowhere else to stay, I can ________ for a fe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gh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put you in   b) put you up   c) put you through    d) put you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ice of petrol has _______ for the fourth time this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raised    b) rose    c) risen     d) 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пределение неверных вариантов ответа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.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иведенном ниже тексте проанализируйте варианты ответов Попробуйте, не читая текста, определить те, которые наверняка окажутся неверными (сильно отличаются от других вариантов по смыслу, по форме, грамматически неверны и т.п.). Затем прочитайте предложения и выберите  правильный вари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oad was so ____ that I could hardly control the c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slippery   b) sticky    c) smooth   d)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They discussed the issue of unemployment for hours,  _______ almost made me  fall aslee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what   b) when   c) for    d) 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It’s a pity you  don’t come to the party. I’m sure you ____ yourse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may have enjoyed       b) would have enjoyed               c) enjoyed            d) can’t have enjoy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e can meet on Friday night. I ____ my essay by t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will finish  b) am finishing  c) will have finished  d) will be fi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I’ll be on time  _____ the car breaks down ag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if    b) unless    c) as long as   d)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I like Adam because he is always in  a  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Good humour b) good temper c) good mood d) good s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 прилежно занимались иностранным языком, даже на базовом уровне, вы сможете успешно выполнить более половины тестовы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падайте в панику, если вы не можете ответить на ВСЕ вопросы. Не зацикливайтесь на трудном для вас вопросе. Двигайтесь дальше, вернитесь к нему, когда ответите на другие вопросы этого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дготовке к экзамену помните, что каждый раздел имеет свою специфику и требует разных подходов к подгот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дготовке к экзамену определите, какие виды заданий даются вам сложнее, и уделите им особое вним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дготовке к экзамену постепенно сокращайте время тренировочного выполнения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ка к экзамену предполагает серьезную тренировку в выполнении заданий и (само)анализ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дготовке к экзамену используйте пособия, которые прошли экспертизу Федерального института педагогических измерений (ФИП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замен по каждому предмету, в том числе по английскому языку, включает вопросы и задания трех разных ти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задания с выбором ответа из трех или четырех предложенных — это задания типа 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задания с кратким свободным ответом (одним словом или числом) — это задания типа 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задания с развернутым свободным ответом (включающим словесное обоснование,  математический вывод и т.п.)  —  это задания типа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ответы заносятся в бланк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в других предметах задания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, В и С сгруппированы по разделам, 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оте по английскому языку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и  В даны вперемешку в трех перв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дел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кзаменационной работе по иностранному языку нельзя судить о сложности задания по его ти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ость задания во многом зависит от сложности текста, на котором оно основан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ложность задания также определяется проверяемыми умениями и навы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кзаменационной работе по иностранному языку задания располагаются по возрастающей степени труд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ут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аждого раздела 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8:37:51Z</dcterms:created>
  <dc:creator>Valeria</dc:creator>
  <dc:description/>
  <dc:language>en-US</dc:language>
  <cp:lastModifiedBy>Валерия</cp:lastModifiedBy>
  <dcterms:modified xsi:type="dcterms:W3CDTF">2013-01-12T15:39:26Z</dcterms:modified>
  <cp:revision>13</cp:revision>
  <dc:subject/>
  <dc:title>Слайд 1</dc:title>
</cp:coreProperties>
</file>