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5E2-0F0C-4D8F-8B61-3703B6EA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2E1-8E04-4105-B70F-315AB0B3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8C6-34D2-443D-93F9-C134C330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ED7-8789-42AC-B82F-801ED865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58B-21C4-4239-9846-AB03537F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163-13C6-4AB5-8DCA-D54CD56B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769-D77D-4D7A-9373-A3B93750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B02-A129-46E7-87F0-F1CB9DF8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6AD-2A77-4E3D-95C2-1406C2DD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8FF-CD18-4115-B1CE-5511ED7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129-254F-4BAF-96E3-7D1AEDE3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BB1-FDF4-42C4-B7DE-B0031ADF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8671-A03F-4FB7-B712-DF6D1A0F2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text=&#1090;&#1077;&#1093;&#1085;&#1086;&#1083;&#1086;&#1075;&#1080;&#1103;%20&#1074;&#1099;&#1087;&#1086;&#1083;&#1085;&#1077;&#1085;&#1080;&#1103;%20&#1090;&#1072;&#1084;&#1073;&#1091;&#1088;&#1085;&#1086;&#1075;&#1086;%20&#1096;&#1074;&#1072;&amp;noreask=1&amp;img_url=www.knity.ru/uploads/posts/2010-06/1277237283_img_0005.jpg&amp;pos=74&amp;rpt=simage&amp;lr=19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71294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Учитель технолог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Елизарова Татьяна Валерье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5 клас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Саратов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http://www.livemaster.ru/item/mfoto3632815.jpg"/>
          <p:cNvPicPr/>
          <p:nvPr/>
        </p:nvPicPr>
        <p:blipFill>
          <a:blip r:embed="rId1"/>
          <a:stretch/>
        </p:blipFill>
        <p:spPr>
          <a:xfrm>
            <a:off x="214200" y="142920"/>
            <a:ext cx="3571920" cy="421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image_gallery?img_id=1320&amp;large=1"/>
          <p:cNvPicPr/>
          <p:nvPr/>
        </p:nvPicPr>
        <p:blipFill>
          <a:blip r:embed="rId2"/>
          <a:stretch/>
        </p:blipFill>
        <p:spPr>
          <a:xfrm>
            <a:off x="4572000" y="214200"/>
            <a:ext cx="4000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ить закрепление нитки в начал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File0447"/>
          <p:cNvPicPr/>
          <p:nvPr/>
        </p:nvPicPr>
        <p:blipFill>
          <a:blip r:embed="rId1"/>
          <a:stretch/>
        </p:blipFill>
        <p:spPr>
          <a:xfrm>
            <a:off x="2357280" y="2286000"/>
            <a:ext cx="4071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жить рабочую нить слева от контура узор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жать нить большим пальцем левой руки, ввести иголку в предыдущий прокол. Набрать на иголку 4-5 нитей. Иголку вывести на лицевую сторону ткани, так чтобы нитка оказалась под иголкой. Отпустить нитку из-под пальца и затянуть петл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7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1440000" cy="21049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8"/>
          <p:cNvGrpSpPr/>
          <p:nvPr/>
        </p:nvGrpSpPr>
        <p:grpSpPr>
          <a:xfrm>
            <a:off x="3379320" y="3645000"/>
            <a:ext cx="1406520" cy="2078640"/>
            <a:chOff x="3379320" y="3645000"/>
            <a:chExt cx="1406520" cy="2078640"/>
          </a:xfrm>
        </p:grpSpPr>
        <p:sp>
          <p:nvSpPr>
            <p:cNvPr id="76" name="Freeform 19"/>
            <p:cNvSpPr/>
            <p:nvPr/>
          </p:nvSpPr>
          <p:spPr>
            <a:xfrm rot="20208000">
              <a:off x="3419280" y="4418640"/>
              <a:ext cx="496800" cy="3060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18" h="242">
                  <a:moveTo>
                    <a:pt x="318" y="15"/>
                  </a:moveTo>
                  <a:cubicBezTo>
                    <a:pt x="291" y="7"/>
                    <a:pt x="265" y="0"/>
                    <a:pt x="227" y="15"/>
                  </a:cubicBezTo>
                  <a:cubicBezTo>
                    <a:pt x="189" y="30"/>
                    <a:pt x="129" y="68"/>
                    <a:pt x="91" y="106"/>
                  </a:cubicBezTo>
                  <a:cubicBezTo>
                    <a:pt x="53" y="144"/>
                    <a:pt x="26" y="193"/>
                    <a:pt x="0" y="242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3668760" y="3645000"/>
              <a:ext cx="1117080" cy="1725120"/>
            </a:xfrm>
            <a:custGeom>
              <a:avLst/>
              <a:gdLst>
                <a:gd name="textAreaLeft" fmla="*/ 0 w 1117080"/>
                <a:gd name="textAreaRight" fmla="*/ 1117440 w 1117080"/>
                <a:gd name="textAreaTop" fmla="*/ 0 h 1725120"/>
                <a:gd name="textAreaBottom" fmla="*/ 1725480 h 1725120"/>
              </a:gdLst>
              <a:ahLst/>
              <a:rect l="textAreaLeft" t="textAreaTop" r="textAreaRight" b="textAreaBottom"/>
              <a:pathLst>
                <a:path w="816" h="1618">
                  <a:moveTo>
                    <a:pt x="650" y="0"/>
                  </a:moveTo>
                  <a:cubicBezTo>
                    <a:pt x="627" y="76"/>
                    <a:pt x="605" y="152"/>
                    <a:pt x="560" y="182"/>
                  </a:cubicBezTo>
                  <a:cubicBezTo>
                    <a:pt x="515" y="212"/>
                    <a:pt x="438" y="137"/>
                    <a:pt x="378" y="182"/>
                  </a:cubicBezTo>
                  <a:cubicBezTo>
                    <a:pt x="318" y="227"/>
                    <a:pt x="182" y="401"/>
                    <a:pt x="197" y="454"/>
                  </a:cubicBezTo>
                  <a:cubicBezTo>
                    <a:pt x="212" y="507"/>
                    <a:pt x="394" y="469"/>
                    <a:pt x="469" y="499"/>
                  </a:cubicBezTo>
                  <a:cubicBezTo>
                    <a:pt x="544" y="529"/>
                    <a:pt x="605" y="582"/>
                    <a:pt x="650" y="635"/>
                  </a:cubicBezTo>
                  <a:cubicBezTo>
                    <a:pt x="695" y="688"/>
                    <a:pt x="726" y="734"/>
                    <a:pt x="741" y="817"/>
                  </a:cubicBezTo>
                  <a:cubicBezTo>
                    <a:pt x="756" y="900"/>
                    <a:pt x="764" y="1036"/>
                    <a:pt x="741" y="1134"/>
                  </a:cubicBezTo>
                  <a:cubicBezTo>
                    <a:pt x="718" y="1232"/>
                    <a:pt x="658" y="1331"/>
                    <a:pt x="605" y="1407"/>
                  </a:cubicBezTo>
                  <a:cubicBezTo>
                    <a:pt x="552" y="1483"/>
                    <a:pt x="492" y="1558"/>
                    <a:pt x="424" y="1588"/>
                  </a:cubicBezTo>
                  <a:cubicBezTo>
                    <a:pt x="356" y="1618"/>
                    <a:pt x="265" y="1611"/>
                    <a:pt x="197" y="1588"/>
                  </a:cubicBezTo>
                  <a:cubicBezTo>
                    <a:pt x="129" y="1565"/>
                    <a:pt x="30" y="1467"/>
                    <a:pt x="15" y="1452"/>
                  </a:cubicBezTo>
                  <a:cubicBezTo>
                    <a:pt x="0" y="1437"/>
                    <a:pt x="61" y="1482"/>
                    <a:pt x="106" y="1497"/>
                  </a:cubicBezTo>
                  <a:cubicBezTo>
                    <a:pt x="151" y="1512"/>
                    <a:pt x="227" y="1535"/>
                    <a:pt x="287" y="1543"/>
                  </a:cubicBezTo>
                  <a:cubicBezTo>
                    <a:pt x="347" y="1551"/>
                    <a:pt x="409" y="1558"/>
                    <a:pt x="469" y="1543"/>
                  </a:cubicBezTo>
                  <a:cubicBezTo>
                    <a:pt x="529" y="1528"/>
                    <a:pt x="597" y="1513"/>
                    <a:pt x="650" y="1452"/>
                  </a:cubicBezTo>
                  <a:cubicBezTo>
                    <a:pt x="703" y="1391"/>
                    <a:pt x="763" y="1293"/>
                    <a:pt x="786" y="1180"/>
                  </a:cubicBezTo>
                  <a:cubicBezTo>
                    <a:pt x="809" y="1067"/>
                    <a:pt x="816" y="870"/>
                    <a:pt x="786" y="772"/>
                  </a:cubicBezTo>
                  <a:cubicBezTo>
                    <a:pt x="756" y="674"/>
                    <a:pt x="703" y="643"/>
                    <a:pt x="605" y="590"/>
                  </a:cubicBezTo>
                  <a:cubicBezTo>
                    <a:pt x="507" y="537"/>
                    <a:pt x="257" y="492"/>
                    <a:pt x="197" y="454"/>
                  </a:cubicBezTo>
                  <a:cubicBezTo>
                    <a:pt x="137" y="416"/>
                    <a:pt x="204" y="393"/>
                    <a:pt x="242" y="363"/>
                  </a:cubicBezTo>
                  <a:cubicBezTo>
                    <a:pt x="280" y="333"/>
                    <a:pt x="364" y="288"/>
                    <a:pt x="424" y="273"/>
                  </a:cubicBezTo>
                  <a:cubicBezTo>
                    <a:pt x="484" y="258"/>
                    <a:pt x="552" y="288"/>
                    <a:pt x="605" y="273"/>
                  </a:cubicBezTo>
                  <a:cubicBezTo>
                    <a:pt x="658" y="258"/>
                    <a:pt x="699" y="220"/>
                    <a:pt x="741" y="182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21"/>
            <p:cNvGrpSpPr/>
            <p:nvPr/>
          </p:nvGrpSpPr>
          <p:grpSpPr>
            <a:xfrm>
              <a:off x="3822480" y="4031280"/>
              <a:ext cx="122760" cy="1692360"/>
              <a:chOff x="3822480" y="4031280"/>
              <a:chExt cx="122760" cy="1692360"/>
            </a:xfrm>
          </p:grpSpPr>
          <p:sp>
            <p:nvSpPr>
              <p:cNvPr id="79" name="Line 22"/>
              <p:cNvSpPr/>
              <p:nvPr/>
            </p:nvSpPr>
            <p:spPr>
              <a:xfrm flipV="1">
                <a:off x="3822480" y="4033080"/>
                <a:ext cx="37080" cy="8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23"/>
              <p:cNvSpPr/>
              <p:nvPr/>
            </p:nvSpPr>
            <p:spPr>
              <a:xfrm flipH="1">
                <a:off x="3930120" y="4118040"/>
                <a:ext cx="15120" cy="1561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3822480" y="4123080"/>
                <a:ext cx="109800" cy="1600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 flipV="1">
                <a:off x="3900960" y="4031280"/>
                <a:ext cx="44280" cy="864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3859200" y="4031640"/>
                <a:ext cx="41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27"/>
              <p:cNvSpPr/>
              <p:nvPr/>
            </p:nvSpPr>
            <p:spPr>
              <a:xfrm flipH="1" rot="21451800">
                <a:off x="3864240" y="4076640"/>
                <a:ext cx="40680" cy="133200"/>
              </a:xfrm>
              <a:prstGeom prst="ellipse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040" rIns="6804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28"/>
            <p:cNvSpPr/>
            <p:nvPr/>
          </p:nvSpPr>
          <p:spPr>
            <a:xfrm rot="16200000">
              <a:off x="3666960" y="4543560"/>
              <a:ext cx="435960" cy="1857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29"/>
            <p:cNvSpPr/>
            <p:nvPr/>
          </p:nvSpPr>
          <p:spPr>
            <a:xfrm>
              <a:off x="3605760" y="3838680"/>
              <a:ext cx="496800" cy="6278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fill="none" w="43200" h="43111">
                  <a:moveTo>
                    <a:pt x="23558" y="-1"/>
                  </a:moveTo>
                  <a:cubicBezTo>
                    <a:pt x="34682" y="1012"/>
                    <a:pt x="43200" y="10340"/>
                    <a:pt x="43200" y="21511"/>
                  </a:cubicBezTo>
                  <a:cubicBezTo>
                    <a:pt x="43200" y="33440"/>
                    <a:pt x="33529" y="43111"/>
                    <a:pt x="21600" y="43111"/>
                  </a:cubicBezTo>
                  <a:cubicBezTo>
                    <a:pt x="9670" y="43111"/>
                    <a:pt x="0" y="33440"/>
                    <a:pt x="0" y="21511"/>
                  </a:cubicBezTo>
                  <a:cubicBezTo>
                    <a:pt x="-1" y="11173"/>
                    <a:pt x="7324" y="2285"/>
                    <a:pt x="17471" y="309"/>
                  </a:cubicBezTo>
                </a:path>
                <a:path stroke="0" w="43200" h="43111">
                  <a:moveTo>
                    <a:pt x="23558" y="-1"/>
                  </a:moveTo>
                  <a:cubicBezTo>
                    <a:pt x="34682" y="1012"/>
                    <a:pt x="43200" y="10340"/>
                    <a:pt x="43200" y="21511"/>
                  </a:cubicBezTo>
                  <a:cubicBezTo>
                    <a:pt x="43200" y="33440"/>
                    <a:pt x="33529" y="43111"/>
                    <a:pt x="21600" y="43111"/>
                  </a:cubicBezTo>
                  <a:cubicBezTo>
                    <a:pt x="9670" y="43111"/>
                    <a:pt x="0" y="33440"/>
                    <a:pt x="0" y="21511"/>
                  </a:cubicBezTo>
                  <a:cubicBezTo>
                    <a:pt x="-1" y="11173"/>
                    <a:pt x="7324" y="2285"/>
                    <a:pt x="17471" y="309"/>
                  </a:cubicBezTo>
                  <a:lnTo>
                    <a:pt x="21600" y="21511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полнить следующий стежок так, чтобы острие иглы попало в точку, из которой выходит ни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8" descr="12 - копия (2)"/>
          <p:cNvPicPr/>
          <p:nvPr/>
        </p:nvPicPr>
        <p:blipFill>
          <a:blip r:embed="rId1"/>
          <a:stretch/>
        </p:blipFill>
        <p:spPr>
          <a:xfrm>
            <a:off x="3317760" y="3716280"/>
            <a:ext cx="2081160" cy="244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полнить несколько стеж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9" descr="File0435"/>
          <p:cNvPicPr/>
          <p:nvPr/>
        </p:nvPicPr>
        <p:blipFill>
          <a:blip r:embed="rId1"/>
          <a:stretch/>
        </p:blipFill>
        <p:spPr>
          <a:xfrm>
            <a:off x="3419640" y="2637000"/>
            <a:ext cx="2341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полнить маленький закрепочный стежок, делая прокол в ткани ниже пет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52" descr="Безымянный"/>
          <p:cNvPicPr/>
          <p:nvPr/>
        </p:nvPicPr>
        <p:blipFill>
          <a:blip r:embed="rId1"/>
          <a:stretch/>
        </p:blipFill>
        <p:spPr>
          <a:xfrm>
            <a:off x="1547640" y="3724200"/>
            <a:ext cx="6912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ыполнить закрепление нитки в конце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1116000" y="3373560"/>
            <a:ext cx="6192720" cy="1860480"/>
            <a:chOff x="1116000" y="3373560"/>
            <a:chExt cx="6192720" cy="1860480"/>
          </a:xfrm>
        </p:grpSpPr>
        <p:sp>
          <p:nvSpPr>
            <p:cNvPr id="95" name="AutoShape 5"/>
            <p:cNvSpPr/>
            <p:nvPr/>
          </p:nvSpPr>
          <p:spPr>
            <a:xfrm>
              <a:off x="1116000" y="3373560"/>
              <a:ext cx="619272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"/>
            <p:cNvSpPr/>
            <p:nvPr/>
          </p:nvSpPr>
          <p:spPr>
            <a:xfrm>
              <a:off x="2440440" y="4317840"/>
              <a:ext cx="1154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3678840" y="4317840"/>
              <a:ext cx="11563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8"/>
            <p:cNvSpPr/>
            <p:nvPr/>
          </p:nvSpPr>
          <p:spPr>
            <a:xfrm>
              <a:off x="4915800" y="4317840"/>
              <a:ext cx="11559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6153480" y="4317840"/>
              <a:ext cx="1155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440440" y="3539160"/>
              <a:ext cx="2558160" cy="1602360"/>
            </a:xfrm>
            <a:custGeom>
              <a:avLst/>
              <a:gdLst>
                <a:gd name="textAreaLeft" fmla="*/ 0 w 2558160"/>
                <a:gd name="textAreaRight" fmla="*/ 2558520 w 2558160"/>
                <a:gd name="textAreaTop" fmla="*/ 0 h 1602360"/>
                <a:gd name="textAreaBottom" fmla="*/ 1602720 h 1602360"/>
              </a:gdLst>
              <a:ahLst/>
              <a:rect l="textAreaLeft" t="textAreaTop" r="textAreaRight" b="textAreaBottom"/>
              <a:pathLst>
                <a:path w="1406" h="1308">
                  <a:moveTo>
                    <a:pt x="0" y="650"/>
                  </a:moveTo>
                  <a:cubicBezTo>
                    <a:pt x="15" y="646"/>
                    <a:pt x="31" y="643"/>
                    <a:pt x="46" y="696"/>
                  </a:cubicBezTo>
                  <a:cubicBezTo>
                    <a:pt x="61" y="749"/>
                    <a:pt x="68" y="885"/>
                    <a:pt x="91" y="968"/>
                  </a:cubicBezTo>
                  <a:cubicBezTo>
                    <a:pt x="114" y="1051"/>
                    <a:pt x="144" y="1142"/>
                    <a:pt x="182" y="1195"/>
                  </a:cubicBezTo>
                  <a:cubicBezTo>
                    <a:pt x="220" y="1248"/>
                    <a:pt x="250" y="1270"/>
                    <a:pt x="318" y="1285"/>
                  </a:cubicBezTo>
                  <a:cubicBezTo>
                    <a:pt x="386" y="1300"/>
                    <a:pt x="507" y="1308"/>
                    <a:pt x="590" y="1285"/>
                  </a:cubicBezTo>
                  <a:cubicBezTo>
                    <a:pt x="673" y="1262"/>
                    <a:pt x="757" y="1217"/>
                    <a:pt x="817" y="1149"/>
                  </a:cubicBezTo>
                  <a:cubicBezTo>
                    <a:pt x="877" y="1081"/>
                    <a:pt x="953" y="990"/>
                    <a:pt x="953" y="877"/>
                  </a:cubicBezTo>
                  <a:cubicBezTo>
                    <a:pt x="953" y="764"/>
                    <a:pt x="855" y="560"/>
                    <a:pt x="817" y="469"/>
                  </a:cubicBezTo>
                  <a:cubicBezTo>
                    <a:pt x="779" y="378"/>
                    <a:pt x="741" y="386"/>
                    <a:pt x="726" y="333"/>
                  </a:cubicBezTo>
                  <a:cubicBezTo>
                    <a:pt x="711" y="280"/>
                    <a:pt x="703" y="204"/>
                    <a:pt x="726" y="151"/>
                  </a:cubicBezTo>
                  <a:cubicBezTo>
                    <a:pt x="749" y="98"/>
                    <a:pt x="794" y="30"/>
                    <a:pt x="862" y="15"/>
                  </a:cubicBezTo>
                  <a:cubicBezTo>
                    <a:pt x="930" y="0"/>
                    <a:pt x="1058" y="53"/>
                    <a:pt x="1134" y="61"/>
                  </a:cubicBezTo>
                  <a:cubicBezTo>
                    <a:pt x="1210" y="69"/>
                    <a:pt x="1271" y="69"/>
                    <a:pt x="1316" y="61"/>
                  </a:cubicBezTo>
                  <a:cubicBezTo>
                    <a:pt x="1361" y="53"/>
                    <a:pt x="1383" y="34"/>
                    <a:pt x="1406" y="15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"/>
            <p:cNvGrpSpPr/>
            <p:nvPr/>
          </p:nvGrpSpPr>
          <p:grpSpPr>
            <a:xfrm>
              <a:off x="1186560" y="3862080"/>
              <a:ext cx="2869920" cy="909000"/>
              <a:chOff x="1186560" y="3862080"/>
              <a:chExt cx="2869920" cy="909000"/>
            </a:xfrm>
          </p:grpSpPr>
          <p:sp>
            <p:nvSpPr>
              <p:cNvPr id="102" name="Line 12"/>
              <p:cNvSpPr/>
              <p:nvPr/>
            </p:nvSpPr>
            <p:spPr>
              <a:xfrm flipV="1">
                <a:off x="3916800" y="3895920"/>
                <a:ext cx="139680" cy="78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 flipH="1">
                <a:off x="1261080" y="3875040"/>
                <a:ext cx="2624760" cy="87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4"/>
              <p:cNvSpPr/>
              <p:nvPr/>
            </p:nvSpPr>
            <p:spPr>
              <a:xfrm flipH="1">
                <a:off x="1186560" y="3974760"/>
                <a:ext cx="2729880" cy="796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5"/>
              <p:cNvSpPr/>
              <p:nvPr/>
            </p:nvSpPr>
            <p:spPr>
              <a:xfrm flipV="1">
                <a:off x="3886200" y="3862080"/>
                <a:ext cx="159840" cy="1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6"/>
              <p:cNvSpPr/>
              <p:nvPr/>
            </p:nvSpPr>
            <p:spPr>
              <a:xfrm>
                <a:off x="4045680" y="3862440"/>
                <a:ext cx="10440" cy="33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 rot="4383000">
                <a:off x="3845160" y="3817800"/>
                <a:ext cx="34560" cy="236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Оценочная таблица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выполненных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844640"/>
          <a:ext cx="7775280" cy="4481640"/>
        </p:xfrm>
        <a:graphic>
          <a:graphicData uri="http://schemas.openxmlformats.org/drawingml/2006/table">
            <a:tbl>
              <a:tblPr/>
              <a:tblGrid>
                <a:gridCol w="906480"/>
                <a:gridCol w="5770440"/>
                <a:gridCol w="1098360"/>
              </a:tblGrid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ческая опе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чего места и соблюдение техники безопас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репление нити в начале и в конце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жки (петельки) должны быть одинаковой дли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тельки шва должны иметь округлую форм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кань не должна быть стяну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й шов вы изучи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используется тамбурный ш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равилось ли вам вышивать тамбурным шв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сех получилос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 рисункам простых ручных швов подберите наз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0" y="4000680"/>
            <a:ext cx="5072040" cy="2571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2428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3"/>
          <a:stretch/>
        </p:blipFill>
        <p:spPr>
          <a:xfrm>
            <a:off x="642960" y="1571760"/>
            <a:ext cx="4286160" cy="21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4956120" y="4357800"/>
            <a:ext cx="397368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600" y="2357280"/>
            <a:ext cx="79297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АМБУРНЫЙ ШОВ – ЭТО НЕПРЕРЫВНЫЙ РЯД ПЕТЕЛЬ, ВЫХОДЯЩИХ ОДНА ИЗ ДРУГ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216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0253f"/>
                </a:solidFill>
                <a:latin typeface="Calibri"/>
              </a:rPr>
              <a:t>Ручные швы: ТАМБУРНЫЙ Ш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http://im8-tub-ru.yandex.net/i?id=364628974-0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4071960"/>
            <a:ext cx="57866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де можно применять тамбурный ш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D:\ТАНЯ\технология 2\tamburniy_shov_7[1].jpg"/>
          <p:cNvPicPr/>
          <p:nvPr/>
        </p:nvPicPr>
        <p:blipFill>
          <a:blip r:embed="rId1"/>
          <a:stretch/>
        </p:blipFill>
        <p:spPr>
          <a:xfrm>
            <a:off x="2340000" y="2133720"/>
            <a:ext cx="3600360" cy="34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ТАНЯ\технология 2\tamburniy_shov_8[1].jpg"/>
          <p:cNvPicPr/>
          <p:nvPr/>
        </p:nvPicPr>
        <p:blipFill>
          <a:blip r:embed="rId1"/>
          <a:stretch/>
        </p:blipFill>
        <p:spPr>
          <a:xfrm>
            <a:off x="4643280" y="260280"/>
            <a:ext cx="342900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tamica.ru/uploads/moi-raboty/vesennjaja-shapka-s-vyshivkoj-2.jpg"/>
          <p:cNvPicPr/>
          <p:nvPr/>
        </p:nvPicPr>
        <p:blipFill>
          <a:blip r:embed="rId2"/>
          <a:stretch/>
        </p:blipFill>
        <p:spPr>
          <a:xfrm>
            <a:off x="4067280" y="3543480"/>
            <a:ext cx="4705200" cy="3314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00000" y="3762360"/>
            <a:ext cx="2016360" cy="3095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971640" y="115920"/>
            <a:ext cx="220032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шить тамбурным швом контур рису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струменты и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203640" cy="237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nitki"/>
          <p:cNvPicPr/>
          <p:nvPr/>
        </p:nvPicPr>
        <p:blipFill>
          <a:blip r:embed="rId2"/>
          <a:stretch/>
        </p:blipFill>
        <p:spPr>
          <a:xfrm>
            <a:off x="611280" y="1197000"/>
            <a:ext cx="3816360" cy="2786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элимканц.рф/image/data/2542.jpg"/>
          <p:cNvPicPr/>
          <p:nvPr/>
        </p:nvPicPr>
        <p:blipFill>
          <a:blip r:embed="rId3"/>
          <a:stretch/>
        </p:blipFill>
        <p:spPr>
          <a:xfrm rot="16593600">
            <a:off x="5346000" y="3735720"/>
            <a:ext cx="2521080" cy="291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pic098"/>
          <p:cNvPicPr/>
          <p:nvPr/>
        </p:nvPicPr>
        <p:blipFill>
          <a:blip r:embed="rId4"/>
          <a:stretch/>
        </p:blipFill>
        <p:spPr>
          <a:xfrm>
            <a:off x="900000" y="4005360"/>
            <a:ext cx="34322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Правила безопас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00008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с ножниц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ботать только исправным инструмен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ожницы должны быть с закругленными конц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оставлять ножницы открыты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ожницы класть кольцами к себ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редавать ножницы кольцами впере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едить за движениями лезвий во время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ботать ножницами только на своем рабочем мес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ользовать ножницы по назнач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7960" y="1052640"/>
            <a:ext cx="4281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иг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нать сколько у вас игол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 окончании работы необходимо проверить количество игол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допускать потери иг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льзя брать иглу в рот, вкалывать ее в одеж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ередавать ушком вперед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оманную иглу завернуть в бумагу или ткань и отдать учител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оставлять иглу без нитки на стол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нить иглы в специальной подушеч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 откусывать нитку зуб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Технология выполнения тамбурного ш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Вдеть в иглу нить сложенную вдв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File0445"/>
          <p:cNvPicPr/>
          <p:nvPr/>
        </p:nvPicPr>
        <p:blipFill>
          <a:blip r:embed="rId1"/>
          <a:stretch/>
        </p:blipFill>
        <p:spPr>
          <a:xfrm>
            <a:off x="3000240" y="2571840"/>
            <a:ext cx="3857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6:31:29Z</dcterms:created>
  <dc:creator>я</dc:creator>
  <dc:description/>
  <dc:language>en-US</dc:language>
  <cp:lastModifiedBy> </cp:lastModifiedBy>
  <dcterms:modified xsi:type="dcterms:W3CDTF">2012-11-25T16:08:48Z</dcterms:modified>
  <cp:revision>50</cp:revision>
  <dc:subject/>
  <dc:title>Слайд 1</dc:title>
</cp:coreProperties>
</file>