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667-A3E1-4E03-92FB-F8982D84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124-0886-45DE-9436-3D547CF1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FD9-E991-4DF2-9E35-DDEC6F23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096-F54A-4872-9CAA-3BC5095C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1269-9424-4078-834B-D321C4C5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6276-D1EC-4E72-A848-C40B42A5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2979-2A81-4C46-8FC3-989BCBBB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BC4-66B5-4910-95AC-FC3B4E57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F313-FE12-4823-8ADE-1C2DE8AF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865-F13E-40D6-B459-479F2F1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9CD-215F-4748-8DC5-430589E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A76-C947-41BA-BF4A-3C4B87F6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7811-B483-4E35-9F77-00FE799F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69FE-EABB-4227-B301-7C483222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6B66-1A8D-49AB-83E0-2E3629CF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9D97-D396-4858-9474-7FF9DF86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5CB4-373F-4B39-A3D0-10B695E5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437-C760-4E09-BC50-83559667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985-D7C6-43DA-A9B1-D721F004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1A7-B233-4A51-9DFD-8C687556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8E9-EEA1-48B3-B049-2E72513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5CB-920F-40EB-8C7A-27546C8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7D2-2CDE-4F9A-B963-2B7ACD9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3C6-E0CA-4D14-A273-6457F3D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2DA2-2E3E-499B-BA50-BC893E990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ABB7-C258-44BF-9E89-DFBEAD5C0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04520" y="1599840"/>
            <a:ext cx="60627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рок - ролевая иг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230e"/>
                </a:solidFill>
                <a:latin typeface="Arial"/>
              </a:rPr>
              <a:t>Углерод и его соединен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539640" y="1557360"/>
          <a:ext cx="4392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392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rcRect l="52925" t="0" r="0" b="13308"/>
          <a:stretch/>
        </p:blipFill>
        <p:spPr>
          <a:xfrm>
            <a:off x="4932360" y="1557360"/>
            <a:ext cx="3525840" cy="4464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4360" y="333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Граф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d15"/>
                </a:solidFill>
                <a:latin typeface="Arial"/>
              </a:rPr>
              <a:t>Строение и физические свойства алмаза и графи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557360"/>
          <a:ext cx="8280360" cy="5205240"/>
        </p:xfrm>
        <a:graphic>
          <a:graphicData uri="http://schemas.openxmlformats.org/drawingml/2006/table">
            <a:tbl>
              <a:tblPr/>
              <a:tblGrid>
                <a:gridCol w="4035600"/>
                <a:gridCol w="4244760"/>
              </a:tblGrid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алм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граф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тверды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ягкий. Легко расслаивается на отдельные мельчайшие пластинк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зрачный, бесцветны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розрачный, серого цвета с металлическим блеско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ический ток не проводя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ический ток проводят относительно хорош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4049640" cy="5257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787840" cy="3807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360" y="333360"/>
            <a:ext cx="64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e43a"/>
                </a:solidFill>
                <a:latin typeface="Times New Roman"/>
              </a:rPr>
              <a:t>Николай Дмитриевич Зелинский (1861-195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>
            <a:lum bright="-18000"/>
          </a:blip>
          <a:srcRect l="0" t="315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менение углер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40000" y="1628640"/>
            <a:ext cx="4038120" cy="4525920"/>
            <a:chOff x="2340000" y="1628640"/>
            <a:chExt cx="4038120" cy="4525920"/>
          </a:xfrm>
        </p:grpSpPr>
        <p:sp>
          <p:nvSpPr>
            <p:cNvPr id="253" name="_s385050"/>
            <p:cNvSpPr/>
            <p:nvPr/>
          </p:nvSpPr>
          <p:spPr>
            <a:xfrm flipH="1" flipV="1">
              <a:off x="3406680" y="2696760"/>
              <a:ext cx="757800" cy="924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5049"/>
            <p:cNvSpPr/>
            <p:nvPr/>
          </p:nvSpPr>
          <p:spPr>
            <a:xfrm>
              <a:off x="2450160" y="2005200"/>
              <a:ext cx="997200" cy="76068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адсорб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5048"/>
            <p:cNvSpPr/>
            <p:nvPr/>
          </p:nvSpPr>
          <p:spPr>
            <a:xfrm flipH="1">
              <a:off x="3811680" y="3888720"/>
              <a:ext cx="294120" cy="2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385047"/>
            <p:cNvSpPr/>
            <p:nvPr/>
          </p:nvSpPr>
          <p:spPr>
            <a:xfrm>
              <a:off x="2376360" y="3450600"/>
              <a:ext cx="1398600" cy="760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Наполнитель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дл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резин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_s385046"/>
            <p:cNvSpPr/>
            <p:nvPr/>
          </p:nvSpPr>
          <p:spPr>
            <a:xfrm flipH="1">
              <a:off x="3628440" y="4142160"/>
              <a:ext cx="551520" cy="8798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385045"/>
            <p:cNvSpPr/>
            <p:nvPr/>
          </p:nvSpPr>
          <p:spPr>
            <a:xfrm>
              <a:off x="2340000" y="4708800"/>
              <a:ext cx="1288440" cy="10116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3300"/>
                  </a:solidFill>
                  <a:latin typeface="Times New Roman"/>
                </a:rPr>
                <a:t>Приготовление</a:t>
              </a:r>
              <a:r>
                <a:rPr b="0" lang="en-US" sz="18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r>
                <a:rPr b="1" i="1" lang="en-US" sz="1800" spc="-1" strike="noStrike">
                  <a:solidFill>
                    <a:srgbClr val="993300"/>
                  </a:solidFill>
                  <a:latin typeface="Times New Roman"/>
                </a:rPr>
                <a:t>черной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3300"/>
                  </a:solidFill>
                  <a:latin typeface="Times New Roman"/>
                </a:rPr>
                <a:t>краск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_s385044"/>
            <p:cNvSpPr/>
            <p:nvPr/>
          </p:nvSpPr>
          <p:spPr>
            <a:xfrm>
              <a:off x="4321440" y="4267080"/>
              <a:ext cx="5400" cy="692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385043"/>
            <p:cNvSpPr/>
            <p:nvPr/>
          </p:nvSpPr>
          <p:spPr>
            <a:xfrm>
              <a:off x="3628440" y="5086080"/>
              <a:ext cx="1324800" cy="1068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В производстве сахара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_s385042"/>
            <p:cNvSpPr/>
            <p:nvPr/>
          </p:nvSpPr>
          <p:spPr>
            <a:xfrm>
              <a:off x="4478040" y="4156200"/>
              <a:ext cx="695880" cy="803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385041"/>
            <p:cNvSpPr/>
            <p:nvPr/>
          </p:nvSpPr>
          <p:spPr>
            <a:xfrm>
              <a:off x="5174280" y="4520520"/>
              <a:ext cx="1140840" cy="151452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Очистка спир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_s385040"/>
            <p:cNvSpPr/>
            <p:nvPr/>
          </p:nvSpPr>
          <p:spPr>
            <a:xfrm>
              <a:off x="4543200" y="3888720"/>
              <a:ext cx="372960" cy="2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_s385039"/>
            <p:cNvSpPr/>
            <p:nvPr/>
          </p:nvSpPr>
          <p:spPr>
            <a:xfrm>
              <a:off x="4989960" y="3514320"/>
              <a:ext cx="1071000" cy="76068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8ae"/>
                  </a:solidFill>
                  <a:latin typeface="Times New Roman"/>
                </a:rPr>
                <a:t>В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68ae"/>
                  </a:solidFill>
                  <a:latin typeface="Times New Roman"/>
                </a:rPr>
                <a:t>медицин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385038"/>
            <p:cNvSpPr/>
            <p:nvPr/>
          </p:nvSpPr>
          <p:spPr>
            <a:xfrm flipV="1">
              <a:off x="4478040" y="2948760"/>
              <a:ext cx="585720" cy="67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_s385037"/>
            <p:cNvSpPr/>
            <p:nvPr/>
          </p:nvSpPr>
          <p:spPr>
            <a:xfrm>
              <a:off x="4989960" y="2068920"/>
              <a:ext cx="1388160" cy="1068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Получение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искусстве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Алмазо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_s385036"/>
            <p:cNvSpPr/>
            <p:nvPr/>
          </p:nvSpPr>
          <p:spPr>
            <a:xfrm flipV="1">
              <a:off x="4321440" y="2885040"/>
              <a:ext cx="5400" cy="624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385035"/>
            <p:cNvSpPr/>
            <p:nvPr/>
          </p:nvSpPr>
          <p:spPr>
            <a:xfrm>
              <a:off x="3812040" y="1628640"/>
              <a:ext cx="1177920" cy="1194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Times New Roman"/>
                </a:rPr>
                <a:t>Графитовое</a:t>
              </a: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00"/>
                  </a:solidFill>
                  <a:latin typeface="Times New Roman"/>
                </a:rPr>
                <a:t>производ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385032"/>
            <p:cNvSpPr/>
            <p:nvPr/>
          </p:nvSpPr>
          <p:spPr>
            <a:xfrm>
              <a:off x="4099320" y="3510360"/>
              <a:ext cx="445320" cy="7606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оксида углерода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img11" descr=""/>
          <p:cNvPicPr/>
          <p:nvPr/>
        </p:nvPicPr>
        <p:blipFill>
          <a:blip r:embed=""/>
          <a:stretch/>
        </p:blipFill>
        <p:spPr>
          <a:xfrm>
            <a:off x="2268360" y="1413000"/>
            <a:ext cx="4176720" cy="2253960"/>
          </a:xfrm>
          <a:prstGeom prst="rect">
            <a:avLst/>
          </a:prstGeom>
          <a:ln w="0">
            <a:noFill/>
          </a:ln>
        </p:spPr>
      </p:pic>
      <p:pic>
        <p:nvPicPr>
          <p:cNvPr id="272" name="img12" descr=""/>
          <p:cNvPicPr/>
          <p:nvPr/>
        </p:nvPicPr>
        <p:blipFill>
          <a:blip r:embed=""/>
          <a:stretch/>
        </p:blipFill>
        <p:spPr>
          <a:xfrm>
            <a:off x="1042920" y="4149720"/>
            <a:ext cx="648036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Химические свойства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СО</a:t>
            </a:r>
            <a:br>
              <a:rPr sz="44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 – сильный восстановитель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915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CO + O2 = 2CO2 + 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+ Cl2 (125-15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, Pt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OCl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CO + 2S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2 + CS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3O4 + 4CO (70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3Fe + 4CO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оксида углерод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(IV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00720" cy="2462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627280" y="4653000"/>
            <a:ext cx="3889440" cy="73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7640"/>
            <a:ext cx="849636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397640" y="527040"/>
                <a:ext cx="325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рок ведёт Шаркова Г. 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Присутствую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учащиеся 9 «а» клас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руговород углерода в природ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42508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746640" y="668160"/>
            <a:ext cx="3942000" cy="1567800"/>
            <a:chOff x="746640" y="668160"/>
            <a:chExt cx="3942000" cy="1567800"/>
          </a:xfrm>
        </p:grpSpPr>
        <p:cxnSp>
          <p:nvCxnSpPr>
            <p:cNvPr id="287" name="_s408589"/>
            <p:cNvCxnSpPr>
              <a:stCxn id="288" idx="0"/>
              <a:endCxn id="289" idx="2"/>
            </p:cNvCxnSpPr>
            <p:nvPr/>
          </p:nvCxnSpPr>
          <p:spPr>
            <a:xfrm flipV="1" rot="16200000">
              <a:off x="3087360" y="822960"/>
              <a:ext cx="228960" cy="969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0" name="_s408588"/>
            <p:cNvCxnSpPr>
              <a:stCxn id="291" idx="0"/>
              <a:endCxn id="289" idx="2"/>
            </p:cNvCxnSpPr>
            <p:nvPr/>
          </p:nvCxnSpPr>
          <p:spPr>
            <a:xfrm flipH="1" flipV="1" rot="5400000">
              <a:off x="2118960" y="823320"/>
              <a:ext cx="228960" cy="96912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9" name="_s408584"/>
            <p:cNvSpPr/>
            <p:nvPr/>
          </p:nvSpPr>
          <p:spPr>
            <a:xfrm>
              <a:off x="746640" y="668160"/>
              <a:ext cx="3942000" cy="525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Экологическая проблем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_s408585"/>
            <p:cNvSpPr/>
            <p:nvPr/>
          </p:nvSpPr>
          <p:spPr>
            <a:xfrm>
              <a:off x="844920" y="1423080"/>
              <a:ext cx="1810080" cy="812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арников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эффек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408586"/>
            <p:cNvSpPr/>
            <p:nvPr/>
          </p:nvSpPr>
          <p:spPr>
            <a:xfrm>
              <a:off x="2781000" y="1423080"/>
              <a:ext cx="1810080" cy="8128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Кислот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imes New Roman"/>
                </a:rPr>
                <a:t>дожд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2" name=""/>
          <p:cNvGraphicFramePr/>
          <p:nvPr/>
        </p:nvGraphicFramePr>
        <p:xfrm>
          <a:off x="4932360" y="3298680"/>
          <a:ext cx="374328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298680"/>
                    <a:ext cx="374328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4000" y="2498760"/>
            <a:ext cx="4032000" cy="39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105080" cy="3745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535640" y="333360"/>
            <a:ext cx="460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тайские ученые бьют тревогу – промышленный бум привел к тому, что в прошлом году треть территории страны заливало кислотными дождями. При неблагоприятной розе ветров кислотные дожди китайского «происхождения» выпадают и регионах России - на Дальнем Востоке и в Сибири. Проанализировав ситуацию, ученые пришли к выводу, что к концу 21 века весь мировой океан может стать кислотным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33336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слотные дожди могут вызвать респираторные, сердечно-сосудистые и онкологически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ти решения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экологических пробл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402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традиционна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е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ор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мояде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ия в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ия прили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нергия термальных 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43280" y="1916280"/>
            <a:ext cx="41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7dd15"/>
                </a:solidFill>
                <a:uFillTx/>
                <a:latin typeface="Times New Roman"/>
              </a:rPr>
              <a:t>в </a:t>
            </a:r>
            <a:r>
              <a:rPr b="0" lang="ru-RU" sz="3200" spc="-1" strike="noStrike" u="sng">
                <a:solidFill>
                  <a:srgbClr val="e7dd15"/>
                </a:solidFill>
                <a:uFillTx/>
                <a:latin typeface="Times New Roman"/>
              </a:rPr>
              <a:t>природе</a:t>
            </a:r>
            <a:r>
              <a:rPr b="0" lang="en-US" sz="3200" spc="-1" strike="noStrike" u="sng">
                <a:solidFill>
                  <a:srgbClr val="e7dd15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e7dd15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кратить вырубку ле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мулировать рост и размножение океанического планкт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35280" y="1484280"/>
            <a:ext cx="5689440" cy="0"/>
          </a:xfrm>
          <a:prstGeom prst="line">
            <a:avLst/>
          </a:prstGeom>
          <a:ln w="284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16360" y="83664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640" y="213372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299736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357336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407664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4581360"/>
            <a:ext cx="358920" cy="48132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840 h 481320"/>
              <a:gd name="textAreaBottom" fmla="*/ 294480 h 481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508464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49228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716360" y="3429000"/>
            <a:ext cx="358920" cy="480960"/>
          </a:xfrm>
          <a:custGeom>
            <a:avLst/>
            <a:gdLst>
              <a:gd name="textAreaLeft" fmla="*/ 139320 w 358920"/>
              <a:gd name="textAreaRight" fmla="*/ 219600 w 358920"/>
              <a:gd name="textAreaTop" fmla="*/ 186480 h 480960"/>
              <a:gd name="textAreaBottom" fmla="*/ 294480 h 480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379" y="8379"/>
                </a:lnTo>
                <a:lnTo>
                  <a:pt x="10800" y="0"/>
                </a:lnTo>
                <a:lnTo>
                  <a:pt x="13221" y="8379"/>
                </a:lnTo>
                <a:lnTo>
                  <a:pt x="21600" y="10800"/>
                </a:lnTo>
                <a:lnTo>
                  <a:pt x="13221" y="13221"/>
                </a:lnTo>
                <a:lnTo>
                  <a:pt x="10800" y="21600"/>
                </a:lnTo>
                <a:lnTo>
                  <a:pt x="8379" y="1322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, систематизировать и расширить знания учащихся по данной те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биогенное значение углерода, его круговорот в природе, антропогенное влияние на биохимический цикл углерода и меры по его сохран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107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cedb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оложение углерода в периодической сис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Строение атома углерода, валентные возм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Нахождение в природе, биогенность угле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Аллотропные модификации углерода, их физичекие свойства и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5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Химические свойства угле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Оксид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I)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состав, строение, свойства,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Оксид углерода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IV)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, состав, строение, свойства,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Круговорот углерода в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Comic Sans MS"/>
              </a:rPr>
              <a:t>9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Экологические проблемы, связанные с соединениями углерода (кислотные дожди, парниковый эффект), и пути их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5280" y="228600"/>
            <a:ext cx="8029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d15"/>
                </a:solidFill>
                <a:latin typeface="Arial"/>
              </a:rPr>
              <a:t>Паспортные данны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4572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– угле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e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ия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s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p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ная масса 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12,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уппа: Н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d15"/>
                </a:solidFill>
                <a:latin typeface="Arial"/>
              </a:rPr>
              <a:t>Место  ж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род:  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м: Период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хим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ов имени Менделе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дъезд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аж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вартира: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391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d15"/>
                </a:solidFill>
                <a:latin typeface="Arial"/>
              </a:rPr>
              <a:t>Паспортные данны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4572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– крем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lic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ерия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s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p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ная масса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8,0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руппа: Не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d15"/>
                </a:solidFill>
                <a:latin typeface="Arial"/>
              </a:rPr>
              <a:t>Место  ж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род:  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м: Период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хим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ов имени Менделе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дъезд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аж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вартира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3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5472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dd15"/>
                </a:solidFill>
                <a:latin typeface="Arial"/>
              </a:rPr>
              <a:t>Паспортные данны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9242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4572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к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– герм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s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p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1102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омная масса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2,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уппа: амфотерный 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4956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dd15"/>
                </a:solidFill>
                <a:latin typeface="Arial"/>
              </a:rPr>
              <a:t>Место  жи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род:  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м: Периодичес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хим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ов имени Менделе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ъезд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аж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1102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вартира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0" y="0"/>
          <a:ext cx="4572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476360" y="4005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4038480"/>
            <a:ext cx="433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716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0" y="0"/>
          <a:ext cx="4572000" cy="685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4572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72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128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Алмаз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08360" cy="465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0" t="0" r="45367" b="13308"/>
          <a:stretch/>
        </p:blipFill>
        <p:spPr>
          <a:xfrm>
            <a:off x="5219640" y="1557360"/>
            <a:ext cx="360036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Учитель: Шаркова Г. М.</a:t>
            </a:r>
          </a:p>
        </p:txBody>
      </p:sp>
    </p:spTree>
  </p:cSld>
  <p:transition>
    <p:wheel spokes="8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7:58:45Z</dcterms:created>
  <dc:creator>Ganga</dc:creator>
  <dc:description/>
  <dc:language>en-US</dc:language>
  <cp:lastModifiedBy>free</cp:lastModifiedBy>
  <dcterms:modified xsi:type="dcterms:W3CDTF">2013-01-13T07:05:49Z</dcterms:modified>
  <cp:revision>57</cp:revision>
  <dc:subject/>
  <dc:title>Школа №45 представляет</dc:title>
</cp:coreProperties>
</file>