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140C-DD83-4EE8-A305-98EE18777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5561-B774-4573-87EE-F2BE28100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0AA9-2D39-4A25-9951-CBA601453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AEF4-5DC2-4B4E-ADE6-BC6634267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A21F-50C1-4994-86E3-7BB71A135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CD14-1331-4AC1-87EF-06A3807F6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F93C-8B6F-4221-9A0F-C3323DF8F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1F16-072C-4770-AF95-D47D9DE7E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1D63-9C7E-4B78-8A88-89FDA417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FC59-F5D0-4625-A67D-8A3FB44A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660C-79C5-442F-80C8-BF91FB2D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CCF4-E176-4FA6-8D13-E87BDAD7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B6B8F-52FD-4DD7-9792-8287BAAE95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26920" y="-360"/>
            <a:ext cx="561348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процесс получения изображений на плос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3499920"/>
            <a:ext cx="914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Плоскость проекций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– плоскость на которую проецируется объе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Центр проецирования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- точка из которой исходят проецирующие лу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Проекция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– изображение объекта, полученное при проецировании его на плоскости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9280" y="820800"/>
            <a:ext cx="8784720" cy="2463480"/>
            <a:chOff x="179280" y="820800"/>
            <a:chExt cx="8784720" cy="2463480"/>
          </a:xfrm>
        </p:grpSpPr>
        <p:cxnSp>
          <p:nvCxnSpPr>
            <p:cNvPr id="44" name="_s2064"/>
            <p:cNvCxnSpPr>
              <a:stCxn id="45" idx="0"/>
              <a:endCxn id="46" idx="2"/>
            </p:cNvCxnSpPr>
            <p:nvPr/>
          </p:nvCxnSpPr>
          <p:spPr>
            <a:xfrm flipV="1" rot="16200000">
              <a:off x="6295320" y="1656360"/>
              <a:ext cx="279720" cy="1863360"/>
            </a:xfrm>
            <a:prstGeom prst="bentConnector5">
              <a:avLst>
                <a:gd name="adj1" fmla="val 382989"/>
                <a:gd name="adj2" fmla="val 198164"/>
                <a:gd name="adj3" fmla="val 1713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7" name="_s2062"/>
            <p:cNvCxnSpPr>
              <a:stCxn id="48" idx="0"/>
              <a:endCxn id="46" idx="2"/>
            </p:cNvCxnSpPr>
            <p:nvPr/>
          </p:nvCxnSpPr>
          <p:spPr>
            <a:xfrm flipH="1" flipV="1" rot="5400000">
              <a:off x="4431960" y="1656000"/>
              <a:ext cx="279720" cy="1864440"/>
            </a:xfrm>
            <a:prstGeom prst="bentConnector5">
              <a:avLst>
                <a:gd name="adj1" fmla="val 382989"/>
                <a:gd name="adj2" fmla="val 198126"/>
                <a:gd name="adj3" fmla="val 1713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9" name="_s2060"/>
            <p:cNvCxnSpPr>
              <a:stCxn id="46" idx="0"/>
              <a:endCxn id="50" idx="2"/>
            </p:cNvCxnSpPr>
            <p:nvPr/>
          </p:nvCxnSpPr>
          <p:spPr>
            <a:xfrm flipV="1" rot="16200000">
              <a:off x="4432320" y="818280"/>
              <a:ext cx="279360" cy="1864440"/>
            </a:xfrm>
            <a:prstGeom prst="bentConnector5">
              <a:avLst>
                <a:gd name="adj1" fmla="val 83225"/>
                <a:gd name="adj2" fmla="val -98126"/>
                <a:gd name="adj3" fmla="val -28309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1" name="_s2058"/>
            <p:cNvCxnSpPr>
              <a:stCxn id="52" idx="0"/>
              <a:endCxn id="50" idx="2"/>
            </p:cNvCxnSpPr>
            <p:nvPr/>
          </p:nvCxnSpPr>
          <p:spPr>
            <a:xfrm flipH="1" flipV="1" rot="5400000">
              <a:off x="2568240" y="819000"/>
              <a:ext cx="279360" cy="1863360"/>
            </a:xfrm>
            <a:prstGeom prst="bentConnector5">
              <a:avLst>
                <a:gd name="adj1" fmla="val 383225"/>
                <a:gd name="adj2" fmla="val 198202"/>
                <a:gd name="adj3" fmla="val 1703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0" name="_s2054"/>
            <p:cNvSpPr/>
            <p:nvPr/>
          </p:nvSpPr>
          <p:spPr>
            <a:xfrm>
              <a:off x="2042280" y="1052640"/>
              <a:ext cx="3194640" cy="558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ПРОЕЦИРОВА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2055"/>
            <p:cNvSpPr/>
            <p:nvPr/>
          </p:nvSpPr>
          <p:spPr>
            <a:xfrm>
              <a:off x="179280" y="1890000"/>
              <a:ext cx="3194640" cy="558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центрально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2057"/>
            <p:cNvSpPr/>
            <p:nvPr/>
          </p:nvSpPr>
          <p:spPr>
            <a:xfrm>
              <a:off x="3906360" y="1890000"/>
              <a:ext cx="3194640" cy="558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параллельно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2061"/>
            <p:cNvSpPr/>
            <p:nvPr/>
          </p:nvSpPr>
          <p:spPr>
            <a:xfrm>
              <a:off x="2042280" y="2727720"/>
              <a:ext cx="3194640" cy="556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прямоугольно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_s2063"/>
            <p:cNvSpPr/>
            <p:nvPr/>
          </p:nvSpPr>
          <p:spPr>
            <a:xfrm>
              <a:off x="5769360" y="2727720"/>
              <a:ext cx="3194640" cy="556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косоугольно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0" y="18900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Проец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404640"/>
            <a:ext cx="8229600" cy="57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260280"/>
            <a:ext cx="822960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 Black"/>
              </a:rPr>
              <a:t>Условия прямоугольного проецир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Проецируемый предмет всегда располагается параллельно плоскости проек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Проецирующие лучи, проходящие через </a:t>
            </a:r>
            <a:r>
              <a:rPr b="1" lang="en-US" sz="3200" spc="-1" strike="noStrike" u="sng">
                <a:solidFill>
                  <a:srgbClr val="800000"/>
                </a:solidFill>
                <a:uFillTx/>
                <a:latin typeface="Arial"/>
              </a:rPr>
              <a:t>характерные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 точки этого предмета, всегда перпендикулярны плоскости проек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Фронтальная плоскость проекций. Фронтальная проекц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1349280"/>
            <a:ext cx="9144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769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7138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2105" t="0" r="30404" b="5570"/>
          <a:stretch/>
        </p:blipFill>
        <p:spPr>
          <a:xfrm>
            <a:off x="0" y="189000"/>
            <a:ext cx="9144000" cy="4046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050920" y="4410000"/>
            <a:ext cx="47149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2T10:36:20Z</dcterms:created>
  <dc:creator>1</dc:creator>
  <dc:description/>
  <dc:language>en-US</dc:language>
  <cp:lastModifiedBy>Admin</cp:lastModifiedBy>
  <dcterms:modified xsi:type="dcterms:W3CDTF">2013-01-08T04:23:39Z</dcterms:modified>
  <cp:revision>2</cp:revision>
  <dc:subject/>
  <dc:title>Проецирование – процесс получения изображений на плоскости</dc:title>
</cp:coreProperties>
</file>