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06D5-452C-4E12-B497-09528AD4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278D-A94A-402E-BF95-A38AAEB8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FC2-BF20-469F-8BC7-94C29CCF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ED6-B4F3-496B-B363-0C2FBF2A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8D8-303D-4AE4-A1D8-BEC1806F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D99-98C5-4261-8A44-D5CB953E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110-D535-4A8B-B57D-08E6FC66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F0B-88D3-4DDE-AB49-0F60BA6C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B518-20BB-405D-8B04-F1684B5A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33A-7994-4B00-8E3A-433677BF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EA4-0DA6-469D-95EF-9DC82E50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3B4-1735-4A94-B68D-DC6498D7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4F37-FC80-4E9C-B0C2-748B2FDF3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56134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роцесс получения изображений на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49992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Плоскость проекций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– плоскость на которую проецируется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Центр проецирования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- точка из которой исходят проецирующие лу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Проекция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– изображение объекта, полученное при проецировании его на плоскости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9280" y="820800"/>
            <a:ext cx="8784720" cy="2463480"/>
            <a:chOff x="179280" y="820800"/>
            <a:chExt cx="8784720" cy="2463480"/>
          </a:xfrm>
        </p:grpSpPr>
        <p:cxnSp>
          <p:nvCxnSpPr>
            <p:cNvPr id="44" name="_s2064"/>
            <p:cNvCxnSpPr>
              <a:stCxn id="45" idx="0"/>
              <a:endCxn id="46" idx="2"/>
            </p:cNvCxnSpPr>
            <p:nvPr/>
          </p:nvCxnSpPr>
          <p:spPr>
            <a:xfrm flipV="1" rot="16200000">
              <a:off x="6295320" y="1656360"/>
              <a:ext cx="279720" cy="1863360"/>
            </a:xfrm>
            <a:prstGeom prst="bentConnector5">
              <a:avLst>
                <a:gd name="adj1" fmla="val 382989"/>
                <a:gd name="adj2" fmla="val 198164"/>
                <a:gd name="adj3" fmla="val 171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2062"/>
            <p:cNvCxnSpPr>
              <a:stCxn id="48" idx="0"/>
              <a:endCxn id="46" idx="2"/>
            </p:cNvCxnSpPr>
            <p:nvPr/>
          </p:nvCxnSpPr>
          <p:spPr>
            <a:xfrm flipH="1" flipV="1" rot="5400000">
              <a:off x="4431960" y="1656000"/>
              <a:ext cx="279720" cy="1864440"/>
            </a:xfrm>
            <a:prstGeom prst="bentConnector5">
              <a:avLst>
                <a:gd name="adj1" fmla="val 382989"/>
                <a:gd name="adj2" fmla="val 198126"/>
                <a:gd name="adj3" fmla="val 171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2060"/>
            <p:cNvCxnSpPr>
              <a:stCxn id="46" idx="0"/>
              <a:endCxn id="50" idx="2"/>
            </p:cNvCxnSpPr>
            <p:nvPr/>
          </p:nvCxnSpPr>
          <p:spPr>
            <a:xfrm flipV="1" rot="16200000">
              <a:off x="4432320" y="818280"/>
              <a:ext cx="279360" cy="1864440"/>
            </a:xfrm>
            <a:prstGeom prst="bentConnector5">
              <a:avLst>
                <a:gd name="adj1" fmla="val 83225"/>
                <a:gd name="adj2" fmla="val -98126"/>
                <a:gd name="adj3" fmla="val -2830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2058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2568240" y="819000"/>
              <a:ext cx="279360" cy="1863360"/>
            </a:xfrm>
            <a:prstGeom prst="bentConnector5">
              <a:avLst>
                <a:gd name="adj1" fmla="val 383225"/>
                <a:gd name="adj2" fmla="val 198202"/>
                <a:gd name="adj3" fmla="val 170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2054"/>
            <p:cNvSpPr/>
            <p:nvPr/>
          </p:nvSpPr>
          <p:spPr>
            <a:xfrm>
              <a:off x="2042280" y="1052640"/>
              <a:ext cx="3194640" cy="558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ПРОЕЦИР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55"/>
            <p:cNvSpPr/>
            <p:nvPr/>
          </p:nvSpPr>
          <p:spPr>
            <a:xfrm>
              <a:off x="179280" y="1890000"/>
              <a:ext cx="3194640" cy="558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централь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57"/>
            <p:cNvSpPr/>
            <p:nvPr/>
          </p:nvSpPr>
          <p:spPr>
            <a:xfrm>
              <a:off x="3906360" y="1890000"/>
              <a:ext cx="3194640" cy="558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параллель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61"/>
            <p:cNvSpPr/>
            <p:nvPr/>
          </p:nvSpPr>
          <p:spPr>
            <a:xfrm>
              <a:off x="2042280" y="2727720"/>
              <a:ext cx="3194640" cy="55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прямоуголь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3"/>
            <p:cNvSpPr/>
            <p:nvPr/>
          </p:nvSpPr>
          <p:spPr>
            <a:xfrm>
              <a:off x="5769360" y="2727720"/>
              <a:ext cx="3194640" cy="55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косоуголь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0" y="189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Проец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Условия прямоугольного проец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оецируемый предмет всегда располагается параллельно плоскости про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оецирующие лучи, проходящие через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характерные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точки этого предмета, всегда перпендикулярны плоскости про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Фронтальная плоскость проекций. Фронтальная прое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713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2105" t="0" r="30404" b="5570"/>
          <a:stretch/>
        </p:blipFill>
        <p:spPr>
          <a:xfrm>
            <a:off x="0" y="189000"/>
            <a:ext cx="9144000" cy="4046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050920" y="4410000"/>
            <a:ext cx="4714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0:36:20Z</dcterms:created>
  <dc:creator>1</dc:creator>
  <dc:description/>
  <dc:language>en-US</dc:language>
  <cp:lastModifiedBy>Admin</cp:lastModifiedBy>
  <dcterms:modified xsi:type="dcterms:W3CDTF">2013-01-08T04:23:39Z</dcterms:modified>
  <cp:revision>2</cp:revision>
  <dc:subject/>
  <dc:title>Проецирование – процесс получения изображений на плоскости</dc:title>
</cp:coreProperties>
</file>