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F5DB-F2F0-474B-8341-70A87128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67C3-602D-452F-9E7A-7C3222F5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83BD-3D48-44F5-8842-C4E13C77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200-570F-4B41-8766-13F03EB5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857-7DFF-4CA6-90C1-3E8AEA80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B26-31D8-4C91-BB28-B60F546A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B24-5A12-4D5C-9C21-4498FDD5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258-D78E-47FA-B6D5-F0D73D87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945-5AF2-421A-8DC8-5813C40C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5CB-7B3F-4928-A78C-CCF67EFE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BE9-693A-4354-ABEF-6EC7583D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9ED1-379A-4FDE-9B08-67991B0D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0053-6A70-46AB-93FF-98FF56DDC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ецирование на две плоскости прое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6720" y="5229360"/>
            <a:ext cx="388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йтишин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технологии МОАУГ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анализируйте форму детали и найдите её изобра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4319"/>
          <a:stretch/>
        </p:blipFill>
        <p:spPr>
          <a:xfrm rot="5400000">
            <a:off x="2931120" y="-510120"/>
            <a:ext cx="32814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72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606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77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7:45:12Z</dcterms:created>
  <dc:creator>1</dc:creator>
  <dc:description/>
  <dc:language>en-US</dc:language>
  <cp:lastModifiedBy>Admin</cp:lastModifiedBy>
  <dcterms:modified xsi:type="dcterms:W3CDTF">2013-01-13T10:57:15Z</dcterms:modified>
  <cp:revision>4</cp:revision>
  <dc:subject/>
  <dc:title>Проецирование на две плоскости проекций</dc:title>
</cp:coreProperties>
</file>