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807-51DF-4FFB-AD90-DD0DB8BF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FEC-2175-49A5-9872-109D85A9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D07-A1AA-41C1-A805-191ECF04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659-17D8-4AF5-AD4D-6DB9C4A2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B43-700E-4647-99D2-BA05845D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13E-A304-4F7B-87C1-0346E2E9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CEB-BE81-4E22-B931-98F6E144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F15-7A49-4DBE-96D5-948BB0A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AC2-3D77-4CD5-ACF5-F84BE56B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570-0351-45F3-89D0-8A75B89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1AE-0102-4F1E-BBC6-DF6538E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BEE-D885-44F5-8A34-4B83F68D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C76A-1E46-4930-B869-07AC30693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ецирование на две плоскости прое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5229360"/>
            <a:ext cx="388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тиш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 МОАУГ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анализируйте форму детали и найдите её изобр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4319"/>
          <a:stretch/>
        </p:blipFill>
        <p:spPr>
          <a:xfrm rot="5400000">
            <a:off x="2931120" y="-510120"/>
            <a:ext cx="32814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606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7:45:12Z</dcterms:created>
  <dc:creator>1</dc:creator>
  <dc:description/>
  <dc:language>en-US</dc:language>
  <cp:lastModifiedBy>Admin</cp:lastModifiedBy>
  <dcterms:modified xsi:type="dcterms:W3CDTF">2013-01-13T10:57:15Z</dcterms:modified>
  <cp:revision>4</cp:revision>
  <dc:subject/>
  <dc:title>Проецирование на две плоскости проекций</dc:title>
</cp:coreProperties>
</file>