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49BF-7D27-4570-A7A4-17D5B7CB5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07DC-F369-4D83-A96A-4ADA82D71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B0E7-56B6-442E-ADCB-5C82425F3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2C82-9528-4921-B5E7-1AAE42728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29CF-F900-4A16-8C57-401933943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DE53-4899-4F15-B4C3-7A9171C1A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8ED5-2BB2-4C25-831E-79FE3F994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BF2D-20C6-4278-A1E1-786963479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0F10-6114-496E-A892-AA9F5E327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DBD0-97B4-4CC4-819F-DEB941F1F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D001-6DCD-4E11-8A75-FFB38CF11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B1FD-F052-4844-B834-3DA696D00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D1696-36C4-4D0B-9630-2C54236638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50920" y="4330800"/>
            <a:ext cx="2431800" cy="25272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2357640" cy="2421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4000" y="2205000"/>
            <a:ext cx="2232000" cy="21495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500720" y="4508640"/>
            <a:ext cx="3457440" cy="25430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4211640" y="0"/>
            <a:ext cx="3524400" cy="25970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4500720" y="2276640"/>
            <a:ext cx="3222360" cy="25365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 flipV="1">
            <a:off x="2268360" y="2276640"/>
            <a:ext cx="687564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11280" y="4581360"/>
            <a:ext cx="67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оецирование на три взаимно перпендикулярные плоскости проекц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rcRect l="0" t="0" r="0" b="2779"/>
          <a:stretch/>
        </p:blipFill>
        <p:spPr>
          <a:xfrm>
            <a:off x="1461960" y="1808280"/>
            <a:ext cx="5054760" cy="40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492360" cy="3716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364000" y="0"/>
            <a:ext cx="3780000" cy="35272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067280" y="2276640"/>
            <a:ext cx="0" cy="458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4508640"/>
            <a:ext cx="489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187280" y="4365720"/>
            <a:ext cx="352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04000" y="4292640"/>
            <a:ext cx="343080" cy="51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356000" y="6021360"/>
            <a:ext cx="343080" cy="51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995640" y="1700280"/>
            <a:ext cx="352440" cy="51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8893080" cy="54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строение третьей проекции по двум заданны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95640" y="1989000"/>
            <a:ext cx="0" cy="453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35280" y="4292640"/>
            <a:ext cx="46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95640" y="2421000"/>
            <a:ext cx="72720" cy="7128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95640" y="2492280"/>
            <a:ext cx="0" cy="309744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195640" y="5589720"/>
            <a:ext cx="72720" cy="7128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195640" y="5661000"/>
            <a:ext cx="1800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3995640" y="4292280"/>
            <a:ext cx="1368360" cy="1368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5364000" y="2420640"/>
            <a:ext cx="0" cy="187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68360" y="2421000"/>
            <a:ext cx="3095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2720" y="2421000"/>
            <a:ext cx="71280" cy="7128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21164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26920" y="1557360"/>
            <a:ext cx="2232360" cy="1150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26920" y="4941720"/>
            <a:ext cx="2232360" cy="57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26920" y="2708280"/>
            <a:ext cx="0" cy="2233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59280" y="2708280"/>
            <a:ext cx="0" cy="2233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24360" y="1557360"/>
            <a:ext cx="576360" cy="1150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71640" y="2708280"/>
            <a:ext cx="3816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59280" y="1557360"/>
            <a:ext cx="3600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59280" y="4941720"/>
            <a:ext cx="1152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211640" y="3429000"/>
            <a:ext cx="1512720" cy="1512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5516640"/>
            <a:ext cx="1152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4211640" y="3428640"/>
            <a:ext cx="2089080" cy="2087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300720" y="1341000"/>
            <a:ext cx="0" cy="2087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724360" y="1341000"/>
            <a:ext cx="0" cy="2087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31T21:17:20Z</dcterms:created>
  <dc:creator>1</dc:creator>
  <dc:description/>
  <dc:language>en-US</dc:language>
  <cp:lastModifiedBy>Admin</cp:lastModifiedBy>
  <dcterms:modified xsi:type="dcterms:W3CDTF">2013-01-08T04:22:11Z</dcterms:modified>
  <cp:revision>3</cp:revision>
  <dc:subject/>
  <dc:title>Слайд 1</dc:title>
</cp:coreProperties>
</file>