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046-23FE-43ED-8B31-CC22A139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70A-3E7E-4F33-A424-C46CEDB7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B62-7531-42C5-A232-6E7378A1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969-4DCF-4188-8617-D4A939EA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097-3E66-4EB3-BC6D-5F589621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525-9E0F-48D0-8F35-86810B63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3EF-C0F7-451C-A983-DBBD07C2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A0A-00B9-4FA8-99DC-3DCCABF9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D31-3F3B-46C5-8DA8-3E87FFE5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6C9-9998-47C4-810B-0410609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506-398D-4B2E-9D75-0176C2D5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9B6-11E0-472D-8CD4-CF6F6C83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B698-A0A3-4854-9332-3329E9155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4330800"/>
            <a:ext cx="2431800" cy="2527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357640" cy="242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2205000"/>
            <a:ext cx="2232000" cy="2149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00720" y="4508640"/>
            <a:ext cx="3457440" cy="2543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11640" y="0"/>
            <a:ext cx="3524400" cy="2597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500720" y="2276640"/>
            <a:ext cx="3222360" cy="2536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2268360" y="2276640"/>
            <a:ext cx="6875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4581360"/>
            <a:ext cx="67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ецирование на три взаимно перпендикулярные плоскости про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2779"/>
          <a:stretch/>
        </p:blipFill>
        <p:spPr>
          <a:xfrm>
            <a:off x="1461960" y="1808280"/>
            <a:ext cx="50547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371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64000" y="0"/>
            <a:ext cx="3780000" cy="3527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7280" y="2276640"/>
            <a:ext cx="0" cy="458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450864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87280" y="4365720"/>
            <a:ext cx="352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04000" y="4292640"/>
            <a:ext cx="34308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6021360"/>
            <a:ext cx="34308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95640" y="1700280"/>
            <a:ext cx="35244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89308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роение третьей проекции по двум зада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1989000"/>
            <a:ext cx="0" cy="45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429264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421000"/>
            <a:ext cx="72720" cy="7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2492280"/>
            <a:ext cx="0" cy="3097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5589720"/>
            <a:ext cx="72720" cy="7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66100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95640" y="4292280"/>
            <a:ext cx="136836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64000" y="2420640"/>
            <a:ext cx="0" cy="18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421000"/>
            <a:ext cx="30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2421000"/>
            <a:ext cx="71280" cy="712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11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557360"/>
            <a:ext cx="2232360" cy="1150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4941720"/>
            <a:ext cx="2232360" cy="57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2708280"/>
            <a:ext cx="0" cy="223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708280"/>
            <a:ext cx="0" cy="2233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1557360"/>
            <a:ext cx="576360" cy="115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2708280"/>
            <a:ext cx="381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1557360"/>
            <a:ext cx="36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494172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211640" y="3429000"/>
            <a:ext cx="1512720" cy="151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551664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211640" y="3428640"/>
            <a:ext cx="208908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300720" y="1341000"/>
            <a:ext cx="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724360" y="1341000"/>
            <a:ext cx="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1:17:20Z</dcterms:created>
  <dc:creator>1</dc:creator>
  <dc:description/>
  <dc:language>en-US</dc:language>
  <cp:lastModifiedBy>Admin</cp:lastModifiedBy>
  <dcterms:modified xsi:type="dcterms:W3CDTF">2013-01-08T04:22:11Z</dcterms:modified>
  <cp:revision>3</cp:revision>
  <dc:subject/>
  <dc:title>Слайд 1</dc:title>
</cp:coreProperties>
</file>