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D35-3CBA-4628-838C-161F6CDC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A46-1BDF-47E5-82BF-6F398B5F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FF1-DE08-4736-9E31-E78A42F0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D46-9E65-40BA-A827-CDB8543B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F6F-FF5A-46F4-9867-7590B17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A41-AFDC-4409-8E6B-1198369E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9C4-EF71-425B-9A78-C84B859A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9B4-095B-4975-B164-40620B29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8B7-EFD4-4783-8F92-55A690E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849-D181-412C-BBC9-0668B61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C91-B050-47D9-BB30-94F1E7C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AEC-961A-40ED-A9EE-B98BBC4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634A-355E-4ABE-8CF3-82F79EF893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61C2-60A6-48A5-8B9D-4806149E1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екция группы геометрических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968720" cy="496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6000" y="429264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тиш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 МОАУГ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7A0-F145-4D59-9B73-32E0D5C876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11EC0-0AC6-449C-AB86-13ED9BB076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5881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0" r="0" b="9107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14400" y="-28440"/>
            <a:ext cx="6573960" cy="68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D90-813C-4B0C-933B-126008F6DEA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6C9B4-25FA-44DC-98B1-C828D726BF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2592360" cy="2492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476280"/>
            <a:ext cx="3213000" cy="567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3024360" cy="251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00000" y="765000"/>
            <a:ext cx="3478320" cy="583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95280" y="0"/>
            <a:ext cx="7993080" cy="6935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788000" y="3089160"/>
            <a:ext cx="3744720" cy="347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E24-E16E-467D-8C0A-3B18757B45D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8B6C4-D96D-4565-8071-90D617024640}" type="datetime1">
              <a:rPr lang="en-US"/>
              <a:t>07/31/2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екция группы геометрических тел. Комплексный чертеж трех вид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4002120"/>
            <a:ext cx="4321080" cy="2560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0859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4581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лько геометрических тел в группе? 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они расположены друг относительно друга (впереди, сзади, слева, справ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геометрические тела соприкасаются друг с другом (гранями, основаниями, вершинами, ребрами, точками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4836960" cy="489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896000" cy="437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124520" cy="412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D0E-B254-4D15-8E3F-62B951E80A5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B5FF4-9032-4B4A-8931-F618C861E7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417-F6C6-4ECC-B1E0-B43C9E049DF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A9147-988B-4E99-9A19-9B2A210741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54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8BA-66B6-4DD9-A9F1-2022591B30F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05C01-22D1-433B-8382-A9FB172480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4:41:27Z</dcterms:created>
  <dc:creator>1</dc:creator>
  <dc:description/>
  <dc:language>en-US</dc:language>
  <cp:lastModifiedBy>Admin</cp:lastModifiedBy>
  <dcterms:modified xsi:type="dcterms:W3CDTF">2013-01-13T10:55:25Z</dcterms:modified>
  <cp:revision>6</cp:revision>
  <dc:subject/>
  <dc:title>Проекция группы геометрических тел</dc:title>
</cp:coreProperties>
</file>