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EFB4-2A6B-40EA-B876-1CC28E69D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89B7-9E9E-47AC-9F18-8ABD9139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2DB4-03A8-4C35-AEEC-5B377E239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4FDB-4CF2-41A9-A769-B2EABCEF3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3BC6-1C8E-4B08-9CAC-E55A20FC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C490-11AC-461B-980C-57AB2241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107B-DADF-424F-B71C-3A7DADB6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BB34-68E6-408E-924C-F48DD9A4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E5D5-CA05-461B-9092-69ABE2AD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12BA-C738-42C9-8635-6A248013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830F-7733-4A14-920C-C1D12BF6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D827-340B-45DC-8073-A620C203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F129-7EDD-41A7-A115-3BFE9828AB3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6984-BCA5-4F82-9ED2-75168FDE5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оекция группы геометрических т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968720" cy="4968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796000" y="4292640"/>
            <a:ext cx="316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полн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йтишина Л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итель технологии МОАУГ №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9471-D8FA-4686-9161-5EC4AB53B7B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B203EE-636B-407A-8440-5B51057BD37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588168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0" t="0" r="0" b="9107"/>
          <a:stretch/>
        </p:blipFill>
        <p:spPr>
          <a:xfrm>
            <a:off x="0" y="0"/>
            <a:ext cx="867564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814400" y="-28440"/>
            <a:ext cx="6573960" cy="688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626A-97E5-4452-A91F-D997891297C8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F35A34-3870-48AC-B03B-B0718ECF03C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00720" y="620640"/>
            <a:ext cx="2592360" cy="2492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44560" y="476280"/>
            <a:ext cx="3213000" cy="5673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572000" y="981000"/>
            <a:ext cx="3024360" cy="2511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900000" y="765000"/>
            <a:ext cx="3478320" cy="5832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395280" y="0"/>
            <a:ext cx="7993080" cy="6935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4788000" y="3089160"/>
            <a:ext cx="3744720" cy="3475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9E39-8B05-42CB-855D-B42A59ECDAC9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D89C7F-C633-41F9-9BF7-AA1721470CC1}" type="datetime1">
              <a:rPr lang="en-US"/>
              <a:t>07/28/26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оекция группы геометрических тел. Комплексный чертеж трех вид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71640" y="4002120"/>
            <a:ext cx="4321080" cy="2560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148360" y="2492280"/>
            <a:ext cx="308592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9280" y="4581360"/>
            <a:ext cx="89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колько геометрических тел в группе? Как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они расположены друг относительно друга (впереди, сзади, слева, справа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геометрические тела соприкасаются друг с другом (гранями, основаниями, вершинами, ребрами, точками)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4836960" cy="4896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0" y="260280"/>
            <a:ext cx="4896000" cy="4375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716360" y="0"/>
            <a:ext cx="4124520" cy="4124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C1A7-80D1-4309-A71C-06614130E4E2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664913-0DAE-40B8-99C7-20B6A36C533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297000"/>
            <a:ext cx="9144000" cy="626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845E-43C1-4F35-8418-5860DFD4E93A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81B7E1-E8E0-40A2-ABD7-23FD4E5A778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66600"/>
            <a:ext cx="9144000" cy="654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E1EE-9085-48DD-850C-E5702502CFA6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9F6897-E0EF-4771-A955-BDBC8FE2B30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04:41:27Z</dcterms:created>
  <dc:creator>1</dc:creator>
  <dc:description/>
  <dc:language>en-US</dc:language>
  <cp:lastModifiedBy>Admin</cp:lastModifiedBy>
  <dcterms:modified xsi:type="dcterms:W3CDTF">2013-01-13T10:55:25Z</dcterms:modified>
  <cp:revision>6</cp:revision>
  <dc:subject/>
  <dc:title>Проекция группы геометрических тел</dc:title>
</cp:coreProperties>
</file>