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FE5-2E7D-4588-921E-5BEB3655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FFF-5A42-4442-9444-F3DD00BB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49D-4149-42E2-BDC4-7B3B72B0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1E0-A7BD-4350-B85D-90E3F2A2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8A7-BDA6-4739-B2B3-C3115886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39A-F2FB-4B60-97F2-E16A4DAE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6D14-77E4-4073-93E6-B753CE98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E8B-340C-4B26-BDE8-E3785D12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DC2-C09F-48CE-8578-554A35B8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306-B516-49E8-BB6B-2D4816F0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B2B-0A20-4E5C-B077-D8F6180C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758-9627-49F2-90CA-F798B1F2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63CB-E4DB-4028-9101-95F40AD4C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ект «Професси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1749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ыцану Анна-Ма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64"/>
          <p:cNvPicPr/>
          <p:nvPr/>
        </p:nvPicPr>
        <p:blipFill>
          <a:blip r:embed="rId1"/>
          <a:stretch/>
        </p:blipFill>
        <p:spPr>
          <a:xfrm>
            <a:off x="4932360" y="1341360"/>
            <a:ext cx="38862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У меня одна забот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Всех компьютеров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ет для них страшнее драм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Чем отсутств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Я порядка верный стра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Спит спокойно город на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Все преступники ме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Здесь боятся, как  ог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rf033i"/>
          <p:cNvPicPr/>
          <p:nvPr/>
        </p:nvPicPr>
        <p:blipFill>
          <a:blip r:embed="rId1"/>
          <a:stretch/>
        </p:blipFill>
        <p:spPr>
          <a:xfrm>
            <a:off x="5508720" y="476280"/>
            <a:ext cx="3419280" cy="25527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684360" y="189000"/>
            <a:ext cx="259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 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5364000" y="3645000"/>
            <a:ext cx="228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лиционе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Picture 7" descr="07ta040i"/>
          <p:cNvPicPr/>
          <p:nvPr/>
        </p:nvPicPr>
        <p:blipFill>
          <a:blip r:embed="rId2"/>
          <a:stretch/>
        </p:blipFill>
        <p:spPr>
          <a:xfrm>
            <a:off x="395280" y="3860640"/>
            <a:ext cx="34560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713800" cy="70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оль – один! Пожар! Бе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аготове я все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Утром, вечером и д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Я веду борьбу с ог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Мы военные долж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Охранять покой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Пехотинцы и танкис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Артиллерия, связист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Служим Родине сво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Мы присягу дали 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5580000" y="2852640"/>
            <a:ext cx="194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енный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684360" y="189000"/>
            <a:ext cx="2087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жарный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6" descr="07ta025i"/>
          <p:cNvPicPr/>
          <p:nvPr/>
        </p:nvPicPr>
        <p:blipFill>
          <a:blip r:embed="rId1"/>
          <a:stretch/>
        </p:blipFill>
        <p:spPr>
          <a:xfrm>
            <a:off x="5435640" y="189000"/>
            <a:ext cx="3313080" cy="247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prf016i"/>
          <p:cNvPicPr/>
          <p:nvPr/>
        </p:nvPicPr>
        <p:blipFill>
          <a:blip r:embed="rId2"/>
          <a:stretch/>
        </p:blipFill>
        <p:spPr>
          <a:xfrm>
            <a:off x="539640" y="3789360"/>
            <a:ext cx="33116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Шпильки, ножницы, расчё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Стрижки, модные причё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Лаки, краски для волос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Извините, что стряс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Вам не нравится рабо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Переделаю в два счё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За прилавком я ст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Я продукты прода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Молоко, творог, кеф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Масло, хлеб, печенье, сы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пакую, взвешу 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лыбнусь и сдачу 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684360" y="18900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рикмахе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5508720" y="3357720"/>
            <a:ext cx="208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авец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6" descr="07ta016i"/>
          <p:cNvPicPr/>
          <p:nvPr/>
        </p:nvPicPr>
        <p:blipFill>
          <a:blip r:embed="rId1"/>
          <a:stretch/>
        </p:blipFill>
        <p:spPr>
          <a:xfrm>
            <a:off x="5508720" y="260280"/>
            <a:ext cx="3382920" cy="2525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7dld31i"/>
          <p:cNvPicPr/>
          <p:nvPr/>
        </p:nvPicPr>
        <p:blipFill>
          <a:blip r:embed="rId2"/>
          <a:stretch/>
        </p:blipFill>
        <p:spPr>
          <a:xfrm>
            <a:off x="324000" y="3933720"/>
            <a:ext cx="359856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У плиты стоим с утра.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Мы, ребята, пова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Жарим, парим и печ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И жара нам нипоч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Суп, компот, блины, омле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Приглашаем на обе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Я с утра кручу баран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Потому что спозаран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Едут люди на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И возить их должен кто-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116000" y="189000"/>
            <a:ext cx="15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а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5" descr="prf009i"/>
          <p:cNvPicPr/>
          <p:nvPr/>
        </p:nvPicPr>
        <p:blipFill>
          <a:blip r:embed="rId1"/>
          <a:stretch/>
        </p:blipFill>
        <p:spPr>
          <a:xfrm>
            <a:off x="6156360" y="333360"/>
            <a:ext cx="2448000" cy="2664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6"/>
          <p:cNvSpPr txBox="1"/>
          <p:nvPr/>
        </p:nvSpPr>
        <p:spPr>
          <a:xfrm>
            <a:off x="5148360" y="3716280"/>
            <a:ext cx="187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итель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7" descr="prf001i"/>
          <p:cNvPicPr/>
          <p:nvPr/>
        </p:nvPicPr>
        <p:blipFill>
          <a:blip r:embed="rId2"/>
          <a:stretch/>
        </p:blipFill>
        <p:spPr>
          <a:xfrm>
            <a:off x="468360" y="4006800"/>
            <a:ext cx="34560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720" cy="66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Мчит по рельсам поезд скор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Поезд скорый, тот кото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Мне послушен, как дитя.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правляю им шут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За рычаг тяну я лов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Значит, скоро останов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Я работаю пилот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правляю самолё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Взлёт, подъём, полёт, посад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Всё прошло сегодня гла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Это трудная работ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Быть пилотом самол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187280" y="0"/>
            <a:ext cx="194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шинист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5219640" y="3500280"/>
            <a:ext cx="1698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ётчик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6" descr="07ta012i"/>
          <p:cNvPicPr/>
          <p:nvPr/>
        </p:nvPicPr>
        <p:blipFill>
          <a:blip r:embed="rId1"/>
          <a:stretch/>
        </p:blipFill>
        <p:spPr>
          <a:xfrm>
            <a:off x="5364000" y="404640"/>
            <a:ext cx="3529080" cy="2635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7ta011i"/>
          <p:cNvPicPr/>
          <p:nvPr/>
        </p:nvPicPr>
        <p:blipFill>
          <a:blip r:embed="rId2"/>
          <a:stretch/>
        </p:blipFill>
        <p:spPr>
          <a:xfrm>
            <a:off x="179280" y="3989520"/>
            <a:ext cx="34560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Рисунок40"/>
          <p:cNvPicPr/>
          <p:nvPr/>
        </p:nvPicPr>
        <p:blipFill>
          <a:blip r:embed="rId1"/>
          <a:stretch/>
        </p:blipFill>
        <p:spPr>
          <a:xfrm>
            <a:off x="0" y="4005360"/>
            <a:ext cx="2075040" cy="266364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 txBox="1"/>
          <p:nvPr/>
        </p:nvSpPr>
        <p:spPr>
          <a:xfrm>
            <a:off x="3492360" y="189000"/>
            <a:ext cx="25923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знай!</a:t>
            </a:r>
            <a:endParaRPr b="0" lang="en-US" sz="1800" spc="1" strike="noStrike">
              <a:ln w="0">
                <a:noFill/>
              </a:ln>
              <a:solidFill>
                <a:srgbClr val="66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Picture 6" descr="7dld26i"/>
          <p:cNvPicPr/>
          <p:nvPr/>
        </p:nvPicPr>
        <p:blipFill>
          <a:blip r:embed="rId2"/>
          <a:stretch/>
        </p:blipFill>
        <p:spPr>
          <a:xfrm>
            <a:off x="324000" y="907920"/>
            <a:ext cx="271764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7dld47i"/>
          <p:cNvPicPr/>
          <p:nvPr/>
        </p:nvPicPr>
        <p:blipFill>
          <a:blip r:embed="rId3"/>
          <a:stretch/>
        </p:blipFill>
        <p:spPr>
          <a:xfrm>
            <a:off x="1835280" y="3716280"/>
            <a:ext cx="3240000" cy="252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07ta010i"/>
          <p:cNvPicPr/>
          <p:nvPr/>
        </p:nvPicPr>
        <p:blipFill>
          <a:blip r:embed="rId4"/>
          <a:stretch/>
        </p:blipFill>
        <p:spPr>
          <a:xfrm>
            <a:off x="6300720" y="765000"/>
            <a:ext cx="2652840" cy="3313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07ta004i"/>
          <p:cNvPicPr/>
          <p:nvPr/>
        </p:nvPicPr>
        <p:blipFill>
          <a:blip r:embed="rId5"/>
          <a:stretch/>
        </p:blipFill>
        <p:spPr>
          <a:xfrm>
            <a:off x="5219640" y="3716280"/>
            <a:ext cx="3240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3564000" y="189000"/>
            <a:ext cx="25923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знай!</a:t>
            </a:r>
            <a:endParaRPr b="0" lang="en-US" sz="1800" spc="1" strike="noStrike">
              <a:ln w="0">
                <a:noFill/>
              </a:ln>
              <a:solidFill>
                <a:srgbClr val="66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Picture 5" descr="Рисунок40"/>
          <p:cNvPicPr/>
          <p:nvPr/>
        </p:nvPicPr>
        <p:blipFill>
          <a:blip r:embed="rId1"/>
          <a:stretch/>
        </p:blipFill>
        <p:spPr>
          <a:xfrm>
            <a:off x="0" y="4194000"/>
            <a:ext cx="2075040" cy="2664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prf008i"/>
          <p:cNvPicPr/>
          <p:nvPr/>
        </p:nvPicPr>
        <p:blipFill>
          <a:blip r:embed="rId2"/>
          <a:stretch/>
        </p:blipFill>
        <p:spPr>
          <a:xfrm>
            <a:off x="179280" y="549360"/>
            <a:ext cx="2718000" cy="30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07ta014i"/>
          <p:cNvPicPr/>
          <p:nvPr/>
        </p:nvPicPr>
        <p:blipFill>
          <a:blip r:embed="rId3"/>
          <a:stretch/>
        </p:blipFill>
        <p:spPr>
          <a:xfrm>
            <a:off x="1763640" y="3429000"/>
            <a:ext cx="3095640" cy="241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prf018i"/>
          <p:cNvPicPr/>
          <p:nvPr/>
        </p:nvPicPr>
        <p:blipFill>
          <a:blip r:embed="rId4"/>
          <a:stretch/>
        </p:blipFill>
        <p:spPr>
          <a:xfrm>
            <a:off x="6516720" y="333360"/>
            <a:ext cx="2336760" cy="287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prf028i"/>
          <p:cNvPicPr/>
          <p:nvPr/>
        </p:nvPicPr>
        <p:blipFill>
          <a:blip r:embed="rId5"/>
          <a:stretch/>
        </p:blipFill>
        <p:spPr>
          <a:xfrm>
            <a:off x="5148360" y="2924280"/>
            <a:ext cx="3384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Врач, геолог и стро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Программист, моряк, уч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Лётчик, повар и пев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Машинист и продав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Инженер, официан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Композитор, музыкант,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Выбирай по вкусу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Чтоб оно не надоело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фессия моих родите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и любимые мама и па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pjjgfhr 667"/>
          <p:cNvPicPr/>
          <p:nvPr/>
        </p:nvPicPr>
        <p:blipFill>
          <a:blip r:embed="rId1"/>
          <a:stretch/>
        </p:blipFill>
        <p:spPr>
          <a:xfrm>
            <a:off x="5364000" y="1773360"/>
            <a:ext cx="2592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я моей мамы - педагог, она работает учителем в шко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ия моего папы – инженер-электрик, он работает в сфере строитель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презентац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пределение слова «Професс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акие бывают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1. Все профессии нужны, все профессии ва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2.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Профессии моих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ем я хочу с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ем я хочу ста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ещё не знаю кем стану в будущем, но сейчас я хочу быть врач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ение слова «Профессия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фесс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лат. professio - официально указанное занятие, специальность, от profiteer - объявляю своим делом), род трудовой деятельности (занятий) человека, владеющего комплексом специальных теоретических знаний и практических навыков, приобретённых в результате специальной подготовки, опыта работы. Профессиональная деятельность обычно является основным источником доход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1052640"/>
            <a:ext cx="6912000" cy="29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е профессии нужны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е профессии важ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4360" y="-360"/>
            <a:ext cx="8137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У каждого дела                                 Пахнет кондитер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Запах особый:                                  Орехом  муска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В булочной пахнет                           Доктор в халате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Тестом и сдобой.                             Лекарством приятны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336600"/>
                </a:solidFill>
                <a:latin typeface="Arial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Мимо столярной                              Рыхлой землё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Идёшь мастерской –                       Полем и лу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Стружкою пахнет                             Пахнет крестьяни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И свежей доской.                             Идущий за пл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Пахнет маляр                                   Рыбой и мор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Скипидаром и краской.                    Пахнет рыб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Пахнет стекольщик                          </a:t>
            </a: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Только  безде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Оконной замазкой.                           </a:t>
            </a: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Не пахнет ника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Куртка шофё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Пахнет бензи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Блузка рабочего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Маслом маши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686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Кто не выучил ур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аш учитель в меру ст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аш учитель учит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И ведёт из класса в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Если кто-то не здоров,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Вызывают до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- Погоди, малыш, не плач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Прописал лекарство врач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042920" y="189000"/>
            <a:ext cx="2806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5148360" y="378936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рач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Picture 6" descr="7dld23i"/>
          <p:cNvPicPr/>
          <p:nvPr/>
        </p:nvPicPr>
        <p:blipFill>
          <a:blip r:embed="rId1"/>
          <a:stretch/>
        </p:blipFill>
        <p:spPr>
          <a:xfrm>
            <a:off x="395280" y="4005360"/>
            <a:ext cx="3457440" cy="258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prf014i"/>
          <p:cNvPicPr/>
          <p:nvPr/>
        </p:nvPicPr>
        <p:blipFill>
          <a:blip r:embed="rId2"/>
          <a:stretch/>
        </p:blipFill>
        <p:spPr>
          <a:xfrm>
            <a:off x="5508720" y="765000"/>
            <a:ext cx="3384360" cy="2525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школьный билет Аня"/>
          <p:cNvPicPr/>
          <p:nvPr/>
        </p:nvPicPr>
        <p:blipFill>
          <a:blip r:embed="rId3"/>
          <a:stretch/>
        </p:blipFill>
        <p:spPr>
          <a:xfrm>
            <a:off x="5364000" y="620640"/>
            <a:ext cx="36007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8435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Птичек, кошек и соб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И мартышек-забия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Свинку, мышку, хомя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И зазнайку-индю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Лошадей, овец, к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Я всегда лечить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Дом, в котором мы живё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Кто построил этот д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Знает в доме каждый житель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Этот дом возвёл строител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Плиты, кран, бетон, песо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Дом удобен и выс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042920" y="18900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терина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5292720" y="3213000"/>
            <a:ext cx="244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итель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Picture 6" descr="07ta019i"/>
          <p:cNvPicPr/>
          <p:nvPr/>
        </p:nvPicPr>
        <p:blipFill>
          <a:blip r:embed="rId1"/>
          <a:stretch/>
        </p:blipFill>
        <p:spPr>
          <a:xfrm>
            <a:off x="5076720" y="404640"/>
            <a:ext cx="3100320" cy="231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prf006i"/>
          <p:cNvPicPr/>
          <p:nvPr/>
        </p:nvPicPr>
        <p:blipFill>
          <a:blip r:embed="rId2"/>
          <a:stretch/>
        </p:blipFill>
        <p:spPr>
          <a:xfrm>
            <a:off x="324000" y="3860640"/>
            <a:ext cx="3600360" cy="26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21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Огонёк сверкает яр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е смотри – электросвар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о могу в защитной ма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Я работать без опа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Целый день варил мет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И нисколько не устал!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Для работы музык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едостаточно таланта.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ужно много занима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Репетировать, стара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А без этого, поверь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е сыграешь на концер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900000" y="0"/>
            <a:ext cx="187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арщик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5435640" y="3284640"/>
            <a:ext cx="2160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зыкант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6" descr="prf007i"/>
          <p:cNvPicPr/>
          <p:nvPr/>
        </p:nvPicPr>
        <p:blipFill>
          <a:blip r:embed="rId1"/>
          <a:stretch/>
        </p:blipFill>
        <p:spPr>
          <a:xfrm>
            <a:off x="5940360" y="189000"/>
            <a:ext cx="2737080" cy="2519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7dld05i"/>
          <p:cNvPicPr/>
          <p:nvPr/>
        </p:nvPicPr>
        <p:blipFill>
          <a:blip r:embed="rId2"/>
          <a:stretch/>
        </p:blipFill>
        <p:spPr>
          <a:xfrm>
            <a:off x="1042920" y="3716280"/>
            <a:ext cx="2459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Эти люди созд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дивительный 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Подбирают, наприм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Подходящий интерь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В доме, в офисе, в саду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Я в дизайнеры ид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Краски, кисти, карандаш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Я сейчас пишу пейза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Допишу пейзаж с расс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А потом займусь портр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Три афиши, два пла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Нарисую до зак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755640" y="18900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зайнер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796000" y="3068640"/>
            <a:ext cx="21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удожник</a:t>
            </a:r>
            <a:endParaRPr b="0" lang="en-US" sz="32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7" descr="7dld42i"/>
          <p:cNvPicPr/>
          <p:nvPr/>
        </p:nvPicPr>
        <p:blipFill>
          <a:blip r:embed="rId1"/>
          <a:stretch/>
        </p:blipFill>
        <p:spPr>
          <a:xfrm>
            <a:off x="468360" y="3843360"/>
            <a:ext cx="3598920" cy="2687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7dld21i"/>
          <p:cNvPicPr/>
          <p:nvPr/>
        </p:nvPicPr>
        <p:blipFill>
          <a:blip r:embed="rId2"/>
          <a:stretch/>
        </p:blipFill>
        <p:spPr>
          <a:xfrm>
            <a:off x="5580000" y="333360"/>
            <a:ext cx="3240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5T18:12:04Z</dcterms:created>
  <dc:creator>1</dc:creator>
  <dc:description/>
  <dc:language>en-US</dc:language>
  <cp:lastModifiedBy>Flawer</cp:lastModifiedBy>
  <dcterms:modified xsi:type="dcterms:W3CDTF">2013-01-12T14:15:53Z</dcterms:modified>
  <cp:revision>10</cp:revision>
  <dc:subject/>
  <dc:title>Слайд 1</dc:title>
</cp:coreProperties>
</file>