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386-93C6-4551-9683-CD60ED7F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F27-4FCE-4F2D-B1F2-0B998DB8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5C0-8EF5-4D17-A2D4-5D6AD9D0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F32-3933-4A14-942B-11356C52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7E4-E25E-4CCC-BFB1-AC100CD5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FB4-B55D-484C-BAE7-3CB24AB1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2B5-3E32-448C-962E-8FFEA10C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E23-1D20-4BB8-B732-F3D44711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31F9-376A-4E8C-8B08-09B107B0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8A3-AFEF-40E3-B2BF-19BA5B45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EC81-E574-4349-9C02-550DE73E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8D5-D8AE-4D63-8C70-986CDE82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02B4-0306-4522-BF3F-33D4C1FC51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2043"/>
          <a:stretch/>
        </p:blipFill>
        <p:spPr>
          <a:xfrm>
            <a:off x="-324000" y="-46080"/>
            <a:ext cx="5040360" cy="6904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427280" cy="3282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26622" t="19621" r="13311" b="23545"/>
          <a:stretch/>
        </p:blipFill>
        <p:spPr>
          <a:xfrm>
            <a:off x="4211640" y="3346560"/>
            <a:ext cx="518472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43280" y="66600"/>
            <a:ext cx="4500720" cy="333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26622" t="17005" r="18635" b="20929"/>
          <a:stretch/>
        </p:blipFill>
        <p:spPr>
          <a:xfrm>
            <a:off x="395280" y="0"/>
            <a:ext cx="3960720" cy="3044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0" r="0" b="21548"/>
          <a:stretch/>
        </p:blipFill>
        <p:spPr>
          <a:xfrm>
            <a:off x="-684360" y="2997360"/>
            <a:ext cx="5977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РЕ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РАЗРЕЗ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ображение предмета, мысленно рассеченного плоскостью. На разрезе показывается то, что попало в секущую плоскость, и то, что расположено за 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простые разре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616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7272360" cy="6940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26920" y="0"/>
            <a:ext cx="75963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лгоритм построения фронтального разр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87280" y="1392120"/>
            <a:ext cx="7417080" cy="5465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4552920" cy="2495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771640" y="1844640"/>
            <a:ext cx="431496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843280" y="1844640"/>
            <a:ext cx="423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88930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2:33:10Z</dcterms:created>
  <dc:creator>1</dc:creator>
  <dc:description/>
  <dc:language>en-US</dc:language>
  <cp:lastModifiedBy>Admin</cp:lastModifiedBy>
  <dcterms:modified xsi:type="dcterms:W3CDTF">2013-01-08T04:22:36Z</dcterms:modified>
  <cp:revision>2</cp:revision>
  <dc:subject/>
  <dc:title>Слайд 1</dc:title>
</cp:coreProperties>
</file>