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8AAA-1245-4B94-AD62-16C707DF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4EC0-D14A-49BF-9886-3A7BA40C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46C-F7FB-4196-A501-49A14C5B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817-0B19-41EF-9561-D5FF26A0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6719-EE1A-4455-B325-392D7405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A1A-BA10-44A1-9A15-38353346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8BE1-B46B-46C5-9C4B-08CBD4B7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A8F-A7F3-456A-94E5-25DE1EE7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462-23FE-4430-9DD4-967E5058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6A4-6622-4411-8EFF-37526702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1CC-F4D1-49C1-8540-979CBF54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CF4F-440E-4CAC-B516-BB339AB9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5984-1DEC-4753-8281-7D393F17D9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2043"/>
          <a:stretch/>
        </p:blipFill>
        <p:spPr>
          <a:xfrm>
            <a:off x="-324000" y="-46080"/>
            <a:ext cx="5040360" cy="6904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427280" cy="3282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26622" t="19621" r="13311" b="23545"/>
          <a:stretch/>
        </p:blipFill>
        <p:spPr>
          <a:xfrm>
            <a:off x="4211640" y="3346560"/>
            <a:ext cx="518472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43280" y="66600"/>
            <a:ext cx="4500720" cy="333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26622" t="17005" r="18635" b="20929"/>
          <a:stretch/>
        </p:blipFill>
        <p:spPr>
          <a:xfrm>
            <a:off x="395280" y="0"/>
            <a:ext cx="3960720" cy="3044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0" t="0" r="0" b="21548"/>
          <a:stretch/>
        </p:blipFill>
        <p:spPr>
          <a:xfrm>
            <a:off x="-684360" y="2997360"/>
            <a:ext cx="5977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РЕ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РАЗРЕЗ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ображение предмета, мысленно рассеченного плоскостью. На разрезе показывается то, что попало в секущую плоскость, и то, что расположено за 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простые разре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6167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7272360" cy="6940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26920" y="0"/>
            <a:ext cx="75963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лгоритм построения фронтального разр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87280" y="1392120"/>
            <a:ext cx="7417080" cy="5465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56000" y="1773360"/>
            <a:ext cx="4552920" cy="2495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771640" y="1844640"/>
            <a:ext cx="4314960" cy="2305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843280" y="1844640"/>
            <a:ext cx="4238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88930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2:33:10Z</dcterms:created>
  <dc:creator>1</dc:creator>
  <dc:description/>
  <dc:language>en-US</dc:language>
  <cp:lastModifiedBy>Admin</cp:lastModifiedBy>
  <dcterms:modified xsi:type="dcterms:W3CDTF">2013-01-08T04:22:36Z</dcterms:modified>
  <cp:revision>2</cp:revision>
  <dc:subject/>
  <dc:title>Слайд 1</dc:title>
</cp:coreProperties>
</file>