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5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6A5-35AC-4AE1-91F7-C3CFB23B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B7F-81EB-4B35-98FF-79A2F11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C34-33C6-4A1B-A29F-BF7A94C4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E56-23CD-436A-94A7-6E1C769C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136-B3D5-4234-8826-707D6CE9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5CD8-BB96-476D-B0EE-45BD1010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807-72C5-4DBA-95F7-FE0CCE6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FB21-0227-4C31-85CB-53E61588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3CAA-A52D-4BCF-B7AD-C51715B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2546-CFB0-4B64-B4D2-EA2422E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378C-7C6E-49D7-A383-5BE34F2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04A-7FCB-483B-91DB-859315C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5404-F33F-46BF-9720-8B24CDA7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EC16-34A9-46A8-8173-7DC54870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FA80-62A1-486F-8BB5-1E8E30A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BEA0-C1C8-456F-AA99-C4EA4B67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2EBC-9E4F-468B-96D0-CC59DEA5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7B65A-AECA-463B-B7C8-2AC078B8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0B5D-AF35-4DC8-A3D2-08FC3B8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D01B-E205-461E-81EA-373179F1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D3D0-A532-49F4-B3A0-3C75C0D2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BD70-27D2-4091-A14F-73318DE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9EE-5364-459D-B7AD-83575DF3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0775-B5F8-450B-977D-F8E56955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B1987-7E35-4722-B8CF-75D3278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5208F-3007-4B5C-A22A-90A5884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4C464-13BE-40D6-B1EF-8EDE3299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90D1-1BFF-4136-B88C-2551959C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EE4F-1DDF-4DD1-86B0-ED389414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595F-7D9D-467A-9152-CD7FA810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54DE-F8C3-4E81-8EA7-384E3425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0AAD-CE0E-4A67-959E-66975BD1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69350-D4C0-40B6-AE93-72FBC6E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A32-1B67-4B75-80C5-9DD2D477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40C3-EF0C-47DD-89DB-6B06678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2783-A273-45D1-9573-364B816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21F0-35DC-4840-9057-727FCAAD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E897-9200-4D10-80EA-81425CE1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C865-0B5A-4377-BB26-7132EE2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A7CB3-F55A-4B64-8177-3A8C1C4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0418D-4018-499E-AB41-9C4AF9D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DE17-31A4-4AEC-9D0A-6764EE7D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8C75E-F9A8-4E88-ACF9-62FDFAE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91429-E289-4740-BCDC-CDBEF6C6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BFE-F777-465E-9F67-B61DB27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9F1E7-516C-43C7-BFD5-0310B2B5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1EC45-97B7-4AA8-8FB7-2197F23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B31E-769C-452C-8479-0367E1D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0316-E4F9-4FFC-BFE3-64DB8913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7D17-5467-4AFE-9334-F825C2F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5646-3F74-4D15-A03C-6BBAD90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E741-0C56-44E3-9D95-7FF567E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BABDF-4103-4F9D-A534-5A4E8B7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BE52-97C9-40C2-873F-BE27DDF2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48BB-BD17-4E91-9A0A-F3B9322A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020-EB74-4114-86F6-0B8AA339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03C21-7113-4BB8-94DB-8530EA6D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392FE-6D0A-473D-98BF-B5A5DA11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CD65-E5FD-4256-A11E-5B87B551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8F06-436A-405C-A827-8CD63B45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515D7-63A3-49E3-AF22-FAC1F2F7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38DE-BC0E-4D5F-A457-9F37E96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787CF-B7F8-4B17-B911-6E3E8548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F2445-9069-43E0-922E-363FD96F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1070-BCA9-4095-A91C-9715472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0251-9E05-4E3F-AC57-D061B0D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B65-FE77-4292-938D-7EAAFE2B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1D168-2E46-41ED-8C2D-501E7FB9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C5E6-BD57-461A-A1D4-CAA22606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3E44-AACD-4EB2-859F-605EE83C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696EC-4FD1-490C-BC1E-43A0DCBF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55253-F050-47CC-9F9B-5C60FB6B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CF29-7E5E-4944-A764-6E00C853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54FC-E8FC-4C70-B8A8-05A6EA6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BFB32-3D11-40D9-AFBF-16917B79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7E59-07D2-4B2E-95BA-93063B2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3F66-E1A2-492B-AF6E-35F715C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9CA-25D7-4264-BB28-7CCF58E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BF96C-93D3-4CC6-9B03-D1DFD93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8207-C668-4BEF-A191-1828B6E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6E15-B53A-41A8-BC01-F0266F0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2055-32C1-43FC-9253-B40043BF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97D6-2602-4820-AD34-BE1A18EE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5D0FE-155B-440C-9C59-BD78F76F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34C7-F3EE-4F38-AFFA-F90EC2D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75E8-2D0C-48B1-B86F-20785824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0D892-E78B-4E62-B4B7-A97AD6F9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485B-214C-487F-89B1-F7FC586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A28-C019-4F50-94D1-EEAC749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B26E-03BD-40E8-80C4-16674A5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A809-0497-4DF8-B8FA-75D52C80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7B57F-2EAB-492A-BCAB-459F0096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83A8A-32D9-489D-8011-67D0658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04E7-1999-4314-A4BA-878A12E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7FE9-8CC6-4B89-AC4C-D5ABC7EE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FBBBD-1D65-46D4-AB17-DC778481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21120"/>
                    <a:gd name="textAreaBottom" fmla="*/ 1221480 h 12211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1120"/>
                    <a:gd name="textAreaBottom" fmla="*/ 501480 h 5011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646C-AA40-44A2-BE5C-67BA267EB2A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208-6443-48D3-87EA-7B9382DACF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6DD-D569-486F-8B4B-25FAC49879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B4F-5205-4709-9E37-D0771D012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82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21" name="Group 3"/>
            <p:cNvGrpSpPr/>
            <p:nvPr/>
          </p:nvGrpSpPr>
          <p:grpSpPr>
            <a:xfrm>
              <a:off x="5408280" y="63000"/>
              <a:ext cx="3621960" cy="6129720"/>
              <a:chOff x="5408280" y="63000"/>
              <a:chExt cx="3621960" cy="6129720"/>
            </a:xfrm>
          </p:grpSpPr>
          <p:sp>
            <p:nvSpPr>
              <p:cNvPr id="222" name="Freeform 4"/>
              <p:cNvSpPr/>
              <p:nvPr/>
            </p:nvSpPr>
            <p:spPr>
              <a:xfrm flipV="1" rot="11970000">
                <a:off x="6581160" y="348120"/>
                <a:ext cx="2116440" cy="2355840"/>
              </a:xfrm>
              <a:custGeom>
                <a:avLst/>
                <a:gdLst>
                  <a:gd name="textAreaLeft" fmla="*/ 0 w 2116440"/>
                  <a:gd name="textAreaRight" fmla="*/ 2116800 w 211644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3" name="Freeform 5"/>
              <p:cNvSpPr/>
              <p:nvPr/>
            </p:nvSpPr>
            <p:spPr>
              <a:xfrm flipV="1" rot="11970000">
                <a:off x="7421400" y="1959840"/>
                <a:ext cx="906480" cy="84240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8" name="Freeform 10"/>
              <p:cNvSpPr/>
              <p:nvPr/>
            </p:nvSpPr>
            <p:spPr>
              <a:xfrm flipV="1" rot="11970000">
                <a:off x="5938560" y="2931840"/>
                <a:ext cx="523800" cy="32666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6640"/>
                  <a:gd name="textAreaBottom" fmla="*/ 3267360 h 32666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3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1"/>
            <p:cNvGrpSpPr/>
            <p:nvPr/>
          </p:nvGrpSpPr>
          <p:grpSpPr>
            <a:xfrm>
              <a:off x="5653800" y="301320"/>
              <a:ext cx="892800" cy="825840"/>
              <a:chOff x="5653800" y="301320"/>
              <a:chExt cx="892800" cy="825840"/>
            </a:xfrm>
          </p:grpSpPr>
          <p:sp>
            <p:nvSpPr>
              <p:cNvPr id="240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1" name="Freeform 23"/>
              <p:cNvSpPr/>
              <p:nvPr/>
            </p:nvSpPr>
            <p:spPr>
              <a:xfrm rot="14908200">
                <a:off x="5714640" y="475920"/>
                <a:ext cx="305280" cy="30060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2" name="Freeform 24"/>
              <p:cNvSpPr/>
              <p:nvPr/>
            </p:nvSpPr>
            <p:spPr>
              <a:xfrm rot="14908200">
                <a:off x="6257160" y="4010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244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248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252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5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DF5-E599-4571-858B-6C48AD809F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0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0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0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1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0654-D775-464C-9B64-99DA91A0EB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54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CDB-A096-4ADA-83B1-866C082142D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38B0-AEC3-4671-831C-437408E3C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-6480" y="219240"/>
            <a:ext cx="6645240" cy="3676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C:\Documents and Settings\User\Рабочий стол\равнобедренный треугольник\real-world-projects-trigonometry-1.1-800X800.jpg"/>
          <p:cNvPicPr/>
          <p:nvPr/>
        </p:nvPicPr>
        <p:blipFill>
          <a:blip r:embed="rId2"/>
          <a:stretch/>
        </p:blipFill>
        <p:spPr>
          <a:xfrm rot="398400">
            <a:off x="5525640" y="1874520"/>
            <a:ext cx="3295800" cy="47736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21932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680c"/>
                </a:solidFill>
                <a:latin typeface="Arial"/>
              </a:rPr>
              <a:t>Выполнили: ученицы 7 класса Анучина Юля, Эбель Наталья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2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C:\Documents and Settings\User\Рабочий стол\равнобедренный треугольник\v05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Documents and Settings\User\Рабочий стол\равнобедренный треугольник\0_f0c7_d0f84db_S.jpeg"/>
          <p:cNvPicPr/>
          <p:nvPr/>
        </p:nvPicPr>
        <p:blipFill>
          <a:blip r:embed="rId1"/>
          <a:stretch/>
        </p:blipFill>
        <p:spPr>
          <a:xfrm>
            <a:off x="3581280" y="0"/>
            <a:ext cx="3843360" cy="28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Documents and Settings\User\Рабочий стол\равнобедренный треугольник\_010_982.jpg"/>
          <p:cNvPicPr/>
          <p:nvPr/>
        </p:nvPicPr>
        <p:blipFill>
          <a:blip r:embed="rId2"/>
          <a:srcRect l="0" t="15557" r="0" b="27779"/>
          <a:stretch/>
        </p:blipFill>
        <p:spPr>
          <a:xfrm>
            <a:off x="5286240" y="2971800"/>
            <a:ext cx="3857760" cy="3886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C:\Documents and Settings\User\Рабочий стол\равнобедренный треугольник\1307451306_delaem-kolodec4.jpg"/>
          <p:cNvPicPr/>
          <p:nvPr/>
        </p:nvPicPr>
        <p:blipFill>
          <a:blip r:embed="rId3"/>
          <a:srcRect l="0" t="0" r="0" b="8332"/>
          <a:stretch/>
        </p:blipFill>
        <p:spPr>
          <a:xfrm>
            <a:off x="0" y="1371600"/>
            <a:ext cx="343836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C:\Documents and Settings\User\Рабочий стол\равнобедренный треугольник\a694d1d22af1.jpg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C:\Documents and Settings\User\Рабочий стол\равнобедренный треугольник\1326689891_01.jpg"/>
          <p:cNvPicPr/>
          <p:nvPr/>
        </p:nvPicPr>
        <p:blipFill>
          <a:blip r:embed="rId1"/>
          <a:stretch/>
        </p:blipFill>
        <p:spPr>
          <a:xfrm>
            <a:off x="0" y="0"/>
            <a:ext cx="4762440" cy="59626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C:\Documents and Settings\User\Рабочий стол\равнобедренный треугольник\112.jpg"/>
          <p:cNvPicPr/>
          <p:nvPr/>
        </p:nvPicPr>
        <p:blipFill>
          <a:blip r:embed="rId2"/>
          <a:stretch/>
        </p:blipFill>
        <p:spPr>
          <a:xfrm>
            <a:off x="4672080" y="3429000"/>
            <a:ext cx="44719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C:\Documents and Settings\User\Рабочий стол\равнобедренный треугольник\raskladka.jpg"/>
          <p:cNvPicPr/>
          <p:nvPr/>
        </p:nvPicPr>
        <p:blipFill>
          <a:blip r:embed="rId1"/>
          <a:srcRect l="0" t="0" r="28433" b="0"/>
          <a:stretch/>
        </p:blipFill>
        <p:spPr>
          <a:xfrm>
            <a:off x="0" y="0"/>
            <a:ext cx="373392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3" descr="C:\Documents and Settings\User\Рабочий стол\равнобедренный треугольник\isosceles-triangle-quilt.jpg"/>
          <p:cNvPicPr/>
          <p:nvPr/>
        </p:nvPicPr>
        <p:blipFill>
          <a:blip r:embed="rId2"/>
          <a:stretch/>
        </p:blipFill>
        <p:spPr>
          <a:xfrm>
            <a:off x="400536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C:\Documents and Settings\User\Рабочий стол\равнобедренный треугольник\KRUG.JPG"/>
          <p:cNvPicPr/>
          <p:nvPr/>
        </p:nvPicPr>
        <p:blipFill>
          <a:blip r:embed="rId1"/>
          <a:srcRect l="11441" t="0" r="4165" b="0"/>
          <a:stretch/>
        </p:blipFill>
        <p:spPr>
          <a:xfrm rot="688200">
            <a:off x="549000" y="458280"/>
            <a:ext cx="5059440" cy="44960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Documents and Settings\User\Рабочий стол\равнобедренный треугольник\isosceles-triangle2.png"/>
          <p:cNvPicPr/>
          <p:nvPr/>
        </p:nvPicPr>
        <p:blipFill>
          <a:blip r:embed="rId2"/>
          <a:stretch/>
        </p:blipFill>
        <p:spPr>
          <a:xfrm rot="15780000">
            <a:off x="4634640" y="1111680"/>
            <a:ext cx="5138640" cy="3276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C:\Documents and Settings\User\Рабочий стол\равнобедренный треугольник\isosceles-triangle.png"/>
          <p:cNvPicPr/>
          <p:nvPr/>
        </p:nvPicPr>
        <p:blipFill>
          <a:blip r:embed="rId3"/>
          <a:stretch/>
        </p:blipFill>
        <p:spPr>
          <a:xfrm rot="21325200">
            <a:off x="2374560" y="4311360"/>
            <a:ext cx="3962520" cy="23922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C:\Documents and Settings\User\Рабочий стол\равнобедренный треугольник\3triangles.gif"/>
          <p:cNvPicPr/>
          <p:nvPr/>
        </p:nvPicPr>
        <p:blipFill>
          <a:blip r:embed="rId1"/>
          <a:stretch/>
        </p:blipFill>
        <p:spPr>
          <a:xfrm>
            <a:off x="0" y="0"/>
            <a:ext cx="4334040" cy="3943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C:\Documents and Settings\User\Рабочий стол\равнобедренный треугольник\111qz7.png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C:\Documents and Settings\User\Рабочий стол\равнобедренный треугольник\i_198.png"/>
          <p:cNvPicPr/>
          <p:nvPr/>
        </p:nvPicPr>
        <p:blipFill>
          <a:blip r:embed="rId3"/>
          <a:stretch/>
        </p:blipFill>
        <p:spPr>
          <a:xfrm>
            <a:off x="3200400" y="2819520"/>
            <a:ext cx="2857680" cy="3876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User\Рабочий стол\равнобедренный треугольник\p1010008.jpg"/>
          <p:cNvPicPr/>
          <p:nvPr/>
        </p:nvPicPr>
        <p:blipFill>
          <a:blip r:embed="rId1"/>
          <a:srcRect l="8752" t="18339" r="12502" b="15000"/>
          <a:stretch/>
        </p:blipFill>
        <p:spPr>
          <a:xfrm rot="20709600">
            <a:off x="80640" y="334800"/>
            <a:ext cx="4800600" cy="30481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Documents and Settings\User\Рабочий стол\равнобедренный треугольник\47b3b3620e6f.jpg"/>
          <p:cNvPicPr/>
          <p:nvPr/>
        </p:nvPicPr>
        <p:blipFill>
          <a:blip r:embed="rId2"/>
          <a:stretch/>
        </p:blipFill>
        <p:spPr>
          <a:xfrm rot="243000">
            <a:off x="4705200" y="1076040"/>
            <a:ext cx="4245120" cy="5638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:\Documents and Settings\User\Рабочий стол\равнобедренный треугольник\0016-016-1.-Najti-perimetr-A-21-b-22-v-20.jpg"/>
          <p:cNvPicPr/>
          <p:nvPr/>
        </p:nvPicPr>
        <p:blipFill>
          <a:blip r:embed="rId3"/>
          <a:srcRect l="0" t="26299" r="76669" b="48520"/>
          <a:stretch/>
        </p:blipFill>
        <p:spPr>
          <a:xfrm rot="690600">
            <a:off x="1190160" y="3992040"/>
            <a:ext cx="28242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2"/>
          <p:cNvSpPr/>
          <p:nvPr/>
        </p:nvSpPr>
        <p:spPr>
          <a:xfrm>
            <a:off x="5562720" y="9907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Фигура Моны Лизы вписывается в идеальный равнобедренный треугольник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478" name="Picture 2" descr="C:\Documents and Settings\User\Рабочий стол\равнобедренный треугольник\Leonardo 500 anniv nascita dis. W. Molino Italy 1952.jpg"/>
          <p:cNvPicPr/>
          <p:nvPr/>
        </p:nvPicPr>
        <p:blipFill>
          <a:blip r:embed="rId1"/>
          <a:stretch/>
        </p:blipFill>
        <p:spPr>
          <a:xfrm>
            <a:off x="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1" descr="IC210_Lab_3_IsoscelesTriangle.gif"/>
          <p:cNvPicPr/>
          <p:nvPr/>
        </p:nvPicPr>
        <p:blipFill>
          <a:blip r:embed="rId1"/>
          <a:stretch/>
        </p:blipFill>
        <p:spPr>
          <a:xfrm>
            <a:off x="2166840" y="1333440"/>
            <a:ext cx="481032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2" descr="Cat.gif"/>
          <p:cNvPicPr/>
          <p:nvPr/>
        </p:nvPicPr>
        <p:blipFill>
          <a:blip r:embed="rId1"/>
          <a:srcRect l="10568" t="0" r="7923" b="0"/>
          <a:stretch/>
        </p:blipFill>
        <p:spPr>
          <a:xfrm>
            <a:off x="3276720" y="2952720"/>
            <a:ext cx="4114800" cy="3905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3" descr="garik3a.jpg"/>
          <p:cNvPicPr/>
          <p:nvPr/>
        </p:nvPicPr>
        <p:blipFill>
          <a:blip r:embed="rId2"/>
          <a:srcRect l="38987" t="26783" r="29113" b="8642"/>
          <a:stretch/>
        </p:blipFill>
        <p:spPr>
          <a:xfrm>
            <a:off x="6781680" y="0"/>
            <a:ext cx="2362320" cy="35877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C:\Documents and Settings\User\Рабочий стол\равнобедренный треугольник\d2ff70ecaafc.jpg"/>
          <p:cNvPicPr/>
          <p:nvPr/>
        </p:nvPicPr>
        <p:blipFill>
          <a:blip r:embed="rId3"/>
          <a:stretch/>
        </p:blipFill>
        <p:spPr>
          <a:xfrm>
            <a:off x="0" y="4680"/>
            <a:ext cx="3862440" cy="5786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1" descr="31.jpg"/>
          <p:cNvPicPr/>
          <p:nvPr/>
        </p:nvPicPr>
        <p:blipFill>
          <a:blip r:embed="rId1"/>
          <a:srcRect l="0" t="0" r="50009" b="0"/>
          <a:stretch/>
        </p:blipFill>
        <p:spPr>
          <a:xfrm>
            <a:off x="289548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" descr="formovedenie-osnovnye-formy-cvetochnyx-kompozicij.jpg"/>
          <p:cNvPicPr/>
          <p:nvPr/>
        </p:nvPicPr>
        <p:blipFill>
          <a:blip r:embed="rId2"/>
          <a:stretch/>
        </p:blipFill>
        <p:spPr>
          <a:xfrm>
            <a:off x="0" y="2438280"/>
            <a:ext cx="2941560" cy="44197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triangle-4.jpg"/>
          <p:cNvPicPr/>
          <p:nvPr/>
        </p:nvPicPr>
        <p:blipFill>
          <a:blip r:embed="rId3"/>
          <a:stretch/>
        </p:blipFill>
        <p:spPr>
          <a:xfrm>
            <a:off x="6350040" y="0"/>
            <a:ext cx="279396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Documents and Settings\User\Рабочий стол\равнобедренный треугольник\13.jpg"/>
          <p:cNvPicPr/>
          <p:nvPr/>
        </p:nvPicPr>
        <p:blipFill>
          <a:blip r:embed="rId1"/>
          <a:srcRect l="0" t="23529" r="0" b="0"/>
          <a:stretch/>
        </p:blipFill>
        <p:spPr>
          <a:xfrm rot="21290400">
            <a:off x="0" y="2400480"/>
            <a:ext cx="4762440" cy="44575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Documents and Settings\User\Рабочий стол\равнобедренный треугольник\cookie.jpg"/>
          <p:cNvPicPr/>
          <p:nvPr/>
        </p:nvPicPr>
        <p:blipFill>
          <a:blip r:embed="rId2"/>
          <a:srcRect l="0" t="0" r="0" b="16668"/>
          <a:stretch/>
        </p:blipFill>
        <p:spPr>
          <a:xfrm rot="21064200">
            <a:off x="1523880" y="20160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Documents and Settings\User\Рабочий стол\равнобедренный треугольник\domik.JPG"/>
          <p:cNvPicPr/>
          <p:nvPr/>
        </p:nvPicPr>
        <p:blipFill>
          <a:blip r:embed="rId3"/>
          <a:srcRect l="7693" t="0" r="29629" b="5318"/>
          <a:stretch/>
        </p:blipFill>
        <p:spPr>
          <a:xfrm>
            <a:off x="4952880" y="957240"/>
            <a:ext cx="4191120" cy="590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C:\Documents and Settings\User\Рабочий стол\равнобедренный треугольник\th1.jpg"/>
          <p:cNvPicPr/>
          <p:nvPr/>
        </p:nvPicPr>
        <p:blipFill>
          <a:blip r:embed="rId1"/>
          <a:stretch/>
        </p:blipFill>
        <p:spPr>
          <a:xfrm>
            <a:off x="0" y="236520"/>
            <a:ext cx="9155160" cy="6392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User\Рабочий стол\равнобедренный треугольник\about_ho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C:\Documents and Settings\User\Рабочий стол\равнобедренный треугольник\IMG_623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:\Documents and Settings\User\Рабочий стол\равнобедренный треугольник\0_4f00f_d81c24d7_XL.jpeg"/>
          <p:cNvPicPr/>
          <p:nvPr/>
        </p:nvPicPr>
        <p:blipFill>
          <a:blip r:embed="rId1"/>
          <a:stretch/>
        </p:blipFill>
        <p:spPr>
          <a:xfrm>
            <a:off x="22320" y="762120"/>
            <a:ext cx="9099360" cy="5333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12-04-01T13:43:56Z</dcterms:modified>
  <cp:revision>9</cp:revision>
  <dc:subject/>
  <dc:title>Равнобедренный треугольник  в картинках</dc:title>
</cp:coreProperties>
</file>