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268-CE99-4766-8CF1-77BE762F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C6C-8E1F-470A-905B-29B02D39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CDD-5914-493F-A258-6F5CEE57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039-2BE5-4551-AB15-4380F210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0B6D-0158-4481-B8A6-94B587AE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3C4-1902-4090-AD3D-22A2F4CA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96BE-0FB6-4A9B-A07D-76AE440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3B8F-597B-4BB9-B858-D2A3EACB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EC1E-98F6-42FA-8442-ACA9A20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D10C-5D02-4AF8-964A-44497B2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9A4A-F8AC-4C61-B3CF-69B6FB84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4C7-8C96-4E94-812B-A2DC993A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53C-E36E-44A9-BE37-14B3A6B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3847-FD79-47B4-9CC1-DA0E5B1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264-F5D0-4EFF-B804-59D7549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4DA0-EDE9-4E20-8D92-B70EE5B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7536-3CBC-4DC3-B593-8BD8BBC1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A2-FB27-4B66-AA53-B5D28BE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A74-BE39-4AFB-A2FC-F0363FF2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376-2C06-4D9A-BEA7-3315443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71C-4059-4DE7-8AD5-3C1E531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81D-E5F3-43CF-BD58-6990294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E62-7D81-4EA6-B6DB-146F16A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057-A3F6-40C8-AD97-5F2AC0E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DCCC-C103-414F-8FCE-9B66A3207F5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6320"/>
                    <a:ext cx="3039840" cy="2529000"/>
                    <a:chOff x="5787720" y="214632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916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400"/>
                    <a:ext cx="2557440" cy="2742120"/>
                    <a:chOff x="2646360" y="2471400"/>
                    <a:chExt cx="255744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5520"/>
                      <a:ext cx="20678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8280" y="2095560"/>
                    <a:ext cx="2936520" cy="1001520"/>
                    <a:chOff x="2168280" y="2095560"/>
                    <a:chExt cx="2936520" cy="10015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1560"/>
                      <a:ext cx="19036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040"/>
                    <a:ext cx="2658600" cy="448560"/>
                    <a:chOff x="2403720" y="2030040"/>
                    <a:chExt cx="2658600" cy="4485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676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9560"/>
                    <a:ext cx="2363760" cy="787320"/>
                    <a:chOff x="2760840" y="151956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920" y="1608120"/>
                      <a:ext cx="81612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3800" cy="1082520"/>
                    <a:chOff x="2887200" y="123660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3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5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8000"/>
                    <a:ext cx="2170800" cy="1508400"/>
                    <a:chOff x="3160440" y="828000"/>
                    <a:chExt cx="217080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0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952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31680"/>
                    <a:chOff x="3436920" y="434520"/>
                    <a:chExt cx="198792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868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456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27960"/>
                    <a:ext cx="1462680" cy="1892160"/>
                    <a:chOff x="4027320" y="327960"/>
                    <a:chExt cx="1462680" cy="18921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1440"/>
                      <a:ext cx="1358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38560"/>
                      <a:ext cx="72828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8320"/>
                    <a:chOff x="4448160" y="245160"/>
                    <a:chExt cx="112392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8240"/>
                    <a:ext cx="2319480" cy="1114920"/>
                    <a:chOff x="5661360" y="948240"/>
                    <a:chExt cx="2319480" cy="111492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100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120"/>
                      <a:ext cx="8175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2680"/>
                    <a:ext cx="12657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6800" y="268200"/>
                    <a:ext cx="1193400" cy="1899000"/>
                    <a:chOff x="5356800" y="268200"/>
                    <a:chExt cx="1193400" cy="18990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880" y="141444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200"/>
                      <a:ext cx="7034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3760"/>
                    <a:ext cx="1890000" cy="1796760"/>
                    <a:chOff x="5350320" y="383760"/>
                    <a:chExt cx="189000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3120"/>
                      <a:ext cx="14270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80680"/>
                      <a:ext cx="76788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160" cy="1796040"/>
                    <a:chOff x="5459040" y="290160"/>
                    <a:chExt cx="42516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880" y="1442520"/>
                      <a:ext cx="117828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040" y="53100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8880"/>
                    <a:ext cx="1481760" cy="3000600"/>
                    <a:chOff x="3790800" y="2648880"/>
                    <a:chExt cx="1481760" cy="30006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39800"/>
                      <a:ext cx="196668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1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7480"/>
                    <a:ext cx="876960" cy="2931840"/>
                    <a:chOff x="4507560" y="2697480"/>
                    <a:chExt cx="87696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4800"/>
                      <a:ext cx="18903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708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3440"/>
                    <a:ext cx="1756080" cy="3029400"/>
                    <a:chOff x="5646960" y="2593440"/>
                    <a:chExt cx="1756080" cy="30294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640" y="3395160"/>
                      <a:ext cx="203328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864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08280"/>
                    <a:ext cx="1227960" cy="2988720"/>
                    <a:chOff x="5576760" y="2708280"/>
                    <a:chExt cx="1227960" cy="29887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8280" y="3539520"/>
                      <a:ext cx="19717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088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440"/>
                    <a:ext cx="696600" cy="2782800"/>
                    <a:chOff x="5521320" y="2836440"/>
                    <a:chExt cx="696600" cy="27828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3960"/>
                      <a:ext cx="1813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5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600" y="2883960"/>
                    <a:ext cx="666000" cy="2718000"/>
                    <a:chOff x="4962600" y="2883960"/>
                    <a:chExt cx="666000" cy="27180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2640"/>
                      <a:ext cx="177516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440" y="4926960"/>
                      <a:ext cx="951480" cy="36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932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3440"/>
                    <a:ext cx="94068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576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2080"/>
                <a:ext cx="123804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3C3E-AED1-46DE-93D6-1BD28473955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643120" y="4214520"/>
            <a:ext cx="63151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000" spc="-1" strike="noStrike">
                <a:solidFill>
                  <a:srgbClr val="ffcc00"/>
                </a:solidFill>
                <a:latin typeface="Arial"/>
              </a:rPr>
              <a:t>Бөгелмә кадет – интернат мәктәбе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000" spc="-1" strike="noStrike">
                <a:solidFill>
                  <a:srgbClr val="ffcc00"/>
                </a:solidFill>
                <a:latin typeface="Arial"/>
              </a:rPr>
              <a:t>Валеев Айдар, 8 Б сыйныф укучысы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642960" y="571680"/>
            <a:ext cx="5286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ffcc00"/>
                </a:solidFill>
                <a:latin typeface="Arial"/>
              </a:rPr>
              <a:t>Рейхстагка беренче булып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000" spc="-1" strike="noStrike">
                <a:solidFill>
                  <a:srgbClr val="ffcc00"/>
                </a:solidFill>
                <a:latin typeface="Arial"/>
              </a:rPr>
              <a:t>Җиңү байрагын кем кадаган?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F:\водружение.jpeg"/>
          <p:cNvPicPr/>
          <p:nvPr/>
        </p:nvPicPr>
        <p:blipFill>
          <a:blip r:embed="rId1"/>
          <a:stretch/>
        </p:blipFill>
        <p:spPr>
          <a:xfrm>
            <a:off x="428760" y="357120"/>
            <a:ext cx="65005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F:\стена.jpg"/>
          <p:cNvPicPr/>
          <p:nvPr/>
        </p:nvPicPr>
        <p:blipFill>
          <a:blip r:embed="rId1"/>
          <a:stretch/>
        </p:blipFill>
        <p:spPr>
          <a:xfrm>
            <a:off x="285840" y="142920"/>
            <a:ext cx="48816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F:\рейх 1.jpg"/>
          <p:cNvPicPr/>
          <p:nvPr/>
        </p:nvPicPr>
        <p:blipFill>
          <a:blip r:embed="rId1"/>
          <a:stretch/>
        </p:blipFill>
        <p:spPr>
          <a:xfrm>
            <a:off x="857160" y="714240"/>
            <a:ext cx="38102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F:\музей.jpg"/>
          <p:cNvPicPr/>
          <p:nvPr/>
        </p:nvPicPr>
        <p:blipFill>
          <a:blip r:embed="rId1"/>
          <a:stretch/>
        </p:blipFill>
        <p:spPr>
          <a:xfrm>
            <a:off x="428760" y="571680"/>
            <a:ext cx="54007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F:\семья.jpg"/>
          <p:cNvPicPr/>
          <p:nvPr/>
        </p:nvPicPr>
        <p:blipFill>
          <a:blip r:embed="rId1"/>
          <a:stretch/>
        </p:blipFill>
        <p:spPr>
          <a:xfrm>
            <a:off x="428760" y="142920"/>
            <a:ext cx="5414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F:\шарж.jpg"/>
          <p:cNvPicPr/>
          <p:nvPr/>
        </p:nvPicPr>
        <p:blipFill>
          <a:blip r:embed="rId1"/>
          <a:stretch/>
        </p:blipFill>
        <p:spPr>
          <a:xfrm>
            <a:off x="214200" y="0"/>
            <a:ext cx="5715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F:\памятник.jpg"/>
          <p:cNvPicPr/>
          <p:nvPr/>
        </p:nvPicPr>
        <p:blipFill>
          <a:blip r:embed="rId1"/>
          <a:stretch/>
        </p:blipFill>
        <p:spPr>
          <a:xfrm>
            <a:off x="857160" y="35712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4"/>
          <p:cNvSpPr/>
          <p:nvPr/>
        </p:nvSpPr>
        <p:spPr>
          <a:xfrm>
            <a:off x="500040" y="214200"/>
            <a:ext cx="64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Максатлар 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1.Бу тарихи вакыйгага күзәтү ясау.Төрле чыганаклардан алынган мәг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ъл</a:t>
            </a: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үматларны туплау, анализ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2.Рейхстагка байракны кадаган барлык солдатларның тулы исемлеген ачык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Бурычлар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1.Шушы фәнни – гамәли конферен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</a:t>
            </a:r>
            <a:r>
              <a:rPr b="0" lang="tt-RU" sz="1800" spc="-1" strike="noStrike">
                <a:solidFill>
                  <a:srgbClr val="ffcc00"/>
                </a:solidFill>
                <a:latin typeface="Arial"/>
              </a:rPr>
              <a:t>иягә әзерлек барышында темага караган  сорауга җавап эзләп таб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1267920" y="3571920"/>
            <a:ext cx="712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Бирелгән теманы тулырак ачыклау өчен түбәндәге методлар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Кулланылды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Фәнни- тарихи әдәбиятны анализ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buClr>
                <a:srgbClr val="ffcc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Вакытлы матбугаттан бирелгән темага караган мәкаләләрн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күзалла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705960" y="428760"/>
            <a:ext cx="59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Тезислар :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Рәсми документлар Рейхстагка Җиңү байрагын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Беренче булып рус солдаты  М. Егоров һәм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грузин М. Кантария беркеткәнен күрсәттелә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Ә чынлыкта исә бу изге миссияне капитан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Маков җитәкчелегендәге төркем –Заһитов,Минин,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cc00"/>
                </a:solidFill>
                <a:latin typeface="Arial Black"/>
              </a:rPr>
              <a:t>Лесименко, Бобров кады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F:\знамя.jpeg"/>
          <p:cNvPicPr/>
          <p:nvPr/>
        </p:nvPicPr>
        <p:blipFill>
          <a:blip r:embed="rId1"/>
          <a:stretch/>
        </p:blipFill>
        <p:spPr>
          <a:xfrm>
            <a:off x="204840" y="1214280"/>
            <a:ext cx="7189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F:\книга.jpeg"/>
          <p:cNvPicPr/>
          <p:nvPr/>
        </p:nvPicPr>
        <p:blipFill>
          <a:blip r:embed="rId1"/>
          <a:stretch/>
        </p:blipFill>
        <p:spPr>
          <a:xfrm>
            <a:off x="64296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F:\портрет.jpg"/>
          <p:cNvPicPr/>
          <p:nvPr/>
        </p:nvPicPr>
        <p:blipFill>
          <a:blip r:embed="rId1"/>
          <a:stretch/>
        </p:blipFill>
        <p:spPr>
          <a:xfrm>
            <a:off x="714240" y="285840"/>
            <a:ext cx="4357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F:\четверка.jpg"/>
          <p:cNvPicPr/>
          <p:nvPr/>
        </p:nvPicPr>
        <p:blipFill>
          <a:blip r:embed="rId1"/>
          <a:stretch/>
        </p:blipFill>
        <p:spPr>
          <a:xfrm>
            <a:off x="785880" y="142920"/>
            <a:ext cx="528624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F:\флаг.jpg"/>
          <p:cNvPicPr/>
          <p:nvPr/>
        </p:nvPicPr>
        <p:blipFill>
          <a:blip r:embed="rId1"/>
          <a:stretch/>
        </p:blipFill>
        <p:spPr>
          <a:xfrm>
            <a:off x="928800" y="214200"/>
            <a:ext cx="5286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F:\друзья.jpg"/>
          <p:cNvPicPr/>
          <p:nvPr/>
        </p:nvPicPr>
        <p:blipFill>
          <a:blip r:embed="rId1"/>
          <a:stretch/>
        </p:blipFill>
        <p:spPr>
          <a:xfrm>
            <a:off x="857160" y="428760"/>
            <a:ext cx="55008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1:26:07Z</dcterms:created>
  <dc:creator>Сергеев Анатолий Викторович</dc:creator>
  <dc:description/>
  <dc:language>en-US</dc:language>
  <cp:lastModifiedBy>Гульнара Ильдаровна</cp:lastModifiedBy>
  <dcterms:modified xsi:type="dcterms:W3CDTF">2013-01-13T14:29:39Z</dcterms:modified>
  <cp:revision>18</cp:revision>
  <dc:subject/>
  <dc:title>Слайд 1</dc:title>
</cp:coreProperties>
</file>