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B5A-2E72-4DD8-8E01-AB3F548C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66C-B395-498E-8A1E-76E6753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F91-6215-431D-9EC6-145BD18B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7EB-705A-42BA-B07B-1439C23F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EB66-11C4-4E4F-8C84-2A0E4130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9B21-9347-41ED-8A96-F2F3596B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4CB1-21CF-4D43-997F-F8D0AB4F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375B-EF09-44EC-B9FA-E7D76D54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2170-C1D6-4901-B189-BAD0398F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0DEF-22CB-49B9-B34B-A06A77A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CC10-06F7-49AB-B87D-3A905352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0AD-3BB8-468A-B8FA-0293C026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C2CB-2D8E-4BE2-B477-7ACD8D8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80A-CABC-4BA0-856C-95E4F37C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990D-35D1-41C9-BC8F-CF382479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85E8-519F-47F9-80C6-3E35BFF3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7F2B-E5AD-43D9-8400-BC5E0408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775-1C1F-4B3E-8722-9C120349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ECF-B079-47A5-94C5-1F486E04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FA6-5E82-4C56-9EB6-E3E64153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486-D14D-4B68-8B01-C3D0A1CC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02D-E8DF-4F6A-A60F-E0663BF0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B39-CC6E-4CB6-86B7-4FB25DE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9F3-59DE-4074-AEA1-CBCB14AB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0D47-DC95-445E-9606-326815A2CBB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6160" cy="5451840"/>
            <a:chOff x="2010960" y="24516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6160" cy="5451840"/>
              <a:chOff x="2010960" y="24516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1840"/>
                <a:chOff x="2010960" y="24516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5400"/>
                  <a:ext cx="3599280" cy="2649960"/>
                  <a:chOff x="3735720" y="1265400"/>
                  <a:chExt cx="3599280" cy="264996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5400"/>
                    <a:ext cx="3599280" cy="264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1840"/>
                  <a:chOff x="2010960" y="24516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360"/>
                    <a:ext cx="2559960" cy="2739600"/>
                    <a:chOff x="5760360" y="2322360"/>
                    <a:chExt cx="2559960" cy="27396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040"/>
                      <a:ext cx="21279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252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6320"/>
                    <a:ext cx="3039840" cy="2529000"/>
                    <a:chOff x="5787720" y="2146320"/>
                    <a:chExt cx="303984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968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916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720"/>
                    <a:ext cx="3097800" cy="1994400"/>
                    <a:chOff x="5774760" y="206172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74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43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120"/>
                    <a:ext cx="3134160" cy="1608480"/>
                    <a:chOff x="5767920" y="1968120"/>
                    <a:chExt cx="3134160" cy="160848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7360"/>
                      <a:ext cx="206748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2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7400"/>
                    <a:ext cx="2939040" cy="1002240"/>
                    <a:chOff x="5805720" y="1877400"/>
                    <a:chExt cx="293904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3400"/>
                      <a:ext cx="190368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040"/>
                    <a:ext cx="2658960" cy="443520"/>
                    <a:chOff x="5851080" y="1814040"/>
                    <a:chExt cx="2658960" cy="44352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600"/>
                      <a:ext cx="1730880" cy="27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560"/>
                      <a:ext cx="92952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560"/>
                    <a:ext cx="2364120" cy="784080"/>
                    <a:chOff x="5788440" y="130356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9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120"/>
                      <a:ext cx="816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1400"/>
                    <a:ext cx="2557440" cy="2742120"/>
                    <a:chOff x="2646360" y="2471400"/>
                    <a:chExt cx="255744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6872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5560"/>
                    <a:ext cx="3039840" cy="2532240"/>
                    <a:chOff x="2084040" y="236556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200"/>
                      <a:ext cx="2234160" cy="42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4056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9880"/>
                    <a:ext cx="3097080" cy="1991880"/>
                    <a:chOff x="2040120" y="2279880"/>
                    <a:chExt cx="309708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56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996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6280"/>
                    <a:ext cx="3134160" cy="1608840"/>
                    <a:chOff x="2010960" y="218628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5520"/>
                      <a:ext cx="206784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016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8280" y="2095560"/>
                    <a:ext cx="2936520" cy="1001520"/>
                    <a:chOff x="2168280" y="2095560"/>
                    <a:chExt cx="2936520" cy="100152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1560"/>
                      <a:ext cx="19036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12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040"/>
                    <a:ext cx="2658600" cy="448560"/>
                    <a:chOff x="2403720" y="2030040"/>
                    <a:chExt cx="2658600" cy="4485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676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200"/>
                      <a:ext cx="929520" cy="42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9560"/>
                    <a:ext cx="2363760" cy="787320"/>
                    <a:chOff x="2760840" y="151956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920" y="1608120"/>
                      <a:ext cx="81612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3800" cy="1082520"/>
                    <a:chOff x="2887200" y="123660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63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052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28000"/>
                    <a:ext cx="2170800" cy="1508400"/>
                    <a:chOff x="3160440" y="828000"/>
                    <a:chExt cx="217080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04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1952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31680"/>
                    <a:chOff x="3436920" y="434520"/>
                    <a:chExt cx="198792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868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000" y="664560"/>
                      <a:ext cx="8283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27960"/>
                    <a:ext cx="1462680" cy="1892160"/>
                    <a:chOff x="4027320" y="327960"/>
                    <a:chExt cx="1462680" cy="18921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1440"/>
                      <a:ext cx="13586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38560"/>
                      <a:ext cx="72828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8320"/>
                    <a:chOff x="4448160" y="245160"/>
                    <a:chExt cx="112392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360" y="948240"/>
                    <a:ext cx="2319480" cy="1114920"/>
                    <a:chOff x="5661360" y="948240"/>
                    <a:chExt cx="2319480" cy="111492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100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6120"/>
                      <a:ext cx="81756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1360"/>
                    <a:ext cx="2201760" cy="1451880"/>
                    <a:chOff x="5529600" y="62136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524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60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2680"/>
                    <a:ext cx="126576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6640" y="535320"/>
                    <a:ext cx="67968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6800" y="268200"/>
                    <a:ext cx="1193400" cy="1899000"/>
                    <a:chOff x="5356800" y="268200"/>
                    <a:chExt cx="1193400" cy="18990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880" y="141444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4200"/>
                      <a:ext cx="7034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83760"/>
                    <a:ext cx="1890000" cy="1796760"/>
                    <a:chOff x="5350320" y="383760"/>
                    <a:chExt cx="189000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83120"/>
                      <a:ext cx="14270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80680"/>
                      <a:ext cx="76788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160" cy="1796040"/>
                    <a:chOff x="5459040" y="29016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6880" y="1442520"/>
                      <a:ext cx="117828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040" y="53100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27560"/>
                    <a:ext cx="2194200" cy="3004200"/>
                    <a:chOff x="3062880" y="2527560"/>
                    <a:chExt cx="2194200" cy="30042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297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03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8880"/>
                    <a:ext cx="1481760" cy="3000600"/>
                    <a:chOff x="3790800" y="2648880"/>
                    <a:chExt cx="1481760" cy="30006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39800"/>
                      <a:ext cx="196668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520"/>
                      <a:ext cx="105516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7480"/>
                    <a:ext cx="876960" cy="2931840"/>
                    <a:chOff x="4507560" y="2697480"/>
                    <a:chExt cx="876960" cy="29318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4800"/>
                      <a:ext cx="189036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7080"/>
                      <a:ext cx="101304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1120"/>
                    <a:ext cx="2280960" cy="2953800"/>
                    <a:chOff x="5677560" y="2481120"/>
                    <a:chExt cx="228096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9000"/>
                      <a:ext cx="21268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760"/>
                      <a:ext cx="11401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3440"/>
                    <a:ext cx="1756080" cy="3029400"/>
                    <a:chOff x="5646960" y="2593440"/>
                    <a:chExt cx="1756080" cy="30294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640" y="3395160"/>
                      <a:ext cx="203328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864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760" y="2708280"/>
                    <a:ext cx="1227960" cy="2988720"/>
                    <a:chOff x="5576760" y="2708280"/>
                    <a:chExt cx="1227960" cy="29887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8280" y="3539520"/>
                      <a:ext cx="197172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088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440"/>
                    <a:ext cx="696600" cy="2782800"/>
                    <a:chOff x="5521320" y="2836440"/>
                    <a:chExt cx="696600" cy="27828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3960"/>
                      <a:ext cx="18136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5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2600" y="2883960"/>
                    <a:ext cx="666000" cy="2718000"/>
                    <a:chOff x="4962600" y="2883960"/>
                    <a:chExt cx="666000" cy="271800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2640"/>
                      <a:ext cx="177516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440" y="4926960"/>
                      <a:ext cx="951480" cy="36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9320"/>
                <a:ext cx="6732720" cy="4525200"/>
                <a:chOff x="2174400" y="679320"/>
                <a:chExt cx="6732720" cy="452520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9320"/>
                  <a:ext cx="6732720" cy="4525200"/>
                  <a:chOff x="2174400" y="679320"/>
                  <a:chExt cx="6732720" cy="452520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3200"/>
                    <a:ext cx="3166560" cy="2526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440"/>
                    <a:ext cx="248688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932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3440"/>
                    <a:ext cx="94068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2320"/>
                    <a:ext cx="515160" cy="18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80520"/>
                  <a:ext cx="546120" cy="10324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7200"/>
              <a:ext cx="6411960" cy="4710960"/>
              <a:chOff x="2343960" y="72720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044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524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7320"/>
                <a:ext cx="1534320" cy="29354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3560"/>
                <a:ext cx="2930760" cy="29354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5760"/>
                <a:ext cx="46980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2080"/>
                <a:ext cx="123804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256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28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984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300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3360"/>
                <a:ext cx="1242000" cy="19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508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720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936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624D-14E1-4B9F-8A19-19832B1DDF2F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643120" y="4214520"/>
            <a:ext cx="63151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000" spc="-1" strike="noStrike">
                <a:solidFill>
                  <a:srgbClr val="ffcc00"/>
                </a:solidFill>
                <a:latin typeface="Arial"/>
              </a:rPr>
              <a:t>Бөгелмә кадет – интернат мәктәбе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000" spc="-1" strike="noStrike">
                <a:solidFill>
                  <a:srgbClr val="ffcc00"/>
                </a:solidFill>
                <a:latin typeface="Arial"/>
              </a:rPr>
              <a:t>Валеев Айдар, 8 Б сыйныф укучысы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642960" y="571680"/>
            <a:ext cx="528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000" spc="-1" strike="noStrike">
                <a:solidFill>
                  <a:srgbClr val="ffcc00"/>
                </a:solidFill>
                <a:latin typeface="Arial"/>
              </a:rPr>
              <a:t>Рейхстагка беренче булып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000" spc="-1" strike="noStrike">
                <a:solidFill>
                  <a:srgbClr val="ffcc00"/>
                </a:solidFill>
                <a:latin typeface="Arial"/>
              </a:rPr>
              <a:t>Җиңү байрагын кем кадаган?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F:\водружение.jpeg"/>
          <p:cNvPicPr/>
          <p:nvPr/>
        </p:nvPicPr>
        <p:blipFill>
          <a:blip r:embed="rId1"/>
          <a:stretch/>
        </p:blipFill>
        <p:spPr>
          <a:xfrm>
            <a:off x="428760" y="357120"/>
            <a:ext cx="65005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F:\стена.jpg"/>
          <p:cNvPicPr/>
          <p:nvPr/>
        </p:nvPicPr>
        <p:blipFill>
          <a:blip r:embed="rId1"/>
          <a:stretch/>
        </p:blipFill>
        <p:spPr>
          <a:xfrm>
            <a:off x="285840" y="142920"/>
            <a:ext cx="48816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F:\рейх 1.jpg"/>
          <p:cNvPicPr/>
          <p:nvPr/>
        </p:nvPicPr>
        <p:blipFill>
          <a:blip r:embed="rId1"/>
          <a:stretch/>
        </p:blipFill>
        <p:spPr>
          <a:xfrm>
            <a:off x="857160" y="714240"/>
            <a:ext cx="38102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F:\музей.jpg"/>
          <p:cNvPicPr/>
          <p:nvPr/>
        </p:nvPicPr>
        <p:blipFill>
          <a:blip r:embed="rId1"/>
          <a:stretch/>
        </p:blipFill>
        <p:spPr>
          <a:xfrm>
            <a:off x="428760" y="571680"/>
            <a:ext cx="54007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F:\семья.jpg"/>
          <p:cNvPicPr/>
          <p:nvPr/>
        </p:nvPicPr>
        <p:blipFill>
          <a:blip r:embed="rId1"/>
          <a:stretch/>
        </p:blipFill>
        <p:spPr>
          <a:xfrm>
            <a:off x="428760" y="142920"/>
            <a:ext cx="5414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F:\шарж.jpg"/>
          <p:cNvPicPr/>
          <p:nvPr/>
        </p:nvPicPr>
        <p:blipFill>
          <a:blip r:embed="rId1"/>
          <a:stretch/>
        </p:blipFill>
        <p:spPr>
          <a:xfrm>
            <a:off x="214200" y="0"/>
            <a:ext cx="5715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F:\памятник.jpg"/>
          <p:cNvPicPr/>
          <p:nvPr/>
        </p:nvPicPr>
        <p:blipFill>
          <a:blip r:embed="rId1"/>
          <a:stretch/>
        </p:blipFill>
        <p:spPr>
          <a:xfrm>
            <a:off x="857160" y="35712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4"/>
          <p:cNvSpPr/>
          <p:nvPr/>
        </p:nvSpPr>
        <p:spPr>
          <a:xfrm>
            <a:off x="500040" y="214200"/>
            <a:ext cx="642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Максатлар 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1.Бу тарихи вакыйгага күзәтү ясау.Төрле чыганаклардан алынган мәг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ъл</a:t>
            </a: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үматларны туплау, анализла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2.Рейхстагка байракны кадаган барлык солдатларның тулы исемлеген ачыкла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Бурычлар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1.Шушы фәнни – гамәли конферен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ц</a:t>
            </a: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иягә әзерлек барышында темага караган  сорауга җавап эзләп таб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1267920" y="3571920"/>
            <a:ext cx="712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Бирелгән теманы тулырак ачыклау өчен түбәндәге методлар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Кулланылды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fcc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Фәнни- тарихи әдәбиятны анализла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fcc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Вакытлы матбугаттан бирелгән темага караган мәкаләләрн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күзалла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705960" y="428760"/>
            <a:ext cx="59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Тезислар :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Рәсми документлар Рейхстагка Җиңү байрагын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Беренче булып рус солдаты  М. Егоров һәм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грузин М. Кантария беркеткәнен күрсәттеләр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Ә чынлыкта исә бу изге миссияне капитан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Маков җитәкчелегендәге төркем –Заһитов,Минин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Лесименко, Бобров кадый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F:\знамя.jpeg"/>
          <p:cNvPicPr/>
          <p:nvPr/>
        </p:nvPicPr>
        <p:blipFill>
          <a:blip r:embed="rId1"/>
          <a:stretch/>
        </p:blipFill>
        <p:spPr>
          <a:xfrm>
            <a:off x="204840" y="1214280"/>
            <a:ext cx="7189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F:\книга.jpeg"/>
          <p:cNvPicPr/>
          <p:nvPr/>
        </p:nvPicPr>
        <p:blipFill>
          <a:blip r:embed="rId1"/>
          <a:stretch/>
        </p:blipFill>
        <p:spPr>
          <a:xfrm>
            <a:off x="642960" y="428760"/>
            <a:ext cx="46432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F:\портрет.jpg"/>
          <p:cNvPicPr/>
          <p:nvPr/>
        </p:nvPicPr>
        <p:blipFill>
          <a:blip r:embed="rId1"/>
          <a:stretch/>
        </p:blipFill>
        <p:spPr>
          <a:xfrm>
            <a:off x="714240" y="285840"/>
            <a:ext cx="4357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" descr="F:\четверка.jpg"/>
          <p:cNvPicPr/>
          <p:nvPr/>
        </p:nvPicPr>
        <p:blipFill>
          <a:blip r:embed="rId1"/>
          <a:stretch/>
        </p:blipFill>
        <p:spPr>
          <a:xfrm>
            <a:off x="785880" y="142920"/>
            <a:ext cx="52862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F:\флаг.jpg"/>
          <p:cNvPicPr/>
          <p:nvPr/>
        </p:nvPicPr>
        <p:blipFill>
          <a:blip r:embed="rId1"/>
          <a:stretch/>
        </p:blipFill>
        <p:spPr>
          <a:xfrm>
            <a:off x="928800" y="214200"/>
            <a:ext cx="5286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F:\друзья.jpg"/>
          <p:cNvPicPr/>
          <p:nvPr/>
        </p:nvPicPr>
        <p:blipFill>
          <a:blip r:embed="rId1"/>
          <a:stretch/>
        </p:blipFill>
        <p:spPr>
          <a:xfrm>
            <a:off x="857160" y="428760"/>
            <a:ext cx="55008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1:26:07Z</dcterms:created>
  <dc:creator>Сергеев Анатолий Викторович</dc:creator>
  <dc:description/>
  <dc:language>en-US</dc:language>
  <cp:lastModifiedBy>Гульнара Ильдаровна</cp:lastModifiedBy>
  <dcterms:modified xsi:type="dcterms:W3CDTF">2013-01-13T14:29:39Z</dcterms:modified>
  <cp:revision>18</cp:revision>
  <dc:subject/>
  <dc:title>Слайд 1</dc:title>
</cp:coreProperties>
</file>