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9AE-0163-4299-B05B-64F40884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215-F9E9-429A-8AEB-1CC0ACAA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92E-343A-4FC5-BF52-43468361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CB7-8ED1-46B5-BEC2-4F235123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E35-5440-4C55-B78B-00E437B5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33B4-2631-41AA-975D-6FE356F9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56B-34F9-42C6-8E60-CC64A894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9B9-163C-407C-B099-1D7052C6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2AE-60F6-492D-8A5C-3CE48F2D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51F-8BA4-4943-938C-95D0C37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BC2-D3F2-44A7-B600-47899752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C1A-E5F8-456D-9030-58E8C1E0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9148-B977-4BC4-9076-4AAE3A628D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1341360"/>
            <a:ext cx="572292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тешествие по Санкт-Петербург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Окружающий мир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3 клас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Перспективная начальная 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Учитель Кокшарова Надежда Владимиров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МКОУ Катайская средня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общеобразовательная школа №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на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какими достопримечательностями города вы познакомили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был его основател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расположен город Санкт-Петербур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чего его велел построить Петр Перв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тература, использованная для создания презентаци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отова О. Н. Окружающий мир 3 кл.: Учебник – М.: Академкнига/Учебник, 2010.- Часть 2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отова О. Н. Окружающий мир: Методическое пособие 3 кл. – М.: Академкнига/Учебник,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горьева Е., Гуглина Е. Чудеса света:Энциклопедия. –М.: ЗАО РОСМЭН-ПРЕСС,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циклопедия царей и императоров. Россия. 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в.- РООС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Медный всадн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Нафаня\My Documents\My Pictures\2012-05-25\Изображение.bmp"/>
          <p:cNvPicPr/>
          <p:nvPr/>
        </p:nvPicPr>
        <p:blipFill>
          <a:blip r:embed="rId1"/>
          <a:stretch/>
        </p:blipFill>
        <p:spPr>
          <a:xfrm>
            <a:off x="2128680" y="2214720"/>
            <a:ext cx="4886640" cy="32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тр 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Documents and Settings\Нафаня\My Documents\My Pictures\Изображение\Изображение 006.bmp"/>
          <p:cNvPicPr/>
          <p:nvPr/>
        </p:nvPicPr>
        <p:blipFill>
          <a:blip r:embed="rId1"/>
          <a:stretch/>
        </p:blipFill>
        <p:spPr>
          <a:xfrm>
            <a:off x="2805120" y="2185920"/>
            <a:ext cx="35337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ждение го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берегах какой реки построен горо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м веке был основан Санкт-Петербур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был основателем гор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тропавловская креп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Нафаня\My Documents\My Pictures\2012-05-25\Изображение 001.bmp"/>
          <p:cNvPicPr/>
          <p:nvPr/>
        </p:nvPicPr>
        <p:blipFill>
          <a:blip r:embed="rId1"/>
          <a:stretch/>
        </p:blipFill>
        <p:spPr>
          <a:xfrm>
            <a:off x="909720" y="2268360"/>
            <a:ext cx="732456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рб Санкт-Петербур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якорь означает, что город – речной пор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якорь показывает, что город имеет выход к мор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что указывает скипет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дмиралте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Нафаня\My Documents\My Pictures\2012-05-25\Изображение 003.bmp"/>
          <p:cNvPicPr/>
          <p:nvPr/>
        </p:nvPicPr>
        <p:blipFill>
          <a:blip r:embed="rId1"/>
          <a:stretch/>
        </p:blipFill>
        <p:spPr>
          <a:xfrm>
            <a:off x="3191040" y="1830240"/>
            <a:ext cx="276192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ик Пет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Нафаня\My Documents\My Pictures\2012-05-25\Изображение 004.bmp"/>
          <p:cNvPicPr/>
          <p:nvPr/>
        </p:nvPicPr>
        <p:blipFill>
          <a:blip r:embed="rId1"/>
          <a:stretch/>
        </p:blipFill>
        <p:spPr>
          <a:xfrm>
            <a:off x="2228760" y="2316240"/>
            <a:ext cx="46864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рмит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Нафаня\My Documents\My Pictures\2012-05-25\Изображение 005.bmp"/>
          <p:cNvPicPr/>
          <p:nvPr/>
        </p:nvPicPr>
        <p:blipFill>
          <a:blip r:embed="rId1"/>
          <a:stretch/>
        </p:blipFill>
        <p:spPr>
          <a:xfrm>
            <a:off x="1838160" y="2201760"/>
            <a:ext cx="5467680" cy="33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1-13T15:04:11Z</dcterms:modified>
  <cp:revision>21</cp:revision>
  <dc:subject/>
  <dc:title>Путешествие по санкт-петербургу</dc:title>
</cp:coreProperties>
</file>