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837-024F-4C06-B005-A2889BE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44F-4C5B-4D31-A7BA-A4B5B5D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82B-1978-47F6-9A46-2BCE66E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7B5-40F2-4485-AF8A-E97C21A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27D-5A10-4C39-A62D-77370B8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985-9BA5-49C6-BFA5-40D66F0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0A6-2F48-443A-9267-A9C4720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0F2-2A54-4DFF-BAA3-583326FF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827-3452-44EE-8AE0-A9DA46E6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261-2C79-4937-BCE2-E04C267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5CE-314D-4CF6-A3FF-93231D2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3AD-5796-4106-B74F-91DDB65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DCB3-9E31-49A5-B690-C0D5D41076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по Санкт-Петербург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Окружающий ми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3 клас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Перспективная 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Учитель Кокшарова Надежда Владимир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МКОУ Катайская средня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общеобразовательная школа №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ими достопримечательностями города вы познаком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л его основател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расположен город Санкт-Петербур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его велел построить Петр Перв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тература, использованная для создания презент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това О. Н. Окружающий мир 3 кл.: Учебник – М.: Академкнига/Учебник, 2010.- Часть 2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това О. Н. Окружающий мир: Методическое пособие 3 кл. – М.: Академкнига/Учебник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горьева Е., Гуглина Е. Чудеса света:Энциклопедия. –М.: ЗАО РОСМЭН-ПРЕСС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циклопедия царей и императоров. Россия. 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в.- РОО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едный всад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Нафаня\My Documents\My Pictures\2012-05-25\Изображение.bmp"/>
          <p:cNvPicPr/>
          <p:nvPr/>
        </p:nvPicPr>
        <p:blipFill>
          <a:blip r:embed="rId1"/>
          <a:stretch/>
        </p:blipFill>
        <p:spPr>
          <a:xfrm>
            <a:off x="2128680" y="2214720"/>
            <a:ext cx="488664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р 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Нафаня\My Documents\My Pictures\Изображение\Изображение 006.bmp"/>
          <p:cNvPicPr/>
          <p:nvPr/>
        </p:nvPicPr>
        <p:blipFill>
          <a:blip r:embed="rId1"/>
          <a:stretch/>
        </p:blipFill>
        <p:spPr>
          <a:xfrm>
            <a:off x="2805120" y="2185920"/>
            <a:ext cx="35337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ние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берегах какой реки построен гор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веке был основан Санкт-Петербур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л основателем г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ропавловская креп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Нафаня\My Documents\My Pictures\2012-05-25\Изображение 001.bmp"/>
          <p:cNvPicPr/>
          <p:nvPr/>
        </p:nvPicPr>
        <p:blipFill>
          <a:blip r:embed="rId1"/>
          <a:stretch/>
        </p:blipFill>
        <p:spPr>
          <a:xfrm>
            <a:off x="909720" y="2268360"/>
            <a:ext cx="732456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Санкт-Петербур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якорь означает, что город – речной пор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якорь показывает, что город имеет выход к мор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то указывает скипет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миралте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Нафаня\My Documents\My Pictures\2012-05-25\Изображение 003.bmp"/>
          <p:cNvPicPr/>
          <p:nvPr/>
        </p:nvPicPr>
        <p:blipFill>
          <a:blip r:embed="rId1"/>
          <a:stretch/>
        </p:blipFill>
        <p:spPr>
          <a:xfrm>
            <a:off x="3191040" y="1830240"/>
            <a:ext cx="27619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ик Пет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Нафаня\My Documents\My Pictures\2012-05-25\Изображение 004.bmp"/>
          <p:cNvPicPr/>
          <p:nvPr/>
        </p:nvPicPr>
        <p:blipFill>
          <a:blip r:embed="rId1"/>
          <a:stretch/>
        </p:blipFill>
        <p:spPr>
          <a:xfrm>
            <a:off x="2228760" y="2316240"/>
            <a:ext cx="46864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рми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Нафаня\My Documents\My Pictures\2012-05-25\Изображение 005.bmp"/>
          <p:cNvPicPr/>
          <p:nvPr/>
        </p:nvPicPr>
        <p:blipFill>
          <a:blip r:embed="rId1"/>
          <a:stretch/>
        </p:blipFill>
        <p:spPr>
          <a:xfrm>
            <a:off x="1838160" y="2201760"/>
            <a:ext cx="5467680" cy="33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1-13T15:04:11Z</dcterms:modified>
  <cp:revision>21</cp:revision>
  <dc:subject/>
  <dc:title>Путешествие по санкт-петербургу</dc:title>
</cp:coreProperties>
</file>