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935-BF36-4711-A24B-FC0B4FC4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A91F-CA3C-4DBB-96D4-1B80E060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B82-B532-42B9-A041-717BC3DA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4F98-6F78-4EA6-948A-1FF41E47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FD7-2330-4800-AB10-BF32ADC7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2BA-2417-4B9F-8246-A5F1810E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3DC-9179-4D5D-823C-62AA12B1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693-1BCD-465D-8772-0E4CB333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A9A-9BCC-489B-99B7-D1222B02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0ED-1F6B-4DCC-8309-D85AD24D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7359-E565-4149-877C-A0FDDB0F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0C1-7B2F-40C3-85C7-CF2CA0E1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C98D-F976-4244-AFAE-60DAC4B47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лово о В.М. Шукшин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sh"/>
          <p:cNvPicPr/>
          <p:nvPr/>
        </p:nvPicPr>
        <p:blipFill>
          <a:blip r:embed="rId1"/>
          <a:stretch/>
        </p:blipFill>
        <p:spPr>
          <a:xfrm>
            <a:off x="609480" y="1828800"/>
            <a:ext cx="2616480" cy="4129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3962520" y="409824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ткройте же, откройте людям исти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 России люди русского хотя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rcRect l="0" t="53218" r="0" b="8155"/>
          <a:stretch/>
        </p:blipFill>
        <p:spPr>
          <a:xfrm>
            <a:off x="228600" y="3200400"/>
            <a:ext cx="575316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rcRect l="0" t="0" r="0" b="51074"/>
          <a:stretch/>
        </p:blipFill>
        <p:spPr>
          <a:xfrm>
            <a:off x="5029200" y="228600"/>
            <a:ext cx="365760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362320" y="0"/>
            <a:ext cx="463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rcRect l="0" t="40433" r="0" b="0"/>
          <a:stretch/>
        </p:blipFill>
        <p:spPr>
          <a:xfrm>
            <a:off x="1143000" y="274680"/>
            <a:ext cx="66294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rcRect l="0" t="0" r="0" b="59571"/>
          <a:stretch/>
        </p:blipFill>
        <p:spPr>
          <a:xfrm>
            <a:off x="0" y="228600"/>
            <a:ext cx="899172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40798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rcRect l="0" t="60582" r="0" b="0"/>
          <a:stretch/>
        </p:blipFill>
        <p:spPr>
          <a:xfrm>
            <a:off x="304920" y="2133720"/>
            <a:ext cx="5429160" cy="333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rcRect l="9060" t="0" r="6798" b="39422"/>
          <a:stretch/>
        </p:blipFill>
        <p:spPr>
          <a:xfrm>
            <a:off x="5334120" y="0"/>
            <a:ext cx="3595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4208400" y="57240"/>
            <a:ext cx="4935600" cy="6705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76320" y="1188720"/>
            <a:ext cx="4190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т взбегу я на холм поднебесный И, присвеченный радостью дн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крикну: -Люди! Поймите, вы - песни!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они не поверят в мен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, пронизан сочувствием лют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- лицо над землей наклоня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икну: - Люди! Поймите, вы - люди!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они не постигнут меня... Грудью рухнув на холм поднебес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последней любви, из ог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 сложу им прощальную песню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они позабудут ме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77</cp:lastModifiedBy>
  <dcterms:modified xsi:type="dcterms:W3CDTF">2013-01-11T19:21:4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