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A14-3B9E-4A39-ACD8-08A2A604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6CB-6A35-42A3-8550-D9030A6F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59D-3065-4D2C-9FDA-97FC066B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BE0-FB47-4B09-898C-A4999101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55D-EF1A-47E4-82CF-31D954B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2AC-8DF2-4386-BBBC-F96051BA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156-E509-4683-9552-3DEBFFA4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C39-BF7C-44F6-9FF5-C8E48BE5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CBF-EAB2-4DD7-9D3A-2F1AADB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77E-8F0D-4487-A435-567414A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EED-655A-42D1-93B3-6434A7AB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F07-04EA-4C0D-ACA5-2EFD539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BB5-098F-4862-9190-8AED9915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лово о В.М. Шукши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h"/>
          <p:cNvPicPr/>
          <p:nvPr/>
        </p:nvPicPr>
        <p:blipFill>
          <a:blip r:embed="rId1"/>
          <a:stretch/>
        </p:blipFill>
        <p:spPr>
          <a:xfrm>
            <a:off x="609480" y="1828800"/>
            <a:ext cx="2616480" cy="4129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3962520" y="409824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ткройте же, откройте людям ист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России люди русского хотя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rcRect l="0" t="53218" r="0" b="8155"/>
          <a:stretch/>
        </p:blipFill>
        <p:spPr>
          <a:xfrm>
            <a:off x="228600" y="3200400"/>
            <a:ext cx="575316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rcRect l="0" t="0" r="0" b="51074"/>
          <a:stretch/>
        </p:blipFill>
        <p:spPr>
          <a:xfrm>
            <a:off x="5029200" y="228600"/>
            <a:ext cx="36576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62320" y="0"/>
            <a:ext cx="463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rcRect l="0" t="40433" r="0" b="0"/>
          <a:stretch/>
        </p:blipFill>
        <p:spPr>
          <a:xfrm>
            <a:off x="1143000" y="274680"/>
            <a:ext cx="66294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0" r="0" b="59571"/>
          <a:stretch/>
        </p:blipFill>
        <p:spPr>
          <a:xfrm>
            <a:off x="0" y="228600"/>
            <a:ext cx="89917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0798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0" t="60582" r="0" b="0"/>
          <a:stretch/>
        </p:blipFill>
        <p:spPr>
          <a:xfrm>
            <a:off x="304920" y="2133720"/>
            <a:ext cx="5429160" cy="33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rcRect l="9060" t="0" r="6798" b="39422"/>
          <a:stretch/>
        </p:blipFill>
        <p:spPr>
          <a:xfrm>
            <a:off x="5334120" y="0"/>
            <a:ext cx="35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08400" y="57240"/>
            <a:ext cx="493560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6320" y="1188720"/>
            <a:ext cx="4190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т взбегу я на холм поднебесный И, присвеченный радостью д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крикну: -Люди! Поймите, вы - песни!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не поверят в мен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, пронизан сочувствием лю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- лицо над землей наклоня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икну: - Люди! Поймите, вы - люди!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не постигнут меня... Грудью рухнув на холм поднебе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 последней любви, из ог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сложу им прощальную песню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они позабудут ме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3-01-11T19:21:4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