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76E-27FC-4F00-8511-DE9316F8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AFD-A3D3-4BE5-8945-35A8CEC0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A83-AD5C-4A5D-BEE3-F0E62B5A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43D-1AF3-4AD5-A933-D429DD3C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A4A-2338-4EBC-B464-3A64E917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A7C-A8E5-43F2-9472-BE796ABE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8FF-F8B1-460B-9F8F-3FE85AD4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A3A-60D7-4CE3-872E-1B2B956B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997-30B0-49D3-95D0-93CA449B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2B6-66A6-4F57-9999-754E2E8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DF1-4ED3-49C0-9AD6-3AFF7DC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46F-D1C4-4839-B8A7-7B37ACB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7137-650C-4A3C-9125-62E452381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108000" y="1341360"/>
            <a:ext cx="4788000" cy="3819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3280" y="404640"/>
            <a:ext cx="50371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9400" y="0"/>
            <a:ext cx="6166080" cy="666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16000" y="115920"/>
            <a:ext cx="6100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оединение части вида и части разре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440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419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48160" y="692280"/>
            <a:ext cx="4695840" cy="560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0701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2895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3:24:32Z</dcterms:created>
  <dc:creator>Admin</dc:creator>
  <dc:description/>
  <dc:language>en-US</dc:language>
  <cp:lastModifiedBy>Admin</cp:lastModifiedBy>
  <dcterms:modified xsi:type="dcterms:W3CDTF">2013-01-08T04:24:14Z</dcterms:modified>
  <cp:revision>2</cp:revision>
  <dc:subject/>
  <dc:title>Слайд 1</dc:title>
</cp:coreProperties>
</file>