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9B8-3D8D-487F-9F1A-BC20ED9E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D41-F9A2-4E17-A361-A030CAF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023-E4A7-485E-BC34-A29416C7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983-20F0-4DF1-93F1-B68CCAEF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A8F-72CA-4058-A3D4-39A11A5F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BEC-C1A6-455E-B98B-88578605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4F2-6CF1-4585-9D51-B550CC9D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10F-2E09-4DEA-A3E3-7D2ED68E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2B0-60C7-478E-8891-2205E87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A11-59A1-459C-BDAA-A827ED2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9F6-4531-4705-809D-0DB01FA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420-8309-4998-991A-6221A26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C92-4DDC-44EE-858E-DBEF0B487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08000" y="1341360"/>
            <a:ext cx="4788000" cy="3819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50371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9400" y="0"/>
            <a:ext cx="6166080" cy="666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16000" y="115920"/>
            <a:ext cx="6100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оединение части вида и части разре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440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419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48160" y="692280"/>
            <a:ext cx="4695840" cy="560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070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2895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24:32Z</dcterms:created>
  <dc:creator>Admin</dc:creator>
  <dc:description/>
  <dc:language>en-US</dc:language>
  <cp:lastModifiedBy>Admin</cp:lastModifiedBy>
  <dcterms:modified xsi:type="dcterms:W3CDTF">2013-01-08T04:24:14Z</dcterms:modified>
  <cp:revision>2</cp:revision>
  <dc:subject/>
  <dc:title>Слайд 1</dc:title>
</cp:coreProperties>
</file>