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992D-E062-4C0B-8EAB-D282DBAD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46B9-F5B9-46D1-9EAD-7F2A3FCB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ADC4-FA01-431E-8B45-A7C7296E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7FA-7B54-4163-9FB5-B5A17C8C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502-95F2-4FEA-BA67-83360155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9783-67C3-4297-B1B3-11F52CC4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9F7D-D361-40F1-9BDB-312DBB6E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E4B-B554-42B7-852B-D74D1837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FD12-EE00-4289-B586-B597E287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A482-3319-457F-B573-288536AA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7B43-D890-4E93-98F7-C6528464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08CB-2458-48FF-9B4F-284513E0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D80A-9CF1-457A-8CC0-C48A2E202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СРЕЗЫ И ВЫРЕЗЫ НА ГЕОМЕТРИЧЕСКИХ ТЕЛ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64000" y="2205000"/>
            <a:ext cx="2686320" cy="2838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2739" t="0" r="2739" b="3950"/>
          <a:stretch/>
        </p:blipFill>
        <p:spPr>
          <a:xfrm>
            <a:off x="1187280" y="2492280"/>
            <a:ext cx="2486160" cy="2625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88000" y="530064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5300640"/>
            <a:ext cx="403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йтишина Л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 технологии МОАУГ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0" r="0" b="837"/>
          <a:stretch/>
        </p:blipFill>
        <p:spPr>
          <a:xfrm>
            <a:off x="108000" y="836640"/>
            <a:ext cx="9036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-612720" y="1125360"/>
            <a:ext cx="9936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32000" cy="1978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050920" y="1790640"/>
            <a:ext cx="76294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324000" y="1773360"/>
            <a:ext cx="9468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08360" cy="2811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908000" y="2600280"/>
            <a:ext cx="8001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036000" cy="191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91440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rcRect l="0" t="0" r="0" b="2536"/>
          <a:stretch/>
        </p:blipFill>
        <p:spPr>
          <a:xfrm>
            <a:off x="0" y="1504800"/>
            <a:ext cx="914400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757080" y="455760"/>
            <a:ext cx="1015344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1:14:34Z</dcterms:created>
  <dc:creator>Admin</dc:creator>
  <dc:description/>
  <dc:language>en-US</dc:language>
  <cp:lastModifiedBy>Admin</cp:lastModifiedBy>
  <dcterms:modified xsi:type="dcterms:W3CDTF">2013-01-13T10:58:16Z</dcterms:modified>
  <cp:revision>3</cp:revision>
  <dc:subject/>
  <dc:title>СРЕЗЫ И ВЫРЕЗЫ НА ГЕОМЕТРИЧЕСКИХ ТЕЛАХ</dc:title>
</cp:coreProperties>
</file>