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A31-249C-4EFC-B4AA-46305A53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FDB-CD80-4482-BE89-FB6BB5C9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F9E-D085-45C7-8BDA-7E826C18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699-F860-4F47-B25D-4DCED9D6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619-ED4D-42B4-AA7F-2D9B2BDB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249-4F74-46B3-A915-28E0E882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78F-EB50-4191-914D-87A0B38E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60F-0F6B-49F6-BD42-1A73FA08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472-1669-4034-B28B-A5144BD5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736-3FB3-40C4-8AB1-25F901FC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355-26E7-4CD3-99D2-2399BCE3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59B-F13A-44ED-90DF-9D2B9ACE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5962-85B5-401D-810E-7D3F636A8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СРЕЗЫ И ВЫРЕЗЫ НА ГЕОМЕТРИЧЕСКИХ ТЕЛ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2686320" cy="2838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2739" t="0" r="2739" b="3950"/>
          <a:stretch/>
        </p:blipFill>
        <p:spPr>
          <a:xfrm>
            <a:off x="1187280" y="2492280"/>
            <a:ext cx="2486160" cy="2625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88000" y="530064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5300640"/>
            <a:ext cx="403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йтишин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технологии МОАУГ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0" r="0" b="837"/>
          <a:stretch/>
        </p:blipFill>
        <p:spPr>
          <a:xfrm>
            <a:off x="108000" y="836640"/>
            <a:ext cx="903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612720" y="1125360"/>
            <a:ext cx="9936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32000" cy="197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050920" y="1790640"/>
            <a:ext cx="76294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324000" y="1773360"/>
            <a:ext cx="9468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08360" cy="281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08000" y="2600280"/>
            <a:ext cx="8001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036000" cy="191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9144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0" t="0" r="0" b="2536"/>
          <a:stretch/>
        </p:blipFill>
        <p:spPr>
          <a:xfrm>
            <a:off x="0" y="1504800"/>
            <a:ext cx="91440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757080" y="455760"/>
            <a:ext cx="1015344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1:14:34Z</dcterms:created>
  <dc:creator>Admin</dc:creator>
  <dc:description/>
  <dc:language>en-US</dc:language>
  <cp:lastModifiedBy>Admin</cp:lastModifiedBy>
  <dcterms:modified xsi:type="dcterms:W3CDTF">2013-01-13T10:58:16Z</dcterms:modified>
  <cp:revision>3</cp:revision>
  <dc:subject/>
  <dc:title>СРЕЗЫ И ВЫРЕЗЫ НА ГЕОМЕТРИЧЕСКИХ ТЕЛАХ</dc:title>
</cp:coreProperties>
</file>