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5171-5BFC-45D4-9C42-9AD34FED8C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B2F6-01E1-4F3E-9D48-0B7248B77B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DABD-701A-49EF-A56F-8A0B9B92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687-03D9-4869-904E-C85FE390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3A3-95EE-4CB3-9226-D0EC7EC6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BD8-215F-490A-9E78-4C1D2DCA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6AA4-7D72-4AEB-87A2-BD95CB78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B12C-76B6-4494-9C2F-BC4C6981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25DF-FBA8-4515-9341-81436B7E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0DF7-6A4F-44E9-9BF9-23C909A4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D1C9-16D3-443A-99E4-6AAAA9F3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BDB2-18DE-445A-8E63-3642AE23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6A58-B5B4-485D-B708-759F5A73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A08F-2190-4C67-8F3C-FA1602EA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C786-A7D1-4EE1-9418-B028A89D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AE8A-5AFF-400A-AC6A-A3E219BF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EE91-465C-4918-AF39-4718ED39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BE78-9470-4942-AC84-66C2A96C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05C3-1C08-47D2-B194-87095895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BC9-89BB-4A6B-8C30-149CFC88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7D3D-804D-4097-B5B0-B3FEC808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F49-CCB8-4A2B-98F7-C6DC3CA4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B90-6254-4B76-89C8-89924ACF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E47-5A13-4235-951B-6A231B1E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D966-92F0-4738-9F11-3948618E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B859-0876-4709-BC91-D85872F5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BB05-F98E-40EB-A318-BCAC10623FF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CBD2-E426-4E90-AF34-6A46CF7DF75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14.xml"/><Relationship Id="rId4" Type="http://schemas.openxmlformats.org/officeDocument/2006/relationships/slide" Target="slide18.xml"/><Relationship Id="rId5" Type="http://schemas.openxmlformats.org/officeDocument/2006/relationships/slide" Target="slide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" Target="slide24.xml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28436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боту выполнил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ченица 5 Б класс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редней школы № 2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остюхина Кристин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WordArt 8"/>
          <p:cNvSpPr txBox="1"/>
          <p:nvPr/>
        </p:nvSpPr>
        <p:spPr>
          <a:xfrm>
            <a:off x="468360" y="2205000"/>
            <a:ext cx="838188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ринные  меры 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ли старинная математика </a:t>
            </a:r>
            <a:endParaRPr b="0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AutoShape 5">
            <a:hlinkClick r:id="" action="ppaction://hlinkshowjump?jump=las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~PP2522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0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еры объемов сыпучих те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четверть = 8 четверикам (209,91 л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четверик = 8 гарнцам (26,24 л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гарнец = 3,28 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еры счета листов бумаг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стопа =20 дестям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десть = 24 листам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десть (метрическая)     = 50 листа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6" descr="Картинка 1 из 732"/>
          <p:cNvPicPr/>
          <p:nvPr/>
        </p:nvPicPr>
        <p:blipFill>
          <a:blip r:embed="rId1"/>
          <a:stretch/>
        </p:blipFill>
        <p:spPr>
          <a:xfrm>
            <a:off x="4500720" y="1773360"/>
            <a:ext cx="3958920" cy="37717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>
            <a:hlinkClick r:id="" action="ppaction://hlinkshowjump?jump=nextslide"/>
          </p:cNvPr>
          <p:cNvSpPr/>
          <p:nvPr/>
        </p:nvSpPr>
        <p:spPr>
          <a:xfrm>
            <a:off x="8101080" y="5877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таринные денежные единиц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6600" y="1852200"/>
            <a:ext cx="7196040" cy="29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нежные единицы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етвертной = 25 рубле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олотая монета = в 5 или 10 руб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убль = 2 полтины = 100 копее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Целковый - разговорное название металлического рубл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лтина, полтинник = 50 копеек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етвертак = 25 копеек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вугривенный = 20 коп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5" descr="Картинка 32 из 47584"/>
          <p:cNvPicPr/>
          <p:nvPr/>
        </p:nvPicPr>
        <p:blipFill>
          <a:blip r:embed="rId1"/>
          <a:stretch/>
        </p:blipFill>
        <p:spPr>
          <a:xfrm>
            <a:off x="4140360" y="3933720"/>
            <a:ext cx="4066920" cy="268308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Запи647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600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ятиалтынный = 15 копеек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ятак = 5 коп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лтын = 3 копейк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ривенник = 10 копеек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чка = 1 полушк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 деньги = 1 копейк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/2 медной деньги (полушка) = 1 копейк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рош (медный  г р о ш) = 2 коп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лушка (иначе - полуденьга) приравнивалась четверти копейки. Это самая мелкая единица в старинном денежном счёте. С 1700 г. чеканились полушки из мед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5" descr="i?id=337546167-03-72"/>
          <p:cNvPicPr/>
          <p:nvPr/>
        </p:nvPicPr>
        <p:blipFill>
          <a:blip r:embed="rId1"/>
          <a:stretch/>
        </p:blipFill>
        <p:spPr>
          <a:xfrm>
            <a:off x="5003640" y="4581360"/>
            <a:ext cx="3084840" cy="160344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Картинка 49 из 172496"/>
          <p:cNvPicPr/>
          <p:nvPr/>
        </p:nvPicPr>
        <p:blipFill>
          <a:blip r:embed="rId1"/>
          <a:stretch/>
        </p:blipFill>
        <p:spPr>
          <a:xfrm>
            <a:off x="3348000" y="3209760"/>
            <a:ext cx="5076720" cy="36482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вод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которые единицы, например: почка, полушка, четвертак, гарнец, берковец, линия ушли  в прошлое, а такие как пятак, миля, полтинник, рубль остались в настояще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7775640" y="64911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задач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>
            <a:hlinkClick r:id="" action="ppaction://hlinkshowjump?jump=nex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анны663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21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280" y="1125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адача №1 Влезет или нет?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Это старинная головоломка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ырежьте в листе плотной бумаги круглую дырку и предложит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му-нибудь просунуть в нее монетку, большую по диаметру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дрывать бумагу или каким-то образом сгибать и ломать, а такж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спиливать монету - нельзя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твет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ложите лист бумаги "кульком", дыра должна находиться в самом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изу. Затем возьмите бумагу обеими руками и попросите кого-нибудь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росить монетку в "кулек" - пусть она упадет прямо на дно и выглянет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ижним концом из дырки. После этого слегка приподнимите углы "кулька" –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этого окажется достаточно, чтобы отверстие увеличилось и монетка через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екунду-другую вывалилась в дырку. При этом бумага осталась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поврежденной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5" descr="i?id=153411652-24-72"/>
          <p:cNvPicPr/>
          <p:nvPr/>
        </p:nvPicPr>
        <p:blipFill>
          <a:blip r:embed="rId1"/>
          <a:stretch/>
        </p:blipFill>
        <p:spPr>
          <a:xfrm>
            <a:off x="5508720" y="4437000"/>
            <a:ext cx="2868480" cy="216072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Запи694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410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 №2. Два отца и два сына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оворят, что два отца и два сына нашли на дороге, ведущей в Бомбей, три рупии (серебряные монеты) и быстро поделили их между собой, причем каждому досталось по монете. Как им удалось справиться с задачей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: Путники смогли разделить находку поровну, потому что их было трое: дед, отец и сын (или по-другому - два отца и два сына)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5" descr="i?id=44161690-47-72"/>
          <p:cNvPicPr/>
          <p:nvPr/>
        </p:nvPicPr>
        <p:blipFill>
          <a:blip r:embed="rId1"/>
          <a:stretch/>
        </p:blipFill>
        <p:spPr>
          <a:xfrm>
            <a:off x="5219640" y="4653000"/>
            <a:ext cx="2509920" cy="202392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Картинка 1 из 142714"/>
          <p:cNvPicPr/>
          <p:nvPr/>
        </p:nvPicPr>
        <p:blipFill>
          <a:blip r:embed="rId1"/>
          <a:stretch/>
        </p:blipFill>
        <p:spPr>
          <a:xfrm>
            <a:off x="3635280" y="3495600"/>
            <a:ext cx="5077080" cy="33624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адача №3. Как поделить?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разделить 5 яблок между пятью лицами так, чтобы каждый получил по яблоку и одно яблоко осталось в корзин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вет: Один человек берет яблоко вместе с корзиной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AutoShape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Картинка 32 из 172496"/>
          <p:cNvPicPr/>
          <p:nvPr/>
        </p:nvPicPr>
        <p:blipFill>
          <a:blip r:embed="rId1"/>
          <a:stretch/>
        </p:blipFill>
        <p:spPr>
          <a:xfrm>
            <a:off x="4211640" y="30481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вод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старину были задачи связанные со случаями из повседневно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7380360" y="6524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задач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>
            <a:hlinkClick r:id="" action="ppaction://hlinkshowjump?jump=nex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Запи725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25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Что такое верста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000" y="4762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РСТА - старорусская путевая мера (её раннее название - ''поприще''). Этим словом, первоначально называли расстояние, пройденное от одного поворота плуга до другого во время пахоты. Два названия долгое время употреблялись параллельно, как синонимы.</a:t>
            </a: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"Верстой" также назывался верстовой столб на дорог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личина версты неоднократно менялась в зависимости от числа сажен, входивших в неё, и величины сажени. Уложением 1649 года была установлена "межевая верста" в 1 тысячу саженей. Позже, в XVIII веке наряду с ней стала использоваться и "путевая верста" в 500 сажене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6" descr="Картинка 8 из 47912"/>
          <p:cNvPicPr/>
          <p:nvPr/>
        </p:nvPicPr>
        <p:blipFill>
          <a:blip r:embed="rId1"/>
          <a:stretch/>
        </p:blipFill>
        <p:spPr>
          <a:xfrm>
            <a:off x="4643280" y="476280"/>
            <a:ext cx="3525840" cy="638172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Запи741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31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 сажень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ажень,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старая русская мера длины, впервые упоминающаяся в русских источниках в начале 11 в. В 11—17 вв. встречалась С. в 152 и в 176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см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Это была так называемая прямая сажень, определявшаяся размахом рук человека от конца пальцев одной руки до конца пальцев другой. Так называемая косая сажень — размером в 216 и 248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см —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пределялась расстоянием от пальцев ноги до конца пальцев руки, вытянутой по диагонал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Picture 5" descr="Картинка 4 из 11602"/>
          <p:cNvPicPr/>
          <p:nvPr/>
        </p:nvPicPr>
        <p:blipFill>
          <a:blip r:embed="rId1"/>
          <a:stretch/>
        </p:blipFill>
        <p:spPr>
          <a:xfrm>
            <a:off x="4140360" y="1844640"/>
            <a:ext cx="4370400" cy="430524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Запи756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15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Картинка 17 из 404561"/>
          <p:cNvPicPr/>
          <p:nvPr/>
        </p:nvPicPr>
        <p:blipFill>
          <a:blip r:embed="rId1"/>
          <a:stretch/>
        </p:blipFill>
        <p:spPr>
          <a:xfrm>
            <a:off x="5524560" y="304812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своем проекте я исследовала старинные меры, которые канули в лета, а какие используются и по сей день в разных странах, где кроме математики находят свое примен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7">
            <a:hlinkClick r:id="" action="ppaction://hlinkshowjump?jump=nextslide"/>
          </p:cNvPr>
          <p:cNvSpPr/>
          <p:nvPr/>
        </p:nvSpPr>
        <p:spPr>
          <a:xfrm>
            <a:off x="8244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Запи538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8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7" descr="a_9a3946fd"/>
          <p:cNvPicPr/>
          <p:nvPr/>
        </p:nvPicPr>
        <p:blipFill>
          <a:blip r:embed="rId1"/>
          <a:stretch/>
        </p:blipFill>
        <p:spPr>
          <a:xfrm>
            <a:off x="0" y="3616200"/>
            <a:ext cx="3057480" cy="32418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560" y="2420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ывод :верста и сажень – единицы для измерения расстояни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6948360" y="630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задач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>
            <a:hlinkClick r:id="" action="ppaction://hlinkshowjump?jump=nex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Запи772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410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словицы и поговорки, относящиеся к старым русским мера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словицы и поговорки, относящиеся к старым русским мера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ез весу, без меры нет и ве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ез меры и лаптя не сплетеш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дром ветра не смеря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с да мера до греха не допустят (т.е. д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мана, ошибки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радости меру  знай, в обиде — веру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теря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е хорошо в мер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якое дело мера красит, она не солж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Запи788.WAV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470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у вера, хлебу мера, а деньгам сче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ршин да кафтан, да два на заплат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орода с вершок, а слов с мешо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рать — врет семь верст до небес, и все лесо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молодца (милого дружка) семь верст не околиц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 семь верст комара искали, а комар — на нос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аршин бороды, да ума на пяд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три аршина в землю видит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и пяди не уступл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 мысли до мысли пять тысяч верст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т.е. их почти нет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хотник за семь верст ходит кисел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леб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Picture 7" descr="Картинка 4 из 172496"/>
          <p:cNvPicPr/>
          <p:nvPr/>
        </p:nvPicPr>
        <p:blipFill>
          <a:blip r:embed="rId1"/>
          <a:stretch/>
        </p:blipFill>
        <p:spPr>
          <a:xfrm>
            <a:off x="5940360" y="285264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Картинка 52 из 172496"/>
          <p:cNvPicPr/>
          <p:nvPr/>
        </p:nvPicPr>
        <p:blipFill>
          <a:blip r:embed="rId1"/>
          <a:stretch/>
        </p:blipFill>
        <p:spPr>
          <a:xfrm>
            <a:off x="3851280" y="3429000"/>
            <a:ext cx="3809880" cy="3240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вод: старинные пословицы рассказывают о том , что если не будет единиц измерения , не будет и счёта ,различных изделий (например :фартук надо выкроить , а чтобы выкроить надо измерить размеры.) и т.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7308720" y="652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задач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">
            <a:hlinkClick r:id="" action="ppaction://hlinkshowjump?jump=nex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Запи819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300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109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сследов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" name="Object 5" descr=""/>
          <p:cNvPicPr/>
          <p:nvPr/>
        </p:nvPicPr>
        <p:blipFill>
          <a:blip r:embed="rId1"/>
          <a:stretch/>
        </p:blipFill>
        <p:spPr>
          <a:xfrm>
            <a:off x="1357200" y="1357200"/>
            <a:ext cx="6096240" cy="4554720"/>
          </a:xfrm>
          <a:prstGeom prst="rect">
            <a:avLst/>
          </a:prstGeom>
          <a:ln w="0">
            <a:noFill/>
          </a:ln>
        </p:spPr>
      </p:pic>
      <p:pic>
        <p:nvPicPr>
          <p:cNvPr id="258" name="Запи819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6489720" y="61768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задач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610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i?id=392166640-64-72"/>
          <p:cNvPicPr/>
          <p:nvPr/>
        </p:nvPicPr>
        <p:blipFill>
          <a:blip r:embed="rId1"/>
          <a:stretch/>
        </p:blipFill>
        <p:spPr>
          <a:xfrm>
            <a:off x="6269040" y="4365720"/>
            <a:ext cx="1809720" cy="24922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зультат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9280" y="1042920"/>
            <a:ext cx="7696440" cy="50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Я узнала о том, как измеряли длину в разных странах(включая нашу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Я научилась решать старинные задач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Я узнала, что такое верста и сажен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Я познакомилась со старинными пословица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следовала точность некоторых старинных и современных величин   и       измерений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ctr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вела исслед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единиц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мерения, канувших в лета, и оставшихся с н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AutoShape 7">
            <a:hlinkClick r:id="" action="ppaction://hlinkshowjump?jump=nextslide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Запи835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50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Литература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// http://www.ville-cournonterral.fr/images/structure/aidodevoirs.jp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456spb.edusite.ru/images/123kopiya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domonetio.com/sites/default/files/users/jomorlo/faq37.jp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images.yandex.ru/yandsearch?p=38&amp;text=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картинки%20вопросы&amp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mg_url=farm5.static.flickr.com%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 www.google.com/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yandex.ru/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otvet.mail.ru/question/57138795/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8" descr="i?id=381350894-01-72"/>
          <p:cNvPicPr/>
          <p:nvPr/>
        </p:nvPicPr>
        <p:blipFill>
          <a:blip r:embed="rId1"/>
          <a:stretch/>
        </p:blipFill>
        <p:spPr>
          <a:xfrm>
            <a:off x="2987640" y="4076640"/>
            <a:ext cx="3013200" cy="2249640"/>
          </a:xfrm>
          <a:prstGeom prst="rect">
            <a:avLst/>
          </a:prstGeom>
          <a:ln w="0">
            <a:noFill/>
          </a:ln>
        </p:spPr>
      </p:pic>
      <p:sp>
        <p:nvSpPr>
          <p:cNvPr id="267" name="WordArt 5"/>
          <p:cNvSpPr txBox="1"/>
          <p:nvPr/>
        </p:nvSpPr>
        <p:spPr>
          <a:xfrm>
            <a:off x="1042920" y="981000"/>
            <a:ext cx="59007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AutoShape 6">
            <a:hlinkClick r:id="" action="ppaction://hlinkshowjump?jump=firstslide"/>
          </p:cNvPr>
          <p:cNvSpPr/>
          <p:nvPr/>
        </p:nvSpPr>
        <p:spPr>
          <a:xfrm>
            <a:off x="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Запи850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2200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620280"/>
            <a:ext cx="3771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Собрать сведения о том, как измеряли длину в разных странах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Собрать сведения о русских мера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Познакомиться со старинными задач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Узнать больше об основных мерах длины(о версте и сажени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Расширить знания о старинных мера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Найти пословицы, относящиеся к русским мерам длин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7" action="ppaction://hlinksldjump"/>
              </a:rPr>
              <a:t>Исследование соотношения сантиметра к некоторым видам измерени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8" action="ppaction://hlinksldjump"/>
              </a:rPr>
              <a:t>Исследовать какие единицы канули в лета, а какие остались с н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Рисунок 6" descr="untitled.bmp"/>
          <p:cNvPicPr/>
          <p:nvPr/>
        </p:nvPicPr>
        <p:blipFill>
          <a:blip r:embed="rId9"/>
          <a:stretch/>
        </p:blipFill>
        <p:spPr>
          <a:xfrm>
            <a:off x="4572000" y="1989000"/>
            <a:ext cx="3809880" cy="326736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Запи553.WAV" descr=""/>
          <p:cNvPicPr/>
          <p:nvPr/>
        </p:nvPicPr>
        <p:blipFill>
          <a:blip r:embed="rId10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0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Картинка 1 из 156557"/>
          <p:cNvPicPr/>
          <p:nvPr/>
        </p:nvPicPr>
        <p:blipFill>
          <a:blip r:embed="rId1"/>
          <a:stretch/>
        </p:blipFill>
        <p:spPr>
          <a:xfrm>
            <a:off x="4284720" y="1628640"/>
            <a:ext cx="4236840" cy="43214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таринные меры в разных странах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пример, строители египетских пирамид эталоном длины считали локоть (расстояние от локтя до конца среднего пальца), древние арабы – волос из ослиной морды, англичане до сих пор пользуются королевским футом (в переводе с английского фут означает нога), равным длине ступни короля. ЛОКОТЬ равнялся длине руки от пальцев до локтя .Величина этой древнейшей меры длины, по разным источникам, составляла от 38 до 47 см. С 16-го века постепенно вытесняется аршином и в 19 веке почти не употребляется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Запи569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49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древности, мерой длины и веса всегда был человек: на сколько он протянет руку, сколько сможет поднять на плечи и т.д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истема древнерусских мер длины включала в себя следующие основные меры: версту, сажень, аршин, локоть, пядь и вершок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Старинные русские меры длины, веса, объёма"/>
          <p:cNvPicPr/>
          <p:nvPr/>
        </p:nvPicPr>
        <p:blipFill>
          <a:blip r:embed="rId1"/>
          <a:stretch/>
        </p:blipFill>
        <p:spPr>
          <a:xfrm>
            <a:off x="4788000" y="1052640"/>
            <a:ext cx="3547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066920" y="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далекие исторические времена человеку приходилось постепенно постигать не только искусство счета, но и измерений. Когда наш предок – древний, но уже мыслящий попытался найти для себя пещеру, он вынужден был соразмерить длину, ширину и высоту своего будущего убежища с собственным ростом. А ведь это и есть измерение. Изготовляя простейшие орудия труда, строя жилища, добывая пищу, возникает необходимость измерять расстояния, а затем площади, емкости, массу, время. Наш предок располагал только собственным ростом, длиной рук и ног. Если при счете человек пользовался пальцами рук и ног, то при измерении расстояний использовались руки и ноги. Не было народа, который не избрал бы свои единицы измер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6" descr="Картинка 50 из 977"/>
          <p:cNvPicPr/>
          <p:nvPr/>
        </p:nvPicPr>
        <p:blipFill>
          <a:blip r:embed="rId1"/>
          <a:stretch/>
        </p:blipFill>
        <p:spPr>
          <a:xfrm>
            <a:off x="395280" y="765000"/>
            <a:ext cx="3816360" cy="367200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Картинка 23 из 172496"/>
          <p:cNvPicPr/>
          <p:nvPr/>
        </p:nvPicPr>
        <p:blipFill>
          <a:blip r:embed="rId1"/>
          <a:stretch/>
        </p:blipFill>
        <p:spPr>
          <a:xfrm>
            <a:off x="5003640" y="3048120"/>
            <a:ext cx="2238480" cy="3809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ывод: в  разных странах применялись разные меры, например, волос ослиной морды и локоть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6732720" y="54450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Arial"/>
                <a:hlinkClick r:id="rId2" action="ppaction://hlinksldjump"/>
              </a:rPr>
              <a:t>К задач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Запи600.WAV" descr=""/>
          <p:cNvPicPr/>
          <p:nvPr/>
        </p:nvPicPr>
        <p:blipFill>
          <a:blip r:embed="rId3"/>
          <a:stretch/>
        </p:blipFill>
        <p:spPr>
          <a:xfrm>
            <a:off x="3780000" y="76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79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таринные меры длин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аблица старинных ме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ры длин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миля        = 7 верстам (7,47 км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верста      = 500 саженей (1,.067 км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сажень     = 3 аршина (2,13 м) или 7 фута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аршин      = 16 вершкам (0,71 м) или 28 дюйма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фут          = 12 дюймам (0,305 м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вершок    = 0,444 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дюйм       = линиям (25,4 мм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линия     = 10 точкам (2,54 мм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точка       = 0,254 м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4" descr="i?id=110098561-35-72"/>
          <p:cNvPicPr/>
          <p:nvPr/>
        </p:nvPicPr>
        <p:blipFill>
          <a:blip r:embed="rId1"/>
          <a:stretch/>
        </p:blipFill>
        <p:spPr>
          <a:xfrm>
            <a:off x="5651640" y="3716280"/>
            <a:ext cx="3011400" cy="240984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Запи616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29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3" descr="Картинка 241 из 6252"/>
          <p:cNvPicPr/>
          <p:nvPr/>
        </p:nvPicPr>
        <p:blipFill>
          <a:blip r:embed="rId1"/>
          <a:stretch/>
        </p:blipFill>
        <p:spPr>
          <a:xfrm>
            <a:off x="4716360" y="2781360"/>
            <a:ext cx="3810240" cy="35431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ра площад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десятина     = 2400 кв. саж. (1,09 га) или 3200 кв. саж. (1,46 га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ры веса (масс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берковец    = 10 пудам (163,8 кг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пуд            = 40 фунтам (16,4 кг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фунт          = 32 лотам = 96 золотникам = 9216 долям (409,5 г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лот            = 3 золотникам (12,8 г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золотник   = 96 долям (4,3 г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доля          = 0,044 г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AutoShape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5:22:51Z</dcterms:created>
  <dc:creator>ук</dc:creator>
  <dc:description/>
  <dc:language>en-US</dc:language>
  <cp:lastModifiedBy>Кабинет№406</cp:lastModifiedBy>
  <dcterms:modified xsi:type="dcterms:W3CDTF">2012-03-09T09:39:48Z</dcterms:modified>
  <cp:revision>34</cp:revision>
  <dc:subject/>
  <dc:title>Старинные русские меры или старинная математика </dc:title>
</cp:coreProperties>
</file>