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5DE4-244B-4F4E-B1E9-0B351B178E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E34-5687-448F-9AE7-80910B587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4F2-B136-463E-A4BA-811DEBC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297-0E4C-4238-A0ED-5CFB4F0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760-F75E-4175-BB0E-85CE82FA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8C2-F942-4C82-AB36-6907207B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813C-7487-4B4B-B342-8F78ED36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0BCB-34F5-4389-BA90-A942CA1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5CD6-C14B-4B7A-A7B0-DA37792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5F8-40DB-4284-BA8C-E24B61D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6630-2404-4829-A854-2803A58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A40F-B719-4939-BC34-29BA5EA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107-CFAC-4EFB-AEB5-969EA88A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40C-78EC-413D-9E93-C92943A2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1E8F-6148-4105-84D5-A3CC97C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715-9EBB-4F97-85A6-04387C8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0D0-DF83-4F82-A2FD-D5293DE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831-E6B6-4FF6-8E9D-4089D3EE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BFF-EEB2-4285-A7C5-89578578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4F5-B9DF-4C7C-84B6-33D53CF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785-613B-417F-9709-1DDACE6F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815-FFB7-42F2-BC11-D6CD070E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5E7-3410-46F0-A8B4-4AD8E84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FF6-A31D-438A-92FE-25E1E2D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F4A-5E23-4518-A6A1-BBF1D60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F84-D657-4C9A-9227-86DBE8C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2E33-9F75-49CC-BAAA-74D20F1C40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8C3-3CDC-4A04-BD75-A93A372C73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4.xml"/><Relationship Id="rId4" Type="http://schemas.openxmlformats.org/officeDocument/2006/relationships/slide" Target="slide18.xml"/><Relationship Id="rId5" Type="http://schemas.openxmlformats.org/officeDocument/2006/relationships/slide" Target="slide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2843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ца 5 Б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редней школы № 2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стюхина Кристи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468360" y="2205000"/>
            <a:ext cx="83818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ринные  меры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ли старинная математика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5">
            <a:hlinkClick r:id="" action="ppaction://hlinkshowjump?jump=la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~PP2522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ры объемов сыпучих те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четверть = 8 четверикам (209,91 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четверик = 8 гарнцам (26,24 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гарнец = 3,28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ры счета листов бума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стопа =20 дестя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десть = 24 листа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десть (метрическая)     = 50 лист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Картинка 1 из 732"/>
          <p:cNvPicPr/>
          <p:nvPr/>
        </p:nvPicPr>
        <p:blipFill>
          <a:blip r:embed="rId1"/>
          <a:stretch/>
        </p:blipFill>
        <p:spPr>
          <a:xfrm>
            <a:off x="4500720" y="1773360"/>
            <a:ext cx="3958920" cy="37717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аринные денежные едини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6600" y="1852200"/>
            <a:ext cx="7196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нежные единицы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твертной = 25 рубле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олотая монета = в 5 или 10 руб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бль = 2 полтины = 100 копее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лковый - разговорное название металлического руб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тина, полтинник = 50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твертак = 25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вугривенный = 20 коп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Картинка 32 из 47584"/>
          <p:cNvPicPr/>
          <p:nvPr/>
        </p:nvPicPr>
        <p:blipFill>
          <a:blip r:embed="rId1"/>
          <a:stretch/>
        </p:blipFill>
        <p:spPr>
          <a:xfrm>
            <a:off x="4140360" y="3933720"/>
            <a:ext cx="4066920" cy="26830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Запи647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ятиалтынный = 15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ятак = 5 коп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тын = 3 копей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ивенник = 10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ка = 1 полуш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деньги = 1 копей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/2 медной деньги (полушка) = 1 копей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ош (медный  г р о ш) = 2 коп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ушка (иначе - полуденьга) приравнивалась четверти копейки. Это самая мелкая единица в старинном денежном счёте. С 1700 г. чеканились полушки из мед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5" descr="i?id=337546167-03-72"/>
          <p:cNvPicPr/>
          <p:nvPr/>
        </p:nvPicPr>
        <p:blipFill>
          <a:blip r:embed="rId1"/>
          <a:stretch/>
        </p:blipFill>
        <p:spPr>
          <a:xfrm>
            <a:off x="5003640" y="4581360"/>
            <a:ext cx="3084840" cy="16034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Картинка 49 из 172496"/>
          <p:cNvPicPr/>
          <p:nvPr/>
        </p:nvPicPr>
        <p:blipFill>
          <a:blip r:embed="rId1"/>
          <a:stretch/>
        </p:blipFill>
        <p:spPr>
          <a:xfrm>
            <a:off x="3348000" y="3209760"/>
            <a:ext cx="5076720" cy="3648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е единицы, например: почка, полушка, четвертак, гарнец, берковец, линия ушли  в прошлое, а такие как пятак, миля, полтинник, рубль остались в настоящ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775640" y="6491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анны663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1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дача №1 Влезет или нет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о старинная головолом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режьте в листе плотной бумаги круглую дырку и предложит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му-нибудь просунуть в нее монетку, большую по диаметр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дрывать бумагу или каким-то образом сгибать и ломать, а так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пиливать монету - нельз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ожите лист бумаги "кульком", дыра должна находиться в самом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зу. Затем возьмите бумагу обеими руками и попросите кого-нибуд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осить монетку в "кулек" - пусть она упадет прямо на дно и выглянет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жним концом из дырки. После этого слегка приподнимите углы "кулька" –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ого окажется достаточно, чтобы отверстие увеличилось и монетка через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нду-другую вывалилась в дырку. При этом бумага осталас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врежденн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5" descr="i?id=153411652-24-72"/>
          <p:cNvPicPr/>
          <p:nvPr/>
        </p:nvPicPr>
        <p:blipFill>
          <a:blip r:embed="rId1"/>
          <a:stretch/>
        </p:blipFill>
        <p:spPr>
          <a:xfrm>
            <a:off x="5508720" y="4437000"/>
            <a:ext cx="2868480" cy="2160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Запи694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1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. Два отца и два сы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ворят, что два отца и два сына нашли на дороге, ведущей в Бомбей, три рупии (серебряные монеты) и быстро поделили их между собой, причем каждому досталось по монете. Как им удалось справиться с задач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Путники смогли разделить находку поровну, потому что их было трое: дед, отец и сын (или по-другому - два отца и два сына)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5" descr="i?id=44161690-47-72"/>
          <p:cNvPicPr/>
          <p:nvPr/>
        </p:nvPicPr>
        <p:blipFill>
          <a:blip r:embed="rId1"/>
          <a:stretch/>
        </p:blipFill>
        <p:spPr>
          <a:xfrm>
            <a:off x="5219640" y="4653000"/>
            <a:ext cx="2509920" cy="2023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Картинка 1 из 142714"/>
          <p:cNvPicPr/>
          <p:nvPr/>
        </p:nvPicPr>
        <p:blipFill>
          <a:blip r:embed="rId1"/>
          <a:stretch/>
        </p:blipFill>
        <p:spPr>
          <a:xfrm>
            <a:off x="3635280" y="3495600"/>
            <a:ext cx="5077080" cy="3362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ча №3. Как поделить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разделить 5 яблок между пятью лицами так, чтобы каждый получил по яблоку и одно яблоко осталось в кор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Один человек берет яблоко вместе с корзиной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Картинка 32 из 172496"/>
          <p:cNvPicPr/>
          <p:nvPr/>
        </p:nvPicPr>
        <p:blipFill>
          <a:blip r:embed="rId1"/>
          <a:stretch/>
        </p:blipFill>
        <p:spPr>
          <a:xfrm>
            <a:off x="421164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тарину были задачи связанные со случаями из повседневн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380360" y="652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Запи725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5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такое верст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47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СТА - старорусская путевая мера (её раннее название - ''поприще''). Этим словом, первоначально называли расстояние, пройденное от одного поворота плуга до другого во время пахоты. Два названия долгое время употреблялись параллельно, как синонимы.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"Верстой" также назывался верстовой столб на дорог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личина версты неоднократно менялась в зависимости от числа сажен, входивших в неё, и величины сажени. Уложением 1649 года была установлена "межевая верста" в 1 тысячу саженей. Позже, в XVIII веке наряду с ней стала использоваться и "путевая верста" в 500 сажен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Картинка 8 из 47912"/>
          <p:cNvPicPr/>
          <p:nvPr/>
        </p:nvPicPr>
        <p:blipFill>
          <a:blip r:embed="rId1"/>
          <a:stretch/>
        </p:blipFill>
        <p:spPr>
          <a:xfrm>
            <a:off x="4643280" y="476280"/>
            <a:ext cx="3525840" cy="6381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Запи74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31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сажен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жень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тарая русская мера длины, впервые упоминающаяся в русских источниках в начале 11 в. В 11—17 вв. встречалась С. в 152 и в 176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м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Это была так называемая прямая сажень, определявшаяся размахом рук человека от конца пальцев одной руки до конца пальцев другой. Так называемая косая сажень — размером в 216 и 248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м —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ялась расстоянием от пальцев ноги до конца пальцев руки, вытянутой по диагонал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Картинка 4 из 11602"/>
          <p:cNvPicPr/>
          <p:nvPr/>
        </p:nvPicPr>
        <p:blipFill>
          <a:blip r:embed="rId1"/>
          <a:stretch/>
        </p:blipFill>
        <p:spPr>
          <a:xfrm>
            <a:off x="4140360" y="1844640"/>
            <a:ext cx="4370400" cy="43052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Запи756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5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Картинка 17 из 404561"/>
          <p:cNvPicPr/>
          <p:nvPr/>
        </p:nvPicPr>
        <p:blipFill>
          <a:blip r:embed="rId1"/>
          <a:stretch/>
        </p:blipFill>
        <p:spPr>
          <a:xfrm>
            <a:off x="5524560" y="304812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воем проекте я исследовала старинные меры, которые канули в лета, а какие используются и по сей день в разных странах, где кроме математики находят свое приме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7">
            <a:hlinkClick r:id="" action="ppaction://hlinkshowjump?jump=nextslide"/>
          </p:cNvPr>
          <p:cNvSpPr/>
          <p:nvPr/>
        </p:nvSpPr>
        <p:spPr>
          <a:xfrm>
            <a:off x="8244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Запи538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a_9a3946fd"/>
          <p:cNvPicPr/>
          <p:nvPr/>
        </p:nvPicPr>
        <p:blipFill>
          <a:blip r:embed="rId1"/>
          <a:stretch/>
        </p:blipFill>
        <p:spPr>
          <a:xfrm>
            <a:off x="0" y="3616200"/>
            <a:ext cx="3057480" cy="3241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2420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вод :верста и сажень – единицы для измерения расстояни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948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Запи772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41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ловицы и поговорки, относящиеся к старым русским мер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ловицы и поговорки, относящиеся к старым русским мер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 весу, без меры нет и ве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 меры и лаптя не сплетеш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дром ветра не смер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с да мера до греха не допустят (т.е. д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мана, ошибки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адости меру  знай, в обиде — вер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еря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хорошо в мер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якое дело мера красит, она не сол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пи788.WAV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470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у вера, хлебу мера, а деньгам сч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ршин да кафтан, да два на заплат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орода с вершок, а слов с меш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ать — врет семь верст до небес, и все лес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молодца (милого дружка) семь верст не околиц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семь верст комара искали, а комар — на нос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аршин бороды, да ума на пя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ри аршина в землю видит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 пяди не уступл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 мысли до мысли пять тысяч верст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т.е. их почти нет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хотник за семь верст ходит кисел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леб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7" descr="Картинка 4 из 172496"/>
          <p:cNvPicPr/>
          <p:nvPr/>
        </p:nvPicPr>
        <p:blipFill>
          <a:blip r:embed="rId1"/>
          <a:stretch/>
        </p:blipFill>
        <p:spPr>
          <a:xfrm>
            <a:off x="5940360" y="285264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Картинка 52 из 172496"/>
          <p:cNvPicPr/>
          <p:nvPr/>
        </p:nvPicPr>
        <p:blipFill>
          <a:blip r:embed="rId1"/>
          <a:stretch/>
        </p:blipFill>
        <p:spPr>
          <a:xfrm>
            <a:off x="3851280" y="3429000"/>
            <a:ext cx="3809880" cy="3240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: старинные пословицы рассказывают о том , что если не будет единиц измерения , не будет и счёта ,различных изделий (например :фартук надо выкроить , а чтобы выкроить надо измерить размеры.)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308720" y="652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Запи81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30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след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Object 5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096240" cy="4554720"/>
          </a:xfrm>
          <a:prstGeom prst="rect">
            <a:avLst/>
          </a:prstGeom>
          <a:ln w="0">
            <a:noFill/>
          </a:ln>
        </p:spPr>
      </p:pic>
      <p:pic>
        <p:nvPicPr>
          <p:cNvPr id="258" name="Запи81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489720" y="61768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1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i?id=392166640-64-72"/>
          <p:cNvPicPr/>
          <p:nvPr/>
        </p:nvPicPr>
        <p:blipFill>
          <a:blip r:embed="rId1"/>
          <a:stretch/>
        </p:blipFill>
        <p:spPr>
          <a:xfrm>
            <a:off x="6269040" y="4365720"/>
            <a:ext cx="1809720" cy="2492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280" y="1042920"/>
            <a:ext cx="769644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узнала о том, как измеряли длину в разных странах(включая нашу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научилась решать старинные задач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узнала, что такое верста и сажен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познакомилась со старинными пословиц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следовала точность некоторых старинных и современных величин   и       измерен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ла исслед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дини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мерения, канувших в лета, и оставшихся с н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7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Запи835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50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// http://www.ville-cournonterral.fr/images/structure/aidodevoirs.jp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456spb.edusite.ru/images/123kopiya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domonetio.com/sites/default/files/users/jomorlo/faq37.jp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images.yandex.ru/yandsearch?p=38&amp;text=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ртинки%20вопросы&amp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mg_url=farm5.static.flickr.com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 www.google.com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yandex.ru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otvet.mail.ru/question/57138795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i?id=381350894-01-72"/>
          <p:cNvPicPr/>
          <p:nvPr/>
        </p:nvPicPr>
        <p:blipFill>
          <a:blip r:embed="rId1"/>
          <a:stretch/>
        </p:blipFill>
        <p:spPr>
          <a:xfrm>
            <a:off x="2987640" y="4076640"/>
            <a:ext cx="3013200" cy="2249640"/>
          </a:xfrm>
          <a:prstGeom prst="rect">
            <a:avLst/>
          </a:prstGeom>
          <a:ln w="0">
            <a:noFill/>
          </a:ln>
        </p:spPr>
      </p:pic>
      <p:sp>
        <p:nvSpPr>
          <p:cNvPr id="267" name="WordArt 5"/>
          <p:cNvSpPr txBox="1"/>
          <p:nvPr/>
        </p:nvSpPr>
        <p:spPr>
          <a:xfrm>
            <a:off x="1042920" y="981000"/>
            <a:ext cx="5900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AutoShape 6">
            <a:hlinkClick r:id="" action="ppaction://hlinkshowjump?jump=firstslide"/>
          </p:cNvPr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Запи850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20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620280"/>
            <a:ext cx="3771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обрать сведения о том, как измеряли длину в разных стран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Собрать сведения о русских ме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ознакомиться со старинными задач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Узнать больше об основных мерах длины(о версте и сажени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Расширить знания о старинных ме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Найти пословицы, относящиеся к русским мерам дли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Исследование соотношения сантиметра к некоторым видам измер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Исследовать какие единицы канули в лета, а какие остались с н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6" descr="untitled.bmp"/>
          <p:cNvPicPr/>
          <p:nvPr/>
        </p:nvPicPr>
        <p:blipFill>
          <a:blip r:embed="rId9"/>
          <a:stretch/>
        </p:blipFill>
        <p:spPr>
          <a:xfrm>
            <a:off x="4572000" y="1989000"/>
            <a:ext cx="3809880" cy="32673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Запи553.WAV" descr=""/>
          <p:cNvPicPr/>
          <p:nvPr/>
        </p:nvPicPr>
        <p:blipFill>
          <a:blip r:embed="rId10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Картинка 1 из 156557"/>
          <p:cNvPicPr/>
          <p:nvPr/>
        </p:nvPicPr>
        <p:blipFill>
          <a:blip r:embed="rId1"/>
          <a:stretch/>
        </p:blipFill>
        <p:spPr>
          <a:xfrm>
            <a:off x="4284720" y="1628640"/>
            <a:ext cx="4236840" cy="432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таринные меры в разных странах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имер, строители египетских пирамид эталоном длины считали локоть (расстояние от локтя до конца среднего пальца), древние арабы – волос из ослиной морды, англичане до сих пор пользуются королевским футом (в переводе с английского фут означает нога), равным длине ступни короля. ЛОКОТЬ равнялся длине руки от пальцев до локтя .Величина этой древнейшей меры длины, по разным источникам, составляла от 38 до 47 см. С 16-го века постепенно вытесняется аршином и в 19 веке почти не употребляетс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Запи56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9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стема древнерусских мер длины включала в себя следующие основные меры: версту, сажень, аршин, локоть, пядь и верш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Старинные русские меры длины, веса, объёма"/>
          <p:cNvPicPr/>
          <p:nvPr/>
        </p:nvPicPr>
        <p:blipFill>
          <a:blip r:embed="rId1"/>
          <a:stretch/>
        </p:blipFill>
        <p:spPr>
          <a:xfrm>
            <a:off x="4788000" y="1052640"/>
            <a:ext cx="354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066920" y="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алекие исторические времена человеку приходилось постепенно постигать не только искусство счета, но и измерений. Когда наш предок – древний, но уже мыслящий попытался найти для себя пещеру, он вынужден был соразмерить длину, ширину и высоту своего будущего убежища с собственным ростом. А ведь это и есть измерение. Изготовляя простейшие орудия труда, строя жилища, добывая пищу, возникает необходимость измерять расстояния, а затем площади, емкости, массу, время. Наш предок располагал только собственным ростом, длиной рук и ног. Если при счете человек пользовался пальцами рук и ног, то при измерении расстояний использовались руки и ноги. Не было народа, который не избрал бы свои единицы изме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Картинка 50 из 977"/>
          <p:cNvPicPr/>
          <p:nvPr/>
        </p:nvPicPr>
        <p:blipFill>
          <a:blip r:embed="rId1"/>
          <a:stretch/>
        </p:blipFill>
        <p:spPr>
          <a:xfrm>
            <a:off x="395280" y="765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Картинка 23 из 172496"/>
          <p:cNvPicPr/>
          <p:nvPr/>
        </p:nvPicPr>
        <p:blipFill>
          <a:blip r:embed="rId1"/>
          <a:stretch/>
        </p:blipFill>
        <p:spPr>
          <a:xfrm>
            <a:off x="5003640" y="3048120"/>
            <a:ext cx="223848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вод: в  разных странах применялись разные меры, например, волос ослиной морды и локо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732720" y="5445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Запи600.WAV" descr=""/>
          <p:cNvPicPr/>
          <p:nvPr/>
        </p:nvPicPr>
        <p:blipFill>
          <a:blip r:embed="rId3"/>
          <a:stretch/>
        </p:blipFill>
        <p:spPr>
          <a:xfrm>
            <a:off x="378000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9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аринные меры дл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блица старинных м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ы длин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миля        = 7 верстам (7,47 к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верста      = 500 саженей (1,.067 к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сажень     = 3 аршина (2,13 м) или 7 фут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аршин      = 16 вершкам (0,71 м) или 28 дюйм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фут          = 12 дюймам (0,305 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вершок    = 0,444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юйм       = линиям (25,4 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линия     = 10 точкам (2,54 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точка       = 0,254 м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i?id=110098561-35-72"/>
          <p:cNvPicPr/>
          <p:nvPr/>
        </p:nvPicPr>
        <p:blipFill>
          <a:blip r:embed="rId1"/>
          <a:stretch/>
        </p:blipFill>
        <p:spPr>
          <a:xfrm>
            <a:off x="5651640" y="3716280"/>
            <a:ext cx="3011400" cy="24098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Запи616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9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3" descr="Картинка 241 из 6252"/>
          <p:cNvPicPr/>
          <p:nvPr/>
        </p:nvPicPr>
        <p:blipFill>
          <a:blip r:embed="rId1"/>
          <a:stretch/>
        </p:blipFill>
        <p:spPr>
          <a:xfrm>
            <a:off x="4716360" y="2781360"/>
            <a:ext cx="3810240" cy="3543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а площад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есятина     = 2400 кв. саж. (1,09 га) или 3200 кв. саж. (1,46 г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ы веса (масс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ерковец    = 10 пудам (163,8 кг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пуд            = 40 фунтам (16,4 к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фунт          = 32 лотам = 96 золотникам = 9216 долям (409,5 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лот            = 3 золотникам (12,8 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золотник   = 96 долям (4,3 г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оля          = 0,044 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22:51Z</dcterms:created>
  <dc:creator>ук</dc:creator>
  <dc:description/>
  <dc:language>en-US</dc:language>
  <cp:lastModifiedBy>Кабинет№406</cp:lastModifiedBy>
  <dcterms:modified xsi:type="dcterms:W3CDTF">2012-03-09T09:39:48Z</dcterms:modified>
  <cp:revision>34</cp:revision>
  <dc:subject/>
  <dc:title>Старинные русские меры или старинная математика </dc:title>
</cp:coreProperties>
</file>