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1C0-8F20-4A93-B772-A021EDE0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A3A-B986-4328-A886-85018092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234E-1BFF-4262-BEB5-46687BF5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CDF-6E95-45E4-8A3F-0FB0B237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125E-81E8-477D-B42E-E4B5A4CD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BFA5-6BB1-484B-BDD8-D76C59CD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D330-3F11-41CC-A155-4BF283A0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F11E-E31F-4C7B-BAF7-0AC0F7D7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562E-2EF5-4313-B6C3-32ABBC74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55CB-B6CC-4B30-85D4-668AF8D5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E152-5769-440D-B6BB-F922A53E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DD37-001C-4DCD-A9BC-CB119938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302F-A9D8-4611-8C8D-7DEB0DCF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B969-7E32-49C5-9037-13E99A45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068B-6934-4757-ACB6-F982C49D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D439-B71F-499E-824B-86D2F3FA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44A8-E9ED-4064-886C-9A201923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C03-5D53-4379-8E72-C56CAA65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2B2-2638-4FAD-904D-1EA0B596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940A-C03A-4287-A555-66F1F09A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D98-4C9A-4723-926B-604C1F7A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26A-1AC2-4207-89C2-9FEF4A8C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B6D5-84C9-4A14-9082-F94DC8E9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130-9178-46D5-8746-E23F222D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DC60-697E-4D32-AEB7-EBA1087B99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9122-2DD8-4CD0-8B3C-E096A746D9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21360" y="2057400"/>
            <a:ext cx="3579840" cy="4800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99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48320" y="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ОВЕСТЬ Н.В. ГОГО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«ТАРАС БУЛЬБА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ИСТОЧНИК ЗНА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 ЗАПОРОЖС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АЗАЧЕСТВ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то может быть казаком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обод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Холост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авослав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ладеющий малорусским наречи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сягнувший русскому цар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шедший обуч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Сечи «казацкому рыцарству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845200" y="6019560"/>
            <a:ext cx="7452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29080" y="0"/>
            <a:ext cx="38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11448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22240" y="6031080"/>
            <a:ext cx="29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Восковая Рада в Се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920" y="44280"/>
            <a:ext cx="8534160" cy="6769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46280" y="6107040"/>
            <a:ext cx="25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Казаки на прива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1274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56498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Дума каза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363600"/>
            <a:ext cx="9144000" cy="5408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33720" y="582768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Запорожцы пишут письмо турецкому султа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.Е. Реп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429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56160" y="6031080"/>
            <a:ext cx="462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ереяславская Рада 1654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.И. Хмель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29080" y="1066680"/>
            <a:ext cx="4714920" cy="5562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525780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рился вдали под копытами шлях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ахло медвяной траво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ж! Некуда деться!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ва или лях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 лучше подружим с Москво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тяжёлой руке замерла булав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мысли печальные бродят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ечно бы, лучше самим панува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 только никак не выход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яки и турки застлали пут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нет ни числа им, ни мер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если уж волю никак не спаст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ём православную веру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ветить на вопрос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Impact"/>
              </a:rPr>
              <a:t>Можно ли считать повесть Н.В. Гоголя «Тарас Бульба» источником знаний о запорожском казачестве </a:t>
            </a: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XVII </a:t>
            </a:r>
            <a:r>
              <a:rPr b="0" i="1" lang="ru-RU" sz="3200" spc="-1" strike="noStrike">
                <a:solidFill>
                  <a:srgbClr val="ffffff"/>
                </a:solidFill>
                <a:latin typeface="Impact"/>
              </a:rPr>
              <a:t>века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3880" y="3809880"/>
            <a:ext cx="56898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76920" y="1142640"/>
            <a:ext cx="45720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Всем спасибо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267080" y="3962520"/>
            <a:ext cx="4724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Вы молодцы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229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809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ЦЕЛИ УРОКА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5334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ОВТОРИТЬ И СИСТЕМАТИЗИРОВАТЬ ЗНАНИЯ, ПОЛУЧЕННЫЕ НА УРОКАХ ИСТОРИИ И ЛИТЕРАТУР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ЫПОЛНИТЬ ТВОРЧЕСКИЕ ЗАДА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БЪЯСНИТЬ СЕБ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О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Родина, патриотизм, долг, товарищ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324480" y="2438280"/>
            <a:ext cx="2124360" cy="3819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029200" y="189000"/>
            <a:ext cx="411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3a3e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f43a3e"/>
                </a:solidFill>
                <a:latin typeface="Arial"/>
              </a:rPr>
              <a:t>Да разве найдутся на свет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3a3e"/>
                </a:solidFill>
                <a:latin typeface="Arial"/>
              </a:rPr>
              <a:t>такие огни, такие муки, такие силы, которые пересилили бы русску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3a3e"/>
                </a:solidFill>
                <a:latin typeface="Arial"/>
              </a:rPr>
              <a:t>силу»</a:t>
            </a:r>
            <a:r>
              <a:rPr b="0" lang="en-US" sz="2000" spc="-1" strike="noStrike">
                <a:solidFill>
                  <a:srgbClr val="f43a3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43a3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43a3e"/>
                </a:solidFill>
                <a:latin typeface="Arial"/>
              </a:rPr>
              <a:t>Н.В. Гог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4191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Задача уро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724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ить на вопро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Impact"/>
              </a:rPr>
              <a:t>Можно ли считать повесть Н.В. Гоголя «Тарас Бульба» источником знаний о запорожском казачестве </a:t>
            </a: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XVII </a:t>
            </a:r>
            <a:r>
              <a:rPr b="0" i="1" lang="ru-RU" sz="3200" spc="-1" strike="noStrike">
                <a:solidFill>
                  <a:srgbClr val="ffffff"/>
                </a:solidFill>
                <a:latin typeface="Impact"/>
              </a:rPr>
              <a:t>века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316080"/>
            <a:ext cx="446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«Украйна тихо волновалас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авно в ней искра разгоралас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рузья кровавой стар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родной чаяли войны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.С. Пушкин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317484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644400"/>
            <a:ext cx="9144000" cy="5569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25120" y="6208560"/>
            <a:ext cx="38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арас Бульба о товарище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22320"/>
            <a:ext cx="8686800" cy="6813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30760" y="6208560"/>
            <a:ext cx="22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ульбу окруж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04920" y="6095880"/>
            <a:ext cx="703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арас Бульба, Остап и Андрий по дороге в Сеч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347200" y="6056280"/>
            <a:ext cx="46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акет казацкого поселения на о. Хорт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5661000" cy="6705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95880" y="4724280"/>
            <a:ext cx="312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Церков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есвятой Богородиц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сстановлен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 о. Хорт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2-08T10:23:3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