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2.jpeg" ContentType="image/jpeg"/>
  <Override PartName="/ppt/media/image7.jpeg" ContentType="image/jpeg"/>
  <Override PartName="/ppt/media/image11.jpeg" ContentType="image/jpeg"/>
  <Override PartName="/ppt/media/image6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A2628-1559-44A4-BCD2-927E93CFE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F7C61-E436-4761-BFC3-99C34E646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C7AF2-2374-4712-A67E-594D15346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835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5767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9072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835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5767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00782-70ED-4E65-9564-E2A9A2156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B0B4C-DA29-4EEE-BC0F-3A11BEF4C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3C5BF-A223-4117-B79E-B13644785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88184-DC0C-48A5-B0FE-8AC302D88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A8BE6-7051-4E80-9740-950B7B425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F7536-5250-47C4-972C-DC2126B57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990720" y="190512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1D0CD-DDB1-413C-9C6C-DCA6897EC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2DC3A-6989-4F4A-A5B3-C2D8C630E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A99A9-0CEC-47F2-86CF-A0C781840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1A8E6-A4B2-4556-8B23-D4B24F908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B0400-DA95-4EA4-AEF4-6ABFFF3F9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E566F-16A8-4393-A625-83919ED2D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22B33-F892-4A66-BE0C-5E115E282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835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5767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99072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835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5767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4C3DA-C839-4961-ACCA-B0D9E02DD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F99F8-4B98-4181-B20B-6A8F9FD12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96BBA-69A9-48C9-8A41-2E3500D02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4C541-3D5E-49CB-858C-AB2954513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90720" y="190512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DBA19-0F21-47A3-84F0-2D21242AC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3E5DC-02E6-4267-8A64-2D4151C63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25F4F-0DE7-4E84-835C-A12FA5643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86858-0D56-4E89-8D76-D0F99DF49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CDDAF-0F17-4132-B9D7-E76A9ADF7DF2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8C956-66BB-4D10-9B56-54AA7C581AF3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5121360" y="2057400"/>
            <a:ext cx="3579840" cy="48006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57992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648320" y="0"/>
            <a:ext cx="4724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ПОВЕСТЬ Н.В. ГОГОЛ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«ТАРАС БУЛЬБА»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- 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 ИСТОЧНИК ЗНАН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О ЗАПОРОЖСКО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КАЗАЧЕСТВЕ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4572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Кто может быть казаком?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28240" y="1905120"/>
            <a:ext cx="4800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Свободный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Холостой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Православный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Владеющий малорусским наречием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Присягнувший русскому царю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Прошедший обучени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в Сечи «казацкому рыцарству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8845200" y="6019560"/>
            <a:ext cx="74520" cy="7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9160" bIns="29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5329080" y="0"/>
            <a:ext cx="3814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28600" y="114480"/>
            <a:ext cx="8763120" cy="657216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822240" y="6031080"/>
            <a:ext cx="299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6600"/>
                </a:solidFill>
                <a:latin typeface="Arial"/>
              </a:rPr>
              <a:t>Восковая Рада в Сеч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04920" y="44280"/>
            <a:ext cx="8534160" cy="676944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746280" y="6107040"/>
            <a:ext cx="253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Казаки на привал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905120" y="0"/>
            <a:ext cx="512748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0" y="564984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Дума казак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363600"/>
            <a:ext cx="9144000" cy="540864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2133720" y="5827680"/>
            <a:ext cx="6781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Запорожцы пишут письмо турецкому султан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И.Е. Репин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0" y="1214280"/>
            <a:ext cx="9144000" cy="442944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4556160" y="6031080"/>
            <a:ext cx="4623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Переяславская Рада 1654 г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М.И. Хмельк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4429080" y="1066680"/>
            <a:ext cx="4714920" cy="556272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0" y="0"/>
            <a:ext cx="5257800" cy="62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урился вдали под копытами шлях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 пахло медвяной травою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Что ж! Некуда деться! –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осква или лях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ак лучше подружим с Москвою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 тяжёлой руке замерла булава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 мысли печальные бродят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онечно бы, лучше самим панувать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а только никак не выходит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ляки и турки застлали пути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 нет ни числа им, ни меры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 если уж волю никак не спасти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пасём православную веру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Ответить на вопрос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Impact"/>
              </a:rPr>
              <a:t>Можно ли считать повесть Н.В. Гоголя «Тарас Бульба» источником знаний о запорожском казачестве </a:t>
            </a:r>
            <a:r>
              <a:rPr b="0" i="1" lang="en-US" sz="3200" spc="-1" strike="noStrike">
                <a:solidFill>
                  <a:srgbClr val="ffffff"/>
                </a:solidFill>
                <a:latin typeface="Impact"/>
              </a:rPr>
              <a:t>XVII </a:t>
            </a:r>
            <a:r>
              <a:rPr b="0" i="1" lang="ru-RU" sz="3200" spc="-1" strike="noStrike">
                <a:solidFill>
                  <a:srgbClr val="ffffff"/>
                </a:solidFill>
                <a:latin typeface="Impact"/>
              </a:rPr>
              <a:t>века 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1523880" y="3809880"/>
            <a:ext cx="5689800" cy="25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876920" y="1142640"/>
            <a:ext cx="4572000" cy="21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Всем спасибо!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267080" y="3962520"/>
            <a:ext cx="47246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ff"/>
                </a:solidFill>
                <a:latin typeface="Arial"/>
              </a:rPr>
              <a:t>Вы молодцы!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422928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44440"/>
            <a:ext cx="380988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b7"/>
                </a:solidFill>
                <a:latin typeface="Arial Black"/>
              </a:rPr>
              <a:t>ЦЕЛИ УРОКА: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-360" y="1447920"/>
            <a:ext cx="53341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ПОВТОРИТЬ И СИСТЕМАТИЗИРОВАТЬ ЗНАНИЯ, ПОЛУЧЕННЫЕ НА УРОКАХ ИСТОРИИ И ЛИТЕРАТУРЫ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ВЫПОЛНИТЬ ТВОРЧЕСКИЕ ЗАДАНИЯ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ОБЪЯСНИТЬ СЕБЕ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ПОНЯТ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Родина, патриотизм, долг, товариществ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6324480" y="2438280"/>
            <a:ext cx="2124360" cy="3819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5029200" y="189000"/>
            <a:ext cx="41148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43a3e"/>
                </a:solidFill>
                <a:latin typeface="Arial"/>
              </a:rPr>
              <a:t>«</a:t>
            </a:r>
            <a:r>
              <a:rPr b="0" lang="en-US" sz="2000" spc="-1" strike="noStrike">
                <a:solidFill>
                  <a:srgbClr val="f43a3e"/>
                </a:solidFill>
                <a:latin typeface="Arial"/>
              </a:rPr>
              <a:t>Да разве найдутся на свете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43a3e"/>
                </a:solidFill>
                <a:latin typeface="Arial"/>
              </a:rPr>
              <a:t>такие огни, такие муки, такие силы, которые пересилили бы русскую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43a3e"/>
                </a:solidFill>
                <a:latin typeface="Arial"/>
              </a:rPr>
              <a:t>силу»</a:t>
            </a:r>
            <a:r>
              <a:rPr b="0" lang="en-US" sz="2000" spc="-1" strike="noStrike">
                <a:solidFill>
                  <a:srgbClr val="f43a3e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43a3e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43a3e"/>
                </a:solidFill>
                <a:latin typeface="Arial"/>
              </a:rPr>
              <a:t>Н.В. Гогол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4191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Задача урока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47246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тветить на вопрос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i="1" lang="ru-RU" sz="3200" spc="-1" strike="noStrike">
                <a:solidFill>
                  <a:srgbClr val="ffffff"/>
                </a:solidFill>
                <a:latin typeface="Impact"/>
              </a:rPr>
              <a:t>Можно ли считать повесть Н.В. Гоголя «Тарас Бульба» источником знаний о запорожском казачестве </a:t>
            </a:r>
            <a:r>
              <a:rPr b="0" i="1" lang="en-US" sz="3200" spc="-1" strike="noStrike">
                <a:solidFill>
                  <a:srgbClr val="ffffff"/>
                </a:solidFill>
                <a:latin typeface="Impact"/>
              </a:rPr>
              <a:t>XVII </a:t>
            </a:r>
            <a:r>
              <a:rPr b="0" i="1" lang="ru-RU" sz="3200" spc="-1" strike="noStrike">
                <a:solidFill>
                  <a:srgbClr val="ffffff"/>
                </a:solidFill>
                <a:latin typeface="Impact"/>
              </a:rPr>
              <a:t>века?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876920" y="316080"/>
            <a:ext cx="4468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«Украйна тихо волновалась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Давно в ней искра разгоралась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Друзья кровавой старин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Народной чаяли войны»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А.С. Пушкин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791320" y="2209680"/>
            <a:ext cx="3174840" cy="374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644400"/>
            <a:ext cx="9144000" cy="55692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825120" y="6208560"/>
            <a:ext cx="382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Тарас Бульба о товариществ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228600" y="22320"/>
            <a:ext cx="8686800" cy="681336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1130760" y="6208560"/>
            <a:ext cx="22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Бульбу окружаю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9144000" cy="573408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304920" y="6095880"/>
            <a:ext cx="7030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Тарас Бульба, Остап и Андрий по дороге в Сечь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2347200" y="6056280"/>
            <a:ext cx="464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Макет казацкого поселения на о. Хортиц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5661000" cy="670572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6095880" y="4724280"/>
            <a:ext cx="31258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Церковь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Пресвятой Богородицы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восстановленная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на о. Хортиц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1-02-08T10:23:33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