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4BB-173B-4445-94C2-D2870B15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8D34-A64B-4F22-8215-E040F66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3E5-100A-4EF1-873C-D5E1FE9A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25D8-83CA-4D03-A8B4-0D228369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711-2BEC-4749-B50F-10D3997B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A67-E696-4110-9567-BBD28A8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D55-61D3-4B14-9469-2373CE29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DDE-D2F1-4068-B66A-2B7D3CE3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488-F531-4EEF-AAA0-65AF5EA7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F1F-07AC-4338-8E41-64BCED1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427-AE2E-496C-9E4C-A7B12586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064-078B-4D9B-8A70-F3E006AB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B678-82E5-4149-8F27-1A992D6FB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9001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ический рисун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ображение детали, выполненное по правилам аксонометрических проекций от руки, с соблюдением глазомерного масшта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543040"/>
            <a:ext cx="4896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ХНИЧЕСКИЙ РИ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нейный        Объемно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ран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834920" y="907920"/>
            <a:ext cx="8650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907920"/>
            <a:ext cx="57636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281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едача светот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тировка (штрихо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рафф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ечное отте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адает на предмет слева свер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578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горитм постро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Анализ геометрическ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пределение положения детали, наиболее наглядно переда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фор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бор способа построения (изометрическая или фронтальная диметрическая проек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остроение осе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строение общей формы детали, уточнение формы ее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Выбор способа оттенения и его выпол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Обводка технического рису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59:17Z</dcterms:created>
  <dc:creator>1</dc:creator>
  <dc:description/>
  <dc:language>en-US</dc:language>
  <cp:lastModifiedBy>Admin</cp:lastModifiedBy>
  <dcterms:modified xsi:type="dcterms:W3CDTF">2013-01-08T04:25:00Z</dcterms:modified>
  <cp:revision>2</cp:revision>
  <dc:subject/>
  <dc:title>Слайд 1</dc:title>
</cp:coreProperties>
</file>