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3483-AF8C-444A-A62C-9B6A526B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8806-F852-42E4-B1DB-028186D3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52C9-74C9-42AA-AE03-A5FA202F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6ABE-5605-4DDD-92AB-4B9BA116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D7DA-7845-43F8-A1EF-44C7CE43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7745-9C05-4191-A7D0-06D9C405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3126-2C74-4464-87CC-02237818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E6F5-28DB-4687-ABE7-621D9AD2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C945-A3F6-4BA1-A57F-B766552C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55D2-3C24-48F5-93E1-3E0B987C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B9D9-C89A-4ED9-A2A8-D579EB49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70C7-2EBD-43B2-98B5-FF034413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47E9-3EBB-4296-AF18-8CFF4C6F95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4920" y="189000"/>
            <a:ext cx="9001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хнический рисун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зображение детали, выполненное по правилам аксонометрических проекций от руки, с соблюдением глазомерного масшта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8000" y="2543040"/>
            <a:ext cx="48960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ХНИЧЕСКИЙ РИСУ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инейный        Объемно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странств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834920" y="907920"/>
            <a:ext cx="8650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24360" y="907920"/>
            <a:ext cx="57636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912816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ередача светот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тировка (штрихов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раффир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чечное отте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ет падает на предмет слева сверх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65786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лгоритм постро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Анализ геометрической фор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Определение положения детали, наиболее наглядно передающ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о фор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ыбор способа построения (изометрическая или фронтальная диметрическая проекц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остроение осе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Построение общей формы детали, уточнение формы ее эле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Выбор способа оттенения и его выполн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Обводка технического рису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9:59:17Z</dcterms:created>
  <dc:creator>1</dc:creator>
  <dc:description/>
  <dc:language>en-US</dc:language>
  <cp:lastModifiedBy>Admin</cp:lastModifiedBy>
  <dcterms:modified xsi:type="dcterms:W3CDTF">2013-01-08T04:25:00Z</dcterms:modified>
  <cp:revision>2</cp:revision>
  <dc:subject/>
  <dc:title>Слайд 1</dc:title>
</cp:coreProperties>
</file>