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8A1-0CBD-4C97-8622-4CDBB2BF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D8D-7851-4A9D-B300-AF729B6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067-05F2-47BB-AD99-0771842C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354-BAD2-487F-9310-D8651167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5EEB-C5D6-41A3-A3B9-C06BE5DB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EFF9-DB07-43D8-B59A-0C8FF232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A712-C569-4723-8D77-149580B9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F72D-A6BA-4C85-B111-24CB8885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339-F1A7-483A-B065-DFF3F1B2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8F61-43FF-482F-891B-095C135C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054F-6C1B-406B-B5CB-C8D4C672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88C-EFB9-43CE-882C-CBF4370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F79-C431-4CB2-A0D5-11A322F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004-C2A3-4901-8620-78A9558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BB69-BC6B-4E43-8B9F-8AD4B44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782-E619-4EF0-9351-DCE546C7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D987-722D-4E19-8987-76B85074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B5C-5E95-4222-A066-3E64D24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902-0B30-4D1F-AB22-F99B6D7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BD8-9A53-4FC9-A013-E361611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928-0C99-47DD-8901-3188B7C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D23-252E-46FB-BA51-6965034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AE6-5AD0-4216-9201-49013905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324-369A-4797-BDC2-C3E334E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B43-AF5E-4BA4-8163-4372E23CD6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6A95-F7D4-497E-AF37-0CFD0395303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609480" y="13716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ы знаешь о Петр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ликом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чина поражения России  в Нарвской битве 1700г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 action="ppaction://hlinksldjump"/>
              </a:rPr>
              <a:t>Нехватка боеприпас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трелецкое восст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3" action="ppaction://hlinksldjump"/>
              </a:rPr>
              <a:t>Великое посольство Пет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ое событие произошло первым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Взятие Азова Петр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Свержение царевны Софь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Великое посольст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го нельзя причислить к фаворитам Петр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Лефор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Менш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Голицы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чему внезапно Петр был вынужден вернуться из Великого посольств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825560"/>
            <a:ext cx="7386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трелецкий бун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езнь матер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еверная вой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 Петр увековечил победу под Полтавой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л Сена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л фло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ложил Петербур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щи ответ! Стремись к истин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2666880" y="2514600"/>
            <a:ext cx="3048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Ы успешно прошёл испытание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5" descr="петр"/>
          <p:cNvPicPr/>
          <p:nvPr/>
        </p:nvPicPr>
        <p:blipFill>
          <a:blip r:embed="rId1"/>
          <a:stretch/>
        </p:blipFill>
        <p:spPr>
          <a:xfrm>
            <a:off x="1700280" y="1674720"/>
            <a:ext cx="43765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09-11-08T10:45:1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