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FCA-1A38-41B7-9B48-526580DE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574-4AEE-4E77-801A-69D0B70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998-F822-45B9-AA90-B91AA8B3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465-E7B5-4BEF-8007-3388C61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8059-0248-4DB8-8DD7-B0481095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5E5F-43EC-4E27-9058-3E04A61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F864-B8D8-4B43-988A-6E9F13A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C5AD-A076-45F8-B416-591B2FBE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C5A1-B4EC-463E-B439-A07D2FD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0D6E-8166-44C7-B5AD-9E417B21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ADED-959C-42CA-AD5B-171B3D9E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666-5278-4138-9057-09E1833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2B21-4F4D-4712-B3F5-13F475EE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9D57-C8DD-49C7-A38D-CACA77E5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31D0-E6B4-4A04-A567-EEEF84DD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DA4E-19A9-4B1C-9B05-6C32A3C6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810-54C3-4767-A58A-D760CADC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A69-1B00-41C5-96AA-B0921BEF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EE1-EE56-48A2-A938-BD3399F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E10-89BA-4432-8B0A-8989A553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E8B-CE76-404A-B773-93C4FEE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188-BAC2-4403-9BF8-68BFB86D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27D-98E8-46A8-990A-B262A45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4CF-D0C5-4C3A-B4B3-B26D667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4CE-F11F-4A0D-9C25-8BBBF53E98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1A54-FB6C-4E65-B558-9EEDC18CEC6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609480" y="13716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ы знаешь о Петр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ликом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чина поражения России  в Нарвской битве 1700г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1" action="ppaction://hlinksldjump"/>
              </a:rPr>
              <a:t>Нехватка боеприпас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трелецкое восста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3" action="ppaction://hlinksldjump"/>
              </a:rPr>
              <a:t>Великое посольство Пет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ое событие произошло первым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Взятие Азова Петро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Свержение царевны Софь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Великое посольств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го нельзя причислить к фаворитам Петр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Лефор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Менш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Голицын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чему внезапно Петр был вынужден вернуться из Великого посольств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825560"/>
            <a:ext cx="7386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Стрелецкий бун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олезнь матер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еверная войн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ак Петр увековечил победу под Полтавой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л Сена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л фло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ложил Петербур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щи ответ! Стремись к истин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2666880" y="2514600"/>
            <a:ext cx="3048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Ы успешно прошёл испытание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5" descr="петр"/>
          <p:cNvPicPr/>
          <p:nvPr/>
        </p:nvPicPr>
        <p:blipFill>
          <a:blip r:embed="rId1"/>
          <a:stretch/>
        </p:blipFill>
        <p:spPr>
          <a:xfrm>
            <a:off x="1700280" y="1674720"/>
            <a:ext cx="437652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09-11-08T10:45:1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