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73AB-19A2-45AC-B6F6-31B5335C1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92CC-615A-4ADA-91FE-07D69C49F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C0E3-CE8F-4740-98AD-552B32021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E212-7229-4066-9BF3-B56EF0B5F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C84B-B2C2-4308-9D19-6F28BD219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4E51-E0B5-4587-8B7D-0475B1D39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974A-17D0-4C09-80F5-EFDB106B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ECE4-37C2-4FAE-A4AE-72419046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D07B-5C24-420E-A6DF-7C8645555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E7A7-784B-41B0-A516-02E43D2C3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1802-C00A-4546-996B-00D9DD9A6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8A0F-228C-4AEF-A814-EA322C3FB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84740-966F-467B-9C7E-98666A8FA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821E1-4E52-45FD-8C7F-6DAB71BC0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A72B5-0629-49ED-85D7-8B335BB15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06105-D0CE-4593-AC46-770507841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4996D-9BFD-4717-BBF8-EA0526426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263F4-7F30-42C7-84E6-400693B48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A5BAB-9FA8-4D34-A368-0AB9841A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127E2-8773-434C-90B9-FD3999505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E6F2C-5BB7-4A6E-9800-E0176F8C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7BD9F-9802-4B9D-91AA-B37DB88F4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E2D57-F0FE-4C6D-925E-5186B46AA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008C5-7FF7-4C82-AD46-1E02B5607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AC134-C113-4635-A0F2-6177F5C6E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760B0-B4B7-4E2E-9730-7BC548752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EAA9D-B2DB-4D2B-B173-63175F216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476EB-F091-46ED-B82F-8271328ED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A063C-32CC-4BF8-BAB6-1DCD5C2B7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249E7-8E2C-470E-BCD7-8C7685C12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D778A-C841-4244-81A6-C7B54D16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BB8F1-E26F-424D-AD67-6B155AFE2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58CBD-1F6C-4764-9C18-1B793FCAC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6980D-9263-48CA-A68B-1E7E87FC6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9D22C-30A8-4949-BC2B-0D6E65D9E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1D091-F62C-4C56-9B6E-FE1416563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D483A-6928-42D1-B0DD-B3C49DCCD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4BB52-0F40-408A-A4F8-F59B8AD58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D1856-65EF-4FF4-B700-CF4DCD8A9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B5304-2A67-4CE4-8FCA-93860D954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30B53-3410-41B2-ADB5-9CF58BBB2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1A23C-9D94-4221-BF13-E282B4C47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B0914-3A47-470A-9567-00965D393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4E971-9F16-466D-BA0E-C4A1639A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B4ECC-A6EF-4530-882B-1A055327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DD812-2C59-47E5-B4FD-EDD6A42E6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379D6-D0BB-4591-BE82-3A9BD34CA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F0CD2-37CA-4145-BEBA-34DC926D2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68000" y="4220640"/>
            <a:ext cx="8156520" cy="26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16000" indent="-2160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16000" indent="-216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16000" indent="-2160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6000" indent="-2160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6000" indent="-2160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6000" indent="-2160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39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1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3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2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0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98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AB535-BF02-472F-AECE-289BA8B7B01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72" descr="фон1"/>
          <p:cNvPicPr/>
          <p:nvPr/>
        </p:nvPicPr>
        <p:blipFill>
          <a:blip r:embed="rId3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46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48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0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79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97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4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05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DE75C-AAD7-40EE-8A5A-F99B52D513E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51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2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53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65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84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302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9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310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314" name="Picture 71" descr="фон1"/>
          <p:cNvPicPr/>
          <p:nvPr/>
        </p:nvPicPr>
        <p:blipFill>
          <a:blip r:embed="rId3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B2C76-E326-44C4-B625-2617455BE5D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35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35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37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9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40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41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CC0A4-132E-4F6E-9540-0614E04D5EE1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916360" y="1268280"/>
            <a:ext cx="5976720" cy="3097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cc"/>
                </a:solidFill>
                <a:latin typeface="Arial"/>
              </a:rPr>
              <a:t>Проект «Красная книга или Возьмём под защиту»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716360" y="5444640"/>
            <a:ext cx="374328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Цыцану Анна-Мар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4000" y="1773000"/>
            <a:ext cx="8002440" cy="647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Рыбаки на катерах и лодках загоняют дельфинов в бухту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07552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5" name="Picture 4" descr=""/>
          <p:cNvPicPr/>
          <p:nvPr/>
        </p:nvPicPr>
        <p:blipFill>
          <a:blip r:embed="rId1"/>
          <a:stretch/>
        </p:blipFill>
        <p:spPr>
          <a:xfrm>
            <a:off x="1187280" y="2840040"/>
            <a:ext cx="6624720" cy="3767040"/>
          </a:xfrm>
          <a:prstGeom prst="rect">
            <a:avLst/>
          </a:prstGeom>
          <a:ln w="0">
            <a:noFill/>
          </a:ln>
        </p:spPr>
      </p:pic>
      <p:sp>
        <p:nvSpPr>
          <p:cNvPr id="466" name="Прямоугольник 1"/>
          <p:cNvSpPr/>
          <p:nvPr/>
        </p:nvSpPr>
        <p:spPr>
          <a:xfrm>
            <a:off x="1187280" y="412920"/>
            <a:ext cx="6985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Фарерские остров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а Фарерских островах до сих пор процветает давняя традиция охоты на китов методом заманивания их к берегу и жестокого убивания гарпунами и китобойными ножам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где на берегу с ножами и веревками их поджидают местные жители.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9" name="Picture 4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Когда загнанные гринды вынужденно приближаются к берегу, островитяне бросаются к ним в воду и начинается самая настоящая и беспощадная резня, во время которой вода в бухте становится алой от крови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2" name="Picture 4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23640" y="290520"/>
            <a:ext cx="8135640" cy="1122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Фарерская традиция– это пережиток прошлого!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78920" y="5805360"/>
            <a:ext cx="698508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Прямоугольник 1"/>
          <p:cNvSpPr/>
          <p:nvPr/>
        </p:nvSpPr>
        <p:spPr>
          <a:xfrm>
            <a:off x="539640" y="1773360"/>
            <a:ext cx="792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ельфины- очень умные существа, способные чувствовать боль, страх и сострадание к себе подоб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Прямоугольник 2"/>
          <p:cNvSpPr/>
          <p:nvPr/>
        </p:nvSpPr>
        <p:spPr>
          <a:xfrm>
            <a:off x="1258920" y="3157560"/>
            <a:ext cx="648180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Выводы</a:t>
            </a:r>
            <a:br>
              <a:rPr sz="36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дна старая пословица гласит: «Изменись сам, и мир вокруг изменится», поэтому я предлагаю подумать о защите животных, и мир станет лучше через наши действ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7T11:08:01Z</dcterms:created>
  <dc:creator>XTreme</dc:creator>
  <dc:description/>
  <dc:language>en-US</dc:language>
  <cp:lastModifiedBy>Flawer</cp:lastModifiedBy>
  <dcterms:modified xsi:type="dcterms:W3CDTF">2013-01-12T14:48:53Z</dcterms:modified>
  <cp:revision>20</cp:revision>
  <dc:subject/>
  <dc:title>Слайд 1</dc:title>
</cp:coreProperties>
</file>