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637-C6B4-4AFF-B69C-7A05651E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F3B-821D-4226-8D60-06A9D34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FC1-2541-4410-ADFA-5FEF9B94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166-95CC-49A3-985D-9A40ECC4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FCB-43C8-412C-8D7E-4234CBC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60E-1ECC-471E-8349-E6704D2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8BB-6842-474C-8587-FAD98EA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6A8-945C-4FCF-895D-47C4CF6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326-F88A-483E-ABF4-9866C92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AAF-B342-4C28-922B-B838C571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DF5-EE1E-4E1A-8089-5FBFA51B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780-77A8-4AB9-AEA2-0DF20617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5ED-0511-447A-AE11-A7942A8D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F84E-3B9A-4DBC-98C5-441BC4E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3E59-0DC3-4895-8116-3356A0A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0BE1-0BD5-42F7-BFF6-728E81BA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3DF-5EE5-450D-9A31-2955434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B462-EA5A-42FD-9789-23D8C8A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E7CF-E5BD-4499-A255-F517607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D099-1A93-42EB-A670-8BE2BC4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385C-2354-4752-B477-029A6B1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003-2FDF-4BDD-B71A-F70561AB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B61F-A267-4890-BAEA-19D506E1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CB62-1133-4D4A-A0D9-1A53FEA7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9986-6F82-4A2B-8799-628F35E2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F97E-E8AE-420C-85B0-80238DD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85F0-8C60-444E-A55C-9A313DE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34A4F-EBE1-45D8-BFA5-D27A217F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93FCA-5871-40CD-83BE-F4B818B0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0C8E-85E4-406C-ABD8-47AF7801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3129-AE1F-47BD-B09F-2FE4EDE0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A599-0BF0-4AD7-B06D-9B9D7BD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D894-F757-4174-8CBC-6B2BF60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949F-FEF4-4CCA-8652-4044EE90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9A9AC-10E4-4D7D-8B1D-48C77221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417A-D698-4C39-B00E-6025363E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40DF-0FBB-4E42-B5F9-E3A28186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06072-6B6E-40A4-9AB9-89A8530C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259A-A3B9-4CE3-B386-B87557B1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071A-46EA-4E42-A39E-42D48A70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1DEE-F27A-4A35-9033-BCFBACE2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8521-740D-4425-AC0E-21CBE02B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585F5-52A7-4D14-8117-B6D8347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A37C5-DA37-4A09-9666-D0BD7F6E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C6BEA-BDC2-4395-BF39-32DD4EB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D0C1-4469-4098-AEFF-17C70AAB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7582-6A09-4230-9C30-1536754F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1202-E084-40BA-9753-A747635F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000" y="4220640"/>
            <a:ext cx="815652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0557-A8BA-411F-8C71-549C4C8F96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2" descr="фон1"/>
          <p:cNvPicPr/>
          <p:nvPr/>
        </p:nvPicPr>
        <p:blipFill>
          <a:blip r:embed="rId3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4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7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421D-5D45-4E6C-B43D-92F4EEFDA8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14" name="Picture 71" descr="фон1"/>
          <p:cNvPicPr/>
          <p:nvPr/>
        </p:nvPicPr>
        <p:blipFill>
          <a:blip r:embed="rId3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355-0487-4FBD-BBAE-201E2ADEA6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7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9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33A2-E345-4B10-8DE2-A183FB5411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916360" y="1268280"/>
            <a:ext cx="597672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Проект «Красная книга или Возьмём под защиту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716360" y="5444640"/>
            <a:ext cx="3743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Цыцану Анна-Ма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000" y="1773000"/>
            <a:ext cx="80024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Рыбаки на катерах и лодках загоняют дельфинов в бухту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075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1187280" y="2840040"/>
            <a:ext cx="6624720" cy="376704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1"/>
          <p:cNvSpPr/>
          <p:nvPr/>
        </p:nvSpPr>
        <p:spPr>
          <a:xfrm>
            <a:off x="1187280" y="41292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арерские остр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Фарерских островах до сих пор процветает давняя традиция охоты на китов методом заманивания их к берегу и жестокого убивания гарпунами и китобойными нож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где на берегу с ножами и веревками их поджидают местные жители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огда загнанные гринды вынужденно приближаются к берегу, островитяне бросаются к ним в воду и начинается самая настоящая и беспощадная резня, во время которой вода в бухте становится алой от кров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3640" y="290520"/>
            <a:ext cx="8135640" cy="1122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арерская традиция– это пережиток прошлого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8920" y="5805360"/>
            <a:ext cx="6985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"/>
          <p:cNvSpPr/>
          <p:nvPr/>
        </p:nvSpPr>
        <p:spPr>
          <a:xfrm>
            <a:off x="539640" y="1773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ьфины- очень умные существа, способные чувствовать боль, страх и сострадание к себе подо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"/>
          <p:cNvSpPr/>
          <p:nvPr/>
        </p:nvSpPr>
        <p:spPr>
          <a:xfrm>
            <a:off x="1258920" y="3157560"/>
            <a:ext cx="6481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а старая пословица гласит: «Изменись сам, и мир вокруг изменится», поэтому я предлагаю подумать о защите животных, и мир станет лучше через наши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1:08:01Z</dcterms:created>
  <dc:creator>XTreme</dc:creator>
  <dc:description/>
  <dc:language>en-US</dc:language>
  <cp:lastModifiedBy>Flawer</cp:lastModifiedBy>
  <dcterms:modified xsi:type="dcterms:W3CDTF">2013-01-12T14:48:53Z</dcterms:modified>
  <cp:revision>20</cp:revision>
  <dc:subject/>
  <dc:title>Слайд 1</dc:title>
</cp:coreProperties>
</file>