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E2D-23AD-425F-B4E4-7A6DEEF6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D49-850B-4A13-95B7-59D88A22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596-940E-418F-9478-D48814AC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7ED-8A7F-448D-A982-FCF404C7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350-CCE8-465C-8764-47833956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2A0-D2BA-483E-9458-D7F6608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B03-0CF3-4AD4-A17C-AB3D4356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057-5EAD-4CC5-BA58-826A9AEC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E3A-CD8B-4B17-AD10-F707B23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F70-7755-4784-91AB-6F701077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C66-7316-4561-976F-4653A0A8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B51-B595-4940-AFE8-3B334F3A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C1F6-8C43-4C0B-8EFE-EC1E0D8443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34400" cy="42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aeaea"/>
                </a:solidFill>
                <a:latin typeface="Tahoma"/>
              </a:rPr>
              <a:t>Я </a:t>
            </a:r>
            <a:br>
              <a:rPr sz="8800"/>
            </a:br>
            <a:r>
              <a:rPr b="1" lang="en-US" sz="8800" spc="-1" strike="noStrike">
                <a:solidFill>
                  <a:srgbClr val="eaeaea"/>
                </a:solidFill>
                <a:latin typeface="Tahoma"/>
              </a:rPr>
              <a:t>и </a:t>
            </a:r>
            <a:br>
              <a:rPr sz="8800"/>
            </a:br>
            <a:r>
              <a:rPr b="1" lang="en-US" sz="8800" spc="-1" strike="noStrike">
                <a:solidFill>
                  <a:srgbClr val="eaeaea"/>
                </a:solidFill>
                <a:latin typeface="Tahoma"/>
              </a:rPr>
              <a:t>Здоровье</a:t>
            </a:r>
            <a:endParaRPr b="1" lang="en-US" sz="8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имо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6632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09680" y="1981080"/>
            <a:ext cx="370044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09680" y="4113000"/>
            <a:ext cx="37004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3" descr="C:\Documents and Settings\world\Рабочий стол\лимон.bmp"/>
          <p:cNvPicPr/>
          <p:nvPr/>
        </p:nvPicPr>
        <p:blipFill>
          <a:blip r:embed="rId1"/>
          <a:stretch/>
        </p:blipFill>
        <p:spPr>
          <a:xfrm>
            <a:off x="4500720" y="1268280"/>
            <a:ext cx="4643280" cy="4305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4448160" y="324648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427640" y="1989000"/>
            <a:ext cx="39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Текст 3"/>
          <p:cNvSpPr/>
          <p:nvPr/>
        </p:nvSpPr>
        <p:spPr>
          <a:xfrm>
            <a:off x="468360" y="1916280"/>
            <a:ext cx="3887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Обладает антибактериальными свойствами, даже его запах имеет терапевтический эффект – успокаивает и помогает при стресс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Витамины С, А, В1, В2,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, 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84" name="Picture 3" descr="C:\Documents and Settings\world\Рабочий стол\груша.bmp"/>
          <p:cNvPicPr/>
          <p:nvPr/>
        </p:nvPicPr>
        <p:blipFill>
          <a:blip r:embed="rId1"/>
          <a:stretch/>
        </p:blipFill>
        <p:spPr>
          <a:xfrm>
            <a:off x="0" y="0"/>
            <a:ext cx="452124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Текст 3"/>
          <p:cNvSpPr/>
          <p:nvPr/>
        </p:nvSpPr>
        <p:spPr>
          <a:xfrm>
            <a:off x="1476360" y="4092480"/>
            <a:ext cx="72010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Две съеденные груши утром избавят вас от болей и изжоги, ликвидируют дискомфорт в кишечнике. Груша полезна при сахарном диабете и ожир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итамины: фолиевая кислота, пектины, витамины В1, Р, РР, йо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Текст 3"/>
          <p:cNvSpPr/>
          <p:nvPr/>
        </p:nvSpPr>
        <p:spPr>
          <a:xfrm>
            <a:off x="4788000" y="404640"/>
            <a:ext cx="417672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Благодаря ценным витаминам и минеральным солям морковь предотвращает анемию и улучшает зрение в темноте. Полезна тем, кто много сидит за компьютер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Каротин, витамины В1, В2, В6, С,Е,Н,К,Р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калив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 болезней избеж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ганизм свой надо закал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Аудио_0001.wma" descr=""/>
          <p:cNvPicPr/>
          <p:nvPr/>
        </p:nvPicPr>
        <p:blipFill>
          <a:blip r:embed="rId1"/>
          <a:stretch/>
        </p:blipFill>
        <p:spPr>
          <a:xfrm>
            <a:off x="7020000" y="2060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3"/>
          <p:cNvPicPr/>
          <p:nvPr/>
        </p:nvPicPr>
        <p:blipFill>
          <a:blip r:embed="rId2"/>
          <a:stretch/>
        </p:blipFill>
        <p:spPr>
          <a:xfrm>
            <a:off x="1619280" y="2565360"/>
            <a:ext cx="6696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3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-316080"/>
            <a:ext cx="7543800" cy="20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1549800" y="1413000"/>
            <a:ext cx="12385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. От хорошего сна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лодееш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2. Сон – лучшее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Лек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3. Выспишься -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молодееш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4. Выспался – будто внов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одилс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Diagram 2"/>
          <p:cNvGrpSpPr/>
          <p:nvPr/>
        </p:nvGrpSpPr>
        <p:grpSpPr>
          <a:xfrm>
            <a:off x="-31320" y="-54720"/>
            <a:ext cx="9135000" cy="6928200"/>
            <a:chOff x="-31320" y="-54720"/>
            <a:chExt cx="9135000" cy="6928200"/>
          </a:xfrm>
        </p:grpSpPr>
        <p:sp>
          <p:nvSpPr>
            <p:cNvPr id="94" name="_s1028"/>
            <p:cNvSpPr/>
            <p:nvPr/>
          </p:nvSpPr>
          <p:spPr>
            <a:xfrm flipH="1" flipV="1">
              <a:off x="2713320" y="2421360"/>
              <a:ext cx="915840" cy="56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29"/>
            <p:cNvSpPr/>
            <p:nvPr/>
          </p:nvSpPr>
          <p:spPr>
            <a:xfrm>
              <a:off x="641160" y="96156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Витамины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0"/>
            <p:cNvSpPr/>
            <p:nvPr/>
          </p:nvSpPr>
          <p:spPr>
            <a:xfrm flipH="1">
              <a:off x="2264400" y="3743280"/>
              <a:ext cx="1140120" cy="202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1"/>
            <p:cNvSpPr/>
            <p:nvPr/>
          </p:nvSpPr>
          <p:spPr>
            <a:xfrm>
              <a:off x="-31320" y="324432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Сон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2"/>
            <p:cNvSpPr/>
            <p:nvPr/>
          </p:nvSpPr>
          <p:spPr>
            <a:xfrm flipH="1">
              <a:off x="3527280" y="4350960"/>
              <a:ext cx="504720" cy="814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3"/>
            <p:cNvSpPr/>
            <p:nvPr/>
          </p:nvSpPr>
          <p:spPr>
            <a:xfrm>
              <a:off x="1856880" y="5073480"/>
              <a:ext cx="232956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Вакцинация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4"/>
            <p:cNvSpPr/>
            <p:nvPr/>
          </p:nvSpPr>
          <p:spPr>
            <a:xfrm>
              <a:off x="5040000" y="4350960"/>
              <a:ext cx="507960" cy="81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5"/>
            <p:cNvSpPr/>
            <p:nvPr/>
          </p:nvSpPr>
          <p:spPr>
            <a:xfrm>
              <a:off x="4886280" y="507348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ahoma"/>
                </a:rPr>
                <a:t>закаливание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5666760" y="3741480"/>
              <a:ext cx="1137600" cy="200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7"/>
            <p:cNvSpPr/>
            <p:nvPr/>
          </p:nvSpPr>
          <p:spPr>
            <a:xfrm>
              <a:off x="6774840" y="324216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Личная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гигиена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 flipV="1">
              <a:off x="5442480" y="2421720"/>
              <a:ext cx="910440" cy="56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9"/>
            <p:cNvSpPr/>
            <p:nvPr/>
          </p:nvSpPr>
          <p:spPr>
            <a:xfrm>
              <a:off x="6099480" y="95976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ahoma"/>
                </a:rPr>
                <a:t>Физические 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ahoma"/>
                </a:rPr>
                <a:t>упражнения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40"/>
            <p:cNvSpPr/>
            <p:nvPr/>
          </p:nvSpPr>
          <p:spPr>
            <a:xfrm flipV="1">
              <a:off x="4534560" y="1744920"/>
              <a:ext cx="0" cy="90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41"/>
            <p:cNvSpPr/>
            <p:nvPr/>
          </p:nvSpPr>
          <p:spPr>
            <a:xfrm>
              <a:off x="3370320" y="-5472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питание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42"/>
            <p:cNvSpPr/>
            <p:nvPr/>
          </p:nvSpPr>
          <p:spPr>
            <a:xfrm>
              <a:off x="3370320" y="264528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Иммунитет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омашнее зад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ссказать о способах повышения иммунитета и рекомендовать их своим близким и знакомы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4380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Будьте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доровы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аше здоровье в ваших руках!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Новое изображение"/>
          <p:cNvPicPr/>
          <p:nvPr/>
        </p:nvPicPr>
        <p:blipFill>
          <a:blip r:embed="rId1"/>
          <a:stretch/>
        </p:blipFill>
        <p:spPr>
          <a:xfrm>
            <a:off x="6012000" y="3284640"/>
            <a:ext cx="25714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акцин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Новое изображение"/>
          <p:cNvPicPr/>
          <p:nvPr/>
        </p:nvPicPr>
        <p:blipFill>
          <a:blip r:embed="rId1"/>
          <a:stretch/>
        </p:blipFill>
        <p:spPr>
          <a:xfrm>
            <a:off x="1042920" y="1773360"/>
            <a:ext cx="6985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Иммунитет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особ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рганизма противостоя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болезнотворны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микроорганизма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ь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ить пут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способы повышения иммунит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ичная гигие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63" name="Picture 4" descr="j0196374"/>
          <p:cNvPicPr/>
          <p:nvPr/>
        </p:nvPicPr>
        <p:blipFill>
          <a:blip r:embed="rId1"/>
          <a:stretch/>
        </p:blipFill>
        <p:spPr>
          <a:xfrm>
            <a:off x="539640" y="1628640"/>
            <a:ext cx="3548160" cy="372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"/>
          <p:cNvPicPr/>
          <p:nvPr/>
        </p:nvPicPr>
        <p:blipFill>
          <a:blip r:embed="rId2"/>
          <a:stretch/>
        </p:blipFill>
        <p:spPr>
          <a:xfrm>
            <a:off x="4032360" y="3284640"/>
            <a:ext cx="51116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896472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От простой воды и мыл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У микробов тают сил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мят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 в неделю мойся основа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ть руки после уборки комнаты, туалета, игр, прогулки, общения с животными, работы на огороде, поездки в транспорте, перед едой, утром и перед с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IMG_2248"/>
          <p:cNvPicPr/>
          <p:nvPr/>
        </p:nvPicPr>
        <p:blipFill>
          <a:blip r:embed="rId1"/>
          <a:stretch/>
        </p:blipFill>
        <p:spPr>
          <a:xfrm>
            <a:off x="468360" y="692280"/>
            <a:ext cx="78850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92887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рещенные – Е103, Е105, Е111, Е121, Е123, Е125, Е126, Е130, Е152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асные – Е102, Е110, Е120, Е124, Е127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озрительные – Е104, Е122, Е141, Е150, Е171, Е173, Е180, Е241, Е477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кообразующие – Е131, Е210-217, Е240, Е330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зывающие расстройство кишечника – Е221-226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дные для кожи – Е230-232, Е239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зывающие нарушение давления – Е250, Е251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цирующие появление сыпи – Е311, Е312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ающие холестерин – Е320, Е321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зывающие расстройство желудка – Е338-341, Е407, Е450, Е461-466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49:38Z</dcterms:created>
  <dc:creator>user</dc:creator>
  <dc:description/>
  <dc:language>en-US</dc:language>
  <cp:lastModifiedBy>Larisa</cp:lastModifiedBy>
  <dcterms:modified xsi:type="dcterms:W3CDTF">2013-01-13T10:38:55Z</dcterms:modified>
  <cp:revision>11</cp:revision>
  <dc:subject/>
  <dc:title>Слайд 1</dc:title>
</cp:coreProperties>
</file>