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D10-EE65-4513-AD7C-2F79E35E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666-60BB-47ED-B87F-FB730F8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920-B573-4F15-817B-3BAA00B6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D2A-0BB6-4D8A-80E2-6E093D61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F47-9B6C-4593-A96E-CCA348DF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481-4383-43C7-8252-D4B5AA93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713-D752-4A55-AE7B-A4A48C86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56B-66EC-4878-973E-E12E266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C1C-155D-46FA-ABC8-78C4E49F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D3D-375F-4980-B4B1-60A9E93D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9DC-2244-4885-92C5-A2E6EBE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305-5C94-47E6-9FD3-8343170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F6BE-0B66-4533-B7E8-FE79875BDF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42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Я </a:t>
            </a:r>
            <a:br>
              <a:rPr sz="8800"/>
            </a:b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и </a:t>
            </a:r>
            <a:br>
              <a:rPr sz="8800"/>
            </a:br>
            <a:r>
              <a:rPr b="1" lang="en-US" sz="8800" spc="-1" strike="noStrike">
                <a:solidFill>
                  <a:srgbClr val="eaeaea"/>
                </a:solidFill>
                <a:latin typeface="Tahoma"/>
              </a:rPr>
              <a:t>Здоровье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м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6632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09680" y="1981080"/>
            <a:ext cx="370044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09680" y="4113000"/>
            <a:ext cx="37004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3" descr="C:\Documents and Settings\world\Рабочий стол\лимон.bmp"/>
          <p:cNvPicPr/>
          <p:nvPr/>
        </p:nvPicPr>
        <p:blipFill>
          <a:blip r:embed="rId1"/>
          <a:stretch/>
        </p:blipFill>
        <p:spPr>
          <a:xfrm>
            <a:off x="4500720" y="1268280"/>
            <a:ext cx="4643280" cy="4305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4448160" y="32464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27640" y="1989000"/>
            <a:ext cx="39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Текст 3"/>
          <p:cNvSpPr/>
          <p:nvPr/>
        </p:nvSpPr>
        <p:spPr>
          <a:xfrm>
            <a:off x="468360" y="1916280"/>
            <a:ext cx="3887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Обладает антибактериальными свойствами, даже его запах имеет терапевтический эффект – успокаивает и помогает при стресс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Витамины С, А, В1, В2, </a:t>
            </a: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, 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4" name="Picture 3" descr="C:\Documents and Settings\world\Рабочий стол\груша.bmp"/>
          <p:cNvPicPr/>
          <p:nvPr/>
        </p:nvPicPr>
        <p:blipFill>
          <a:blip r:embed="rId1"/>
          <a:stretch/>
        </p:blipFill>
        <p:spPr>
          <a:xfrm>
            <a:off x="0" y="0"/>
            <a:ext cx="452124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Текст 3"/>
          <p:cNvSpPr/>
          <p:nvPr/>
        </p:nvSpPr>
        <p:spPr>
          <a:xfrm>
            <a:off x="1476360" y="4092480"/>
            <a:ext cx="72010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Две съеденные груши утром избавят вас от болей и изжоги, ликвидируют дискомфорт в кишечнике. Груша полезна при сахарном диабете и ожирен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итамины: фолиевая кислота, пектины, витамины В1, Р, РР, й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Текст 3"/>
          <p:cNvSpPr/>
          <p:nvPr/>
        </p:nvSpPr>
        <p:spPr>
          <a:xfrm>
            <a:off x="4788000" y="404640"/>
            <a:ext cx="4176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Благодаря ценным витаминам и минеральным солям морковь предотвращает анемию и улучшает зрение в темноте. Полезна тем, кто много сидит за компьютер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Каротин, витамины В1, В2, В6, С,Е,Н,К,Р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акалив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 болезней избеж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зм свой надо закал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Аудио_0001.wma" descr=""/>
          <p:cNvPicPr/>
          <p:nvPr/>
        </p:nvPicPr>
        <p:blipFill>
          <a:blip r:embed="rId1"/>
          <a:stretch/>
        </p:blipFill>
        <p:spPr>
          <a:xfrm>
            <a:off x="7020000" y="2060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3"/>
          <p:cNvPicPr/>
          <p:nvPr/>
        </p:nvPicPr>
        <p:blipFill>
          <a:blip r:embed="rId2"/>
          <a:stretch/>
        </p:blipFill>
        <p:spPr>
          <a:xfrm>
            <a:off x="1619280" y="2565360"/>
            <a:ext cx="6696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3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-316080"/>
            <a:ext cx="7543800" cy="20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549800" y="1413000"/>
            <a:ext cx="12385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. От хорошего сна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лодееш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2. Сон – лучшее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Лек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3. Выспишься -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молодееш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4. Выспался – будто внов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одилс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Diagram 2"/>
          <p:cNvGrpSpPr/>
          <p:nvPr/>
        </p:nvGrpSpPr>
        <p:grpSpPr>
          <a:xfrm>
            <a:off x="-31320" y="-54720"/>
            <a:ext cx="9135000" cy="6928200"/>
            <a:chOff x="-31320" y="-54720"/>
            <a:chExt cx="9135000" cy="6928200"/>
          </a:xfrm>
        </p:grpSpPr>
        <p:sp>
          <p:nvSpPr>
            <p:cNvPr id="94" name="_s1028"/>
            <p:cNvSpPr/>
            <p:nvPr/>
          </p:nvSpPr>
          <p:spPr>
            <a:xfrm flipH="1" flipV="1">
              <a:off x="2713320" y="2421360"/>
              <a:ext cx="915840" cy="563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_s1029"/>
            <p:cNvSpPr/>
            <p:nvPr/>
          </p:nvSpPr>
          <p:spPr>
            <a:xfrm>
              <a:off x="641160" y="9615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Витамины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30"/>
            <p:cNvSpPr/>
            <p:nvPr/>
          </p:nvSpPr>
          <p:spPr>
            <a:xfrm flipH="1">
              <a:off x="2264400" y="3743280"/>
              <a:ext cx="1140120" cy="20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1"/>
            <p:cNvSpPr/>
            <p:nvPr/>
          </p:nvSpPr>
          <p:spPr>
            <a:xfrm>
              <a:off x="-31320" y="324432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Сон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2"/>
            <p:cNvSpPr/>
            <p:nvPr/>
          </p:nvSpPr>
          <p:spPr>
            <a:xfrm flipH="1">
              <a:off x="3527280" y="4350960"/>
              <a:ext cx="504720" cy="814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3"/>
            <p:cNvSpPr/>
            <p:nvPr/>
          </p:nvSpPr>
          <p:spPr>
            <a:xfrm>
              <a:off x="1856880" y="5073480"/>
              <a:ext cx="232956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Вакцинация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5040000" y="4350960"/>
              <a:ext cx="50796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5"/>
            <p:cNvSpPr/>
            <p:nvPr/>
          </p:nvSpPr>
          <p:spPr>
            <a:xfrm>
              <a:off x="4886280" y="507348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закаливание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6"/>
            <p:cNvSpPr/>
            <p:nvPr/>
          </p:nvSpPr>
          <p:spPr>
            <a:xfrm>
              <a:off x="5666760" y="3741480"/>
              <a:ext cx="1137600" cy="200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7"/>
            <p:cNvSpPr/>
            <p:nvPr/>
          </p:nvSpPr>
          <p:spPr>
            <a:xfrm>
              <a:off x="6774840" y="32421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Личная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гигиена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8"/>
            <p:cNvSpPr/>
            <p:nvPr/>
          </p:nvSpPr>
          <p:spPr>
            <a:xfrm flipV="1">
              <a:off x="5442480" y="2421720"/>
              <a:ext cx="910440" cy="56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9"/>
            <p:cNvSpPr/>
            <p:nvPr/>
          </p:nvSpPr>
          <p:spPr>
            <a:xfrm>
              <a:off x="6099480" y="95976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Физические 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Tahoma"/>
                </a:rPr>
                <a:t>упражнения</a:t>
              </a:r>
              <a:endParaRPr b="0" lang="en-US" sz="3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40"/>
            <p:cNvSpPr/>
            <p:nvPr/>
          </p:nvSpPr>
          <p:spPr>
            <a:xfrm flipV="1">
              <a:off x="4534560" y="1744920"/>
              <a:ext cx="0" cy="90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41"/>
            <p:cNvSpPr/>
            <p:nvPr/>
          </p:nvSpPr>
          <p:spPr>
            <a:xfrm>
              <a:off x="3370320" y="-5472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питание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42"/>
            <p:cNvSpPr/>
            <p:nvPr/>
          </p:nvSpPr>
          <p:spPr>
            <a:xfrm>
              <a:off x="3370320" y="2645280"/>
              <a:ext cx="2328840" cy="180000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Tahoma"/>
                </a:rPr>
                <a:t>Иммунитет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Домашнее зад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сказать о способах повышения иммунитета и рекомендовать их своим близким и знакомы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438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Будьте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здоровы!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ше здоровье в ваших руках!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Новое изображение"/>
          <p:cNvPicPr/>
          <p:nvPr/>
        </p:nvPicPr>
        <p:blipFill>
          <a:blip r:embed="rId1"/>
          <a:stretch/>
        </p:blipFill>
        <p:spPr>
          <a:xfrm>
            <a:off x="6012000" y="3284640"/>
            <a:ext cx="25714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Вакцинац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Новое изображение"/>
          <p:cNvPicPr/>
          <p:nvPr/>
        </p:nvPicPr>
        <p:blipFill>
          <a:blip r:embed="rId1"/>
          <a:stretch/>
        </p:blipFill>
        <p:spPr>
          <a:xfrm>
            <a:off x="1042920" y="1773360"/>
            <a:ext cx="6985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ahoma"/>
              </a:rPr>
              <a:t>Иммунитет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пособн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рганизма противостоя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олезнотворны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икроорганизм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Цель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пределить пут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способы повышения иммуните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Личная гиги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63" name="Picture 4" descr="j0196374"/>
          <p:cNvPicPr/>
          <p:nvPr/>
        </p:nvPicPr>
        <p:blipFill>
          <a:blip r:embed="rId1"/>
          <a:stretch/>
        </p:blipFill>
        <p:spPr>
          <a:xfrm>
            <a:off x="539640" y="1628640"/>
            <a:ext cx="3548160" cy="372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"/>
          <p:cNvPicPr/>
          <p:nvPr/>
        </p:nvPicPr>
        <p:blipFill>
          <a:blip r:embed="rId2"/>
          <a:stretch/>
        </p:blipFill>
        <p:spPr>
          <a:xfrm>
            <a:off x="4032360" y="3284640"/>
            <a:ext cx="5111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896472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От простой воды и мыл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У микробов тают сил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Памятка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 в неделю мойся основа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ть руки после уборки комнаты, туалета, игр, прогулки, общения с животными, работы на огороде, поездки в транспорте, перед едой, утром и перед с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IMG_2248"/>
          <p:cNvPicPr/>
          <p:nvPr/>
        </p:nvPicPr>
        <p:blipFill>
          <a:blip r:embed="rId1"/>
          <a:stretch/>
        </p:blipFill>
        <p:spPr>
          <a:xfrm>
            <a:off x="468360" y="692280"/>
            <a:ext cx="78850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928872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рещенные – Е103, Е105, Е111, Е121, Е123, Е125, Е126, Е130, Е15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асные – Е102, Е110, Е120, Е124, Е127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озрительные – Е104, Е122, Е141, Е150, Е171, Е173, Е180, Е241, Е477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кообразующие – Е131, Е210-217, Е240, Е330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расстройство кишечника – Е221-226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редные для кожи – Е230-232, Е239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нарушение давления – Е250, Е25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цирующие появление сыпи – Е311, Е312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ающие холестерин – Е320, Е321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зывающие расстройство желудка – Е338-341, Е407, Е450, Е461-466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9:38Z</dcterms:created>
  <dc:creator>user</dc:creator>
  <dc:description/>
  <dc:language>en-US</dc:language>
  <cp:lastModifiedBy>Larisa</cp:lastModifiedBy>
  <dcterms:modified xsi:type="dcterms:W3CDTF">2013-01-13T10:38:55Z</dcterms:modified>
  <cp:revision>11</cp:revision>
  <dc:subject/>
  <dc:title>Слайд 1</dc:title>
</cp:coreProperties>
</file>