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D45-1CE1-44FE-955D-ADF8587E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C39-3558-4675-B363-1112BA3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31F-6BA2-4AFD-8DCF-276BCB89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E17-48EB-4ECA-B360-B635DF27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4B5-89AA-4033-886B-3D4BF8C9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006-4078-426F-87DD-376A6BEC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A0B-4743-4CAE-99E6-A835277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E79-6EAC-486A-9D96-FC3D006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2C7-AB29-4F3D-8C3D-87E14A6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F1B-3226-4CF8-860A-2FF10595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F78-13F2-4AF3-BA63-26F6A74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AA7-FB6A-470E-983B-6A0A2142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80BB-2FCA-4AC4-B136-54E81719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81080" y="4114800"/>
            <a:ext cx="6643800" cy="24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Экологический клуб</a:t>
            </a:r>
            <a:endParaRPr b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"Тропинка"</a:t>
            </a:r>
            <a:endParaRPr b="1" lang="en-US" sz="4400" spc="1" strike="noStrike">
              <a:ln w="255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343400" y="3252960"/>
            <a:ext cx="4800600" cy="3605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Через нос проходит в груд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 обратный держит пу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н невидимый, но все ж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без него мы жить не мо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4572000"/>
            <a:ext cx="353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21240" cy="6350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191120" y="457200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ладими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Шатал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5335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32448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352680" y="5105520"/>
            <a:ext cx="51055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пы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2520" y="990720"/>
            <a:ext cx="38862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выс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огром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охож на кран подъем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этот кран 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стоящей голо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029200" cy="495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5898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3886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лётик лёгкий быстр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 цветком летит душист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, хвостик и гл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чудо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724640" cy="3036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589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41911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не лет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хо в проруб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ныря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ень ва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спод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енит сюд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3182760" cy="582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5898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754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3583080"/>
            <a:ext cx="4952880" cy="327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29200" y="1600200"/>
            <a:ext cx="3535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066680"/>
            <a:ext cx="3353040" cy="1600200"/>
          </a:xfrm>
          <a:prstGeom prst="cloudCallout">
            <a:avLst>
              <a:gd name="adj1" fmla="val -45453"/>
              <a:gd name="adj2" fmla="val 70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152280"/>
            <a:ext cx="3352680" cy="1600200"/>
          </a:xfrm>
          <a:prstGeom prst="cloudCallout">
            <a:avLst>
              <a:gd name="adj1" fmla="val 43041"/>
              <a:gd name="adj2" fmla="val 77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3581280"/>
            <a:ext cx="3353040" cy="1600200"/>
          </a:xfrm>
          <a:prstGeom prst="cloudCallout">
            <a:avLst>
              <a:gd name="adj1" fmla="val 38875"/>
              <a:gd name="adj2" fmla="val 80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495680"/>
            <a:ext cx="3353040" cy="1600200"/>
          </a:xfrm>
          <a:prstGeom prst="cloudCallout">
            <a:avLst>
              <a:gd name="adj1" fmla="val -45453"/>
              <a:gd name="adj2" fmla="val 70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590920"/>
            <a:ext cx="3352680" cy="1600200"/>
          </a:xfrm>
          <a:prstGeom prst="cloudCallout">
            <a:avLst>
              <a:gd name="adj1" fmla="val 34328"/>
              <a:gd name="adj2" fmla="val 118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5105520"/>
            <a:ext cx="2352600" cy="16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219320"/>
            <a:ext cx="7010280" cy="4038480"/>
          </a:xfrm>
          <a:prstGeom prst="cloudCallout">
            <a:avLst>
              <a:gd name="adj1" fmla="val -33694"/>
              <a:gd name="adj2" fmla="val 5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267080" y="5791320"/>
            <a:ext cx="460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ка А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67080" y="5791320"/>
            <a:ext cx="4602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река А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867640" cy="5613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057400" y="5791320"/>
            <a:ext cx="6507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Обсуждение стат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3994200"/>
            <a:ext cx="4114800" cy="2863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грязнение реки приводит к ухудшению качества воды, от этого страдают и растения, и животные, и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430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кология влияет на здоровь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характерны для нашего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влияет на ухудшение экологической обстанов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9920" y="4803840"/>
            <a:ext cx="273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609480"/>
            <a:ext cx="8076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охраним природу - сохраним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1905120"/>
            <a:ext cx="396216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160" y="3200400"/>
            <a:ext cx="15238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200400"/>
            <a:ext cx="1600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876920"/>
            <a:ext cx="24382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4495680"/>
            <a:ext cx="236196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что нужно бер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876920"/>
            <a:ext cx="2743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а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ольш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ога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676520" y="5227560"/>
            <a:ext cx="708660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пасибо за работ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6248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1120" y="152280"/>
            <a:ext cx="44956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481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456876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Единственна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красота, которую я знаю – это здоровь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Г.Ге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2320" y="2057400"/>
            <a:ext cx="457200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920"/>
            <a:ext cx="2590920" cy="1981080"/>
          </a:xfrm>
          <a:prstGeom prst="wedgeEllipseCallout">
            <a:avLst>
              <a:gd name="adj1" fmla="val -75856"/>
              <a:gd name="adj2" fmla="val 40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572000"/>
            <a:ext cx="3200400" cy="2209680"/>
          </a:xfrm>
          <a:prstGeom prst="wedgeEllipseCallout">
            <a:avLst>
              <a:gd name="adj1" fmla="val -40375"/>
              <a:gd name="adj2" fmla="val -65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04920"/>
            <a:ext cx="2590920" cy="1981080"/>
          </a:xfrm>
          <a:prstGeom prst="wedgeEllipseCallout">
            <a:avLst>
              <a:gd name="adj1" fmla="val 66481"/>
              <a:gd name="adj2" fmla="val 38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419720"/>
            <a:ext cx="2590920" cy="1981080"/>
          </a:xfrm>
          <a:prstGeom prst="wedgeEllipseCallout">
            <a:avLst>
              <a:gd name="adj1" fmla="val 89768"/>
              <a:gd name="adj2" fmla="val -50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ЧИ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57400" y="22860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К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04812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рнст Гекк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495288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1866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19720" y="3535200"/>
            <a:ext cx="4724280" cy="3322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209680" y="685800"/>
            <a:ext cx="4953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К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648320"/>
            <a:ext cx="36352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ойкос" - жилищ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0" y="5791320"/>
            <a:ext cx="3070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"логос" -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2895480"/>
            <a:ext cx="6400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аука об охране окружающей сре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43000" y="4572000"/>
            <a:ext cx="7081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доровая планет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доровое человече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экология влияет на здоровье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характерны для нашего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влияет на ухудшение экологической обстанов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19920" y="4803840"/>
            <a:ext cx="2733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095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95280" y="152280"/>
            <a:ext cx="6629400" cy="1295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562720"/>
            <a:ext cx="6629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ОЧ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1447920"/>
            <a:ext cx="53352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1447920"/>
            <a:ext cx="5331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13T15:37:0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