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4B9-6B7F-4E33-9886-69DCB7DD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57E-DB8E-4C69-9D17-9440ABEB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1A7-F970-48BF-A06A-B328D4CC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9C7-9814-4A6A-8988-3B38CA6F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054-6FF9-4BED-AAA4-46409430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C41-EE37-4EC9-BC05-B7E94E17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370-864C-41FF-96D3-1FFFE38F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254-DC32-4CD4-B850-E41DB219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A26-3F06-4339-B7A9-1D57C602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B8D-A666-42DD-8656-0AB67437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9AE-8D68-40D7-BE45-9B907F39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F39-088D-4960-9159-B0B09DAB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7CA4-9CA5-4D5F-9DFA-A238AAA56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81080" y="4114800"/>
            <a:ext cx="6643800" cy="24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Экологический клуб</a:t>
            </a:r>
            <a:endParaRPr b="1" lang="en-US" sz="4400" spc="1" strike="noStrike">
              <a:ln w="255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"Тропинка"</a:t>
            </a:r>
            <a:endParaRPr b="1" lang="en-US" sz="4400" spc="1" strike="noStrike">
              <a:ln w="255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343400" y="3252960"/>
            <a:ext cx="4800600" cy="36050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Через нос проходит в груд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и обратный держит пу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н невидимый, но все ж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без него мы жить не мож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4572000"/>
            <a:ext cx="3535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возду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21240" cy="6350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191120" y="4572000"/>
            <a:ext cx="4952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Владимир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Шатал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876920" y="5335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6324480" cy="5486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352680" y="5105520"/>
            <a:ext cx="51055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пы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952520" y="990720"/>
            <a:ext cx="3886200" cy="57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выс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огром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похож на кран подъем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ько этот кран 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настоящей голо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5029200" cy="4956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58984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3886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лётик лёгкий быстр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 цветком летит душист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, хвостик и гла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чудо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724640" cy="3036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5898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41911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е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не лет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хо в проруб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ныря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чень ва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спод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менит сюда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29200" y="533520"/>
            <a:ext cx="3182760" cy="5829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58984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754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91120" y="3583080"/>
            <a:ext cx="4952880" cy="3274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029200" y="1600200"/>
            <a:ext cx="3535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066680"/>
            <a:ext cx="3353040" cy="1600200"/>
          </a:xfrm>
          <a:prstGeom prst="cloudCallout">
            <a:avLst>
              <a:gd name="adj1" fmla="val -45453"/>
              <a:gd name="adj2" fmla="val 70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БОГАТ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152280"/>
            <a:ext cx="3352680" cy="1600200"/>
          </a:xfrm>
          <a:prstGeom prst="cloudCallout">
            <a:avLst>
              <a:gd name="adj1" fmla="val 43041"/>
              <a:gd name="adj2" fmla="val 77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3581280"/>
            <a:ext cx="3353040" cy="1600200"/>
          </a:xfrm>
          <a:prstGeom prst="cloudCallout">
            <a:avLst>
              <a:gd name="adj1" fmla="val 38875"/>
              <a:gd name="adj2" fmla="val 808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495680"/>
            <a:ext cx="3353040" cy="1600200"/>
          </a:xfrm>
          <a:prstGeom prst="cloudCallout">
            <a:avLst>
              <a:gd name="adj1" fmla="val -45453"/>
              <a:gd name="adj2" fmla="val 70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2590920"/>
            <a:ext cx="3352680" cy="1600200"/>
          </a:xfrm>
          <a:prstGeom prst="cloudCallout">
            <a:avLst>
              <a:gd name="adj1" fmla="val 34328"/>
              <a:gd name="adj2" fmla="val 1182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ДР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57800" y="5105520"/>
            <a:ext cx="2352600" cy="163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1219320"/>
            <a:ext cx="7010280" cy="4038480"/>
          </a:xfrm>
          <a:prstGeom prst="cloudCallout">
            <a:avLst>
              <a:gd name="adj1" fmla="val -33694"/>
              <a:gd name="adj2" fmla="val 58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ЗДОРОВЬ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6286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267080" y="5791320"/>
            <a:ext cx="4602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река Ал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267080" y="5791320"/>
            <a:ext cx="4602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река Ал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5867640" cy="5613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057400" y="5791320"/>
            <a:ext cx="6507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бсуждение стат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00600" y="3994200"/>
            <a:ext cx="4114800" cy="2863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грязнение реки приводит к ухудшению качества воды, от этого страдают и растения, и животные, и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430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29200" y="3733920"/>
            <a:ext cx="41148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экология влияет на здоровье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ие экологические проблемы характерны для нашего гор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влияет на ухудшение экологической обстанов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19920" y="4803840"/>
            <a:ext cx="27334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609480"/>
            <a:ext cx="80769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охраним природу - сохраним 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1905120"/>
            <a:ext cx="396216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676160" y="3200400"/>
            <a:ext cx="15238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3200400"/>
            <a:ext cx="1600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876920"/>
            <a:ext cx="243828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рас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4495680"/>
            <a:ext cx="236196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Т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что нужно бе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4876920"/>
            <a:ext cx="27432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ам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ольш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огат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676520" y="5227560"/>
            <a:ext cx="708660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пасибо за работу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62481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1120" y="152280"/>
            <a:ext cx="44956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38880" cy="481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4568760"/>
            <a:ext cx="670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Единственная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красота, которую я знаю – это здоровь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Г.Ге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62320" y="2057400"/>
            <a:ext cx="4572000" cy="2362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304920"/>
            <a:ext cx="2590920" cy="1981080"/>
          </a:xfrm>
          <a:prstGeom prst="wedgeEllipseCallout">
            <a:avLst>
              <a:gd name="adj1" fmla="val -75856"/>
              <a:gd name="adj2" fmla="val 40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КРА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4572000"/>
            <a:ext cx="3200400" cy="2209680"/>
          </a:xfrm>
          <a:prstGeom prst="wedgeEllipseCallout">
            <a:avLst>
              <a:gd name="adj1" fmla="val -40375"/>
              <a:gd name="adj2" fmla="val -65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ЭК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04920"/>
            <a:ext cx="2590920" cy="1981080"/>
          </a:xfrm>
          <a:prstGeom prst="wedgeEllipseCallout">
            <a:avLst>
              <a:gd name="adj1" fmla="val 66481"/>
              <a:gd name="adj2" fmla="val 383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4419720"/>
            <a:ext cx="2590920" cy="1981080"/>
          </a:xfrm>
          <a:prstGeom prst="wedgeEllipseCallout">
            <a:avLst>
              <a:gd name="adj1" fmla="val 89768"/>
              <a:gd name="adj2" fmla="val -50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ЧИСТ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57400" y="22860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ЭКОЛОГ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304812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Эрнст Гекке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4952880"/>
            <a:ext cx="3504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1866 го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19720" y="3535200"/>
            <a:ext cx="4724280" cy="3322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209680" y="685800"/>
            <a:ext cx="49532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ЭКОЛОГ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4648320"/>
            <a:ext cx="36352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"ойкос" - жилищ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0" y="5791320"/>
            <a:ext cx="30700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"логос" - нау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480" y="2895480"/>
            <a:ext cx="6400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наука об охране окружающей сре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143000" y="4572000"/>
            <a:ext cx="7081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доровая планета -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доровое человече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экология влияет на здоровье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ие экологические проблемы характерны для нашего гор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влияет на ухудшение экологической обстанов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19920" y="4803840"/>
            <a:ext cx="27334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3440" cy="4095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95280" y="152280"/>
            <a:ext cx="6629400" cy="1295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5562720"/>
            <a:ext cx="6629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ОЧ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1447920"/>
            <a:ext cx="53352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1520" y="1447920"/>
            <a:ext cx="53316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1-13T15:37:0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