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4B10-B9EC-4E00-BFF4-6D11F2F2F9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5C67-3DCF-4BFE-8F24-212CEBC174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6D5A-F35D-42CD-9D2C-48CC5311CD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46A-7E41-49CA-8162-0FC28F62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D85-D7D2-4C23-8D3A-3F2AE78C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83E-0727-4636-8992-357062AA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F29-D19A-4C59-9FC4-AB3C6A03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1A8D-51F5-44BD-BFAC-85684262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0DE7-6E68-468F-B1E5-145850EC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2112-920E-407F-8798-0912E2D1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C3FF-B869-4843-8EE1-70FFEA1F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0092-8016-4E1E-8D48-2D8E8F4A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A1FF-CEE3-42F3-8700-4AE007C9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6F8E-2265-420E-A71F-1CD749E7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7CD-B72B-49A5-AD44-03DA1E91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41F8-F2A4-4B5F-985B-A9AC7A2A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168E-3F6C-490F-8234-17C2D0F2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CC4F-E082-4B0C-B8BB-58B260B1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6C70-C921-4D1E-A9D4-0EFB41A6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0F91-FE03-4C2B-A2D2-46DCA794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734-AF30-41D5-A003-26F7BDDB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FCE-5D5E-40B2-8354-8B61300C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3B10-9142-4278-91A4-6EF13BF5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F72-FC70-483D-9B6E-C564DBCD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99B-35C3-44CC-A300-AF5192C5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D8D-4B6E-4FBD-B6E0-A2CBB3C7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4E8-D6EE-4704-A207-531B534A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082C-BDA8-4B50-B326-5B8892A8F0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6009-BE93-43F8-A516-D1E6C7931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1 006"/>
          <p:cNvPicPr/>
          <p:nvPr/>
        </p:nvPicPr>
        <p:blipFill>
          <a:blip r:embed="rId1"/>
          <a:stretch/>
        </p:blipFill>
        <p:spPr>
          <a:xfrm>
            <a:off x="8221680" y="5214960"/>
            <a:ext cx="922320" cy="121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357120" y="78588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500040" y="6429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ДАВАЙТЕ ЖИТЬ С УЛЫБКО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http://open.az/uploads/posts/2011-10/1318673012_bankoboev.ru_malchik_v_goluboi_maechke.jpg"/>
          <p:cNvPicPr/>
          <p:nvPr/>
        </p:nvPicPr>
        <p:blipFill>
          <a:blip r:embed="rId2"/>
          <a:stretch/>
        </p:blipFill>
        <p:spPr>
          <a:xfrm>
            <a:off x="214200" y="1857240"/>
            <a:ext cx="4422960" cy="36147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1"/>
          <p:cNvSpPr/>
          <p:nvPr/>
        </p:nvSpPr>
        <p:spPr>
          <a:xfrm>
            <a:off x="4786200" y="2857680"/>
            <a:ext cx="41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omic Sans MS"/>
              </a:rPr>
              <a:t>Проект подготовили учащиеся 1 класса МОУ «Ефремовская ООШ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omic Sans MS"/>
              </a:rPr>
              <a:t>Руководитель проекта: учитель начальных классов, Комлева Т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Полощите рот теплой кипяченой водой после е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Щетку после употребления тщательно прополощи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Никогда не чистите зубы чужой щетк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Храните щетку в соляном раств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500040" y="571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ПРАВИЛА УХОДА ЗА ЗУБАМИ 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Культура ЗОЖ 002"/>
          <p:cNvPicPr/>
          <p:nvPr/>
        </p:nvPicPr>
        <p:blipFill>
          <a:blip r:embed="rId1"/>
          <a:stretch/>
        </p:blipFill>
        <p:spPr>
          <a:xfrm>
            <a:off x="5232240" y="4643280"/>
            <a:ext cx="3911760" cy="2000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13840" y="1142640"/>
            <a:ext cx="82155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Надо чистить каждый зуб, верхний зуб и нижний зуб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Даже самый дальний зуб, очень важный зу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Изнутри, снаружи три, три снаружи, изнутр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Мы  чистим, чистим зубы и весело живе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А тем, кто  их не чистит, мы песенку споем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Эй, давай, не зевай, о зубах не забыва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53735"/>
                </a:solidFill>
                <a:latin typeface="Comic Sans MS"/>
              </a:rPr>
              <a:t>Снизу вверх, сверху вниз, чистить зубы  не ленис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00040" y="571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ЧИСТИТЕ ЗУБЫ ПРАВИЛЬНО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Ovoschi_5"/>
          <p:cNvPicPr/>
          <p:nvPr/>
        </p:nvPicPr>
        <p:blipFill>
          <a:blip r:embed="rId1"/>
          <a:stretch/>
        </p:blipFill>
        <p:spPr>
          <a:xfrm>
            <a:off x="2143080" y="4572000"/>
            <a:ext cx="167652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0" y="457200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Чтобы зубы укреплять, 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Будем в пищу потреблять: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Лук, капусту, апельсины, 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Не забудем витамины, 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Масло, гречку и горох, </a:t>
            </a:r>
            <a:br>
              <a:rPr sz="2800"/>
            </a:b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Молоко, томаты, с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5897520" y="3786120"/>
            <a:ext cx="3062160" cy="2500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slide0008_image007"/>
          <p:cNvPicPr/>
          <p:nvPr/>
        </p:nvPicPr>
        <p:blipFill>
          <a:blip r:embed="rId4"/>
          <a:stretch/>
        </p:blipFill>
        <p:spPr>
          <a:xfrm>
            <a:off x="4000680" y="4572000"/>
            <a:ext cx="1785600" cy="16635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0" y="571680"/>
            <a:ext cx="67867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НАДО ПОДДЕРЖИВАТЬ ЗДОРОВЬЕ СВОИХ ЗУБ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857240" y="1214280"/>
            <a:ext cx="526752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953735"/>
                </a:solidFill>
                <a:latin typeface="Comic Sans MS"/>
              </a:rPr>
              <a:t>Чтобы не болели зубы и не воспалялись десны, нужно полноценно питаться: есть много зеленых овощей, свежих   фруктов, мясо, курицу, рыбу, яйца, пить побольше молока. В вашем возрасте надо выпивать не менее 3-4 стаканов молока в день. Если вы будете регулярно есть все эти продукты, то получите все необходимые ми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7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53735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953735"/>
                </a:solidFill>
                <a:latin typeface="Comic Sans MS"/>
              </a:rPr>
              <a:t>неральные вещества и витамин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1"/>
          <p:cNvPicPr/>
          <p:nvPr/>
        </p:nvPicPr>
        <p:blipFill>
          <a:blip r:embed="rId1"/>
          <a:srcRect l="0" t="9228" r="5679" b="6152"/>
          <a:stretch/>
        </p:blipFill>
        <p:spPr>
          <a:xfrm>
            <a:off x="7000920" y="1428840"/>
            <a:ext cx="1936800" cy="1787400"/>
          </a:xfrm>
          <a:prstGeom prst="rect">
            <a:avLst/>
          </a:prstGeom>
          <a:ln w="9360">
            <a:solidFill>
              <a:srgbClr val="ffcc33"/>
            </a:solidFill>
            <a:miter/>
          </a:ln>
        </p:spPr>
      </p:pic>
      <p:pic>
        <p:nvPicPr>
          <p:cNvPr id="138" name="Picture 7" descr="imagesCASG3ZKW"/>
          <p:cNvPicPr/>
          <p:nvPr/>
        </p:nvPicPr>
        <p:blipFill>
          <a:blip r:embed="rId2"/>
          <a:stretch/>
        </p:blipFill>
        <p:spPr>
          <a:xfrm>
            <a:off x="7199280" y="4857840"/>
            <a:ext cx="1944720" cy="168588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pic>
        <p:nvPicPr>
          <p:cNvPr id="139" name="Picture 8" descr="зщгою"/>
          <p:cNvPicPr/>
          <p:nvPr/>
        </p:nvPicPr>
        <p:blipFill>
          <a:blip r:embed="rId3"/>
          <a:srcRect l="30479" t="0" r="0" b="0"/>
          <a:stretch/>
        </p:blipFill>
        <p:spPr>
          <a:xfrm>
            <a:off x="285840" y="1500120"/>
            <a:ext cx="1800000" cy="167184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pic>
        <p:nvPicPr>
          <p:cNvPr id="140" name="Picture 9" descr="хзщщ"/>
          <p:cNvPicPr/>
          <p:nvPr/>
        </p:nvPicPr>
        <p:blipFill>
          <a:blip r:embed="rId4"/>
          <a:stretch/>
        </p:blipFill>
        <p:spPr>
          <a:xfrm>
            <a:off x="0" y="4929120"/>
            <a:ext cx="2160720" cy="1657440"/>
          </a:xfrm>
          <a:prstGeom prst="rect">
            <a:avLst/>
          </a:prstGeom>
          <a:ln w="15840">
            <a:solidFill>
              <a:srgbClr val="ffff99"/>
            </a:solidFill>
            <a:miter/>
          </a:ln>
        </p:spPr>
      </p:pic>
      <p:sp>
        <p:nvSpPr>
          <p:cNvPr id="141" name="Rectangle 2"/>
          <p:cNvSpPr/>
          <p:nvPr/>
        </p:nvSpPr>
        <p:spPr>
          <a:xfrm>
            <a:off x="500040" y="571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ПОЛЕЗНЫЕ СОВЕТ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68360" y="404640"/>
          <a:ext cx="8136000" cy="4176720"/>
        </p:xfrm>
        <a:graphic>
          <a:graphicData uri="http://schemas.openxmlformats.org/drawingml/2006/table">
            <a:tbl>
              <a:tblPr/>
              <a:tblGrid>
                <a:gridCol w="4103640"/>
                <a:gridCol w="4032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азреша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Запрещае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Полоскать рот после приёма пищ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Долго грызть семечки, леденц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Грызть яблоко, морковк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Откусывать зубами нитки, проволок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Чистить зуб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Есть мороженое с горячим ча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61" descr="15"/>
          <p:cNvPicPr/>
          <p:nvPr/>
        </p:nvPicPr>
        <p:blipFill>
          <a:blip r:embed="rId1"/>
          <a:stretch/>
        </p:blipFill>
        <p:spPr>
          <a:xfrm>
            <a:off x="1187280" y="4724280"/>
            <a:ext cx="2376720" cy="187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3" descr="Bears07"/>
          <p:cNvPicPr/>
          <p:nvPr/>
        </p:nvPicPr>
        <p:blipFill>
          <a:blip r:embed="rId2"/>
          <a:stretch/>
        </p:blipFill>
        <p:spPr>
          <a:xfrm>
            <a:off x="5580000" y="4724280"/>
            <a:ext cx="2376720" cy="19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500400" y="1356840"/>
            <a:ext cx="89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Чистить зубы со всех сторон не менее 3 мину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Для чистки зубов использовать пасты, содержащие фтор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Чистить зубы щеткой с искусственной щетино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Хранить щетку на открытом воздухе щетиной вверх, предварительно намыли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Менять щетку 4 раза в год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Чистить зубы 2 раза в день – после завтрака и ужин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После чистки зубов делать массаж десен вращательными движениями пальцев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Использовать после еды зубочистк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Полоскать рот после сна и после любой ед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Использовать после еды жевательную резинку без сахар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Интенсивно пережевывать сырые овощи и фрукт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Меньше есть сахара, конфет, печень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Не есть одновременно горячее и холодно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2 раза в год показывать зубы врачу-стоматологу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76"/>
              </a:spcBef>
              <a:buClr>
                <a:srgbClr val="953735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53735"/>
                </a:solidFill>
                <a:latin typeface="Comic Sans MS"/>
              </a:rPr>
              <a:t>Укреплять общее состояние здоровь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500040" y="5716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1f497d"/>
                </a:solidFill>
                <a:latin typeface="Georgia"/>
              </a:rPr>
              <a:t>РЕКОМЕНДАЦИИ И СОВЕТЫ ДЛЯ СОХРАНЕНИЯ ЗДОРОВЬЯ ЗУБ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http://im5-tub-ru.yandex.net/i?id=425621284-43-72&amp;n=21"/>
          <p:cNvPicPr/>
          <p:nvPr/>
        </p:nvPicPr>
        <p:blipFill>
          <a:blip r:embed="rId1"/>
          <a:stretch/>
        </p:blipFill>
        <p:spPr>
          <a:xfrm>
            <a:off x="5572080" y="3830760"/>
            <a:ext cx="3571920" cy="2527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142720" y="1357200"/>
            <a:ext cx="65437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53735"/>
                </a:solidFill>
                <a:uFillTx/>
                <a:latin typeface="Comic Sans MS"/>
              </a:rPr>
              <a:t>  </a:t>
            </a:r>
            <a:r>
              <a:rPr b="1" lang="ru-RU" sz="3200" spc="-1" strike="noStrike" u="sng">
                <a:solidFill>
                  <a:srgbClr val="953735"/>
                </a:solidFill>
                <a:uFillTx/>
                <a:latin typeface="Comic Sans MS"/>
              </a:rPr>
              <a:t>Своими исследованиями мы подтвердили выдвинутую гипотезу:</a:t>
            </a:r>
            <a:r>
              <a:rPr b="1" i="1" lang="ru-RU" sz="3200" spc="-1" strike="noStrike" u="sng">
                <a:solidFill>
                  <a:srgbClr val="953735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7168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ВЫВОД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http://im8-tub-ru.yandex.net/i?id=151558709-02-72&amp;n=21"/>
          <p:cNvPicPr/>
          <p:nvPr/>
        </p:nvPicPr>
        <p:blipFill>
          <a:blip r:embed="rId2"/>
          <a:stretch/>
        </p:blipFill>
        <p:spPr>
          <a:xfrm>
            <a:off x="0" y="714240"/>
            <a:ext cx="2071800" cy="21434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214200" y="3071880"/>
            <a:ext cx="700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953735"/>
                </a:solidFill>
                <a:latin typeface="Comic Sans MS"/>
              </a:rPr>
              <a:t>Ежедневно ухаживать за зубами и посещать стомато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953735"/>
                </a:solidFill>
                <a:latin typeface="Comic Sans MS"/>
              </a:rPr>
              <a:t>Здоровые зубы – это не только залог красоты, но и крепкого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http://www.kadinvekadin.net/resimler/galeri/dis_agrisi_ve_dis_curukleri_2.gif"/>
          <p:cNvPicPr/>
          <p:nvPr/>
        </p:nvPicPr>
        <p:blipFill>
          <a:blip r:embed="rId1"/>
          <a:stretch/>
        </p:blipFill>
        <p:spPr>
          <a:xfrm rot="775200">
            <a:off x="5285880" y="4071600"/>
            <a:ext cx="3453120" cy="2543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omic Sans MS"/>
              </a:rPr>
              <a:t>У многих детей нашего класса болят зубы, но они не хотят идти к стоматолог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omic Sans MS"/>
              </a:rPr>
              <a:t>Почему болят зуб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omic Sans MS"/>
              </a:rPr>
              <a:t>Надо ли ходи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Comic Sans MS"/>
              </a:rPr>
              <a:t>к стоматолог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500040" y="50004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ОБОСНОВАНИЕ ВЫБОРА ТЕМ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128592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953735"/>
                </a:solidFill>
                <a:latin typeface="Comic Sans MS"/>
              </a:rPr>
              <a:t>Если правильно ухаживать за зубами, посещать стоматолога, то зубы болеть не буду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00040" y="4287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ГИПОТЕЗ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://im4-tub-ru.yandex.net/i?id=56734044-48-72&amp;n=21"/>
          <p:cNvPicPr/>
          <p:nvPr/>
        </p:nvPicPr>
        <p:blipFill>
          <a:blip r:embed="rId1"/>
          <a:stretch/>
        </p:blipFill>
        <p:spPr>
          <a:xfrm>
            <a:off x="5072040" y="3643200"/>
            <a:ext cx="38577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http://im4-tub-ru.yandex.net/i?id=159678169-13-72&amp;n=21"/>
          <p:cNvPicPr/>
          <p:nvPr/>
        </p:nvPicPr>
        <p:blipFill>
          <a:blip r:embed="rId1"/>
          <a:stretch/>
        </p:blipFill>
        <p:spPr>
          <a:xfrm>
            <a:off x="7072200" y="421488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Узнать, почему болят зуб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Выяснить, знают ли наши сверстники как правильно чистить зубы и ухаживать за ни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Изучить влияние здоровья зубов на эмоциональное состояние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Дать рекомендации для сохранения здоровых зуб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00040" y="4287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ЦЕЛЬ РАБОТ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omic Sans MS"/>
              </a:rPr>
              <a:t>Выявление причин заболевания зубов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omic Sans MS"/>
              </a:rPr>
              <a:t>Проведение тес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omic Sans MS"/>
              </a:rPr>
              <a:t>Анализ результа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omic Sans MS"/>
              </a:rPr>
              <a:t>Выработка комплекса рекомендаций и советов по уходу за зуб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500040" y="50004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МЕТОДЫ</a:t>
            </a: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 </a:t>
            </a: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ИССЛЕДОВАН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286160" y="171468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Кариес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образование полостей в твердых тканях зуб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ульпит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воспаление пуль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ародонтит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воспаление тканей вокруг зуба, приводящее к удалению зуб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352680" cy="42670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50004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КАКИЕ БОЛЕЗНИ НАИБОЛЕЕ ХАРАКТЕРНЫ ДЛЯ ЗУБ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50004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Georgia"/>
              </a:rPr>
              <a:t>РЕЗУЛЬТАТЫ АНКЕТИРОВАНИЯ ОДНО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Диаграмма 7" descr=""/>
          <p:cNvPicPr/>
          <p:nvPr/>
        </p:nvPicPr>
        <p:blipFill>
          <a:blip r:embed="rId1"/>
          <a:stretch/>
        </p:blipFill>
        <p:spPr>
          <a:xfrm>
            <a:off x="0" y="0"/>
            <a:ext cx="4005360" cy="4151160"/>
          </a:xfrm>
          <a:prstGeom prst="rect">
            <a:avLst/>
          </a:prstGeom>
          <a:ln w="0">
            <a:noFill/>
          </a:ln>
        </p:spPr>
      </p:pic>
      <p:pic>
        <p:nvPicPr>
          <p:cNvPr id="112" name="Диаграмма 8" descr=""/>
          <p:cNvPicPr/>
          <p:nvPr/>
        </p:nvPicPr>
        <p:blipFill>
          <a:blip r:embed="rId2"/>
          <a:stretch/>
        </p:blipFill>
        <p:spPr>
          <a:xfrm>
            <a:off x="0" y="0"/>
            <a:ext cx="8650440" cy="3949560"/>
          </a:xfrm>
          <a:prstGeom prst="rect">
            <a:avLst/>
          </a:prstGeom>
          <a:ln w="0">
            <a:noFill/>
          </a:ln>
        </p:spPr>
      </p:pic>
      <p:pic>
        <p:nvPicPr>
          <p:cNvPr id="113" name="Диаграмма 9" descr=""/>
          <p:cNvPicPr/>
          <p:nvPr/>
        </p:nvPicPr>
        <p:blipFill>
          <a:blip r:embed="rId3"/>
          <a:stretch/>
        </p:blipFill>
        <p:spPr>
          <a:xfrm>
            <a:off x="0" y="0"/>
            <a:ext cx="3870360" cy="6529320"/>
          </a:xfrm>
          <a:prstGeom prst="rect">
            <a:avLst/>
          </a:prstGeom>
          <a:ln w="0">
            <a:noFill/>
          </a:ln>
        </p:spPr>
      </p:pic>
      <p:pic>
        <p:nvPicPr>
          <p:cNvPr id="114" name="Диаграмма 10" descr=""/>
          <p:cNvPicPr/>
          <p:nvPr/>
        </p:nvPicPr>
        <p:blipFill>
          <a:blip r:embed="rId4"/>
          <a:stretch/>
        </p:blipFill>
        <p:spPr>
          <a:xfrm>
            <a:off x="5200560" y="4486320"/>
            <a:ext cx="3314880" cy="1981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85480" y="1499760"/>
            <a:ext cx="450036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Сколько раз в день Вы чистите зуб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00400" y="1499760"/>
            <a:ext cx="450036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Как часто Вы полощите ро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3928680"/>
            <a:ext cx="46432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Как часто Вы кушаете фрукты и сырые овощ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6160" y="4000320"/>
            <a:ext cx="48578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53735"/>
                </a:solidFill>
                <a:latin typeface="Comic Sans MS"/>
              </a:rPr>
              <a:t>     </a:t>
            </a:r>
            <a:r>
              <a:rPr b="1" lang="ru-RU" sz="1600" spc="-1" strike="noStrike">
                <a:solidFill>
                  <a:srgbClr val="953735"/>
                </a:solidFill>
                <a:latin typeface="Comic Sans MS"/>
              </a:rPr>
              <a:t>Часто ли Вы употребляете конфеты, мороженое и другие сладост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Диаграмма 7" descr=""/>
          <p:cNvPicPr/>
          <p:nvPr/>
        </p:nvPicPr>
        <p:blipFill>
          <a:blip r:embed="rId1"/>
          <a:stretch/>
        </p:blipFill>
        <p:spPr>
          <a:xfrm>
            <a:off x="347760" y="1127160"/>
            <a:ext cx="3595680" cy="2097000"/>
          </a:xfrm>
          <a:prstGeom prst="rect">
            <a:avLst/>
          </a:prstGeom>
          <a:ln w="0">
            <a:noFill/>
          </a:ln>
        </p:spPr>
      </p:pic>
      <p:pic>
        <p:nvPicPr>
          <p:cNvPr id="120" name="Диаграмма 8" descr=""/>
          <p:cNvPicPr/>
          <p:nvPr/>
        </p:nvPicPr>
        <p:blipFill>
          <a:blip r:embed="rId2"/>
          <a:stretch/>
        </p:blipFill>
        <p:spPr>
          <a:xfrm>
            <a:off x="0" y="0"/>
            <a:ext cx="8790120" cy="321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43280" y="713880"/>
            <a:ext cx="45007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Сколько раз в год Вы ходите к стоматолог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7120" y="713880"/>
            <a:ext cx="45007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omic Sans MS"/>
              </a:rPr>
              <a:t>Как часто мучает Вас зубная бол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53735"/>
                </a:solidFill>
                <a:latin typeface="Comic Sans MS"/>
              </a:rPr>
              <a:t>Соблюдай режим дня, занимайся спортом, закалива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53735"/>
                </a:solidFill>
                <a:latin typeface="Comic Sans MS"/>
              </a:rPr>
              <a:t>Ешьте то , что полезно для зуб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53735"/>
                </a:solidFill>
                <a:latin typeface="Comic Sans MS"/>
              </a:rPr>
              <a:t>  </a:t>
            </a:r>
            <a:r>
              <a:rPr b="0" i="1" lang="ru-RU" sz="3200" spc="-1" strike="noStrike">
                <a:solidFill>
                  <a:srgbClr val="953735"/>
                </a:solidFill>
                <a:latin typeface="Comic Sans MS"/>
              </a:rPr>
              <a:t>Предпочти конфетам фрукты, очень важные продукты.</a:t>
            </a:r>
            <a:r>
              <a:rPr b="0" lang="ru-RU" sz="3200" spc="-1" strike="noStrike">
                <a:solidFill>
                  <a:srgbClr val="953735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53735"/>
                </a:solidFill>
                <a:latin typeface="Comic Sans MS"/>
              </a:rPr>
              <a:t>Как поел, почисти зубки. Делай так два раза в су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53735"/>
                </a:solidFill>
                <a:latin typeface="Comic Sans MS"/>
              </a:rPr>
              <a:t>К стоматологу идём в год два раза на приё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50004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Georgia"/>
              </a:rPr>
              <a:t>ЧТОБЫ ЗУБЫ БЫЛИ ЗДОРОВЫМ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я</dc:creator>
  <dc:description/>
  <dc:language>en-US</dc:language>
  <cp:lastModifiedBy>Мария</cp:lastModifiedBy>
  <dcterms:modified xsi:type="dcterms:W3CDTF">2013-01-12T13:36:55Z</dcterms:modified>
  <cp:revision>41</cp:revision>
  <dc:subject/>
  <dc:title>Слайд 1</dc:title>
</cp:coreProperties>
</file>