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12AC-5EA0-4A1C-9D7A-0C42274AF3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E789-D345-4818-9E3D-3852A26DD3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AF3E-0FCF-47BB-8EE8-4563BCB5DD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669-DDF0-4E72-B661-EB88005D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7D8-48EC-47F7-A0FE-B0ABCE45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467-A5C0-460B-8013-1DBAF634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AB0-109A-40D8-B081-6359F32F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7B11-12FA-49B7-8B62-62FE434A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DEE8-7781-4D58-9184-DB0DD98E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26B6-3173-4E64-B372-763E0AA4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EA2F-EA42-4C9E-B676-56B8487F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D415-06F7-4E5F-AA5B-45D853C4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552B-9DD9-43DC-A8C3-F9D282AE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D3D7-A46E-4C45-84A1-0B5D535F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8AB-4DE2-4421-92C4-CDD7D49F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47FA-EB69-4896-8879-F365E919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10BF-DE3F-477D-9398-3DF08DCF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F594-2C95-4383-AFAA-B82B2146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2C21-5419-4776-9B6B-F83B3369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3484-B7B1-4C16-91AC-D132439D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059-2BE2-4440-8351-DC2BEFA4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5DB-B295-40AA-9071-2F7F2374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A7F-CDE9-4226-8B7D-6D498CE3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481-C1C0-46C9-9CDE-DD68F53F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37D-7796-490B-B4E0-473A4671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DE5C-CE23-48CD-8109-62E6E0BA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E06-E6B9-4CF3-8F9B-1ED5AEAB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7F5C-1FB3-4AC5-8F1F-CD6FCFADDD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28B6-0F19-4941-BAE0-7A3BFC5BC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1 006"/>
          <p:cNvPicPr/>
          <p:nvPr/>
        </p:nvPicPr>
        <p:blipFill>
          <a:blip r:embed="rId1"/>
          <a:stretch/>
        </p:blipFill>
        <p:spPr>
          <a:xfrm>
            <a:off x="8221680" y="5214960"/>
            <a:ext cx="922320" cy="121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357120" y="785880"/>
            <a:ext cx="18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500040" y="6429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ДАВАЙТЕ ЖИТЬ С УЛЫБКО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http://open.az/uploads/posts/2011-10/1318673012_bankoboev.ru_malchik_v_goluboi_maechke.jpg"/>
          <p:cNvPicPr/>
          <p:nvPr/>
        </p:nvPicPr>
        <p:blipFill>
          <a:blip r:embed="rId2"/>
          <a:stretch/>
        </p:blipFill>
        <p:spPr>
          <a:xfrm>
            <a:off x="214200" y="1857240"/>
            <a:ext cx="4422960" cy="36147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1"/>
          <p:cNvSpPr/>
          <p:nvPr/>
        </p:nvSpPr>
        <p:spPr>
          <a:xfrm>
            <a:off x="4786200" y="2857680"/>
            <a:ext cx="41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omic Sans MS"/>
              </a:rPr>
              <a:t>Проект подготовили учащиеся 1 класса МОУ «Ефремовская ООШ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omic Sans MS"/>
              </a:rPr>
              <a:t>Руководитель проекта: учитель начальных классов, Комлева Т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Полощите рот теплой кипяченой водой после е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Щетку после употребления тщательно прополощи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Никогда не чистите зубы чужой щет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Храните щетку в соляном раств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500040" y="571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ПРАВИЛА УХОДА ЗА ЗУБАМИ 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Культура ЗОЖ 002"/>
          <p:cNvPicPr/>
          <p:nvPr/>
        </p:nvPicPr>
        <p:blipFill>
          <a:blip r:embed="rId1"/>
          <a:stretch/>
        </p:blipFill>
        <p:spPr>
          <a:xfrm>
            <a:off x="5232240" y="4643280"/>
            <a:ext cx="3911760" cy="2000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13840" y="1142640"/>
            <a:ext cx="82155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omic Sans MS"/>
              </a:rPr>
              <a:t>Надо чистить каждый зуб, верхний зуб и нижний зуб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omic Sans MS"/>
              </a:rPr>
              <a:t>Даже самый дальний зуб, очень важный зу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omic Sans MS"/>
              </a:rPr>
              <a:t>Изнутри, снаружи три, три снаружи, изнутр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omic Sans MS"/>
              </a:rPr>
              <a:t>Мы  чистим, чистим зубы и весело живе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omic Sans MS"/>
              </a:rPr>
              <a:t>А тем, кто  их не чистит, мы песенку споем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omic Sans MS"/>
              </a:rPr>
              <a:t>Эй, давай, не зевай, о зубах не забыва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omic Sans MS"/>
              </a:rPr>
              <a:t>Снизу вверх, сверху вниз, чистить зубы  не ленис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00040" y="571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ЧИСТИТЕ ЗУБЫ ПРАВИЛЬНО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Ovoschi_5"/>
          <p:cNvPicPr/>
          <p:nvPr/>
        </p:nvPicPr>
        <p:blipFill>
          <a:blip r:embed="rId1"/>
          <a:stretch/>
        </p:blipFill>
        <p:spPr>
          <a:xfrm>
            <a:off x="2143080" y="4572000"/>
            <a:ext cx="167652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0" y="457200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Чтобы зубы укреплять, 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Будем в пищу потреблять: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Лук, капусту, апельсины, 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Не забудем витамины, 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Масло, гречку и горох, 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Молоко, томаты, с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3"/>
          <a:stretch/>
        </p:blipFill>
        <p:spPr>
          <a:xfrm>
            <a:off x="5897520" y="3786120"/>
            <a:ext cx="3062160" cy="2500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slide0008_image007"/>
          <p:cNvPicPr/>
          <p:nvPr/>
        </p:nvPicPr>
        <p:blipFill>
          <a:blip r:embed="rId4"/>
          <a:stretch/>
        </p:blipFill>
        <p:spPr>
          <a:xfrm>
            <a:off x="4000680" y="4572000"/>
            <a:ext cx="1785600" cy="16635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0" y="571680"/>
            <a:ext cx="67867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НАДО ПОДДЕРЖИВАТЬ ЗДОРОВЬЕ СВОИХ ЗУБ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857240" y="1214280"/>
            <a:ext cx="526752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953735"/>
                </a:solidFill>
                <a:latin typeface="Comic Sans MS"/>
              </a:rPr>
              <a:t>Чтобы не болели зубы и не воспалялись десны, нужно полноценно питаться: есть много зеленых овощей, свежих   фруктов, мясо, курицу, рыбу, яйца, пить побольше молока. В вашем возрасте надо выпивать не менее 3-4 стаканов молока в день. Если вы будете регулярно есть все эти продукты, то получите все необходимые ми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953735"/>
                </a:solidFill>
                <a:latin typeface="Comic Sans MS"/>
              </a:rPr>
              <a:t>неральные вещества и витами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1"/>
          <p:cNvPicPr/>
          <p:nvPr/>
        </p:nvPicPr>
        <p:blipFill>
          <a:blip r:embed="rId1"/>
          <a:srcRect l="0" t="9228" r="5679" b="6152"/>
          <a:stretch/>
        </p:blipFill>
        <p:spPr>
          <a:xfrm>
            <a:off x="7000920" y="1428840"/>
            <a:ext cx="1936800" cy="1787400"/>
          </a:xfrm>
          <a:prstGeom prst="rect">
            <a:avLst/>
          </a:prstGeom>
          <a:ln w="9360">
            <a:solidFill>
              <a:srgbClr val="ffcc33"/>
            </a:solidFill>
            <a:miter/>
          </a:ln>
        </p:spPr>
      </p:pic>
      <p:pic>
        <p:nvPicPr>
          <p:cNvPr id="138" name="Picture 7" descr="imagesCASG3ZKW"/>
          <p:cNvPicPr/>
          <p:nvPr/>
        </p:nvPicPr>
        <p:blipFill>
          <a:blip r:embed="rId2"/>
          <a:stretch/>
        </p:blipFill>
        <p:spPr>
          <a:xfrm>
            <a:off x="7199280" y="4857840"/>
            <a:ext cx="1944720" cy="168588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  <p:pic>
        <p:nvPicPr>
          <p:cNvPr id="139" name="Picture 8" descr="зщгою"/>
          <p:cNvPicPr/>
          <p:nvPr/>
        </p:nvPicPr>
        <p:blipFill>
          <a:blip r:embed="rId3"/>
          <a:srcRect l="30479" t="0" r="0" b="0"/>
          <a:stretch/>
        </p:blipFill>
        <p:spPr>
          <a:xfrm>
            <a:off x="285840" y="1500120"/>
            <a:ext cx="1800000" cy="167184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  <p:pic>
        <p:nvPicPr>
          <p:cNvPr id="140" name="Picture 9" descr="хзщщ"/>
          <p:cNvPicPr/>
          <p:nvPr/>
        </p:nvPicPr>
        <p:blipFill>
          <a:blip r:embed="rId4"/>
          <a:stretch/>
        </p:blipFill>
        <p:spPr>
          <a:xfrm>
            <a:off x="0" y="4929120"/>
            <a:ext cx="2160720" cy="165744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  <p:sp>
        <p:nvSpPr>
          <p:cNvPr id="141" name="Rectangle 2"/>
          <p:cNvSpPr/>
          <p:nvPr/>
        </p:nvSpPr>
        <p:spPr>
          <a:xfrm>
            <a:off x="500040" y="571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ПОЛЕЗНЫЕ СОВЕТ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468360" y="404640"/>
          <a:ext cx="8136000" cy="4176720"/>
        </p:xfrm>
        <a:graphic>
          <a:graphicData uri="http://schemas.openxmlformats.org/drawingml/2006/table">
            <a:tbl>
              <a:tblPr/>
              <a:tblGrid>
                <a:gridCol w="4103640"/>
                <a:gridCol w="40323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азрешае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Запрещае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Полоскать рот после приёма пищ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Долго грызть семечки, леденц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Грызть яблоко, морковк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Откусывать зубами нитки, проволок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Чистить зуб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Есть мороженое с горячим ча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61" descr="15"/>
          <p:cNvPicPr/>
          <p:nvPr/>
        </p:nvPicPr>
        <p:blipFill>
          <a:blip r:embed="rId1"/>
          <a:stretch/>
        </p:blipFill>
        <p:spPr>
          <a:xfrm>
            <a:off x="1187280" y="4724280"/>
            <a:ext cx="2376720" cy="1871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3" descr="Bears07"/>
          <p:cNvPicPr/>
          <p:nvPr/>
        </p:nvPicPr>
        <p:blipFill>
          <a:blip r:embed="rId2"/>
          <a:stretch/>
        </p:blipFill>
        <p:spPr>
          <a:xfrm>
            <a:off x="5580000" y="4724280"/>
            <a:ext cx="2376720" cy="19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500400" y="1356840"/>
            <a:ext cx="89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Чистить зубы со всех сторон не менее 3 мину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Для чистки зубов использовать пасты, содержащие фтор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Чистить зубы щеткой с искусственной щетино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Хранить щетку на открытом воздухе щетиной вверх, предварительно намыли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Менять щетку 4 раза в год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Чистить зубы 2 раза в день – после завтрака и ужин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После чистки зубов делать массаж десен вращательными движениями пальце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Использовать после еды зубочистк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Полоскать рот после сна и после любой еды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Использовать после еды жевательную резинку без сахар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Интенсивно пережевывать сырые овощи и фрукты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Меньше есть сахара, конфет, печень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Не есть одновременно горячее и холодно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2 раза в год показывать зубы врачу-стоматологу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Укреплять общее состояние здоровь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500040" y="5716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97d"/>
                </a:solidFill>
                <a:latin typeface="Georgia"/>
              </a:rPr>
              <a:t>РЕКОМЕНДАЦИИ И СОВЕТЫ ДЛЯ СОХРАНЕНИЯ ЗДОРОВЬЯ ЗУБ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http://im5-tub-ru.yandex.net/i?id=425621284-43-72&amp;n=21"/>
          <p:cNvPicPr/>
          <p:nvPr/>
        </p:nvPicPr>
        <p:blipFill>
          <a:blip r:embed="rId1"/>
          <a:stretch/>
        </p:blipFill>
        <p:spPr>
          <a:xfrm>
            <a:off x="5572080" y="3830760"/>
            <a:ext cx="3571920" cy="2527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142720" y="1357200"/>
            <a:ext cx="65437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53735"/>
                </a:solidFill>
                <a:uFillTx/>
                <a:latin typeface="Comic Sans MS"/>
              </a:rPr>
              <a:t>  </a:t>
            </a:r>
            <a:r>
              <a:rPr b="1" lang="ru-RU" sz="3200" spc="-1" strike="noStrike" u="sng">
                <a:solidFill>
                  <a:srgbClr val="953735"/>
                </a:solidFill>
                <a:uFillTx/>
                <a:latin typeface="Comic Sans MS"/>
              </a:rPr>
              <a:t>Своими исследованиями мы подтвердили выдвинутую гипотезу:</a:t>
            </a:r>
            <a:r>
              <a:rPr b="1" i="1" lang="ru-RU" sz="3200" spc="-1" strike="noStrike" u="sng">
                <a:solidFill>
                  <a:srgbClr val="953735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7168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ВЫВО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http://im8-tub-ru.yandex.net/i?id=151558709-02-72&amp;n=21"/>
          <p:cNvPicPr/>
          <p:nvPr/>
        </p:nvPicPr>
        <p:blipFill>
          <a:blip r:embed="rId2"/>
          <a:stretch/>
        </p:blipFill>
        <p:spPr>
          <a:xfrm>
            <a:off x="0" y="714240"/>
            <a:ext cx="2071800" cy="21434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214200" y="3071880"/>
            <a:ext cx="700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953735"/>
                </a:solidFill>
                <a:latin typeface="Comic Sans MS"/>
              </a:rPr>
              <a:t>Ежедневно ухаживать за зубами и посещать стоматол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953735"/>
                </a:solidFill>
                <a:latin typeface="Comic Sans MS"/>
              </a:rPr>
              <a:t>Здоровые зубы – это не только залог красоты, но и крепкого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http://www.kadinvekadin.net/resimler/galeri/dis_agrisi_ve_dis_curukleri_2.gif"/>
          <p:cNvPicPr/>
          <p:nvPr/>
        </p:nvPicPr>
        <p:blipFill>
          <a:blip r:embed="rId1"/>
          <a:stretch/>
        </p:blipFill>
        <p:spPr>
          <a:xfrm rot="775200">
            <a:off x="5285880" y="4071600"/>
            <a:ext cx="3453120" cy="2543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Comic Sans MS"/>
              </a:rPr>
              <a:t>У многих детей нашего класса болят зубы, но они не хотят идти к стоматолог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Comic Sans MS"/>
              </a:rPr>
              <a:t>Почему болят зуб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Comic Sans MS"/>
              </a:rPr>
              <a:t>Надо ли ходи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Comic Sans MS"/>
              </a:rPr>
              <a:t>к стоматолог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500040" y="50004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ОБОСНОВАНИЕ ВЫБОРА ТЕМ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128592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953735"/>
                </a:solidFill>
                <a:latin typeface="Comic Sans MS"/>
              </a:rPr>
              <a:t>Если правильно ухаживать за зубами, посещать стоматолога, то зубы болеть не буду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00040" y="4287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ГИПОТЕЗ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http://im4-tub-ru.yandex.net/i?id=56734044-48-72&amp;n=21"/>
          <p:cNvPicPr/>
          <p:nvPr/>
        </p:nvPicPr>
        <p:blipFill>
          <a:blip r:embed="rId1"/>
          <a:stretch/>
        </p:blipFill>
        <p:spPr>
          <a:xfrm>
            <a:off x="5072040" y="3643200"/>
            <a:ext cx="38577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http://im4-tub-ru.yandex.net/i?id=159678169-13-72&amp;n=21"/>
          <p:cNvPicPr/>
          <p:nvPr/>
        </p:nvPicPr>
        <p:blipFill>
          <a:blip r:embed="rId1"/>
          <a:stretch/>
        </p:blipFill>
        <p:spPr>
          <a:xfrm>
            <a:off x="7072200" y="4214880"/>
            <a:ext cx="207180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Узнать, почему болят зуб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Выяснить, знают ли наши сверстники как правильно чистить зубы и ухаживать за ни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Изучить влияние здоровья зубов на эмоциональное состояние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Дать рекомендации для сохранения здоровых зуб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00040" y="4287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ЦЕЛЬ РАБОТ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omic Sans MS"/>
              </a:rPr>
              <a:t>Выявление причин заболевания зубов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omic Sans MS"/>
              </a:rPr>
              <a:t>Проведение тес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omic Sans MS"/>
              </a:rPr>
              <a:t>Анализ результа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omic Sans MS"/>
              </a:rPr>
              <a:t>Выработка комплекса рекомендаций и советов по уходу за зуб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500040" y="50004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МЕТОДЫ</a:t>
            </a: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 </a:t>
            </a: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ИССЛЕДОВАН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286160" y="171468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Кариес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образование полостей в твердых тканях зуб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ульпит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воспаление пуль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ародонтит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воспаление тканей вокруг зуба, приводящее к удалению зуб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3352680" cy="42670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50004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КАКИЕ БОЛЕЗНИ НАИБОЛЕЕ ХАРАКТЕРНЫ ДЛЯ ЗУБ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50004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Georgia"/>
              </a:rPr>
              <a:t>РЕЗУЛЬТАТЫ АНКЕТИРОВАНИЯ ОДНО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Диаграмма 7" descr=""/>
          <p:cNvPicPr/>
          <p:nvPr/>
        </p:nvPicPr>
        <p:blipFill>
          <a:blip r:embed="rId1"/>
          <a:stretch/>
        </p:blipFill>
        <p:spPr>
          <a:xfrm>
            <a:off x="0" y="0"/>
            <a:ext cx="4005360" cy="4151160"/>
          </a:xfrm>
          <a:prstGeom prst="rect">
            <a:avLst/>
          </a:prstGeom>
          <a:ln w="0">
            <a:noFill/>
          </a:ln>
        </p:spPr>
      </p:pic>
      <p:pic>
        <p:nvPicPr>
          <p:cNvPr id="112" name="Диаграмма 8" descr=""/>
          <p:cNvPicPr/>
          <p:nvPr/>
        </p:nvPicPr>
        <p:blipFill>
          <a:blip r:embed="rId2"/>
          <a:stretch/>
        </p:blipFill>
        <p:spPr>
          <a:xfrm>
            <a:off x="0" y="0"/>
            <a:ext cx="8650440" cy="3949560"/>
          </a:xfrm>
          <a:prstGeom prst="rect">
            <a:avLst/>
          </a:prstGeom>
          <a:ln w="0">
            <a:noFill/>
          </a:ln>
        </p:spPr>
      </p:pic>
      <p:pic>
        <p:nvPicPr>
          <p:cNvPr id="113" name="Диаграмма 9" descr=""/>
          <p:cNvPicPr/>
          <p:nvPr/>
        </p:nvPicPr>
        <p:blipFill>
          <a:blip r:embed="rId3"/>
          <a:stretch/>
        </p:blipFill>
        <p:spPr>
          <a:xfrm>
            <a:off x="0" y="0"/>
            <a:ext cx="3870360" cy="6529320"/>
          </a:xfrm>
          <a:prstGeom prst="rect">
            <a:avLst/>
          </a:prstGeom>
          <a:ln w="0">
            <a:noFill/>
          </a:ln>
        </p:spPr>
      </p:pic>
      <p:pic>
        <p:nvPicPr>
          <p:cNvPr id="114" name="Диаграмма 10" descr=""/>
          <p:cNvPicPr/>
          <p:nvPr/>
        </p:nvPicPr>
        <p:blipFill>
          <a:blip r:embed="rId4"/>
          <a:stretch/>
        </p:blipFill>
        <p:spPr>
          <a:xfrm>
            <a:off x="5200560" y="4486320"/>
            <a:ext cx="3314880" cy="1981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285480" y="1499760"/>
            <a:ext cx="450036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Сколько раз в день Вы чистите зуб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00400" y="1499760"/>
            <a:ext cx="450036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Как часто Вы полощите ро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3928680"/>
            <a:ext cx="46432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Как часто Вы кушаете фрукты и сырые овощ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6160" y="4000320"/>
            <a:ext cx="48578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53735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953735"/>
                </a:solidFill>
                <a:latin typeface="Comic Sans MS"/>
              </a:rPr>
              <a:t>Часто ли Вы употребляете конфеты, мороженое и другие сладост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Диаграмма 7" descr=""/>
          <p:cNvPicPr/>
          <p:nvPr/>
        </p:nvPicPr>
        <p:blipFill>
          <a:blip r:embed="rId1"/>
          <a:stretch/>
        </p:blipFill>
        <p:spPr>
          <a:xfrm>
            <a:off x="347760" y="1127160"/>
            <a:ext cx="3595680" cy="2097000"/>
          </a:xfrm>
          <a:prstGeom prst="rect">
            <a:avLst/>
          </a:prstGeom>
          <a:ln w="0">
            <a:noFill/>
          </a:ln>
        </p:spPr>
      </p:pic>
      <p:pic>
        <p:nvPicPr>
          <p:cNvPr id="120" name="Диаграмма 8" descr=""/>
          <p:cNvPicPr/>
          <p:nvPr/>
        </p:nvPicPr>
        <p:blipFill>
          <a:blip r:embed="rId2"/>
          <a:stretch/>
        </p:blipFill>
        <p:spPr>
          <a:xfrm>
            <a:off x="0" y="0"/>
            <a:ext cx="8790120" cy="3219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643280" y="713880"/>
            <a:ext cx="45007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Сколько раз в год Вы ходите к стоматолог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7120" y="713880"/>
            <a:ext cx="45007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Как часто мучает Вас зубная бол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53735"/>
                </a:solidFill>
                <a:latin typeface="Comic Sans MS"/>
              </a:rPr>
              <a:t>Соблюдай режим дня, занимайся спортом, закалива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53735"/>
                </a:solidFill>
                <a:latin typeface="Comic Sans MS"/>
              </a:rPr>
              <a:t>Ешьте то , что полезно для зуб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53735"/>
                </a:solidFill>
                <a:latin typeface="Comic Sans MS"/>
              </a:rPr>
              <a:t>  </a:t>
            </a:r>
            <a:r>
              <a:rPr b="0" i="1" lang="ru-RU" sz="3200" spc="-1" strike="noStrike">
                <a:solidFill>
                  <a:srgbClr val="953735"/>
                </a:solidFill>
                <a:latin typeface="Comic Sans MS"/>
              </a:rPr>
              <a:t>Предпочти конфетам фрукты, очень важные продукты.</a:t>
            </a:r>
            <a:r>
              <a:rPr b="0" lang="ru-RU" sz="3200" spc="-1" strike="noStrike">
                <a:solidFill>
                  <a:srgbClr val="953735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53735"/>
                </a:solidFill>
                <a:latin typeface="Comic Sans MS"/>
              </a:rPr>
              <a:t>Как поел, почисти зубки. Делай так два раза в су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53735"/>
                </a:solidFill>
                <a:latin typeface="Comic Sans MS"/>
              </a:rPr>
              <a:t>К стоматологу идём в год два раза на приё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50004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ЧТОБЫ ЗУБЫ БЫЛИ ЗДОРОВЫМ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я</dc:creator>
  <dc:description/>
  <dc:language>en-US</dc:language>
  <cp:lastModifiedBy>Мария</cp:lastModifiedBy>
  <dcterms:modified xsi:type="dcterms:W3CDTF">2013-01-12T13:36:55Z</dcterms:modified>
  <cp:revision>41</cp:revision>
  <dc:subject/>
  <dc:title>Слайд 1</dc:title>
</cp:coreProperties>
</file>