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7EC8-1F01-48BC-BAEE-57303292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347184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4015800"/>
            <a:ext cx="347184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EA29-7CBF-42BE-9BF2-4435BF08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79160" y="178596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401580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79160" y="401580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C68D-B7E7-454F-932A-DDA89732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1117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74000" y="1785960"/>
            <a:ext cx="1117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8320" y="1785960"/>
            <a:ext cx="1117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4015800"/>
            <a:ext cx="1117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74000" y="4015800"/>
            <a:ext cx="1117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8320" y="4015800"/>
            <a:ext cx="1117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D7F6-88EF-45B6-A885-92C6B2D5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F6E2-9E0E-4208-960D-C580FFF6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785960"/>
            <a:ext cx="34718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FE17-81B6-4822-84BF-155F80F9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347184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65CC-2BE2-49DD-9352-25232AC7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1694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279160" y="1785960"/>
            <a:ext cx="1694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95AA-72DE-47F8-A98F-E51F235D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57D6-F442-46BB-956C-683ECA72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9680" y="428400"/>
            <a:ext cx="3543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62BA-0C14-40F3-8C9E-DB4EACC8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279160" y="1785960"/>
            <a:ext cx="1694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401580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B228-E45C-4E4C-9308-C92DD165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785960"/>
            <a:ext cx="34718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8DDF-84E2-48E9-B454-F059A87C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1694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279160" y="178596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79160" y="401580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A683-5AD1-4F6A-8D15-8FE4F30C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279160" y="178596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4015800"/>
            <a:ext cx="347184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02D5-B2B3-49AC-99F8-E5B91BFE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347184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4015800"/>
            <a:ext cx="347184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6469-54DD-4FE7-89C7-2DC3A772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79160" y="178596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401580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279160" y="401580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9FEF-BDDE-477B-83DE-C461A81C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1117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74000" y="1785960"/>
            <a:ext cx="1117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48320" y="1785960"/>
            <a:ext cx="1117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4015800"/>
            <a:ext cx="1117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674000" y="4015800"/>
            <a:ext cx="1117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2848320" y="4015800"/>
            <a:ext cx="1117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4AA0-599F-4DB3-A60B-204FF1CE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347184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66B-CEFB-4A49-B07F-6913512D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1694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79160" y="1785960"/>
            <a:ext cx="1694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7C09-1572-4635-88BF-B38EA000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D272-ED21-498A-B144-B366B782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9680" y="428400"/>
            <a:ext cx="3543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8B2A-7D02-4170-9662-9CCD1EDC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79160" y="1785960"/>
            <a:ext cx="1694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401580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398-375E-42AA-B648-DCB8C4F6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1694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79160" y="178596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79160" y="401580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101-2494-4ACD-B37F-347D6254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79160" y="178596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4015800"/>
            <a:ext cx="347184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75D-E9C6-457B-8F82-F46A1F95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785960"/>
            <a:ext cx="347184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82760" indent="-185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2680" indent="-148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40040" indent="-148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11FA-6549-43F9-9C40-7284EE0757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785960"/>
            <a:ext cx="347184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82760" indent="-185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2680" indent="-148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40040" indent="-148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1222-6C87-4CBC-BFD2-8D2FD9169C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12760" y="1073160"/>
            <a:ext cx="3749760" cy="4011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6227640" y="3228840"/>
            <a:ext cx="155520" cy="1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«Арабески» и «Миргород»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835 вышли «Арабески» и «Миргород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Арабески» и «Миргород» носят на себе все признаки зреющего таланта. В них меньше этого упоения, это лирического разгула, но больше глубины и верности в изображении жизни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линский В.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6443640" y="4149720"/>
            <a:ext cx="30024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«Тарас Бульба»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16280"/>
            <a:ext cx="34718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Тарас Бульба» есть отрывок, эпизод из великой эпопеи жизни целого народа, если в наше время возможна гомерическая эпопея, то вот вам её высочайший образец, идеал и прототип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линский В.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5945040" y="3576600"/>
            <a:ext cx="285840" cy="2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«Ревизор»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835 год написан «Ревизор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новной сюжет «Ревизора», как и сюжет «Мёртвых душ», был сообщён Гоголю Пушкин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6372360" y="3855960"/>
            <a:ext cx="28728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«Мертвые души»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560" y="1600200"/>
            <a:ext cx="367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лавным делом жизни Гоголя явились «Мертвые души». Его писательская биография продолжалась 23 года. Из них около 17 лет были отданы «Мертвым душам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. Машин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588000" y="4416480"/>
            <a:ext cx="43200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79280" y="476280"/>
            <a:ext cx="37497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н похоронен в Москве, на Новодевичьем кладбище, и на его памятнике помещены слова пророка Иеремии: «Горьким моим словом посмеюся». По одной из версий Гоголь заснул летаргическим сном, так как после исследований останков его тела, было видно, что его тело передвинулось с места. Версию о летаргическом сне опровергают воспоминания скульптора Николая Рамазанова, делавшего посмертную маску Гогол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6012000" y="3790800"/>
            <a:ext cx="36036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Шинель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рагедия «Маленького челове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«…Много еще протечет времени, пока узнают меня совершенно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(Гоголь- С. Т. Аксакову-август 1842г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940360" y="3998880"/>
            <a:ext cx="2872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700280"/>
            <a:ext cx="34718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…Он брал бумагу и тут же                           пристраивался писать её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6084720" y="3500280"/>
            <a:ext cx="46692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…Завидя его издал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тавлял уже дело и ожида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оя навытяжку,пока начальни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йдёт комнату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6227640" y="3508200"/>
            <a:ext cx="432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95280" y="162864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…Петрович сиде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широком деревянн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крашеном столе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6588000" y="3664080"/>
            <a:ext cx="432000" cy="66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…Между тем Акакий Акакиеви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ел в самом праздничн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положении всех чувств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6372360" y="3230640"/>
            <a:ext cx="36036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3152"/>
                </a:solidFill>
                <a:latin typeface="Calibri"/>
              </a:rPr>
              <a:t>Детство и юность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Николай Гоголь родился 20 марта 1809 года в местечке Большие Сорочинцы на границе Полтавского и Миргородского уезд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5867280" y="3565440"/>
            <a:ext cx="289080" cy="184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5867280" y="4508640"/>
            <a:ext cx="22258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…Он чувствовал всякий миг минут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на плечах его новая шинель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6227640" y="3429000"/>
            <a:ext cx="30348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А ведь шинель-то моя!" - сказал один из них громовым голосом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хвативши его за воротник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6227640" y="3716280"/>
            <a:ext cx="4381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…Обернувшись, он заметил человека небольшого рост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таром поношенном вицмундир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не без ужаса узнал в нем  Акакия Акакиевича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6084720" y="4581360"/>
            <a:ext cx="40968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…И Петербург остал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ез Акакия Акакиевич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будто бы в нем его и никогда                                                    не было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084720" y="4292640"/>
            <a:ext cx="3225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Родители</a:t>
            </a: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292720" y="3455640"/>
            <a:ext cx="3471840" cy="25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изнь в деревне до школы и после шла в полнейшей обстановке малорусского быта, как панского, так и крестьянского. В этих впечатлениях был корень позднейших малорусских повестей Гоголя, его исторических и этнографических интерес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46040" y="2882880"/>
            <a:ext cx="238320" cy="282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1835280" y="2492280"/>
            <a:ext cx="23954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7029360" y="2936880"/>
            <a:ext cx="211320" cy="25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4"/>
          <a:stretch/>
        </p:blipFill>
        <p:spPr>
          <a:xfrm>
            <a:off x="4932360" y="2781360"/>
            <a:ext cx="2097000" cy="7682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108000" y="3284640"/>
            <a:ext cx="3959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ец Гоголя, Василий Афанасьевич, умер, когда сыну было пятнадцать лет. Предполагают, что сценическая деятельность отца, который был человек веселого характера и замечательный рассказчик, не осталась без последствий и определила интересы будущего писателя, у которого рано проявилась склонность к теат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21496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воекоштным, потом пансионером гимназии. Гоголь не был прилежным учеником, но обладал прекрасною памятью, за несколько дней готовился к экзаменам и переходил из класса в класс; он был очень слаб в языках и делал успехи только в рисовании и русской словес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116000" y="3573360"/>
            <a:ext cx="308160" cy="1652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179280" y="393372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возрасте десяти лет Гоголя отвезли в Полтаву для приготовления к гимназии, к одному из местных учителей; затем он поступил в Гимназию высших наук в Нежине (с мая 1821 по июнь 1828), где был снач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Нежин Гимназия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95280" y="4273560"/>
            <a:ext cx="431640" cy="212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5867280" y="4560840"/>
            <a:ext cx="217440" cy="1764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5076720" y="19144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 в Нежине, где писатель читал свое первое произ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ПЕТЕРБУРГ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214960" y="981000"/>
            <a:ext cx="34718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декабре 1828 г. Гоголь переехал в Петербург. Здесь впервые ждало его жестокое разочарование: его скромные средства оказались в большом городе слишком незначительными; блестящие надежды не осуществлялись так скоро, как он ожидал. Его письма домой за то время смешаны из этого разочарования и из широких ожиданий в будущем, хотя и туманных. В запасе у него было много характера и практической предприимчивости: он пробовал поступить на сцену, стать чиновником, отдаться литератур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969840" y="4361040"/>
            <a:ext cx="2318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148360" y="404640"/>
            <a:ext cx="34718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 ещё раньше он издал под псевдонимом В. Алова романтическую идиллию «Ганц Кюхельгартен» (1829 г.), которая была написана ещё в Нежине (он сам пометил её 1827 годом), и герою которой приданы те идеальные мечты и стремления, какими он сам был исполнен в последние годы нежинской жизни. Вскоре по выходе книжки в свет он сам уничтожил её тираж, когда критика отнеслась неблагосклонно к его произведе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84360" y="3300480"/>
            <a:ext cx="2872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 первый раз Гоголь был введен в круг литераторов, как автор «Вечеров на хуторе» 19 февраля 1832 года на неизвестном обеде А.Ф. Смирдина, по случаю новоселья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332400" y="3789360"/>
            <a:ext cx="33660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«Вечера на хуторе близ Диканьки»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133720"/>
            <a:ext cx="34718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830 год в «Отечественных записках» напечатана (без подписи) повесть «Бисаврюк, или Вечер накануне Ивана Купал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372360" y="4292640"/>
            <a:ext cx="21888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7:05:49Z</dcterms:created>
  <dc:creator>Comp</dc:creator>
  <dc:description/>
  <dc:language>en-US</dc:language>
  <cp:lastModifiedBy>Alla</cp:lastModifiedBy>
  <dcterms:modified xsi:type="dcterms:W3CDTF">2013-01-13T13:10:55Z</dcterms:modified>
  <cp:revision>54</cp:revision>
  <dc:subject/>
  <dc:title>Слайд 1</dc:title>
</cp:coreProperties>
</file>