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24B-B713-46EA-A1D5-49B6F622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347184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4015800"/>
            <a:ext cx="347184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298-BBF3-4F54-97D2-30A60610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7916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ECB-E4A3-45E3-AB85-636FCFC0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74000" y="178596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8320" y="178596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401580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74000" y="401580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8320" y="401580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583-24DB-4097-AA04-D5BA816E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DC65-BEA4-46AC-8CE7-1FC4038D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785960"/>
            <a:ext cx="3471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8F2D-6CC8-43D6-82EC-7DBFACB0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34718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F8F6-A9AF-4800-8A8E-09DB5050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7435-3CD6-4FE2-A70D-C47276C5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FD6A-7DA1-409E-BF0C-B5D6B348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9680" y="428400"/>
            <a:ext cx="3543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C4B5-A899-4458-A5CB-9A501A4C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F61D-FD32-4935-A000-00D83E7E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785960"/>
            <a:ext cx="3471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3E1-B71B-49A8-B08D-1D08053F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7916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818A-3F85-48AF-9851-4636B792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4015800"/>
            <a:ext cx="347184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D560-0481-4C75-B858-1B7C078A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347184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4015800"/>
            <a:ext cx="347184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BCFC-C21A-4563-9739-C701F085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7916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91D8-3D24-4753-AEAD-595B0E70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74000" y="178596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48320" y="178596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401580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674000" y="401580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848320" y="4015800"/>
            <a:ext cx="1117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A595-AAC6-4DBC-8B5C-6FF78715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34718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685-E43C-4FB3-8BBB-E095212B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156-CEA4-4831-8C13-D0753E10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21D-1E75-4216-9128-424FAED0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9680" y="428400"/>
            <a:ext cx="3543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1F6-F966-43D3-82E6-B125109E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B3A-1C88-4E82-A238-06995302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79160" y="401580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3C7-CED9-41A5-9C7D-1FE1DCC3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9680" y="328320"/>
            <a:ext cx="35434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79160" y="1785960"/>
            <a:ext cx="169416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4015800"/>
            <a:ext cx="347184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87B-7166-4300-B269-35E21A92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785960"/>
            <a:ext cx="34718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82760" indent="-18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2680" indent="-148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40040" indent="-148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4B03-2391-4BF4-83A9-13572458D0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785960"/>
            <a:ext cx="34718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82760" indent="-18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2680" indent="-148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40040" indent="-148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337040" indent="-148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EF99-D5AF-4EE6-AEDC-6C31670F2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12760" y="1073160"/>
            <a:ext cx="3749760" cy="4011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227640" y="3228840"/>
            <a:ext cx="155520" cy="1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«Арабески» и «Миргород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835 вышли «Арабески» и «Миргород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Арабески» и «Миргород» носят на себе все признаки зреющего таланта. В них меньше этого упоения, это лирического разгула, но больше глубины и верности в изображении жизн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линский В.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443640" y="4149720"/>
            <a:ext cx="300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«Тарас Бульба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16280"/>
            <a:ext cx="34718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Тарас Бульба» есть отрывок, эпизод из великой эпопеи жизни целого народа, если в наше время возможна гомерическая эпопея, то вот вам её высочайший образец, идеал и прототип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линский В.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945040" y="3576600"/>
            <a:ext cx="285840" cy="2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«Ревизор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835 год написан «Ревизор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ой сюжет «Ревизора», как и сюжет «Мёртвых душ», был сообщён Гоголю Пушки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6372360" y="3855960"/>
            <a:ext cx="28728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«Мертвые души»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560" y="1600200"/>
            <a:ext cx="367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ым делом жизни Гоголя явились «Мертвые души». Его писательская биография продолжалась 23 года. Из них около 17 лет были отданы «Мертвым душам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. Машин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588000" y="4416480"/>
            <a:ext cx="4320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79280" y="476280"/>
            <a:ext cx="37497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 похоронен в Москве, на Новодевичьем кладбище, и на его памятнике помещены слова пророка Иеремии: «Горьким моим словом посмеюся». По одной из версий Гоголь заснул летаргическим сном, так как после исследований останков его тела, было видно, что его тело передвинулось с места. Версию о летаргическом сне опровергают воспоминания скульптора Николая Рамазанова, делавшего посмертную маску Гогол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012000" y="3790800"/>
            <a:ext cx="36036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Шинель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рагедия «Маленького челове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…Много еще протечет времени, пока узнают меня совершенно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(Гоголь- С. Т. Аксакову-август 1842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940360" y="3998880"/>
            <a:ext cx="2872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700280"/>
            <a:ext cx="34718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…Он брал бумагу и тут же                           пристраивался писать её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084720" y="3500280"/>
            <a:ext cx="46692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…Завидя его издал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тавлял уже дело и ожида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оя навытяжку,пока начальни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йдёт комнату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6227640" y="3508200"/>
            <a:ext cx="432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5280" y="162864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…Петрович сиде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широком деревянн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крашеном столе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588000" y="3664080"/>
            <a:ext cx="432000" cy="66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…Между тем Акакий Акакиеви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шел в самом праздничн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сположении всех чувств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372360" y="3230640"/>
            <a:ext cx="36036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03152"/>
                </a:solidFill>
                <a:latin typeface="Calibri"/>
              </a:rPr>
              <a:t>Детство и юность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Николай Гоголь родился 20 марта 1809 года в местечке Большие Сорочинцы на границе Полтавского и Миргородского уезд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867280" y="3565440"/>
            <a:ext cx="289080" cy="184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5867280" y="4508640"/>
            <a:ext cx="22258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…Он чувствовал всякий миг минут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на плечах его новая шинель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30348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А ведь шинель-то моя!" - сказал один из них громовым голосо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вативши его за воротник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227640" y="3716280"/>
            <a:ext cx="4381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…Обернувшись, он заметил человека небольшого рост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старом поношенном вицмундир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не без ужаса узнал в нем  Акакия Акакиевича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084720" y="4581360"/>
            <a:ext cx="4096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…И Петербург остал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з Акакия Акакиевич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будто бы в нем его и никогда                                                    не было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84720" y="4292640"/>
            <a:ext cx="3225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Родители</a:t>
            </a: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292720" y="3455640"/>
            <a:ext cx="347184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изнь в деревне до школы и после шла в полнейшей обстановке малорусского быта, как панского, так и крестьянского. В этих впечатлениях был корень позднейших малорусских повестей Гоголя, его исторических и этнографических интере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46040" y="2882880"/>
            <a:ext cx="238320" cy="282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23954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7029360" y="2936880"/>
            <a:ext cx="211320" cy="25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4"/>
          <a:stretch/>
        </p:blipFill>
        <p:spPr>
          <a:xfrm>
            <a:off x="4932360" y="2781360"/>
            <a:ext cx="2097000" cy="7682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108000" y="3284640"/>
            <a:ext cx="3959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ц Гоголя, Василий Афанасьевич, умер, когда сыну было пятнадцать лет. Предполагают, что сценическая деятельность отца, который был человек веселого характера и замечательный рассказчик, не осталась без последствий и определила интересы будущего писателя, у которого рано проявилась склонность к теат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21496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оекоштным, потом пансионером гимназии. Гоголь не был прилежным учеником, но обладал прекрасною памятью, за несколько дней готовился к экзаменам и переходил из класса в класс; он был очень слаб в языках и делал успехи только в рисовании и русской слове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308160" cy="165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179280" y="393372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возрасте десяти лет Гоголя отвезли в Полтаву для приготовления к гимназии, к одному из местных учителей; затем он поступил в Гимназию высших наук в Нежине (с мая 1821 по июнь 1828), где был снач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Нежин Гимнази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95280" y="4273560"/>
            <a:ext cx="431640" cy="212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867280" y="4560840"/>
            <a:ext cx="217440" cy="1764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5076720" y="19144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 в Нежине, где писатель читал свое первое произ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ПЕТЕРБУРГ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214960" y="981000"/>
            <a:ext cx="34718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декабре 1828 г. Гоголь переехал в Петербург. Здесь впервые ждало его жестокое разочарование: его скромные средства оказались в большом городе слишком незначительными; блестящие надежды не осуществлялись так скоро, как он ожидал. Его письма домой за то время смешаны из этого разочарования и из широких ожиданий в будущем, хотя и туманных. В запасе у него было много характера и практической предприимчивости: он пробовал поступить на сцену, стать чиновником, отдаться литератур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69840" y="4361040"/>
            <a:ext cx="2318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48360" y="404640"/>
            <a:ext cx="34718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ещё раньше он издал под псевдонимом В. Алова романтическую идиллию «Ганц Кюхельгартен» (1829 г.), которая была написана ещё в Нежине (он сам пометил её 1827 годом), и герою которой приданы те идеальные мечты и стремления, какими он сам был исполнен в последние годы нежинской жизни. Вскоре по выходе книжки в свет он сам уничтожил её тираж, когда критика отнеслась неблагосклонно к его произвед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84360" y="3300480"/>
            <a:ext cx="2872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 первый раз Гоголь был введен в круг литераторов, как автор «Вечеров на хуторе» 19 февраля 1832 года на неизвестном обеде А.Ф. Смирдина, по случаю новоселья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332400" y="3789360"/>
            <a:ext cx="33660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Calibri"/>
              </a:rPr>
              <a:t>«Вечера на хуторе близ Диканьки»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133720"/>
            <a:ext cx="34718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830 год в «Отечественных записках» напечатана (без подписи) повесть «Бисаврюк, или Вечер накануне Ивана Купал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72360" y="4292640"/>
            <a:ext cx="2188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05:49Z</dcterms:created>
  <dc:creator>Comp</dc:creator>
  <dc:description/>
  <dc:language>en-US</dc:language>
  <cp:lastModifiedBy>Alla</cp:lastModifiedBy>
  <dcterms:modified xsi:type="dcterms:W3CDTF">2013-01-13T13:10:55Z</dcterms:modified>
  <cp:revision>54</cp:revision>
  <dc:subject/>
  <dc:title>Слайд 1</dc:title>
</cp:coreProperties>
</file>