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AA1-8279-420F-930F-9038B602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751-FF90-4FAB-BBDC-5A4B34AD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4AE2-B4CB-4799-8049-4668D641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6F6-64E7-488C-901F-077E9D35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731-D89D-4225-A8E6-E218D7C8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CA3A-1F69-4910-86C7-3293C4E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F52-8FBD-4E41-8BBE-9CE42759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5484-A2BB-4957-ACA5-48D3725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4C04-4A0D-4C90-A266-80B640E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3928-E207-47DF-899C-8CDEC463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E1B-3F3E-4130-8A97-C40C9B2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1A9-6F8F-4226-A0EF-D6677DF7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4AA4-2DA1-42F8-9E48-F80C564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807-7E7A-4358-A4EA-D928695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05FE-4DA6-4AB6-B796-7AB599A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52B-3C85-4B47-B5D3-C51F3B3F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EAF1-D587-4692-B19C-BBABEF1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36E-CFB6-48D2-812C-07C34BC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B5D-DC7D-40C0-A053-F64408E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007-F5AC-41A2-BABE-D73608DF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C04-CB53-415A-AD75-A430037D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E6D-ADD1-4F19-AB2F-23E09A8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797-6E25-4C49-B2C7-28649F98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DEC-26FA-4661-8DF3-2E1FCDB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E06C-6B7D-4DA1-8FD3-A73B298F319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B90-9294-4770-9081-2B8BD79057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les.33b.ru/smile.45126.html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dsmatrix.ru/goods-catalogue/Eggs/Hen&apos;s-egg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ацион и режим  питание школьник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275292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2428920"/>
            <a:ext cx="8229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авильный рос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костного скелета, зубов, мышечной, нервной тка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имают активное участие в процессах кроветворения, выработке различных ферментов и горм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714240" y="357120"/>
            <a:ext cx="7715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Минеральные вещества входят в состав всех клеток и тканей и обеспечивают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785520"/>
            <a:ext cx="769608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дукты, содержащие основные необходимые витамины и минеральные вещества, обязательно должны присутствовать в рационе школьника для правильного функционирования и развития детского организма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укты, богатые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витамином 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рков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адкий перец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ый лук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авель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пинат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лоды черноплодной ряб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шиповника и облепих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148360" y="3357720"/>
            <a:ext cx="367344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714240"/>
            <a:ext cx="769608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дукты-источники витамина С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лень петрушки и укроп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мидоры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ная и красная смородин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асный болгарский перец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итрусовы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офель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тамин Е содержится в следующих продуктах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ч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йц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рощенные зерна пшеницы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всяная и гречневая круп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10"/>
          <p:cNvPicPr/>
          <p:nvPr/>
        </p:nvPicPr>
        <p:blipFill>
          <a:blip r:embed="rId1"/>
          <a:stretch/>
        </p:blipFill>
        <p:spPr>
          <a:xfrm>
            <a:off x="5292720" y="4292640"/>
            <a:ext cx="3024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00080" y="713880"/>
            <a:ext cx="7686720" cy="553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итамины и минера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дукты, богатые витаминами группы В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леб грубого помол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лок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ворог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чен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ыр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йца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пуст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бло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индаль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мидоры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обов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1"/>
          <p:cNvPicPr/>
          <p:nvPr/>
        </p:nvPicPr>
        <p:blipFill>
          <a:blip r:embed="rId1"/>
          <a:stretch/>
        </p:blipFill>
        <p:spPr>
          <a:xfrm>
            <a:off x="5651640" y="1989000"/>
            <a:ext cx="2950920" cy="190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771640" y="3716280"/>
            <a:ext cx="41040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Распределение суточного рацио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трак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торой завтрак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ед-3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дник-1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жин-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втрак в школе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рошее самочувствие вашего ребенка в течение уроков обеспечивает вовремя съеденный школь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25236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ед очень важен для школьников, обеспечивая их необходимой энергией для наиболее активной части дня. Исследования показали, что регулярно и правильно обед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03640" y="1413000"/>
          <a:ext cx="594036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413000"/>
                    <a:ext cx="594036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24360" y="2349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сследования показыв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51664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статистике участвуют дети, которые игнорируют школьную столову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00"/>
                </a:solidFill>
                <a:latin typeface="Tahoma"/>
              </a:rPr>
              <a:t>Причины нарушения веса у детей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2534760"/>
            <a:ext cx="754380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чество продуктов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ультура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жим пи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сбалансирован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зическая актив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99736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486400" y="2743200"/>
            <a:ext cx="3505320" cy="266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09720" y="2666880"/>
            <a:ext cx="3581640" cy="2819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воспитателя. От жизнерадостности, бодрости детей зависит их духовная жизнь, мировоззрение, умственное развитие, прочность знаний и вера в свои силы» </a:t>
            </a:r>
            <a:br>
              <a:rPr sz="1800"/>
            </a:b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         В.А.Сухомлинск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2655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1619280" y="1628640"/>
            <a:ext cx="488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981080"/>
          <a:ext cx="6802560" cy="4129200"/>
        </p:xfrm>
        <a:graphic>
          <a:graphicData uri="http://schemas.openxmlformats.org/drawingml/2006/table">
            <a:tbl>
              <a:tblPr/>
              <a:tblGrid>
                <a:gridCol w="2502000"/>
                <a:gridCol w="408492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ци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см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завт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завтр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д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 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762200" y="442656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жим пита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Самым важным фактором, влияющим на здоровье и качество питания ребенка, является уровень образования его матери!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32000" y="2016000"/>
            <a:ext cx="6624720" cy="4380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4005360"/>
            <a:ext cx="237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е иммунет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Ваш ребенок в школе,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но не питается в столовой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вет родителям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1258920" y="2135160"/>
            <a:ext cx="5751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пытайтесь наглядно продемонстрировать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3920" y="2285640"/>
            <a:ext cx="5905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2" name="Picture 6" descr="f25886907d824ca74bd839bd2fd4b2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65760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доровое и рациональн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сновные принципы здорового питания школьников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6000" y="1980720"/>
            <a:ext cx="7340760" cy="19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тание школьника должно быть оптимальны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итание школьника должно быть сбалансированны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4120" y="4219560"/>
            <a:ext cx="3809880" cy="2638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5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6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3213000"/>
            <a:ext cx="2233440" cy="1468440"/>
          </a:xfrm>
          <a:custGeom>
            <a:avLst/>
            <a:gdLst>
              <a:gd name="textAreaLeft" fmla="*/ 348840 w 2233440"/>
              <a:gd name="textAreaRight" fmla="*/ 2078280 w 2233440"/>
              <a:gd name="textAreaTop" fmla="*/ 533520 h 1468440"/>
              <a:gd name="textAreaBottom" fmla="*/ 934920 h 1468440"/>
            </a:gdLst>
            <a:ahLst/>
            <a:rect l="textAreaLeft" t="textAreaTop" r="textAreaRight" b="textAreaBottom"/>
            <a:pathLst>
              <a:path w="21600" h="21600">
                <a:moveTo>
                  <a:pt x="3375" y="7846"/>
                </a:moveTo>
                <a:lnTo>
                  <a:pt x="16105" y="7846"/>
                </a:lnTo>
                <a:lnTo>
                  <a:pt x="16105" y="0"/>
                </a:lnTo>
                <a:lnTo>
                  <a:pt x="21600" y="10800"/>
                </a:lnTo>
                <a:lnTo>
                  <a:pt x="16105" y="21600"/>
                </a:lnTo>
                <a:lnTo>
                  <a:pt x="16105" y="13754"/>
                </a:lnTo>
                <a:lnTo>
                  <a:pt x="3375" y="13754"/>
                </a:lnTo>
                <a:close/>
              </a:path>
              <a:path w="21600" h="21600">
                <a:moveTo>
                  <a:pt x="0" y="7846"/>
                </a:moveTo>
                <a:lnTo>
                  <a:pt x="675" y="7846"/>
                </a:lnTo>
                <a:lnTo>
                  <a:pt x="675" y="13754"/>
                </a:lnTo>
                <a:lnTo>
                  <a:pt x="0" y="13754"/>
                </a:lnTo>
                <a:close/>
              </a:path>
              <a:path w="21600" h="21600">
                <a:moveTo>
                  <a:pt x="1350" y="7846"/>
                </a:moveTo>
                <a:lnTo>
                  <a:pt x="2700" y="7846"/>
                </a:lnTo>
                <a:lnTo>
                  <a:pt x="2700" y="13754"/>
                </a:lnTo>
                <a:lnTo>
                  <a:pt x="1350" y="1375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92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Не соблюдение основ здорового питания школьников приводит ..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357120" y="-579600"/>
            <a:ext cx="817560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ыми элементами здорового питания школьников являю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белки, жиры, углеводы, витамины, макро и микроэлементы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http://stat.gogo.mn/images/advice/formation-dieteticien.jpg"/>
          <p:cNvPicPr/>
          <p:nvPr/>
        </p:nvPicPr>
        <p:blipFill>
          <a:blip r:embed="rId1"/>
          <a:stretch/>
        </p:blipFill>
        <p:spPr>
          <a:xfrm>
            <a:off x="2700360" y="2771640"/>
            <a:ext cx="3681360" cy="368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720" y="356760"/>
            <a:ext cx="76960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Белки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ыми ценными для ребенка являются рыбный и молочный белок, который лучше всего усваивается детским организмом. На втором месте по качеству - мясной белок, на третьем – белок растительного происхожден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жедневно школьник должен получать 75-90 г белка, из них 40-55 г животного происхождения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 рационе ребенка школьного возраста обязательно должны присутствовать следующие продукты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локо или кисломолочные напитки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ворог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ыр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ыба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ясные продукт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йца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2"/>
          <p:cNvPicPr/>
          <p:nvPr/>
        </p:nvPicPr>
        <p:blipFill>
          <a:blip r:embed="rId2"/>
          <a:stretch/>
        </p:blipFill>
        <p:spPr>
          <a:xfrm>
            <a:off x="6248520" y="4495680"/>
            <a:ext cx="2247840" cy="169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2"/>
          <p:cNvPicPr/>
          <p:nvPr/>
        </p:nvPicPr>
        <p:blipFill>
          <a:blip r:embed="rId3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2"/>
          <p:cNvPicPr/>
          <p:nvPr/>
        </p:nvPicPr>
        <p:blipFill>
          <a:blip r:embed="rId4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2"/>
          <p:cNvPicPr/>
          <p:nvPr/>
        </p:nvPicPr>
        <p:blipFill>
          <a:blip r:embed="rId5"/>
          <a:stretch/>
        </p:blipFill>
        <p:spPr>
          <a:xfrm>
            <a:off x="6227640" y="4508640"/>
            <a:ext cx="2248200" cy="1690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285840"/>
            <a:ext cx="792468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Жир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ые жиры содержатся не только в привычных для нас «жирных» продуктах – масле, сметане, сале и т.д. Мясо, молоко и рыба – источники скрытых жиров. Животные жиры усваиваются хуже растительных и не содержат важные для организма жирные кислоты и жирорастворимые витамины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рма потребления жиров для школьников - 80-90 г в сутки, 30% суточного рациона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жедневно ребенок школьного возраста должен получать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ливочное масл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стительное масло 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метан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4500720" y="3645000"/>
            <a:ext cx="3958920" cy="3152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428760"/>
            <a:ext cx="7848720" cy="58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глеводы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леводы необходимы для пополнения энергетических запасов организма. Наиболее полезны сложные углеводы, содержащие неперевариваемые пищевые волок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точная норма углеводов в рационе школьника - 300-400 г, из них на долю простых должно приходиться не более 100 г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е продукты в меню школьника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леб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п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ртофель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хофрукты 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хар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3168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дом</cp:lastModifiedBy>
  <dcterms:modified xsi:type="dcterms:W3CDTF">2012-09-10T16:47:54Z</dcterms:modified>
  <cp:revision>16</cp:revision>
  <dc:subject/>
  <dc:title>Здоровое питание и мой ребенок</dc:title>
</cp:coreProperties>
</file>