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B83-C50E-499C-9A33-56FDA5BB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9F6-AE27-49C0-989F-F73E8D26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52F-46EF-464B-93CB-5C562DC9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CE7-3C9F-41E1-986D-7B213E97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982-916A-40F5-AC05-F1831FC7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464-F09F-408C-9D9D-7D78BC30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7108-3C68-4D05-8BE9-614D17A7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F338-9628-42AF-8E82-AD27C60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1E8-486E-44D9-A59C-497E2010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3E53-1F11-433A-9B7D-9E5B39C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B30E-933E-40EB-A67B-93459D0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5CD-CE81-477D-AF84-817E3D6E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A494-B3AC-48B5-9069-31FCE0C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9CD5-BC77-431C-8F2A-23912621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80A-79CA-4F55-969C-5194B00D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6F50-37F9-4D4F-BCC6-BB38EEFB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D59B-B4E8-4B2E-92E5-B89A075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0C3-AB92-4762-9D14-159F1834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D5C-2483-4CD0-8C4D-69FA7181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A03-DAD4-4845-9A06-1B921104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A03-69B6-4DF9-8D44-A66389CE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ED1-D172-49CC-8F5C-D4380901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D8C-3EB5-4DD6-9237-C7D76F1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BE0-C3BE-48CD-94B5-5F24DDA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75F-94DA-49A5-9C07-8CDD5A18CB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88E-4DC4-4E17-BC18-10F4AD2BBA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miles.33b.ru/smile.45126.html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Eggs/Hen&apos;s-egg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ацион и режим  питание школьник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2781360" cy="417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27529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242892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ьный рос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костного скелета, зубов, мышечной, нервной тка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имают активное участие в процессах кроветворения, выработке различных ферментов и гормо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714240" y="35712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Минеральные вещества входят в состав всех клеток и тканей и обеспечивают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90720" y="785520"/>
            <a:ext cx="769608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итамины и минералы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дукты, содержащие основные необходимые витамины и минеральные вещества, обязательно должны присутствовать в рационе школьника для правильного функционирования и развития детского организм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укты, богаты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витамином 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рков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ладкий перец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еленый лук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авель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пинат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елен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лоды черноплодной ряб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шиповника и облепих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367344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720" y="714240"/>
            <a:ext cx="76960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итамины и минер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укты-источники витамина С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лень петрушки и укроп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мидоры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ная и красная смородин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ный болгарский перец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итрусовы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офель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тамин Е содержится в следующих продуктах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чен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йц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рощенные зерна пшениц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всяная и гречневая круп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10"/>
          <p:cNvPicPr/>
          <p:nvPr/>
        </p:nvPicPr>
        <p:blipFill>
          <a:blip r:embed="rId1"/>
          <a:stretch/>
        </p:blipFill>
        <p:spPr>
          <a:xfrm>
            <a:off x="5292720" y="4292640"/>
            <a:ext cx="3024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00080" y="713880"/>
            <a:ext cx="768672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итамины и минер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дукты, богатые витаминами группы В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леб грубого помол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локо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ворог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чен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ыр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йц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пуст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блок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индал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мидоры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бов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11"/>
          <p:cNvPicPr/>
          <p:nvPr/>
        </p:nvPicPr>
        <p:blipFill>
          <a:blip r:embed="rId1"/>
          <a:stretch/>
        </p:blipFill>
        <p:spPr>
          <a:xfrm>
            <a:off x="5651640" y="1989000"/>
            <a:ext cx="2950920" cy="190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771640" y="371628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Распределение суточного рацион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втрак-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торой завтрак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ед-3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дник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жин-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Здоровое питание – условие хорошей успеваемост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970440" cy="4681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2962440"/>
            <a:ext cx="343368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втрак (дома)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юсли, хлопья, воздушный рис и т.п. с молоком и (желательно) с фрук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втрак в школе обязателен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640320" cy="4653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19640" y="2060280"/>
            <a:ext cx="3673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рошее самочувствие вашего ребенка в течение уроков обеспечивает вовремя съеденный школьный завтра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 еще о завтраке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25236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д очень важен для школьников, обеспечивая их необходимой энергией для наиболее активной части дня. Исследования показали, что регулярно и правильно обедающие дети, проявляют большую энергию на уроках, лучше воспринимают информацию и достигают более высоких результа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03640" y="1413000"/>
          <a:ext cx="594036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413000"/>
                    <a:ext cx="594036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92436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сследования показыв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551664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статистике участвуют дети, которые игнорируют школьную столову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Причины нарушения веса у детей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2534760"/>
            <a:ext cx="754380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чество продуктов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льтура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жим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балансирова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ая актив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86400" y="2743200"/>
            <a:ext cx="3505320" cy="266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09720" y="2666880"/>
            <a:ext cx="3581640" cy="281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«Забота о здоровье – это важнейший труд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воспитателя. От жизнерадостности, бодрости детей зависит их духовная жизнь, мировоззрение, умственное развитие, прочность знаний и вера в свои силы» 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         В.А.Сухомлинск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2655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1619280" y="1628640"/>
            <a:ext cx="488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1981080"/>
          <a:ext cx="6802560" cy="4129200"/>
        </p:xfrm>
        <a:graphic>
          <a:graphicData uri="http://schemas.openxmlformats.org/drawingml/2006/table">
            <a:tbl>
              <a:tblPr/>
              <a:tblGrid>
                <a:gridCol w="2502000"/>
                <a:gridCol w="408492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ци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см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завт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завт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д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762200" y="44265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жим пита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Самым важным фактором, влияющим на здоровье и качество питания ребенка, является уровень образования его матери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32000" y="2016000"/>
            <a:ext cx="6624720" cy="4380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400536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е иммунет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Ваш ребенок в школе,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но не питается в столовой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вет родителям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1258920" y="2135160"/>
            <a:ext cx="5751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пытайтесь наглядно продемонстрировать ребенку преимущества здорового пит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льчиков можно «воодушевить» с помощью объяснения, что здоровые продукты – путь к физической силе, высокому рос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 девочек можно повлиять с помощью рассказов о красоте волос и кожи. Проиллюстрируйте им возможные последствия переедания сладкого или жирного: кариес, ожирение, выпадение волос, угревая сып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3920" y="2285640"/>
            <a:ext cx="5905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имание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2" name="Picture 6" descr="f25886907d824ca74bd839bd2fd4b2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65760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блема здоровья – проблема пита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доровое и рациональн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26607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сновные принципы здорового питания школьников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000" y="1980720"/>
            <a:ext cx="734076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тание школьника должно быть оптимальны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тание школьника должно быть сбалансированны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4120" y="4219560"/>
            <a:ext cx="380988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429000"/>
            <a:ext cx="2735280" cy="1008000"/>
          </a:xfrm>
          <a:prstGeom prst="flowChartTerminator">
            <a:avLst/>
          </a:prstGeom>
          <a:gradFill rotWithShape="0">
            <a:gsLst>
              <a:gs pos="0">
                <a:srgbClr val="66ccff"/>
              </a:gs>
              <a:gs pos="50000">
                <a:srgbClr val="2f5e75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3213000"/>
            <a:ext cx="2233440" cy="1468440"/>
          </a:xfrm>
          <a:custGeom>
            <a:avLst/>
            <a:gdLst>
              <a:gd name="textAreaLeft" fmla="*/ 348840 w 2233440"/>
              <a:gd name="textAreaRight" fmla="*/ 2078280 w 2233440"/>
              <a:gd name="textAreaTop" fmla="*/ 533520 h 1468440"/>
              <a:gd name="textAreaBottom" fmla="*/ 934920 h 1468440"/>
            </a:gdLst>
            <a:ahLst/>
            <a:rect l="textAreaLeft" t="textAreaTop" r="textAreaRight" b="textAreaBottom"/>
            <a:pathLst>
              <a:path w="21600" h="21600">
                <a:moveTo>
                  <a:pt x="3375" y="7846"/>
                </a:moveTo>
                <a:lnTo>
                  <a:pt x="16105" y="7846"/>
                </a:lnTo>
                <a:lnTo>
                  <a:pt x="16105" y="0"/>
                </a:lnTo>
                <a:lnTo>
                  <a:pt x="21600" y="10800"/>
                </a:lnTo>
                <a:lnTo>
                  <a:pt x="16105" y="21600"/>
                </a:lnTo>
                <a:lnTo>
                  <a:pt x="16105" y="13754"/>
                </a:lnTo>
                <a:lnTo>
                  <a:pt x="3375" y="13754"/>
                </a:lnTo>
                <a:close/>
              </a:path>
              <a:path w="21600" h="21600">
                <a:moveTo>
                  <a:pt x="0" y="7846"/>
                </a:moveTo>
                <a:lnTo>
                  <a:pt x="675" y="7846"/>
                </a:lnTo>
                <a:lnTo>
                  <a:pt x="675" y="13754"/>
                </a:lnTo>
                <a:lnTo>
                  <a:pt x="0" y="13754"/>
                </a:lnTo>
                <a:close/>
              </a:path>
              <a:path w="21600" h="21600">
                <a:moveTo>
                  <a:pt x="1350" y="7846"/>
                </a:moveTo>
                <a:lnTo>
                  <a:pt x="2700" y="7846"/>
                </a:lnTo>
                <a:lnTo>
                  <a:pt x="2700" y="13754"/>
                </a:lnTo>
                <a:lnTo>
                  <a:pt x="1350" y="1375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92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Не соблюдение основ здорового питания школьников приводит ..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357120" y="-579600"/>
            <a:ext cx="81756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ыми элементами здорового питания школьников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Times New Roman"/>
              </a:rPr>
              <a:t>белки, жиры, углеводы, витамины, макро и микроэлементы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http://stat.gogo.mn/images/advice/formation-dieteticien.jpg"/>
          <p:cNvPicPr/>
          <p:nvPr/>
        </p:nvPicPr>
        <p:blipFill>
          <a:blip r:embed="rId1"/>
          <a:stretch/>
        </p:blipFill>
        <p:spPr>
          <a:xfrm>
            <a:off x="2700360" y="2771640"/>
            <a:ext cx="3681360" cy="368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720" y="356760"/>
            <a:ext cx="76960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Белки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ыми ценными для ребенка являются рыбный и молочный белок, который лучше всего усваивается детским организмом. На втором месте по качеству - мясной белок, на третьем – белок растительного происхожден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жедневно школьник должен получать 75-90 г белка, из них 40-55 г животного происхождения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рационе ребенка школьного возраста обязательно должны присутствовать следующие продукты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локо или кисломолочные напитки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ворог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ыр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ыба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ясные продукты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яйца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2"/>
          <p:cNvPicPr/>
          <p:nvPr/>
        </p:nvPicPr>
        <p:blipFill>
          <a:blip r:embed="rId2"/>
          <a:stretch/>
        </p:blipFill>
        <p:spPr>
          <a:xfrm>
            <a:off x="6248520" y="4495680"/>
            <a:ext cx="2247840" cy="169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2"/>
          <p:cNvPicPr/>
          <p:nvPr/>
        </p:nvPicPr>
        <p:blipFill>
          <a:blip r:embed="rId3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2"/>
          <p:cNvPicPr/>
          <p:nvPr/>
        </p:nvPicPr>
        <p:blipFill>
          <a:blip r:embed="rId4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2"/>
          <p:cNvPicPr/>
          <p:nvPr/>
        </p:nvPicPr>
        <p:blipFill>
          <a:blip r:embed="rId5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285840"/>
            <a:ext cx="792468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Жир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ые жиры содержатся не только в привычных для нас «жирных» продуктах – масле, сметане, сале и т.д. Мясо, молоко и рыба – источники скрытых жиров. Животные жиры усваиваются хуже растительных и не содержат важные для организма жирные кислоты и жирорастворимые витамины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 потребления жиров для школьников - 80-90 г в сутки, 30% суточного рациона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жедневно ребенок школьного возраста должен получать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ливочное масло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тительное масло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метан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39589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428760"/>
            <a:ext cx="78487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глеводы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леводы необходимы для пополнения энергетических запасов организма. Наиболее полезны сложные углеводы, содержащие неперевариваемые пищевые волок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точная норма углеводов в рационе школьника - 300-400 г, из них на долю простых должно приходиться не более 100 г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е продукты в меню школьник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леб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пы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офель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хофрукты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хар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31687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дом</cp:lastModifiedBy>
  <dcterms:modified xsi:type="dcterms:W3CDTF">2012-09-10T16:47:54Z</dcterms:modified>
  <cp:revision>16</cp:revision>
  <dc:subject/>
  <dc:title>Здоровое питание и мой ребенок</dc:title>
</cp:coreProperties>
</file>