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5.gif" ContentType="image/gif"/>
  <Override PartName="/ppt/media/image4.png" ContentType="image/png"/>
  <Override PartName="/ppt/media/image3.jpeg" ContentType="image/jpeg"/>
  <Override PartName="/ppt/media/image26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5F83-2752-4D78-9572-808BEF21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D71F-5077-4C57-99D5-61F2FC1C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8E06-617C-4A89-9383-268E47C3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19DD-5250-4B20-888C-726AD71C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3ED9-B7BA-476E-B0CB-53084ED4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DE0F-4B79-412F-BBCF-EB7FFF74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7D99-FF5E-4B8C-8010-80E427A9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6E09-FA11-4D64-ACA8-722221AB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706C-1F72-444C-852D-9629D8A0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043A-4DFB-40A5-B8DD-86905CD6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7BCC-71CD-402E-BE83-B9BA2904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C435-68A8-4E68-9A08-1E48DCD8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0C46-A1D3-4EA4-ACE5-9140A8BF22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file:///&#1050;&#1088;&#1086;&#1089;&#1089;&#1074;&#1086;&#1088;&#1076;%20&#8211;%20&#1090;&#1077;&#1089;&#1090;%20&#171;&#1055;&#1083;&#1072;&#1085;&#1077;&#1090;&#1099;%20&#1057;&#1086;&#1083;&#1085;&#1077;&#1095;&#1085;&#1086;&#1081;%20&#1089;&#1080;&#1089;&#1090;&#1077;&#1084;&#1099;&#187;.pptx" TargetMode="Externa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517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89308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зенное специальное (коррекционное) образовательное учреждение Сургутская специальная (коррекционная) общеобразовательная школа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II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ида «Школа с углубленной трудовой подготовк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11"/>
          <p:cNvSpPr txBox="1"/>
          <p:nvPr/>
        </p:nvSpPr>
        <p:spPr>
          <a:xfrm>
            <a:off x="900000" y="1989000"/>
            <a:ext cx="6912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рок географии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Планеты"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Содержимое 3" descr="01113a8613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WordArt 6"/>
          <p:cNvSpPr txBox="1"/>
          <p:nvPr/>
        </p:nvSpPr>
        <p:spPr>
          <a:xfrm>
            <a:off x="395280" y="5805360"/>
            <a:ext cx="309708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ndalus"/>
              </a:rPr>
              <a:t>ЗЕМЛЯ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ndalus"/>
              <a:ea typeface="Andal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4" descr="marteysussatelites_thumb.jpg"/>
          <p:cNvPicPr/>
          <p:nvPr/>
        </p:nvPicPr>
        <p:blipFill>
          <a:blip r:embed="rId1"/>
          <a:srcRect l="0" t="0" r="1964" b="27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WordArt 6"/>
          <p:cNvSpPr txBox="1"/>
          <p:nvPr/>
        </p:nvSpPr>
        <p:spPr>
          <a:xfrm>
            <a:off x="324000" y="260280"/>
            <a:ext cx="237636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ndalus"/>
              </a:rPr>
              <a:t>МАРС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ndalus"/>
              <a:ea typeface="Andal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большие планеты с каменистой поверхност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5"/>
          <p:cNvSpPr/>
          <p:nvPr/>
        </p:nvSpPr>
        <p:spPr>
          <a:xfrm>
            <a:off x="6659640" y="2349360"/>
            <a:ext cx="1657440" cy="432000"/>
          </a:xfrm>
          <a:prstGeom prst="wedgeRoundRectCallout">
            <a:avLst>
              <a:gd name="adj1" fmla="val -43773"/>
              <a:gd name="adj2" fmla="val 10293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4643280" y="2349360"/>
            <a:ext cx="1657440" cy="432000"/>
          </a:xfrm>
          <a:prstGeom prst="wedgeRoundRectCallout">
            <a:avLst>
              <a:gd name="adj1" fmla="val -43773"/>
              <a:gd name="adj2" fmla="val 10293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2484360" y="2349360"/>
            <a:ext cx="1657440" cy="432000"/>
          </a:xfrm>
          <a:prstGeom prst="wedgeRoundRectCallout">
            <a:avLst>
              <a:gd name="adj1" fmla="val -43773"/>
              <a:gd name="adj2" fmla="val 10293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Н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179280" y="2349360"/>
            <a:ext cx="2016360" cy="432000"/>
          </a:xfrm>
          <a:prstGeom prst="wedgeRoundRectCallout">
            <a:avLst>
              <a:gd name="adj1" fmla="val -34171"/>
              <a:gd name="adj2" fmla="val 10293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РКУ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н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5" descr="planeta1.jpg"/>
          <p:cNvPicPr/>
          <p:nvPr/>
        </p:nvPicPr>
        <p:blipFill>
          <a:blip r:embed="rId1"/>
          <a:srcRect l="0" t="3779" r="0" b="0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рс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с  - четвёртая планета от солнца. Поверхность планеты содержит много железа, которое, окисляясь, даёт красный цве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Содержимое 3" descr="699px-Jupiter-Earth-Spot_comparison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4" name="WordArt 6"/>
          <p:cNvSpPr txBox="1"/>
          <p:nvPr/>
        </p:nvSpPr>
        <p:spPr>
          <a:xfrm>
            <a:off x="5508720" y="404640"/>
            <a:ext cx="3097080" cy="57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ndalus"/>
              </a:rPr>
              <a:t>ЮПИТЕР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ndalus"/>
              <a:ea typeface="Andalus"/>
            </a:endParaRPr>
          </a:p>
        </p:txBody>
      </p:sp>
      <p:sp>
        <p:nvSpPr>
          <p:cNvPr id="85" name="WordArt 7"/>
          <p:cNvSpPr txBox="1"/>
          <p:nvPr/>
        </p:nvSpPr>
        <p:spPr>
          <a:xfrm>
            <a:off x="5508720" y="404640"/>
            <a:ext cx="3097080" cy="57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ndalus"/>
              </a:rPr>
              <a:t>ЮПИТЕР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ndalus"/>
              <a:ea typeface="Andal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WordArt 4"/>
          <p:cNvSpPr txBox="1"/>
          <p:nvPr/>
        </p:nvSpPr>
        <p:spPr>
          <a:xfrm>
            <a:off x="5508720" y="404640"/>
            <a:ext cx="3097080" cy="57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ndalus"/>
              </a:rPr>
              <a:t>ЮПИТЕР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ndalus"/>
              <a:ea typeface="Andalus"/>
            </a:endParaRPr>
          </a:p>
        </p:txBody>
      </p:sp>
      <p:sp>
        <p:nvSpPr>
          <p:cNvPr id="89" name="Овал 6"/>
          <p:cNvSpPr/>
          <p:nvPr/>
        </p:nvSpPr>
        <p:spPr>
          <a:xfrm>
            <a:off x="7885080" y="6093000"/>
            <a:ext cx="1079640" cy="576000"/>
          </a:xfrm>
          <a:prstGeom prst="ellipse">
            <a:avLst/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иде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352728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ета названа в честь самого главного римского бога – Юпи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4" descr="ypiter.jpg"/>
          <p:cNvPicPr/>
          <p:nvPr/>
        </p:nvPicPr>
        <p:blipFill>
          <a:blip r:embed="rId1"/>
          <a:stretch/>
        </p:blipFill>
        <p:spPr>
          <a:xfrm>
            <a:off x="4500720" y="765000"/>
            <a:ext cx="40478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4" name="WordArt 7"/>
          <p:cNvSpPr txBox="1"/>
          <p:nvPr/>
        </p:nvSpPr>
        <p:spPr>
          <a:xfrm>
            <a:off x="468360" y="333360"/>
            <a:ext cx="309708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ndalus"/>
              </a:rPr>
              <a:t>САТУРН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ndalus"/>
              <a:ea typeface="Andal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WordArt 4"/>
          <p:cNvSpPr txBox="1"/>
          <p:nvPr/>
        </p:nvSpPr>
        <p:spPr>
          <a:xfrm>
            <a:off x="539640" y="333360"/>
            <a:ext cx="230364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ndalus"/>
              </a:rPr>
              <a:t>УРАН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ndalus"/>
              <a:ea typeface="Andal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Содержимое 3" descr="Neptune,_Earth_size_comparis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85080"/>
          </a:xfrm>
          <a:prstGeom prst="rect">
            <a:avLst/>
          </a:prstGeom>
          <a:ln w="0">
            <a:noFill/>
          </a:ln>
        </p:spPr>
      </p:pic>
      <p:sp>
        <p:nvSpPr>
          <p:cNvPr id="100" name="WordArt 7"/>
          <p:cNvSpPr txBox="1"/>
          <p:nvPr/>
        </p:nvSpPr>
        <p:spPr>
          <a:xfrm>
            <a:off x="6300720" y="260280"/>
            <a:ext cx="259092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ndalus"/>
              </a:rPr>
              <a:t>НЕПТУН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ndalus"/>
              <a:ea typeface="Andalus"/>
            </a:endParaRPr>
          </a:p>
        </p:txBody>
      </p:sp>
      <p:sp>
        <p:nvSpPr>
          <p:cNvPr id="101" name="Овал 6"/>
          <p:cNvSpPr/>
          <p:nvPr/>
        </p:nvSpPr>
        <p:spPr>
          <a:xfrm>
            <a:off x="7885080" y="6093000"/>
            <a:ext cx="1079640" cy="576000"/>
          </a:xfrm>
          <a:prstGeom prst="ellipse">
            <a:avLst/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иде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планеты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-1332000" y="0"/>
            <a:ext cx="588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СМ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ЛАНЕТЫ-ГИГА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rcRect l="0" t="0" r="2065" b="0"/>
          <a:stretch/>
        </p:blipFill>
        <p:spPr>
          <a:xfrm>
            <a:off x="0" y="1785960"/>
            <a:ext cx="9144000" cy="41432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4"/>
          <p:cNvSpPr/>
          <p:nvPr/>
        </p:nvSpPr>
        <p:spPr>
          <a:xfrm>
            <a:off x="2571840" y="5214960"/>
            <a:ext cx="1511280" cy="431640"/>
          </a:xfrm>
          <a:prstGeom prst="wedgeRoundRectCallout">
            <a:avLst>
              <a:gd name="adj1" fmla="val -44750"/>
              <a:gd name="adj2" fmla="val -15588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ПИ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5000760" y="2214720"/>
            <a:ext cx="1439640" cy="431640"/>
          </a:xfrm>
          <a:prstGeom prst="wedgeRoundRectCallout">
            <a:avLst>
              <a:gd name="adj1" fmla="val 217"/>
              <a:gd name="adj2" fmla="val 743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ТУР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6786720" y="4429080"/>
            <a:ext cx="1008000" cy="432000"/>
          </a:xfrm>
          <a:prstGeom prst="wedgeRoundRectCallout">
            <a:avLst>
              <a:gd name="adj1" fmla="val -39606"/>
              <a:gd name="adj2" fmla="val -11176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7810560" y="2714760"/>
            <a:ext cx="1333440" cy="431640"/>
          </a:xfrm>
          <a:prstGeom prst="wedgeRoundRectCallout">
            <a:avLst>
              <a:gd name="adj1" fmla="val -50763"/>
              <a:gd name="adj2" fmla="val 8942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ТУ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8"/>
          <p:cNvSpPr txBox="1"/>
          <p:nvPr/>
        </p:nvSpPr>
        <p:spPr>
          <a:xfrm>
            <a:off x="6948360" y="1268280"/>
            <a:ext cx="2195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ndalus"/>
              </a:rPr>
              <a:t>ПЛУТОН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ndalus"/>
              <a:ea typeface="Andal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гра  «Космос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642960" y="857160"/>
            <a:ext cx="8001000" cy="60008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0" y="571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положи планеты по орбитам и назови 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оссворд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Планеты Солнечной систем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14" name="Овал 5"/>
          <p:cNvGrpSpPr/>
          <p:nvPr/>
        </p:nvGrpSpPr>
        <p:grpSpPr>
          <a:xfrm>
            <a:off x="2073240" y="2736720"/>
            <a:ext cx="5065920" cy="1640160"/>
            <a:chOff x="2073240" y="2736720"/>
            <a:chExt cx="5065920" cy="1640160"/>
          </a:xfrm>
        </p:grpSpPr>
        <p:pic>
          <p:nvPicPr>
            <p:cNvPr id="115" name="Овал 5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2073240" y="2736720"/>
              <a:ext cx="5065920" cy="16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016080" y="3157560"/>
              <a:ext cx="31831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Разгадай кроссвор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4"/>
          <p:cNvSpPr/>
          <p:nvPr/>
        </p:nvSpPr>
        <p:spPr>
          <a:xfrm>
            <a:off x="468360" y="1628640"/>
            <a:ext cx="8207280" cy="4464360"/>
          </a:xfrm>
          <a:prstGeom prst="flowChartPredefined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ПЛАНЕТЫ  СОЛНЕЧНОЙ СИСТЕМ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круг Солнца движется 8 планет: Меркурий, …, Земля, …, Юпитер, …, …, Нептун. Самые большие планеты – Юпитер, …, …, Нептун. Самая далёкая от Солнца планета - …. Планету … называют карликовой планетой. Только на планете … существует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омашнее 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читать учебник на стр. 94-95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I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группе (работа по карточке) узнать планету по описанию и написать названия пла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группе нарисовать две планеты (небольшую и планету гигант) в тет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rcRect l="0" t="0" r="12982" b="0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395280" y="1773360"/>
            <a:ext cx="54738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67676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 урока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767676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67676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ПЛАНЕТЫ"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767676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22_sol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5516640"/>
            <a:ext cx="84358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уть  движения  планет  называется - ОРБИТ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324000" y="260280"/>
            <a:ext cx="84358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ЛАНЕТА -  «блуждающа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0" t="0" r="196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rcRect l="14648" t="23475" r="4215" b="0"/>
          <a:stretch/>
        </p:blipFill>
        <p:spPr>
          <a:xfrm>
            <a:off x="5508720" y="4005360"/>
            <a:ext cx="3635280" cy="2852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3255840" y="404640"/>
            <a:ext cx="588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ЛЕСКОП – «далеко рассматрива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79280" y="3284640"/>
            <a:ext cx="529272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ЛНЦЕ – это звезда, вокруг него движутся другие план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н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5" descr="planeta1.jpg"/>
          <p:cNvPicPr/>
          <p:nvPr/>
        </p:nvPicPr>
        <p:blipFill>
          <a:blip r:embed="rId1"/>
          <a:srcRect l="0" t="3779" r="0" b="0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ЕСКОП – «далеко рассматрива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планет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одержимое 5" descr="f_92497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WordArt 8"/>
          <p:cNvSpPr txBox="1"/>
          <p:nvPr/>
        </p:nvSpPr>
        <p:spPr>
          <a:xfrm>
            <a:off x="324000" y="1197000"/>
            <a:ext cx="309708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ndalus"/>
              </a:rPr>
              <a:t>ВЕНЕРА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ndalus"/>
              <a:ea typeface="Andal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ета получила своё название в честь богини красоты – Вен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4" descr="12379106_Venus_EUR.jpg"/>
          <p:cNvPicPr/>
          <p:nvPr/>
        </p:nvPicPr>
        <p:blipFill>
          <a:blip r:embed="rId1"/>
          <a:stretch/>
        </p:blipFill>
        <p:spPr>
          <a:xfrm>
            <a:off x="0" y="1222200"/>
            <a:ext cx="914400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5T08:56:52Z</dcterms:created>
  <dc:creator>admin</dc:creator>
  <dc:description/>
  <dc:language>en-US</dc:language>
  <cp:lastModifiedBy>MET</cp:lastModifiedBy>
  <dcterms:modified xsi:type="dcterms:W3CDTF">2013-01-14T04:26:48Z</dcterms:modified>
  <cp:revision>31</cp:revision>
  <dc:subject/>
  <dc:title>Слайд 1</dc:title>
</cp:coreProperties>
</file>