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gif" ContentType="image/gif"/>
  <Override PartName="/ppt/media/image4.png" ContentType="image/png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3C7-DE4C-42C5-AAED-01B6A5E8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15E-136E-441E-9C49-69352FE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29B-3258-49F5-9ECF-CB7C5150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EED-2E33-4A3E-B89F-12934778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B38-F11E-480A-9D42-541F9A9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EE0-235D-4704-A6AE-F2B90266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4DC-C17B-4ABC-BBBB-6C228E2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611-E752-4159-8CD0-3960502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6C6-C343-4471-AC70-87ADE136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418-D088-4207-86DB-6A25559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7D1-88A1-4500-BE59-D424012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BAE-9222-41FA-A8D5-B3014BE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76A-52D8-47B6-9CDE-68CD0F031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&#1050;&#1088;&#1086;&#1089;&#1089;&#1074;&#1086;&#1088;&#1076;%20&#8211;%20&#1090;&#1077;&#1089;&#1090;%20&#171;&#1055;&#1083;&#1072;&#1085;&#1077;&#1090;&#1099;%20&#1057;&#1086;&#1083;&#1085;&#1077;&#1095;&#1085;&#1086;&#1081;%20&#1089;&#1080;&#1089;&#1090;&#1077;&#1084;&#1099;&#187;.pptx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51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енное специальное (коррекционное) образовательное учреждение Сургутская специальная (коррекционная) общеобразовательная школ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ида «Школа с углубленной трудовой подготов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900000" y="1989000"/>
            <a:ext cx="691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географи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ланеты"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395280" y="5805360"/>
            <a:ext cx="309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ЗЕМЛЯ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marteysussatelites_thumb.jpg"/>
          <p:cNvPicPr/>
          <p:nvPr/>
        </p:nvPicPr>
        <p:blipFill>
          <a:blip r:embed="rId1"/>
          <a:srcRect l="0" t="0" r="1964" b="27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324000" y="260280"/>
            <a:ext cx="2376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МАР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большие планеты с каменистой поверх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6659640" y="2349360"/>
            <a:ext cx="1657440" cy="432000"/>
          </a:xfrm>
          <a:prstGeom prst="wedgeRoundRectCallout">
            <a:avLst>
              <a:gd name="adj1" fmla="val -43773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4643280" y="2349360"/>
            <a:ext cx="1657440" cy="432000"/>
          </a:xfrm>
          <a:prstGeom prst="wedgeRoundRectCallout">
            <a:avLst>
              <a:gd name="adj1" fmla="val -43773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2484360" y="2349360"/>
            <a:ext cx="1657440" cy="432000"/>
          </a:xfrm>
          <a:prstGeom prst="wedgeRoundRectCallout">
            <a:avLst>
              <a:gd name="adj1" fmla="val -43773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79280" y="2349360"/>
            <a:ext cx="2016360" cy="432000"/>
          </a:xfrm>
          <a:prstGeom prst="wedgeRoundRectCallout">
            <a:avLst>
              <a:gd name="adj1" fmla="val -34171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planeta1.jpg"/>
          <p:cNvPicPr/>
          <p:nvPr/>
        </p:nvPicPr>
        <p:blipFill>
          <a:blip r:embed="rId1"/>
          <a:srcRect l="0" t="3779" r="0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5508720" y="404640"/>
            <a:ext cx="3097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ЮПИТЕР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5508720" y="404640"/>
            <a:ext cx="3097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ЮПИТЕР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5508720" y="404640"/>
            <a:ext cx="3097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ЮПИТЕР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89" name="Овал 6"/>
          <p:cNvSpPr/>
          <p:nvPr/>
        </p:nvSpPr>
        <p:spPr>
          <a:xfrm>
            <a:off x="7885080" y="6093000"/>
            <a:ext cx="1079640" cy="57600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иде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5272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ета названа в честь самого главного римского бога – Юпи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ypiter.jpg"/>
          <p:cNvPicPr/>
          <p:nvPr/>
        </p:nvPicPr>
        <p:blipFill>
          <a:blip r:embed="rId1"/>
          <a:stretch/>
        </p:blipFill>
        <p:spPr>
          <a:xfrm>
            <a:off x="4500720" y="765000"/>
            <a:ext cx="4047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>
            <a:off x="468360" y="333360"/>
            <a:ext cx="309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САТУР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539640" y="333360"/>
            <a:ext cx="23036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УРА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6300720" y="260280"/>
            <a:ext cx="25909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НЕПТУ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101" name="Овал 6"/>
          <p:cNvSpPr/>
          <p:nvPr/>
        </p:nvSpPr>
        <p:spPr>
          <a:xfrm>
            <a:off x="7885080" y="6093000"/>
            <a:ext cx="1079640" cy="57600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иде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план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-1332000" y="0"/>
            <a:ext cx="588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-ГИГ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0" t="0" r="2065" b="0"/>
          <a:stretch/>
        </p:blipFill>
        <p:spPr>
          <a:xfrm>
            <a:off x="0" y="178596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2571840" y="5214960"/>
            <a:ext cx="1511280" cy="431640"/>
          </a:xfrm>
          <a:prstGeom prst="wedgeRoundRectCallout">
            <a:avLst>
              <a:gd name="adj1" fmla="val -44750"/>
              <a:gd name="adj2" fmla="val -155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5000760" y="2214720"/>
            <a:ext cx="1439640" cy="431640"/>
          </a:xfrm>
          <a:prstGeom prst="wedgeRoundRectCallout">
            <a:avLst>
              <a:gd name="adj1" fmla="val 217"/>
              <a:gd name="adj2" fmla="val 7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6786720" y="4429080"/>
            <a:ext cx="1008000" cy="432000"/>
          </a:xfrm>
          <a:prstGeom prst="wedgeRoundRectCallout">
            <a:avLst>
              <a:gd name="adj1" fmla="val -39606"/>
              <a:gd name="adj2" fmla="val -111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810560" y="2714760"/>
            <a:ext cx="1333440" cy="431640"/>
          </a:xfrm>
          <a:prstGeom prst="wedgeRoundRectCallout">
            <a:avLst>
              <a:gd name="adj1" fmla="val -50763"/>
              <a:gd name="adj2" fmla="val 89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8"/>
          <p:cNvSpPr txBox="1"/>
          <p:nvPr/>
        </p:nvSpPr>
        <p:spPr>
          <a:xfrm>
            <a:off x="6948360" y="1268280"/>
            <a:ext cx="21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ПЛУТО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а  «Косм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571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 планеты по орбитам и назов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ссвор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ланеты Солнечной систем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4" name="Овал 5"/>
          <p:cNvGrpSpPr/>
          <p:nvPr/>
        </p:nvGrpSpPr>
        <p:grpSpPr>
          <a:xfrm>
            <a:off x="2073240" y="2736720"/>
            <a:ext cx="5065920" cy="1640160"/>
            <a:chOff x="2073240" y="2736720"/>
            <a:chExt cx="5065920" cy="1640160"/>
          </a:xfrm>
        </p:grpSpPr>
        <p:pic>
          <p:nvPicPr>
            <p:cNvPr id="115" name="Овал 5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073240" y="2736720"/>
              <a:ext cx="506592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16080" y="3157560"/>
              <a:ext cx="3183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азгадай 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468360" y="1628640"/>
            <a:ext cx="8207280" cy="446436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ЛАНЕТЫ  СОЛНЕЧНОЙ СИСТЕ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круг Солнца движется 8 планет: Меркурий, …, Земля, …, Юпитер, …, …, Нептун. Самые большие планеты – Юпитер, …, …, Нептун. Самая далёкая от Солнца планета - …. Планету … называют карликовой планетой. Только на планете … существует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читать учебник на стр. 94-9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руппе (работа по карточке) узнать планету по описанию и написать названия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руппе нарисовать две планеты (небольшую и планету гигант)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rcRect l="0" t="0" r="12982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395280" y="1773360"/>
            <a:ext cx="547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ЛАНЕТЫ"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2_so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551664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движения  планет  называется - ОРБИ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24000" y="260280"/>
            <a:ext cx="8435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ЕТА -  «блуждающ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0" t="0" r="19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rcRect l="14648" t="23475" r="4215" b="0"/>
          <a:stretch/>
        </p:blipFill>
        <p:spPr>
          <a:xfrm>
            <a:off x="5508720" y="4005360"/>
            <a:ext cx="3635280" cy="2852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255840" y="404640"/>
            <a:ext cx="588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ЛЕСКОП – «далеко рассматрив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9280" y="3284640"/>
            <a:ext cx="5292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НЦЕ – это звезда, вокруг него движутся другие пла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planeta1.jpg"/>
          <p:cNvPicPr/>
          <p:nvPr/>
        </p:nvPicPr>
        <p:blipFill>
          <a:blip r:embed="rId1"/>
          <a:srcRect l="0" t="3779" r="0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СКОП – «далеко рассматрив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план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324000" y="1197000"/>
            <a:ext cx="309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ВЕНЕРА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ета получила своё название в честь богини красоты – Ве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12379106_Venus_EUR.jpg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08:56:52Z</dcterms:created>
  <dc:creator>admin</dc:creator>
  <dc:description/>
  <dc:language>en-US</dc:language>
  <cp:lastModifiedBy>MET</cp:lastModifiedBy>
  <dcterms:modified xsi:type="dcterms:W3CDTF">2013-01-14T04:26:48Z</dcterms:modified>
  <cp:revision>31</cp:revision>
  <dc:subject/>
  <dc:title>Слайд 1</dc:title>
</cp:coreProperties>
</file>