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41.png" ContentType="image/png"/>
  <Override PartName="/ppt/media/image12.png" ContentType="image/png"/>
  <Override PartName="/ppt/media/image35.png" ContentType="image/png"/>
  <Override PartName="/ppt/media/image5.jpeg" ContentType="image/jpe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838-188C-4811-A089-D96F4715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159-B5B7-4AD0-A137-02B7C36D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2A0-6A2A-41DF-A1A4-AA8B1D69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C3A-770B-4A5E-B72D-23E5468E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9896-9BDF-45A3-AF37-C54BD49C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EBA1-845F-4124-9F09-326FD0D2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022B-556A-4ECE-84D0-E2136389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46C0-80C3-4461-9234-D9896C73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DB4F-97F0-4E4E-8BBA-8FD12742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28560" y="274320"/>
            <a:ext cx="6257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05B6-AFD9-4859-BAEB-F8820D0A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932E-513B-4B7D-9E3A-8631BBB3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441-931C-45EB-BF87-FC97D74C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0314-B26D-4D00-BF35-A777A125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C4C7-9062-4129-9183-858C466D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AA8E-52F2-4E0D-B653-14436330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0872-9936-4D53-9B73-77466EA0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E5D2-F8D7-4678-AB31-C52956FD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58F06-8799-4730-AA38-F1584411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7866A-3BD9-41F4-8768-F0B8AC2A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B3E26-015F-450D-8307-6DF42096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9D729-3B14-4804-B374-0F7F21D2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6C025-BCB1-4FCF-B6C0-4FD26C39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12B-FE46-45DB-A519-E84B6490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428560" y="274320"/>
            <a:ext cx="6257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29CC5-B4D6-4260-815B-B11F6BD4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1E73E-3790-4776-9D8E-D34A901F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1D0A5-877F-4CB2-AB97-B8546568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2ECF7-A203-402A-8602-94F30A0E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495F9-4A93-4EA7-997B-2862715A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CBB56-6DF2-4B64-910D-C0F7F25E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95898-4918-4BA1-8019-3FE1F5BC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3E3-F72F-4866-8A4F-3F9E7425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09E-0FEB-476F-A503-7E3386A7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28560" y="274320"/>
            <a:ext cx="6257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76C-46CF-4CDD-9A32-FE7D5721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1E3-1B1F-444B-ADEF-82BB98AD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792-5DF8-4624-89D2-53DFE092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480-0E83-4895-846B-D9B7A5B6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5be197f9b678d676d2a3ae480c1a7a45.jpg"/>
          <p:cNvPicPr/>
          <p:nvPr/>
        </p:nvPicPr>
        <p:blipFill>
          <a:blip r:embed="rId2"/>
          <a:stretch/>
        </p:blipFill>
        <p:spPr>
          <a:xfrm>
            <a:off x="-6480" y="-6480"/>
            <a:ext cx="2359080" cy="1554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CA2F-3753-41A9-9048-28C3976AD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7813-04CB-442C-9971-A25F13F6F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DE78-4AAB-4643-B873-0369F0763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8208720" cy="2089440"/>
          </a:xfrm>
          <a:prstGeom prst="rect">
            <a:avLst/>
          </a:prstGeom>
          <a:ln w="0">
            <a:noFill/>
          </a:ln>
        </p:spPr>
      </p:pic>
      <p:pic>
        <p:nvPicPr>
          <p:cNvPr id="125" name="Подзаголовок 2" descr=""/>
          <p:cNvPicPr/>
          <p:nvPr/>
        </p:nvPicPr>
        <p:blipFill>
          <a:blip r:embed="rId3"/>
          <a:stretch/>
        </p:blipFill>
        <p:spPr>
          <a:xfrm>
            <a:off x="2916360" y="3500280"/>
            <a:ext cx="518472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Гербы мира"/>
          <p:cNvPicPr/>
          <p:nvPr/>
        </p:nvPicPr>
        <p:blipFill>
          <a:blip r:embed="rId4"/>
          <a:stretch/>
        </p:blipFill>
        <p:spPr>
          <a:xfrm>
            <a:off x="611280" y="3716280"/>
            <a:ext cx="169524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2786040" y="431280"/>
            <a:ext cx="578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Times New Roman"/>
                <a:ea typeface="Calibri"/>
              </a:rPr>
              <a:t>Природные условия в основе формирования гербов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9" descr="C:\Documents and Settings\user 1\Рабочий стол\crest.png"/>
          <p:cNvPicPr/>
          <p:nvPr/>
        </p:nvPicPr>
        <p:blipFill>
          <a:blip r:embed="rId1"/>
          <a:stretch/>
        </p:blipFill>
        <p:spPr>
          <a:xfrm>
            <a:off x="285840" y="1571760"/>
            <a:ext cx="1771560" cy="17334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630000" y="3358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Times New Roman"/>
                <a:ea typeface="Calibri"/>
              </a:rPr>
              <a:t>Грен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1" descr="C:\Documents and Settings\user 1\Рабочий стол\screen-shot-2010-08-10-at-09-18-57.png"/>
          <p:cNvPicPr/>
          <p:nvPr/>
        </p:nvPicPr>
        <p:blipFill>
          <a:blip r:embed="rId2"/>
          <a:stretch/>
        </p:blipFill>
        <p:spPr>
          <a:xfrm>
            <a:off x="3357720" y="1643040"/>
            <a:ext cx="2085840" cy="1600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584520" y="32868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Австр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Рисунок 2" descr="C:\Documents and Settings\user 1\Рабочий стол\Coat_of_arms_of_Bahamas.png"/>
          <p:cNvPicPr/>
          <p:nvPr/>
        </p:nvPicPr>
        <p:blipFill>
          <a:blip r:embed="rId3"/>
          <a:stretch/>
        </p:blipFill>
        <p:spPr>
          <a:xfrm>
            <a:off x="6500880" y="1428840"/>
            <a:ext cx="1571400" cy="19238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9"/>
          <p:cNvSpPr/>
          <p:nvPr/>
        </p:nvSpPr>
        <p:spPr>
          <a:xfrm>
            <a:off x="6296760" y="335772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Багамские 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11" descr="C:\Documents and Settings\user 1\Рабочий стол\66273652.png"/>
          <p:cNvPicPr/>
          <p:nvPr/>
        </p:nvPicPr>
        <p:blipFill>
          <a:blip r:embed="rId4"/>
          <a:stretch/>
        </p:blipFill>
        <p:spPr>
          <a:xfrm>
            <a:off x="1785960" y="4071960"/>
            <a:ext cx="1662120" cy="166212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11"/>
          <p:cNvSpPr/>
          <p:nvPr/>
        </p:nvSpPr>
        <p:spPr>
          <a:xfrm>
            <a:off x="2152080" y="571500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Эритрея</a:t>
            </a:r>
            <a:r>
              <a:rPr b="1" lang="en-US" sz="1800" spc="-1" strike="noStrike">
                <a:solidFill>
                  <a:srgbClr val="8eb4e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4" descr="C:\Documents and Settings\user 1\Рабочий стол\d4e47e2ac08b.jpg"/>
          <p:cNvPicPr/>
          <p:nvPr/>
        </p:nvPicPr>
        <p:blipFill>
          <a:blip r:embed="rId5"/>
          <a:stretch/>
        </p:blipFill>
        <p:spPr>
          <a:xfrm>
            <a:off x="4929120" y="4143240"/>
            <a:ext cx="1984320" cy="151920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13"/>
          <p:cNvSpPr/>
          <p:nvPr/>
        </p:nvSpPr>
        <p:spPr>
          <a:xfrm>
            <a:off x="5364720" y="56437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Ботс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2286000" y="214200"/>
            <a:ext cx="65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пециализация стран в основе формирования гербов государ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6" descr="C:\Documents and Settings\user 1\Рабочий стол\366px-Coat_of_Arms_of_Zambia.svg.png"/>
          <p:cNvPicPr/>
          <p:nvPr/>
        </p:nvPicPr>
        <p:blipFill>
          <a:blip r:embed="rId1"/>
          <a:stretch/>
        </p:blipFill>
        <p:spPr>
          <a:xfrm>
            <a:off x="3429000" y="2143080"/>
            <a:ext cx="2281320" cy="26431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4071960" y="47869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Замб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8" descr="C:\Documents and Settings\user 1\Рабочий стол\367px-Coat_of_arms_of_Laos.svg.png"/>
          <p:cNvPicPr/>
          <p:nvPr/>
        </p:nvPicPr>
        <p:blipFill>
          <a:blip r:embed="rId2"/>
          <a:stretch/>
        </p:blipFill>
        <p:spPr>
          <a:xfrm>
            <a:off x="5913360" y="2392200"/>
            <a:ext cx="2681280" cy="22147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6858000" y="45727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Calibri"/>
              </a:rPr>
              <a:t>Ла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3" descr="C:\Documents and Settings\user 1\Рабочий стол\200px-Coat_of_arms_of_Angola.svg.png"/>
          <p:cNvPicPr/>
          <p:nvPr/>
        </p:nvPicPr>
        <p:blipFill>
          <a:blip r:embed="rId3"/>
          <a:stretch/>
        </p:blipFill>
        <p:spPr>
          <a:xfrm>
            <a:off x="857160" y="2214720"/>
            <a:ext cx="2160720" cy="26431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0"/>
          <p:cNvSpPr/>
          <p:nvPr/>
        </p:nvSpPr>
        <p:spPr>
          <a:xfrm>
            <a:off x="928800" y="47862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Ан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1785960" y="21708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Колониальное прошлое стран в основе формирования гербов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2" descr="C:\Documents and Settings\user 1\Рабочий стол\Coat_of_arms_of_Canada_modern.png"/>
          <p:cNvPicPr/>
          <p:nvPr/>
        </p:nvPicPr>
        <p:blipFill>
          <a:blip r:embed="rId1"/>
          <a:stretch/>
        </p:blipFill>
        <p:spPr>
          <a:xfrm>
            <a:off x="1071720" y="2143080"/>
            <a:ext cx="2286000" cy="30704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" descr="C:\Documents and Settings\user 1\Рабочий стол\519px-British_Indian_Ocean_Territory_coat_of_arms.svg.png"/>
          <p:cNvPicPr/>
          <p:nvPr/>
        </p:nvPicPr>
        <p:blipFill>
          <a:blip r:embed="rId2"/>
          <a:stretch/>
        </p:blipFill>
        <p:spPr>
          <a:xfrm>
            <a:off x="4714920" y="2286000"/>
            <a:ext cx="2801880" cy="27860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4000680" y="5218200"/>
            <a:ext cx="37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792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Британская территория в Индийском оке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500120" y="5286960"/>
            <a:ext cx="17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Calibri"/>
              </a:rPr>
              <a:t>    </a:t>
            </a: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Calibri"/>
              </a:rPr>
              <a:t>Кан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2143080" y="2887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Религиозная принадлежность стран в основе формирования гербов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3" descr="C:\Documents and Settings\user 1\Рабочий стол\505px-Coat_of_arms_of_Afghanistan.svg.png"/>
          <p:cNvPicPr/>
          <p:nvPr/>
        </p:nvPicPr>
        <p:blipFill>
          <a:blip r:embed="rId1"/>
          <a:stretch/>
        </p:blipFill>
        <p:spPr>
          <a:xfrm>
            <a:off x="500040" y="2357280"/>
            <a:ext cx="2443320" cy="24717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C:\Documents and Settings\user 1\Рабочий стол\640px-Coat_of_arms_of_Brunei.svg.png"/>
          <p:cNvPicPr/>
          <p:nvPr/>
        </p:nvPicPr>
        <p:blipFill>
          <a:blip r:embed="rId2"/>
          <a:stretch/>
        </p:blipFill>
        <p:spPr>
          <a:xfrm>
            <a:off x="3429000" y="2428920"/>
            <a:ext cx="2363760" cy="22143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8" descr="C:\Documents and Settings\user 1\Рабочий стол\548px-National_Emblem_of_the_People's_Republic_of_China.svg.png"/>
          <p:cNvPicPr/>
          <p:nvPr/>
        </p:nvPicPr>
        <p:blipFill>
          <a:blip r:embed="rId3"/>
          <a:stretch/>
        </p:blipFill>
        <p:spPr>
          <a:xfrm>
            <a:off x="6429240" y="2714760"/>
            <a:ext cx="1947960" cy="213840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5"/>
          <p:cNvSpPr/>
          <p:nvPr/>
        </p:nvSpPr>
        <p:spPr>
          <a:xfrm>
            <a:off x="7079040" y="5000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Китай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4147920" y="47862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Брун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7"/>
          <p:cNvSpPr/>
          <p:nvPr/>
        </p:nvSpPr>
        <p:spPr>
          <a:xfrm>
            <a:off x="1005840" y="4929120"/>
            <a:ext cx="14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Афгани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2643120" y="357120"/>
            <a:ext cx="62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осударственный строй в основе формирования гербов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10" descr="C:\Documents and Settings\user 1\Рабочий стол\523px-Escudo_de_España_ajustado_a_la_norma_heráldica.svg.png"/>
          <p:cNvPicPr/>
          <p:nvPr/>
        </p:nvPicPr>
        <p:blipFill>
          <a:blip r:embed="rId1"/>
          <a:stretch/>
        </p:blipFill>
        <p:spPr>
          <a:xfrm>
            <a:off x="1143000" y="2000160"/>
            <a:ext cx="2890800" cy="330696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" descr="C:\Documents and Settings\user 1\Рабочий стол\screen-shot-2010-08-10-at-09-18-57.png"/>
          <p:cNvPicPr/>
          <p:nvPr/>
        </p:nvPicPr>
        <p:blipFill>
          <a:blip r:embed="rId2"/>
          <a:stretch/>
        </p:blipFill>
        <p:spPr>
          <a:xfrm>
            <a:off x="4714920" y="2571840"/>
            <a:ext cx="3562200" cy="27367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2071800" y="542988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Calibri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5"/>
          <p:cNvSpPr/>
          <p:nvPr/>
        </p:nvSpPr>
        <p:spPr>
          <a:xfrm>
            <a:off x="5941800" y="53578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Австр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2643120" y="1643040"/>
            <a:ext cx="4062600" cy="48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54061"/>
                </a:solidFill>
                <a:uFillTx/>
                <a:latin typeface="Constantia"/>
              </a:rPr>
              <a:t>Цель работы</a:t>
            </a:r>
            <a:r>
              <a:rPr b="0" lang="en-US" sz="2800" spc="-1" strike="noStrike">
                <a:solidFill>
                  <a:srgbClr val="254061"/>
                </a:solidFill>
                <a:latin typeface="Constantia"/>
              </a:rPr>
              <a:t>: анализ особенностей формирования гербов стран мира с выявлением на них наиболее значимых особенностей.</a:t>
            </a:r>
            <a:endParaRPr b="0" lang="en-US" sz="2800" spc="-1" strike="noStrike">
              <a:solidFill>
                <a:srgbClr val="254061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54061"/>
                </a:solidFill>
                <a:uFillTx/>
                <a:latin typeface="Constantia"/>
              </a:rPr>
              <a:t>Актуальность темы</a:t>
            </a:r>
            <a:r>
              <a:rPr b="0" lang="en-US" sz="2800" spc="-1" strike="noStrike">
                <a:solidFill>
                  <a:srgbClr val="254061"/>
                </a:solidFill>
                <a:latin typeface="Constantia"/>
              </a:rPr>
              <a:t> обусловлена уважительным отношение к самому государству.</a:t>
            </a:r>
            <a:endParaRPr b="0" lang="en-US" sz="2800" spc="-1" strike="noStrike">
              <a:solidFill>
                <a:srgbClr val="254061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285840" y="1654920"/>
            <a:ext cx="10072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0253f"/>
                </a:solidFill>
                <a:latin typeface="Times New Roman"/>
                <a:ea typeface="Calibri"/>
              </a:rPr>
              <a:t>Геральдика</a:t>
            </a:r>
            <a:r>
              <a:rPr b="0" lang="en-US" sz="3600" spc="-1" strike="noStrike">
                <a:solidFill>
                  <a:srgbClr val="10253f"/>
                </a:solidFill>
                <a:latin typeface="Times New Roman"/>
                <a:ea typeface="Calibri"/>
              </a:rPr>
              <a:t> -специальная историческая дисциплина, занимающаяся изучени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Times New Roman"/>
                <a:ea typeface="Calibri"/>
              </a:rPr>
              <a:t>гербов, а также традиция и практика их использ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14200" y="4081680"/>
            <a:ext cx="2193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0253f"/>
                </a:solidFill>
                <a:latin typeface="Times New Roman"/>
                <a:ea typeface="Cambria Math"/>
              </a:rPr>
              <a:t>Герольды</a:t>
            </a:r>
            <a:r>
              <a:rPr b="0" lang="en-US" sz="3600" spc="-1" strike="noStrike">
                <a:solidFill>
                  <a:srgbClr val="10253f"/>
                </a:solidFill>
                <a:latin typeface="Times New Roman"/>
                <a:ea typeface="Cambria Math"/>
              </a:rPr>
              <a:t> - это люди, котор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Times New Roman"/>
                <a:ea typeface="Cambria Math"/>
              </a:rPr>
              <a:t>систематизировали знания о герба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Times New Roman"/>
                <a:ea typeface="Cambria Math"/>
              </a:rPr>
              <a:t>выработали общие принципы и правила 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Times New Roman"/>
                <a:ea typeface="Cambria Math"/>
              </a:rPr>
              <a:t>составления и распозна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286000" y="4214880"/>
            <a:ext cx="1357200" cy="1614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4929120" y="4214880"/>
            <a:ext cx="138420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5500800" y="178596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4"/>
          <a:stretch/>
        </p:blipFill>
        <p:spPr>
          <a:xfrm>
            <a:off x="3714840" y="178596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5"/>
          <a:stretch/>
        </p:blipFill>
        <p:spPr>
          <a:xfrm>
            <a:off x="2000160" y="178596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6"/>
          <a:stretch/>
        </p:blipFill>
        <p:spPr>
          <a:xfrm>
            <a:off x="357120" y="178596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7"/>
          <a:stretch/>
        </p:blipFill>
        <p:spPr>
          <a:xfrm>
            <a:off x="7286760" y="1785960"/>
            <a:ext cx="1257120" cy="14954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0"/>
          <p:cNvSpPr/>
          <p:nvPr/>
        </p:nvSpPr>
        <p:spPr>
          <a:xfrm>
            <a:off x="285840" y="335772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урпурный          Зелёный                 Синий                   Красный                Чё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2286000" y="592920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еребро                                  Зо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3500280" y="50004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Цвета в геральд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3143160" y="35712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еление щ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214280" y="2214720"/>
            <a:ext cx="1785960" cy="2205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3714840" y="2214720"/>
            <a:ext cx="1793880" cy="221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6143760" y="2214720"/>
            <a:ext cx="1793880" cy="221436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5"/>
          <p:cNvSpPr/>
          <p:nvPr/>
        </p:nvSpPr>
        <p:spPr>
          <a:xfrm>
            <a:off x="1008000" y="4643280"/>
            <a:ext cx="21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Рассечение и перес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3502440" y="4643280"/>
            <a:ext cx="210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Скошение слева и с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7"/>
          <p:cNvSpPr/>
          <p:nvPr/>
        </p:nvSpPr>
        <p:spPr>
          <a:xfrm>
            <a:off x="6219360" y="4643280"/>
            <a:ext cx="16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Клинчатое де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3780360" y="500040"/>
            <a:ext cx="321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ербовая фиг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642960" y="228600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2714760" y="228600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4786200" y="2286000"/>
            <a:ext cx="1257480" cy="1495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4714920" y="450072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5"/>
          <a:stretch/>
        </p:blipFill>
        <p:spPr>
          <a:xfrm>
            <a:off x="642960" y="450072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6"/>
          <a:stretch/>
        </p:blipFill>
        <p:spPr>
          <a:xfrm>
            <a:off x="6643800" y="450072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7"/>
          <a:stretch/>
        </p:blipFill>
        <p:spPr>
          <a:xfrm>
            <a:off x="2714760" y="4500720"/>
            <a:ext cx="1257120" cy="1495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8"/>
          <a:stretch/>
        </p:blipFill>
        <p:spPr>
          <a:xfrm>
            <a:off x="6715080" y="2286000"/>
            <a:ext cx="1257480" cy="14954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571680" y="3857760"/>
            <a:ext cx="77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лава                      Оконечность                      Пояс                         Кр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571680" y="600084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Перевязь                     Стропило                      Столб                       Кай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2286000" y="57168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зделение щита фигурной лин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714240" y="2214720"/>
            <a:ext cx="1900440" cy="2346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3429000" y="2214720"/>
            <a:ext cx="1928880" cy="2381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6248520" y="2214720"/>
            <a:ext cx="1966680" cy="24285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571680" y="471492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Зубовидное деление           Заострённое деление              Чешуевидное 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3879720" y="571680"/>
            <a:ext cx="41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оставные части гер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4286520" cy="4703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6786720" y="1785960"/>
            <a:ext cx="1860480" cy="2214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5286240" y="1785960"/>
            <a:ext cx="11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4"/>
          <a:stretch/>
        </p:blipFill>
        <p:spPr>
          <a:xfrm>
            <a:off x="5572080" y="4357800"/>
            <a:ext cx="2752920" cy="79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5"/>
          <a:stretch/>
        </p:blipFill>
        <p:spPr>
          <a:xfrm>
            <a:off x="6215040" y="5286240"/>
            <a:ext cx="1542960" cy="11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253f"/>
            </a:gs>
            <a:gs pos="100000">
              <a:srgbClr val="dce6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 flipV="1" rot="10766400">
            <a:off x="2916000" y="18522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253f"/>
                </a:solidFill>
                <a:latin typeface="Calibri"/>
              </a:rPr>
              <a:t>Гер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9"/>
          <p:cNvCxnSpPr/>
          <p:nvPr/>
        </p:nvCxnSpPr>
        <p:spPr>
          <a:xfrm flipH="1">
            <a:off x="1499760" y="2571840"/>
            <a:ext cx="228672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2" name="Прямая со стрелкой 11"/>
          <p:cNvCxnSpPr/>
          <p:nvPr/>
        </p:nvCxnSpPr>
        <p:spPr>
          <a:xfrm>
            <a:off x="5072040" y="2571840"/>
            <a:ext cx="25725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3" name="Прямая со стрелкой 13"/>
          <p:cNvCxnSpPr/>
          <p:nvPr/>
        </p:nvCxnSpPr>
        <p:spPr>
          <a:xfrm flipH="1">
            <a:off x="4428360" y="2642760"/>
            <a:ext cx="252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4" name="TextBox 14"/>
          <p:cNvSpPr/>
          <p:nvPr/>
        </p:nvSpPr>
        <p:spPr>
          <a:xfrm>
            <a:off x="0" y="3357720"/>
            <a:ext cx="2714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Город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(Государствен-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2857680" y="342900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Корпор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6500880" y="335772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Calibri"/>
              </a:rPr>
              <a:t>Церко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7:03:59Z</dcterms:created>
  <dc:creator>1</dc:creator>
  <dc:description/>
  <dc:language>en-US</dc:language>
  <cp:lastModifiedBy>Admin</cp:lastModifiedBy>
  <dcterms:modified xsi:type="dcterms:W3CDTF">2012-03-13T21:52:01Z</dcterms:modified>
  <cp:revision>22</cp:revision>
  <dc:subject/>
  <dc:title>Слайд 1</dc:title>
</cp:coreProperties>
</file>