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204-5B2F-42FC-A497-7586BF45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472-3CA3-428A-AA47-F3153293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469-1F97-4A27-B985-D09DD3D8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1AE-1DC9-488B-8880-B8725E53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7D4-6828-4598-835F-431A0B13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8EA-F024-4A0E-851F-E97FFA65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BF3-DD84-4AA6-B1A3-0CFCBCA6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175-1A67-4DBD-8701-03E0E07A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40C-BAA4-46D2-AB2E-EFB574FA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908-3FE5-4DE2-8ECF-F2398C50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1F5-D336-433F-96E6-E2B605F5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97B-FB20-42A9-B1F6-2AA401BB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7208-931D-4DAA-A4F7-AFE330908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ект: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«Интекрактивные Олимпиады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читель ГБОУ СОШ №5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тропова Э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012-2013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Задача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ff"/>
                </a:solidFill>
                <a:latin typeface="Arial"/>
              </a:rPr>
              <a:t>В алфавите племени АБУМ две гласные буквы — А, У и две согласные — Б, М. Все слова племени АБУМ состоят из 13 букв, причём гласные чередуются с согласными. Слова, которые содержат комбинацию БУ или БАМ, считаются плохими, а слова, которые содержат БА или МАМ, — милыми. Каких слов больше — плохих или милых? Не забудьте обосновать свой ответ.</a:t>
            </a: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Решение 1 (подсчетом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Выкинем плохие милые слова, т.к. от них не зависит, каких слов больше – милых или плохих. Значит, нам нужно сравнить количество плохих немилых и милых неплохих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Рассмотрим милые неплохие слова. Заметим, что если в таком слове есть Б, то после неё может идти только АБАБА… (иначе получим БУ или БАМ). Тем самым, мы можем разбить милое неплохое слово на два блока – блок М: *М*М*М*М… и блок Б: БАБАБА...(при этом какого-то из этих блоков может и не быть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Вариантов блока М, в котором ровно k гласных – 2k (т.к. каждая из них – либо А, либо У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Пусть блок Б начинается с места под номером k. Если k чётно, то в предшествующем блоке М k/2 гласных (т.е. 2k/2 вариантов), а если нечётно, то (k−1)/2 гласных. Сложим количество таких вариантов для мест с первого по 13-е: 1 + 2 + 2 + 4 +4 + 8+ 8 +... 26 + 26 = 253. Отсюда надо вычесть неподходящие МУМУМУМУМУМ[У/А]Б, т.е. имеем 251. Если блока Б нет, то 27−4=124, если начинается с гласной, и 26−4=63, если с 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Итого: 251 + 124 + 63= 43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Теперь докажем, что плохих немилых слов больше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Количество плохих слов вида [Б/М]У[Б/М]У[Б/М]У[Б/М]У[Б/М]У[Б/М]У[Б/М] равно 27 – 2 (т.к. не подходят только МУМУ...МУ[Б/М]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Если мы заменим в любом из шести мест *У* на МАБ, получится 25 [выбор остальных согласных] * 6 [выбор места] − 1 (т.к. не подходит только МУ...МУМАБ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Количество плохих слов вида [А/У][Б/М]У[Б/М]У[Б/М]У[Б/М]У[Б/М]У[Б/М]У равно 27−2 (т.к. не подходят только [АУ]МУМУ...МУ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Уже получили 126 + 191 + 126  = 443 &gt; 438.</a:t>
            </a: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Решение 2 (соответствием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Выкинем плохие милые слова, т.к. от них не зависит, каких слов больше – милых или плохих. Т.е. нам нужно сравнить количество плохих немилых и милых неплохих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Рассмотрим милые неплохие слова. Заметим, что если в таком слове есть Б, то после нее может идти только АБАБА… (иначе получим БУ или БАМ). Тем самым, мы можем разбить милое неплохое слово на два блока – блок М: *М*М*М*М… и блок Б: БАБАБА...(при этом какого-то из этих блоков может и не быть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Теперь найдём каждому милому неплохому слову в пару плохое немилое слово. Для этого мы сделаем с милым неплохим словом следующее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1. Блок М: все МА заменяем на БУ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2. Блок Б: все БА, кроме первого, заменяются на БУ, а первое БА заменяется на М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Примеры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МАМУМУМУМАБАБ =&gt; БУМУМУМУБУМА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МАМУМУМУМАМАБ =&gt; БУМУМУМУБУБУ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МАМУМУМУМАМАМ =&gt; БУМУМУМУБУБУ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АМУМУМУМАМАМА =&gt; АМУМУМУБУБУБ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АМУМУМУМАМАБА =&gt; АМУМУМУБУБУМ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АМУМУМУМАБАБА =&gt; АМУМУМУБУМАБ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Заметим, что, во-первых, после этого преобразования слово перестало быть милым, т.к. буква А может быть либо первой, либо в начале блоке Б: МАБУБУ… Т.е. нет ни БА, ни МА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Во-вторых, для разных милых неплохих слов получаются разные парные им слова. Внутри блоков М и Б замена однозначна, а начало блока Б в преобразованном слове определяется по сочетанию МА (если блок Б состоял только из одной буквы Б, то она была последней буквой в исходном слове, а наше преобразование не изменяет буквы Б и М, стоящие на последнем месте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Теперь разберёмся, в каких ситуациях парные слова оказались плохи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Если в исходном слове был слог МА, то он превратился в БУ, и слово стало плохим. Если слога МА не было, то был слог БА (т.к. слово милое). Если блок Б состоял хотя бы из четырёх букв, то БАБА… перешло в МАБУ…, и слово плохое. Т.е. имеем только три милых слова, которые не стали плохими: УМУМУМУМУБА, АМУМУМУМУБА, МУМУМУМУБА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А плохих немилых слов, которые не получились таким образом, больше трёх. Например: АБУМАБУМАБУМУ, УБУМАБУМАБУМУ, МАБУМАБУМАБУМ, МАБУМАБУМАБ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Возьмём первые три в пару к милым неплохим словам УМУМУМУМУБА, АМУМУМУМУБА, МУМУМУМУБА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Arial"/>
              </a:rPr>
              <a:t>Т.е. каждому милому неплохому мы нашли пару из плохого немилого, но при этом у нас еще остались плохие немилые слова без пары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енняя интернет-олимпиада по математик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 сайте «Меташкола»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1 ноября в 19: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  2012 г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413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астники: Смирнова Арина5а, Ковалёва Ксения5а,  Мустофаева Алсу 5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220500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Как принять участие в олимпиад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1.Зарегистрироваться в МетаШколе (повторно регистрироваться не нуж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2. Войти в МетаШколу с логином и паролем и записаться на олимпиа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3. Настроить компьютер для участия в олимпиаде. После настройки еще раз войти в МетаШколу, перейти на страницу олимпиады и проверить дату и время нач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4. За день до начала олимпиады убедиться, что Вы знаете свой логин и пароль, умеете входить в МетаШко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5. Минут за 10-15 до начала олимпиады войти в МетаШколу с логином и паролем и перейти на страницу олимпиады. Таймер будет отсчитывать время до начала олимпи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6. Как только олимпиада начнется, на экране появятся задачи. К каждой задаче будет дано несколько вариантов ответа, один из которых - правильный. Во время олимпиады нужно решить задачи (в любом порядке) и прямо на экране выбрать правильный вариант ответа к каждой задаче. Таймер будет отсчитывать время до конца олимпиа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7.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За несколько минут до окончания олимпиады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 отправить свои ответы, для этого нажать на кнопку </a:t>
            </a:r>
            <a:r>
              <a:rPr b="0" i="1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Отправить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 внизу страницы с задачами. Можно отправлять ответы, даже если не все задачи решены. Отправлять ответы можно один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Arial"/>
              </a:rPr>
              <a:t>8. Убедиться, что ответы отправились (появится сообщение о том, что ответы получен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ероссийская дистанционная Олимпиада по математике для 5-9 классов на портале «Продлёнка»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оябрь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Участники 5класс: Емельянова Яна (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 мес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), Смирнова Арина (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 мес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), Мустафаева Алсу (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 мес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), Кочура Иван(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 мес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1698120"/>
            <a:ext cx="9144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Интернет-портал портал для детей, родителей и педагогов «Продлён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Всероссийская дистанционная олимпиадапо математике среди 5 – 9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Желаем тебе удачи и побед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Задания для 5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1​ Для того чтобы разрезать металлическую балку на две части, нужно уплатить за работу 5 рублей. Сколько будет стоить работа, если балку нужно разрезать на 10 ча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2​ Парусник отправляется в плавание в понедельник в полдень. Плавание будет продолжаться 100 часов. Назовите день и час его возвра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3​ Если Сережа поедет в школу автобусом, а обратно пойдёт пешком, то он затратит на весь путь 1ч 30 мин. Если в оба конца он поедет автобусом, то затратит всего 30 мин. Сколько времени потратит Сережа на дорогу, если он пойдёт пешком и в школу и обрат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4​ На прямой линии посажено 10 кустов так, что расстояние между любыми кустами одно и то же. Найдите это расстояние, если расстояние между крайними кустами 90 д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5​ Рыбаки поймали 19 рыбин массой 100г, 200г, … , 1900г. Можно ли весь улов поделить поровну между 10 рыбаками? Если можно, то как? Если нет, то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6​ У Кенгуру насморк. Он пользуется квадратными платками размером 25х25 см. За восемь дней Кенгуру использовал 3 квадратных метра ткани. Сколько платков в день тратил Кенгур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7​ Илья Муромец, Добрыня Никитич и Алеша Попович вступили в бой с великанами. Получив по три удара богатырскими палицами, великаны обратились в бегство. Больше всего ударов (7) нанес Илья Муромец, меньше всех (3) – Алеша Попович. Сколько всего было великан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8​ Ваня купил 4 книги для подготовки к олимпиаде по математике. Все книги, кроме первой, стоят в сумме 348 руб., без второй – 296 руб., без третьей – 292 руб., без четвертой – 288 руб. Сколько стоит каждая книг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9​ Одна бутылка лимонада стоит 30 руб. Пустую бутылку можно сдать за 12 руб. Какое наибольшее число бутылок можно выпить, имея 100 руб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Arial"/>
              </a:rPr>
              <a:t>10​ Рост Буратино составляет 1м и 4 дм, а длина его носа раньше была 9 см. Каждый раз, когда Буратино обманывал, длина его носа удваивалась. Как только длина его носа стала больше роста, Буратино перестал обманывать. Сколько раз он обману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ероссийская дистанционная Олимпиада по математике для 5-9 классов на портале «Продлёнка» ноябрь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acer\Desktop\2012\олимп\скринОлПродлРез.pn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атематическая Интернет-карусель на                                                                                сайте « Дистантное обучение: центр дополнительного образования детей 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608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частники «Квартет539» 10 класс: Михайлова Диана, Очкалов Александр, Сотникова Мария, Юницкая Н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ото: Головчанова Ма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fVBGQpJGHuo"/>
          <p:cNvPicPr/>
          <p:nvPr/>
        </p:nvPicPr>
        <p:blipFill>
          <a:blip r:embed="rId1"/>
          <a:stretch/>
        </p:blipFill>
        <p:spPr>
          <a:xfrm>
            <a:off x="611280" y="3068640"/>
            <a:ext cx="3240000" cy="338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mpjkqFvbl0E"/>
          <p:cNvPicPr/>
          <p:nvPr/>
        </p:nvPicPr>
        <p:blipFill>
          <a:blip r:embed="rId2"/>
          <a:stretch/>
        </p:blipFill>
        <p:spPr>
          <a:xfrm>
            <a:off x="4427640" y="1628640"/>
            <a:ext cx="4314600" cy="46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Интернет-карусели проходят с 2005 года. В каждой карусели участвует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от 400 до 1000 команд-участников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из более чем 50 регионов РФ, а также из других стран (регулярно - Беларусь, Украина, Казахстан, Словакия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C6TxNfas8ps"/>
          <p:cNvPicPr/>
          <p:nvPr/>
        </p:nvPicPr>
        <p:blipFill>
          <a:blip r:embed="rId1"/>
          <a:stretch/>
        </p:blipFill>
        <p:spPr>
          <a:xfrm>
            <a:off x="250920" y="1916280"/>
            <a:ext cx="464328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U8C6Vwz6zTE"/>
          <p:cNvPicPr/>
          <p:nvPr/>
        </p:nvPicPr>
        <p:blipFill>
          <a:blip r:embed="rId2"/>
          <a:stretch/>
        </p:blipFill>
        <p:spPr>
          <a:xfrm>
            <a:off x="5045040" y="1484280"/>
            <a:ext cx="409896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тоги математической карусели для10-11класс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матем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Школьный тур Олимпиады по 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6"/>
          <p:cNvGraphicFramePr/>
          <p:nvPr/>
        </p:nvGraphicFramePr>
        <p:xfrm>
          <a:off x="119160" y="831960"/>
          <a:ext cx="8858160" cy="184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831960"/>
                    <a:ext cx="885816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0" y="28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Районный тур Олимпиады по математике 8.12.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учеренкоНН«Из опыта работы с одарёнными деть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удрявцев СА«Система работы с одаренными по математике детьми в нашей гимназии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ахмутский А.Е. Школьная система мониторинга качества образования. Псков: АНО «Центр социального проектирования «Возрождение» , 2004. – 96 с.2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едотова Н. К. Из опыта работы с одаренными детьми / Н. К. Федотова // Вестник НГУ. Серия: Педагогика / Новосиб гос ун-т. — 2008. — Т. 9, вып. 1. — С. 53 — 56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станционный образовательный портал «Продлёнка» http://www.prodlenk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таШкола http://www.metaschoo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стантное обучение</a:t>
            </a:r>
            <a:r>
              <a:rPr b="1" lang="ru-RU" sz="32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http://www.desc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МЦ Кировского района - Официальный информационный портал http://www.nmc-kirov.spb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475920"/>
            <a:ext cx="8353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феврале 2010 года Президент РФ Медведев ДА утвердил Национальную образовательную инициативу «Наша новая школа», в рамках которой строится разветвленная система поиска, поддержки и сопровождения одаренны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ждая общеобразовательная школа должна выявлять талантливых детей и создавать творческую среду для их самореализации, учить находить нестандартные решения, проявлять инициативность, творчески мыслить, быть субъекто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пускник, обладающий такими навыками, сможет жить и профессионально работать в высокотехнологичном и конкурентном ми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даренные дети – будущее России. Они обеспечат модернизацию экономики и инновационное развитие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26920" y="1052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оздание условий для развития одаренных детей, а также просто способных детей является одним из главных направлений работы нашей школы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-171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Работа с одарёнными де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 Не существует сколько-нибудь досто­верных тестов на одаренность, кроме тех, которые проявляются в результате активного участия хотя бы в самой маленькой поисковой исследовательской работе.» А. Н. Колмог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даренность - синоним талантливост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даренность есть сочетание трех основных характеристи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·   интеллектуальных способностей (превышающих средний уровень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·   креатив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·   настойчивости (мотивация, ориентированная на задачу).  Дж. Рензул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а семьи  состоит в том, чтобы вовремя увидеть, разглядеть способности ребенка, задача школы — поддержать ребенка и развить его способности, подготовить почву для того, чтобы эти способности были реализов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25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25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25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25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25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25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25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25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5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25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25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25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25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25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5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25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25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5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25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25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25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55640" y="119664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лимпиады по математике – это серьезные интеллектуальные соревнования, требующие высокой концентрации мышления. В олимпиадах побеждает участник, сильнейший на данный момент. И победа в олимпиадах дается только упорным и хорошо подготовлен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 полугод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сероссийская дистанционная Олимпиада по геометрии для 7-11 классов  на портале «Продлё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сероссийская дистанционная Олимпиада по математике для 5-9 классов на портале «Продлён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лимпиада ЮМ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сенняя интернет-олимпиада по математике  на сайте «Меташко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тематическая Интернет-карусель на                                                                                сайте «Дистантное обучение: центр дополнительного образования детей 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Школьный тур Олимпиады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ероссийская дистанционная Олимпиада по геометрии для 7-11 классов  на портале «Продлёнка» сентябрь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частники10клас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ихайлова Диана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плом3мест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, Очкалов Александр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плом лауреат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24000" y="2235960"/>
            <a:ext cx="41036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Ответы на задания для 10 клас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всероссийской дистанционной олимпиа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по геометрии среди 7 – 11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Титульный л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Название мероприятия: Всероссийская дистанционная Олимпиада по геометрии среди7-11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ФИО участника: Михайлова Диана Владислав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Класс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Школа: ГБОУ СОШ №539 Кировского района Санкт-Петербур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Город: Санкт-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ФИО педагога-куратора: Антропова Эльза Вале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Должность педагога-куратора: учитель матема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Отве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67280" y="1844640"/>
          <a:ext cx="4176720" cy="4535640"/>
        </p:xfrm>
        <a:graphic>
          <a:graphicData uri="http://schemas.openxmlformats.org/drawingml/2006/table">
            <a:tbl>
              <a:tblPr/>
              <a:tblGrid>
                <a:gridCol w="2070000"/>
                <a:gridCol w="2106720"/>
              </a:tblGrid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Номер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Вариант от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+1/12 , 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2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/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0см,15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2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(2а+в+2с)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лимпиада ЮМ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частники: КовалёваКсения5а(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рамо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), КочураИван5а(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рамота)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, СмирноваАрина5а, ФоминаАлёна5а, СмирновАлександр6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очная олимпиада 5-6 класса ЮМШ, 2012.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ешения за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дач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Составьте квадрат 7×7 клеток из пяти таких прямоугольников: 1×4, 2×4, 2×5, 2×6, 3×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дач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Среди трёх Маш, трёх Ань и двух Даш — четыре блондинки и четыре брюнетки. Может ли оказаться так, что у каждой девочки в этой компании есть хотя бы одна тёзка с тем же цветом волос? Не забудьте обосновать сво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се Маши должны иметь волосы одного цвета (иначе одна из них будет отличаться от двух других, и для неё не найдётся тезки того же цвета). Все Ани – тоже. Допустим, Маши – блондинки. Тогда Ани должны быть брюнетками (так как блондинка осталась только одна), и получаем, что Даши – блондинка и брюнетка. Ни у одной из них нет тезки с тем же цветом в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адач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В доме все комнаты прямоугольные. В одной из комнат в стене последовательно расположены три двери с такими надписями.</a:t>
            </a:r>
            <a:br>
              <a:rPr sz="1200"/>
            </a:b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Первая дверь: «Эта дверь ведёт в ту же комнату, что и вторая дверь».</a:t>
            </a:r>
            <a:br>
              <a:rPr sz="1200"/>
            </a:b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Вторая дверь: «Эта дверь ведёт в комнату, в которую не ведут ни первая, ни третья дверь».</a:t>
            </a:r>
            <a:br>
              <a:rPr sz="1200"/>
            </a:b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Третья дверь: «Эта дверь ведёт в ту же комнату, что и первая дверь».</a:t>
            </a:r>
            <a:br>
              <a:rPr sz="1200"/>
            </a:b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Ровно одно из этих утверждений ложно. Какое? (Укажите все возможные варианты ответа и докажите, что других не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Второе высказывание лож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Первое и второе высказывание противоречат друг другу в плане того, ведут ли первая и вторая дверь в одну комнату. Значит, среди них точно есть ложное. Поэтому третьему высказыванию остается быть истинным. Но раз первая и третья двери ведут в одну комнату, то и вторая дверь ведет в ту же комнату, иначе она не будет прямоугольной, а будет иметь выемку в районе второй двери. Поэтому все три двери ведут в одну комнату. В этой ситуации ложным будет только второе высказыва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Задача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На доске написано 100 чисел: 2, 4, 6, ..., 200. За один ход можно поменять местами два числа, если одно из них делится на другое. Можно ли с помощью таких действий переставить эти числа в обратном порядке: 200, 198, 196, ..., 2? Не забудьте обосновать свой отв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Числа переставить в обратном порядке возможно, т.к. все числа делятся на 2 и поэтому менять местами числа можно с помощью цифры 2. Например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Исходный числовой ряд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,4,6,8,……….194,196,198,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1) меняем местами 2 и 200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 4,6,8…….194,196,198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) меняем 2 и 4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2,6,8,……194,196,198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3) меняем 2 и 198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6,8…….194,196,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4) меняем 2 и 6 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2,8……..194,196,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5) меняем 2 и 196 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8………194,2,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6) меняем 2 и 8 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2………….194,8,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7) меняем 2 и 194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194…………2,8,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(В конце концов все числа, кроме 2 окажутся там, где нам нужно, а 2 будет в центре. Затем сместим ее вправо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) меняем 2 и 8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194…………. 8,2,6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+1) меняем 2 и 6 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194………….8,6,2,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+2) меняем 2 и 4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200,198,196,194………….8,6,4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ff"/>
                </a:solidFill>
                <a:latin typeface="Arial"/>
              </a:rPr>
              <a:t>Задача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ff"/>
                </a:solidFill>
                <a:latin typeface="Arial"/>
              </a:rPr>
              <a:t>У короля есть прямоугольный остров, разбитый на несколько прямоугольных участков, принадлежащих феодалам. В ответ на заданный каждому вопрос «сколько у Вас соседей?» было дано ровно два вида ответов: «три» и «семь» (участки соседние, если у них есть общий отрезок границы). При каком наименьшем количестве участков такое возможно? Не забудьте обосновать свой отв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Если один участок какого-нибудь из феодалов граничит с семью соседними участками, значит участков должно быть минимум 8 (1 этот участок  и 7 соседних) Пример такого расположения приведён на картинк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ff"/>
                </a:solidFill>
                <a:latin typeface="Arial"/>
              </a:rPr>
              <a:t>Задача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Максим сложил два числа. После этого он заменил все цифры на буквы (одинаковые цифры на одинаковые буквы, разные — на разные). Получился такой пример: </a:t>
            </a:r>
            <a:br>
              <a:rPr sz="1200"/>
            </a:br>
            <a:r>
              <a:rPr b="0" i="1" lang="ru-RU" sz="1200" spc="-1" strike="noStrike">
                <a:solidFill>
                  <a:srgbClr val="0000ff"/>
                </a:solidFill>
                <a:latin typeface="Arial"/>
              </a:rPr>
              <a:t>ЗАДАЧА + УДАЧА = РЕШЕНИЕ. Докажите, что Максим где-то ошиб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+9АДАЧАТ.к. при сложении в следующий разряд может перейти только1, то З=1, Е = 0, Р = 1УДАЧА10Ш0НИ0+95ДАЧ5Т.к. последняя цифра 0, А не равно 0, значит А = 5.УДАЧ510Ш0НИ0+95ДАЧ5Рассмотрим разряд сотен. Заменим цифрами  значение А: 5+5=10, значит 1 сотня переходит в разряд тысяч, следовательно Д+Д =9, чего не может быть.УДАЧ510Ш0НИ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er</cp:lastModifiedBy>
  <dcterms:modified xsi:type="dcterms:W3CDTF">2013-01-13T17:17:3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