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2BC-3F8D-427F-9958-B8E3DCDF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815-9C17-42F8-B39A-26730CB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00F4-1B51-427E-B677-65BB0EEA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F906B-6C7E-4CD7-89E6-C34A8BF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D18A1-954B-4A23-9D78-EE42839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F14C7-3A12-4814-A12A-DF9ABBA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62BB8-5806-4254-B047-BC61E4BD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97CB-1BA1-4A00-8810-A93230F4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6FF30-F15F-4A51-BF4F-346CC71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743CB-DB86-4D69-A3A5-65A4A3E1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7CAB-1C45-41C2-B518-17BF847F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55E0B-A349-4CEB-83C5-5136BDCC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E8A-623F-4E5D-853E-EE12993F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B8E7-54B3-4AA1-858F-7DCBB8FC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1785D-0D6B-4B62-A714-E298A9D4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73095-353D-4DCA-8E7C-9BE5AE05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11519-9CA7-45DD-9B14-3C00F2C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87698-B3B1-41F3-A551-44243DDE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18393-FE59-4D9B-8E0A-66B435C0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25A26-3222-497A-B8AD-0315B123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DCE06-5A33-4AA2-9243-CBC7D40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B4A00-A5DC-4696-9A1C-47BE7CC9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B77FB-27C2-4398-84D7-2A0D1330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CD0-8D30-451B-B7E2-820A1897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2D66D-AE46-44D2-87C2-77B931F1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C3A2F-1A16-42A1-B7D4-9055B403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FCCE3-CC2F-4392-AFD9-99984F5B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99C5E-FD6A-46B8-A017-C2179153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DFB49-EA3E-4935-B38E-0129C7AD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DF51C-0997-4BA9-8011-0366D12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0C6D9-0791-4649-BC89-CF571C1D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B88CE-A6A8-4244-A428-391FB68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16AA3-BF23-4DB8-A617-00CBB48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625A2-50FB-475A-91FC-7FD5CE82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871-4F39-4445-AE3C-FBB39742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B7AFF-5FA7-4C24-9F7D-99D6B07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8ECB2-A7F4-4B52-952A-E7183D71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8F457-8782-4B15-BFB4-026986F5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53077-51A2-4A1E-A069-C3D0773B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58E5D-F9EB-4CAB-B507-EDD4562B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25E0A-798D-447F-9E31-278FD9E1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79CC6-7CDE-46B8-9582-FFC4B75D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20E9C-CB67-49D9-9570-1C325657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F93C0-C9AA-40C3-90D6-3977EF5D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9A68A-1BD4-41DA-A2EF-7C996144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0B3D-DEC1-415D-A3B1-C806134D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A07F7-6F3B-443D-9D34-ADBB1151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A9BDF-5CC1-4BA3-BA01-066275DC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CF052-53DB-4551-AD72-8C6BE492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7C497-B413-49C0-9B3C-67DBD3DE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162DD-FD9C-4CC0-BA76-5688A68A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AE15F-EE41-4E3E-A10F-F75FA244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56A39-D932-477E-BDB3-7BA3B1B0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29EB9-6E9F-4BA9-9F00-607EFE5F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2FDF8-5C3E-4953-A29F-8814C3E2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FBBE7-8E13-410D-94F1-57BC86BA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33BC-D662-40A9-B68A-B298B99B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D9535-6DF8-4C7B-B237-73520745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6BD65-ADD6-4DD0-A2DE-6D19E4D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FDB81-D4AC-4DA6-A35E-7D3FBAFC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B295D-02C5-40DA-B572-7092F12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F0C1A-5C7C-444B-98FC-DC3126C6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73CDC-B888-4A25-8BF2-437982E5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4AD2EB-3A49-4B29-878F-4142CE41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9C1B90-D969-4264-96B3-49B31D29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5FB8A-42A9-4F1E-8EB0-81DECB62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32CB8-B47B-4A0F-93C5-9838D68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C0C8-589B-4B67-9530-1A2FD5A2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01001-BE71-4C2D-B52F-AC4CF2BE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9FDE4-E8FF-486F-92B6-C0AF36E4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9BA45B-615B-4CFD-A465-34EB24B1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E9344-5F52-4AC7-974C-795DE65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EAC50-46CF-4A18-AFFB-9755282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2AD98-13CA-4741-95D4-1962102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D5771-0B19-40A9-9872-E9589EB4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5C375-ADC1-44CB-91B2-E136E761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F89B9-67C8-4E40-AF21-F051CC42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6CB25-1457-4881-82E1-94B62AE8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1965-62C9-43B3-B803-41FADC7B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D51F9-A847-4852-A649-3F46729D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F8552-40A9-4541-9D04-D3FCC033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B1802-8629-407D-AD36-FE125EF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55403-A516-40EF-9A72-25F8B19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A4C63-BD5D-46F8-AD36-C419240C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80557-7CBA-4D75-A993-6EA2297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36CB31-55DB-4450-937E-0221344F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F4452-9E62-41EA-A753-7E879092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C72DB-3614-41A9-90E3-89999246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69438-773D-437F-869A-B1545B60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5046-9882-4B21-999E-4DF19AAE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E16F3-64A5-43BA-AF24-9C7EC975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426A9-76DD-479F-BE77-DFA50976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4F44B-DD09-4577-A217-2FE261A8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87DD4-ACBB-47B9-98C7-1CDF1D7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86CA9-E1F0-4779-9463-9FAB98E6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2475D9-1917-4C97-8371-F3D7FFC3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8D6BD-416B-4AEA-A75B-C22D4E98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3D228-7F00-4E3D-8F31-B7BE468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4A6523-4927-4309-9DA8-BD695D51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F186D-5A69-49C1-AE36-AE8154F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B9A5-C5A1-408E-A064-136A1C0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FE5D8-BA1D-452F-8F0E-B07BA344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E4ED3F-37B8-4847-87F4-93D72BB6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AEC6F-6FFB-41DE-81F6-AF88279C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36309-7B03-47D0-AD4F-8C9F9B79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3363D-1BB3-45D0-A060-44BBC418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64F81-3906-45AD-8ACA-8872E86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96843-E41F-4152-A42F-21339C3C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E653A-9279-4D43-A585-BEBB715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173CD-3495-4810-AB9A-4808456A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82758A-EA32-455E-8622-0876F36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B4B-5E38-44DF-ADD1-8D192580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FC73-8BEA-4F86-A82A-9CA523EE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6EFBF-1CFC-41DA-A6E4-7EA76DDB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CA177-A2E0-4BBC-993B-EB8D7BB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9BA1C-6B0D-4377-84EE-7A2D9839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6ED83-5612-497D-A476-28592C15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940452-336F-412A-AF7C-44DE78B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B88-B83F-4161-823B-65AF481C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7947-157C-47CD-B5C9-0A446F64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D220-3DEC-479A-80D1-59C492BC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7450-2EA3-4F89-9A5D-DA674EC1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27AC-8F3F-4CA6-B763-F85FFDBF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B052A-0606-4CE8-B0D2-B45AEFC1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36E5-9AFF-49BB-80F1-0653D5A0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BE63-EE7A-4F45-A84C-0E743705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C823-11C0-4230-9349-EEB9B42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2EA-8F2D-45EA-9E9D-ADB8A09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DF54-B815-4E89-B667-81C48F80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2E6A-5065-48E0-842D-F420F2C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59F9-69B5-42BB-9F33-AE1B6FB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8761-B24D-416D-A360-21EEA6A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42C0-33DE-48C0-AD10-F70E08AA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7239-7EB9-4647-92DE-CEE5F495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903D-0C56-4C92-8602-B8465833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FAAF8-C6E9-4F5B-A561-1D475881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70F17E-AB91-43C3-92D2-46ADDA59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E876F-2340-463E-9797-479D2BBA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A9B-6A59-46FD-9441-2AA5286B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81F12-24A8-4EE3-8082-362E775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6A1A6-142C-4670-B02F-87547596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4B4AC-1F30-45DF-82E6-9F6B85A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E2AEE-2FB2-40DD-82AA-B9122F72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BDC6B-8807-4E94-B450-AF00D7CF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389B3-9F06-4775-86A4-D3363F0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3B646-D18E-4F2A-9089-89DDE3BE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B0EAF-0ED8-44C9-B4D9-90AA4B5C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3B860-1ABA-4511-AA2A-1FE22BFF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34DFD-D498-4DEA-929C-9AF967C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00D-6201-418C-9D60-5CF8C6A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DE37-23B8-4AA8-A5B5-4827559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9864-7BED-4ED4-8A1C-CF53ADF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4A5DB-2914-4D0B-9CEE-EB21DA91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3CBE-A7B0-4EFE-BA23-5CD70AA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BEDC-1757-4F3D-8E8C-A8AAA222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3D1A9-BC32-409A-80BD-DBEDBE6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20A11-DB3D-498D-81C8-5D023D1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D01B-7C7A-4018-897D-97BB242B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6847-C1DB-41E4-963C-88E119D5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C8FB-34EA-431B-90CB-AA5888DC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062-CFC2-470A-B60E-5FD0708A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9C186-5B65-438D-82E0-2F59D28E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267C0-FCFA-4581-8765-6A5D690A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C0E6-CFE9-461E-9E97-2D33F995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8FEDA-B60F-4E22-BC74-413F8644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01A5-58D1-44E8-AAEE-B8CAAD4A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CE97-52AA-4F0E-A49A-7CCF48E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79E1C-4E54-4792-9FA4-1D2382D6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F96D-6516-437A-9717-E41B45FB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B153F-2AF9-4906-9097-CF99EAC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562D4-84E0-46D1-86FB-D7C64E07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FD7-8CBB-4D9F-BD7D-0B8A1BF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E5D85-1EE6-4359-A5CC-7AD43DD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6CC3-6710-4A29-8C0F-2BD4E195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80318-9956-4D81-BEBC-CFDD5B6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8F923-A941-40B9-B9CB-108AB324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98CA-0F2C-489B-B9A4-4E8D6574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04ED-14D0-4118-9974-04156392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ABF4-0D25-4E7E-9049-A125D5F5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084EB-BDFE-43B2-AEB8-D5527C77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E121-17B6-493B-A768-AF446AEE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1D67-BF8B-4501-8191-0BA55C0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260-296A-4CA2-AC41-89DCAF4D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6DE6-F3F7-40E4-A7D9-48A59A86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1EF63-4AB6-4675-9A0C-EE92C18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6B421-93ED-4F96-87E3-8325BA96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30B83-F744-4EB8-B22F-113F64BA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D1CF-8359-4AD8-BA3F-A2B8BA91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14F5-E1F9-47E7-BE48-32907183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3ECF0-D618-464C-8A10-4EC71A84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8FE45-82A3-4170-880B-F83D81C0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4F7A1-1EA8-447B-9F66-1E2BC422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C60C7-9007-47A4-938F-ED1D5CA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A02-E72C-46F7-9DE9-7C4AB0DC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F75E5-1B7A-43E4-A42D-698B0B2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E8A5D-A700-446D-9C5F-1B06AC5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47A1-FAE7-4D7F-9FDB-D1158B08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056F6-7512-4196-8888-FE97E42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62DEA-A8AF-4EE8-922B-AF1738CF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88433-3CDC-450F-A934-11AF4851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05DB-7771-4C65-9DE6-74FE3C71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D5A06-994C-497A-8F0E-1778035D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1D32D-3675-4DF5-8239-A4FABC72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DB0B-B72B-4395-B5A6-BE38DB7C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A07B-EBB4-4D9F-AD0D-6E3471E4065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6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4049-CDA4-4A90-9C65-AA54BFBEF8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61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1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BCA9-D8F5-471A-8D46-C93CD7AACE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66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C853-3861-427D-96C9-E429417241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70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F9B7-F582-49FB-9BF2-C28FA9EF31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8CE3-5E6C-497A-935F-83305D9780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D66-7C8F-4FC8-8D9A-F03EF7131A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FDAD-0765-4E95-AC7D-57490EBD9C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68E2-FA08-4EC1-B191-5E0EEB3CE4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D696-0105-4D56-9165-81B147A1CD5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136-C3DD-4D1A-80ED-116C4B300B91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5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158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15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161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0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81D-3A59-4E91-ACD8-7B3107EA9B1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7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45E7-C900-4E68-AEF7-72FE0AEB6A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27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7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2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D15A-942C-49D0-83E4-49D92884526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E5A-A119-4600-947A-FC74492083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45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45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0CB-53B4-416E-A5F2-BD4340121161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853D-89C4-445A-B452-5C260316DFB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4360" y="10717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как одна из ведущих форм деятельности классного руководител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Oval 11"/>
          <p:cNvSpPr/>
          <p:nvPr/>
        </p:nvSpPr>
        <p:spPr>
          <a:xfrm>
            <a:off x="285840" y="642960"/>
            <a:ext cx="3643200" cy="1571760"/>
          </a:xfrm>
          <a:prstGeom prst="ellipse">
            <a:avLst/>
          </a:prstGeom>
          <a:solidFill>
            <a:srgbClr val="00b2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имущество тре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Прямоугольник 3"/>
          <p:cNvSpPr/>
          <p:nvPr/>
        </p:nvSpPr>
        <p:spPr>
          <a:xfrm>
            <a:off x="1857240" y="2690640"/>
            <a:ext cx="671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Классный руководитель с помощью классного часа создает определенные условия, с помощью которых он может спрогнозировать результативность воспитатель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Овал 2"/>
          <p:cNvSpPr/>
          <p:nvPr/>
        </p:nvSpPr>
        <p:spPr>
          <a:xfrm>
            <a:off x="428760" y="357120"/>
            <a:ext cx="4143240" cy="15717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имущество  четверт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Прямоугольник 3"/>
          <p:cNvSpPr/>
          <p:nvPr/>
        </p:nvSpPr>
        <p:spPr>
          <a:xfrm>
            <a:off x="1785960" y="269064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Час, на котором решаются разные проблемы, позволяет видеть учеников в естественной атмосфере общения и решать серьезные нравственные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Constantia"/>
              </a:rPr>
              <a:t>СОВЕТЫ ПО ОРГАНИЗАЦИИ КЛАССНОГО ЧАСА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TextBox 6"/>
          <p:cNvSpPr/>
          <p:nvPr/>
        </p:nvSpPr>
        <p:spPr>
          <a:xfrm>
            <a:off x="785880" y="157176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одержание классных часов следует строить так, чтобы постеп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ереходить от предметной информации к ее оценке, от общих оцено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к развернутым сужден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 процессе обсуждения поставленных вопросов классный руко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олжен быть очень внимателен к выступлениям учащихся, должен внос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ужные коррективы, ставить дополнительные вопросы, акцентир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внимание на важных моментах, размышлять вместе с детьми и помоч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м найти правильные решения нравственной пробл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Необходимо учитывать психологические особенности восприя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атериала учащимися, следить за их вниманием и при его сниж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спользовать интересный по содержанию материал или постав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стрый вопрос, использовать музыкальную паузу, сменить ви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деятельности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семирная декларация об обеспечении выживания, защиты, развит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143160" y="1143000"/>
            <a:ext cx="5786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Деятельность классного руководителя является важнейшим звеном в воспитательной системе учебного заведения, основным механизмом реализации индивидуального подхода к воспитанникам. Обусловлена она современной задачей, которую ставят перед учебным заведением любого типа мировое сообщество, государство, республика, родители - максимальное развитие каждого ребенка, сохранение его неповторимости, раскрытие его талантов и создание условий для нормального духовного, умственного, физического совершенства</a:t>
            </a:r>
            <a:r>
              <a:rPr b="0" lang="ru-RU" sz="2400" spc="-1" strike="noStrike">
                <a:solidFill>
                  <a:srgbClr val="ffff66"/>
                </a:solidFill>
                <a:latin typeface="Tahoma"/>
              </a:rPr>
              <a:t>.</a:t>
            </a:r>
            <a:br>
              <a:rPr sz="24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2" name="Picture 18" descr="j0301252"/>
          <p:cNvPicPr/>
          <p:nvPr/>
        </p:nvPicPr>
        <p:blipFill>
          <a:blip r:embed="rId1"/>
          <a:stretch/>
        </p:blipFill>
        <p:spPr>
          <a:xfrm>
            <a:off x="0" y="2643120"/>
            <a:ext cx="3390840" cy="289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Прямоугольник 1"/>
          <p:cNvSpPr/>
          <p:nvPr/>
        </p:nvSpPr>
        <p:spPr>
          <a:xfrm>
            <a:off x="3714840" y="714240"/>
            <a:ext cx="51433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Arial Black"/>
              </a:rPr>
              <a:t>Час классного руководителя </a:t>
            </a:r>
            <a:r>
              <a:rPr b="0" lang="ru-RU" sz="2200" spc="-1" strike="noStrike">
                <a:solidFill>
                  <a:srgbClr val="0070c0"/>
                </a:solidFill>
                <a:latin typeface="Arial Black"/>
              </a:rPr>
              <a:t>(классный час) - это форма воспитательной работы классного руководителя в классе, при которой ученики принимают участие в специально  организованной деятельности</a:t>
            </a:r>
            <a:r>
              <a:rPr b="1" lang="ru-RU" sz="2200" spc="-1" strike="noStrike">
                <a:solidFill>
                  <a:srgbClr val="0070c0"/>
                </a:solidFill>
                <a:latin typeface="Arial Black"/>
              </a:rPr>
              <a:t>,</a:t>
            </a:r>
            <a:r>
              <a:rPr b="0" lang="ru-RU" sz="2200" spc="-1" strike="noStrike">
                <a:solidFill>
                  <a:srgbClr val="0070c0"/>
                </a:solidFill>
                <a:latin typeface="Arial Black"/>
              </a:rPr>
              <a:t>способствующей формированию у них системы отношений к окружающему мир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34988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Скругленная прямоугольная выноска 6"/>
          <p:cNvSpPr/>
          <p:nvPr/>
        </p:nvSpPr>
        <p:spPr>
          <a:xfrm>
            <a:off x="2143080" y="3214800"/>
            <a:ext cx="6500880" cy="300024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уть </a:t>
            </a:r>
            <a:r>
              <a:rPr b="0" i="1" lang="ru-RU" sz="2000" spc="-1" strike="noStrike">
                <a:solidFill>
                  <a:srgbClr val="3333cc"/>
                </a:solidFill>
                <a:latin typeface="Arial"/>
              </a:rPr>
              <a:t>просветительской функции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остоит в том, что классный час дает возможность расширить круг тех знаний учеников, которые не нашли отражения в учебных программах. Эти знания могут содержать в себе информацию о событиях, происходящих в городе, в стране и за рубежом. Объектом обсуждения классного часа может быть любое явление или событ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Прямоугольник 7" descr=""/>
          <p:cNvPicPr/>
          <p:nvPr/>
        </p:nvPicPr>
        <p:blipFill>
          <a:blip r:embed="rId1"/>
          <a:stretch/>
        </p:blipFill>
        <p:spPr>
          <a:xfrm>
            <a:off x="-92160" y="1511280"/>
            <a:ext cx="8480520" cy="1135080"/>
          </a:xfrm>
          <a:prstGeom prst="rect">
            <a:avLst/>
          </a:prstGeom>
          <a:ln w="0">
            <a:noFill/>
          </a:ln>
        </p:spPr>
      </p:pic>
      <p:sp>
        <p:nvSpPr>
          <p:cNvPr id="919" name="Скругленный прямоугольник 8"/>
          <p:cNvSpPr/>
          <p:nvPr/>
        </p:nvSpPr>
        <p:spPr>
          <a:xfrm>
            <a:off x="214200" y="428760"/>
            <a:ext cx="7358040" cy="85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nstantia"/>
              </a:rPr>
              <a:t>Функции классного час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Прямоугольник 2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6870960" cy="927360"/>
          </a:xfrm>
          <a:prstGeom prst="rect">
            <a:avLst/>
          </a:prstGeom>
          <a:ln w="0">
            <a:noFill/>
          </a:ln>
        </p:spPr>
      </p:pic>
      <p:sp>
        <p:nvSpPr>
          <p:cNvPr id="921" name="Скругленная прямоугольная выноска 3"/>
          <p:cNvSpPr/>
          <p:nvPr/>
        </p:nvSpPr>
        <p:spPr>
          <a:xfrm>
            <a:off x="1285920" y="2357280"/>
            <a:ext cx="7000920" cy="300060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Ориентирующая функция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пособствует формированию определенного  отношения к окружающему миру и выработке иерархии материальных и духовных ценностей. Помогает оценивать явления, происходящие в окружающем ми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Прямоугольник 2" descr=""/>
          <p:cNvPicPr/>
          <p:nvPr/>
        </p:nvPicPr>
        <p:blipFill>
          <a:blip r:embed="rId1"/>
          <a:stretch/>
        </p:blipFill>
        <p:spPr>
          <a:xfrm>
            <a:off x="566640" y="560520"/>
            <a:ext cx="5773680" cy="927000"/>
          </a:xfrm>
          <a:prstGeom prst="rect">
            <a:avLst/>
          </a:prstGeom>
          <a:ln w="0">
            <a:noFill/>
          </a:ln>
        </p:spPr>
      </p:pic>
      <p:sp>
        <p:nvSpPr>
          <p:cNvPr id="923" name="Скругленная прямоугольная выноска 3"/>
          <p:cNvSpPr/>
          <p:nvPr/>
        </p:nvSpPr>
        <p:spPr>
          <a:xfrm>
            <a:off x="1357200" y="2500200"/>
            <a:ext cx="6215040" cy="300060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c5a4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Направляющая функция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извана переводить обсуждение того или иного явления в рамки реального опыта уча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633240"/>
            <a:ext cx="5546520" cy="927360"/>
          </a:xfrm>
          <a:prstGeom prst="rect">
            <a:avLst/>
          </a:prstGeom>
          <a:ln w="0">
            <a:noFill/>
          </a:ln>
        </p:spPr>
      </p:pic>
      <p:sp>
        <p:nvSpPr>
          <p:cNvPr id="925" name="Скругленная прямоугольная выноска 2"/>
          <p:cNvSpPr/>
          <p:nvPr/>
        </p:nvSpPr>
        <p:spPr>
          <a:xfrm>
            <a:off x="1071720" y="2214720"/>
            <a:ext cx="7429320" cy="3571560"/>
          </a:xfrm>
          <a:prstGeom prst="wedgeRoundRectCallout">
            <a:avLst>
              <a:gd name="adj1" fmla="val -25194"/>
              <a:gd name="adj2" fmla="val -72476"/>
              <a:gd name="adj3" fmla="val 16667"/>
            </a:avLst>
          </a:prstGeom>
          <a:solidFill>
            <a:srgbClr val="c5a4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Реализует все вышеуказанные функции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формирующая функция,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оторая формирует у учеников навыки обдумывания и оценки своих поступков и самих себя, помогает в выработке умелого ведения диалога и высказывания, отстаивания собственного м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Line 54"/>
          <p:cNvSpPr/>
          <p:nvPr/>
        </p:nvSpPr>
        <p:spPr>
          <a:xfrm>
            <a:off x="5857920" y="1928880"/>
            <a:ext cx="500040" cy="1285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7" name="Группа 29"/>
          <p:cNvGrpSpPr/>
          <p:nvPr/>
        </p:nvGrpSpPr>
        <p:grpSpPr>
          <a:xfrm>
            <a:off x="-147600" y="357120"/>
            <a:ext cx="9416520" cy="5613840"/>
            <a:chOff x="-147600" y="357120"/>
            <a:chExt cx="9416520" cy="5613840"/>
          </a:xfrm>
        </p:grpSpPr>
        <p:sp>
          <p:nvSpPr>
            <p:cNvPr id="928" name="Line 41"/>
            <p:cNvSpPr/>
            <p:nvPr/>
          </p:nvSpPr>
          <p:spPr>
            <a:xfrm flipH="1">
              <a:off x="2071440" y="1857240"/>
              <a:ext cx="928440" cy="21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2"/>
            <p:cNvSpPr/>
            <p:nvPr/>
          </p:nvSpPr>
          <p:spPr>
            <a:xfrm flipH="1">
              <a:off x="3571560" y="1857240"/>
              <a:ext cx="21420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44"/>
            <p:cNvSpPr/>
            <p:nvPr/>
          </p:nvSpPr>
          <p:spPr>
            <a:xfrm flipH="1">
              <a:off x="1643040" y="1928520"/>
              <a:ext cx="642960" cy="64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45"/>
            <p:cNvSpPr/>
            <p:nvPr/>
          </p:nvSpPr>
          <p:spPr>
            <a:xfrm>
              <a:off x="7072560" y="1928520"/>
              <a:ext cx="1643040" cy="357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ine 50"/>
            <p:cNvSpPr/>
            <p:nvPr/>
          </p:nvSpPr>
          <p:spPr>
            <a:xfrm>
              <a:off x="5072400" y="1928520"/>
              <a:ext cx="285480" cy="178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Line 51"/>
            <p:cNvSpPr/>
            <p:nvPr/>
          </p:nvSpPr>
          <p:spPr>
            <a:xfrm flipH="1">
              <a:off x="4277880" y="1928880"/>
              <a:ext cx="353880" cy="310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53"/>
            <p:cNvSpPr/>
            <p:nvPr/>
          </p:nvSpPr>
          <p:spPr>
            <a:xfrm>
              <a:off x="7572600" y="1857240"/>
              <a:ext cx="868320" cy="85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55"/>
            <p:cNvSpPr/>
            <p:nvPr/>
          </p:nvSpPr>
          <p:spPr>
            <a:xfrm>
              <a:off x="6429600" y="1928520"/>
              <a:ext cx="1143000" cy="25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Text Box 56"/>
            <p:cNvSpPr/>
            <p:nvPr/>
          </p:nvSpPr>
          <p:spPr>
            <a:xfrm>
              <a:off x="928440" y="357120"/>
              <a:ext cx="73170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Arial"/>
                </a:rPr>
                <a:t>ФОРМЫ</a:t>
              </a: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3800" spc="-1" strike="noStrike">
                  <a:solidFill>
                    <a:srgbClr val="ff0000"/>
                  </a:solidFill>
                  <a:latin typeface="Arial"/>
                </a:rPr>
                <a:t>КЛАССНОГО ЧАСА</a:t>
              </a:r>
              <a:br>
                <a:rPr sz="3800"/>
              </a:br>
              <a:endParaRPr b="0" lang="en-US" sz="3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7" name="Группа 28"/>
            <p:cNvGrpSpPr/>
            <p:nvPr/>
          </p:nvGrpSpPr>
          <p:grpSpPr>
            <a:xfrm>
              <a:off x="-147600" y="2571480"/>
              <a:ext cx="9416520" cy="3399480"/>
              <a:chOff x="-147600" y="2571480"/>
              <a:chExt cx="9416520" cy="3399480"/>
            </a:xfrm>
          </p:grpSpPr>
          <p:sp>
            <p:nvSpPr>
              <p:cNvPr id="938" name="Прямоугольник 19"/>
              <p:cNvSpPr/>
              <p:nvPr/>
            </p:nvSpPr>
            <p:spPr>
              <a:xfrm>
                <a:off x="-147600" y="4071600"/>
                <a:ext cx="474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6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беседа (этическая, нравственная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Прямоугольник 20"/>
              <p:cNvSpPr/>
              <p:nvPr/>
            </p:nvSpPr>
            <p:spPr>
              <a:xfrm>
                <a:off x="2890440" y="278568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диспут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TextBox 21"/>
              <p:cNvSpPr/>
              <p:nvPr/>
            </p:nvSpPr>
            <p:spPr>
              <a:xfrm>
                <a:off x="2241720" y="5000400"/>
                <a:ext cx="460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встречи с интересными людьм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TextBox 22"/>
              <p:cNvSpPr/>
              <p:nvPr/>
            </p:nvSpPr>
            <p:spPr>
              <a:xfrm>
                <a:off x="4594320" y="3785760"/>
                <a:ext cx="178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викторины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TextBox 23"/>
              <p:cNvSpPr/>
              <p:nvPr/>
            </p:nvSpPr>
            <p:spPr>
              <a:xfrm>
                <a:off x="5668200" y="3214440"/>
                <a:ext cx="157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дискусс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Прямоугольник 24"/>
              <p:cNvSpPr/>
              <p:nvPr/>
            </p:nvSpPr>
            <p:spPr>
              <a:xfrm>
                <a:off x="5405400" y="4500360"/>
                <a:ext cx="309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интерактивные игры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TextBox 25"/>
              <p:cNvSpPr/>
              <p:nvPr/>
            </p:nvSpPr>
            <p:spPr>
              <a:xfrm>
                <a:off x="5290560" y="5572080"/>
                <a:ext cx="397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читательские конференци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Прямоугольник 26"/>
              <p:cNvSpPr/>
              <p:nvPr/>
            </p:nvSpPr>
            <p:spPr>
              <a:xfrm>
                <a:off x="7758000" y="26427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тренинги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Прямоугольник 27"/>
              <p:cNvSpPr/>
              <p:nvPr/>
            </p:nvSpPr>
            <p:spPr>
              <a:xfrm>
                <a:off x="170640" y="2571480"/>
                <a:ext cx="273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65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2c6123"/>
                    </a:solidFill>
                    <a:latin typeface="Constantia"/>
                    <a:ea typeface="Times New Roman"/>
                  </a:rPr>
                  <a:t>игры-путешествия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Oval 9"/>
          <p:cNvSpPr/>
          <p:nvPr/>
        </p:nvSpPr>
        <p:spPr>
          <a:xfrm>
            <a:off x="214200" y="2214720"/>
            <a:ext cx="4214880" cy="150012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имущество перв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2214720" y="4143240"/>
            <a:ext cx="600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рамках классного часа мож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общаться одновременно со все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учащимися класса, слышать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мнение по проблеме разговор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блюдать за их реа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20"/>
          <p:cNvSpPr/>
          <p:nvPr/>
        </p:nvSpPr>
        <p:spPr>
          <a:xfrm>
            <a:off x="147636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22"/>
          <p:cNvSpPr/>
          <p:nvPr/>
        </p:nvSpPr>
        <p:spPr>
          <a:xfrm>
            <a:off x="-879120" y="571680"/>
            <a:ext cx="10586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Преимущества хорошо организованного и продуманного клас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часа очевидны. Классный час, или лучше его называть </a:t>
            </a:r>
            <a:r>
              <a:rPr b="0" i="1" lang="ru-RU" sz="2400" spc="-1" strike="noStrike">
                <a:solidFill>
                  <a:srgbClr val="008000"/>
                </a:solidFill>
                <a:latin typeface="Monotype Corsiva"/>
              </a:rPr>
              <a:t>час общ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играет очень большую роль в жизни учащихся, если он заду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интересно и необычно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Oval 10"/>
          <p:cNvSpPr/>
          <p:nvPr/>
        </p:nvSpPr>
        <p:spPr>
          <a:xfrm>
            <a:off x="142920" y="428760"/>
            <a:ext cx="3714840" cy="1714320"/>
          </a:xfrm>
          <a:prstGeom prst="ellipse">
            <a:avLst/>
          </a:prstGeom>
          <a:solidFill>
            <a:srgbClr val="00cc66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еимущество втор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19"/>
          <p:cNvSpPr/>
          <p:nvPr/>
        </p:nvSpPr>
        <p:spPr>
          <a:xfrm>
            <a:off x="1928880" y="2214720"/>
            <a:ext cx="66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Tahoma"/>
                <a:ea typeface="Tahoma"/>
              </a:rPr>
              <a:t>Результативность классного часа  состоит и  в том, что он может влиять  как на мнение большинства учащихся, так и на мнение небольшой группы ребят. Иногда, в ходе индивидуальной работы с учеником, учитель часами не может добиться такого успеха, который можно получить в ходе классного часа. Ведь для ребят, особенно подростков, мнение сверстников бывает важнее мнения самого авторитетного взрослог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4:39:23Z</dcterms:created>
  <dc:creator>Танковид Илона</dc:creator>
  <dc:description/>
  <dc:language>en-US</dc:language>
  <cp:lastModifiedBy>Администратор</cp:lastModifiedBy>
  <dcterms:modified xsi:type="dcterms:W3CDTF">2012-03-26T07:41:52Z</dcterms:modified>
  <cp:revision>45</cp:revision>
  <dc:subject/>
  <dc:title>ВЫПУСКНИК ШКОЛЫ, КАКОВ ОН?</dc:title>
</cp:coreProperties>
</file>