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C655-D0DD-493A-BC98-BDCF187A7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B5DA-9A41-46A6-B36A-09871BB1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D435D-A90B-452C-8C1C-612AD45F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D4F85-AA4A-4A33-AFE3-9FED1C06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C365C-1F00-4DD5-AE1A-FA74F975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81295-D8E5-486D-BCBA-80301D97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10560-85B2-4BDB-90D0-EF963763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D821EA-D3B6-48D4-BEE3-01B9F59E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34B04-3D84-4333-B933-DFC1DBFF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EEAC5-B808-4DE7-8A93-5ACF473FF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A5FBD-8E41-4EA2-B14F-107879105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C8EB9-AEA7-438F-BD2F-830B1F379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3489-FD29-4986-ADAD-6A091DA37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45BBB1-9EC3-49DC-98AC-37FEFF29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7DD52-65D5-4332-B894-5BF0AB4C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67899-B843-484A-8508-56D2A65C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2BB046-9917-4CA8-AEAD-418E3FFC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90A557-EE60-4B4B-9058-E6386DEF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E74CD7-1C05-415A-B7B1-3235793A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D2919A-FDEC-4EDB-9CD5-EDD78F99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5CC991-5681-406C-AA47-FDA9F4CA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3E4DFB-BED5-403F-A8A8-0E0558F2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028883-84B6-474E-A377-D787ADDE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88F0-4323-4AF8-993B-7CDD075A3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05B1BE-C6D1-40A5-A919-1B6BF4DA4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D3527-3C12-459B-86AB-27483C678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B26F7-095E-404B-9C93-463E402E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D035D-A85C-4F51-BCB6-F4F28442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C0173-48E7-458A-A8EE-44DDED8E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5F2B3-9725-48A6-A7B6-6C9DC2B8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230EB-1ADC-4A0D-92AA-51E34CCC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FDF13-DE7E-42F4-88BD-FAA504B2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12995-ADBD-4928-AC1F-7EF8A687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CACE5-8128-4DED-B465-08DEBC2F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665A-D179-47D3-B825-A85C8D84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5325F-A817-49AB-867D-F88C9DF4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01BDB-D37D-4C94-9DE9-4590008BE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1CCEB-00D3-45E5-B734-A8E08E26D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1DA5E-232E-427B-B207-4454558E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4379B-D2DB-4BD2-9E3D-5176E1CF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F2248-AA9D-4395-ABAC-3C4EAB5C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463DB-DAB0-4E49-AD4D-2B278045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EC2537-A89B-4D40-8D68-710F2A64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3D1586-A6F8-425A-8DFE-D128EA54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A0999B-DC78-4AF9-8280-E58255B0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27E1-75BA-4453-8BE1-A2369D30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F00258-0FA4-4713-B3E4-EE55E9CA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0318EE-642A-4737-BBE7-5DC92D92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96F3EA-80DE-49C5-AE40-75E3FD00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294AAB-540F-41E2-A522-CA1777128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2A8FA7-9FD9-42BE-BAC1-783EAF80F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9537F0-EE4E-4176-85F0-5FCFE5454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03B878-2D26-4A65-B0AC-98F72B66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C67E76-1A95-4FE3-A0F6-0A939196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0A29A9-7C68-4479-BA53-EB7890FD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8252B6-31F3-481C-B500-1A34C176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AE7B-C1FB-423E-BD53-D9AF0D77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A914BE-410E-4AFC-9D08-8F7F84E4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5EB85C-7C1F-4B97-89C0-806AFAC5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B5F1D5-E5BB-446F-88A0-9B85A4D4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09C402-2E95-4862-A5A6-8AA6FADE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CC90D1-4C19-4FEF-944E-9B5D3CB9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B7BD5B-7BF5-40D4-BC4F-C889B4CE4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C06E19-AB6B-44EE-8278-397D24E36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A09990-7D02-414B-883A-39EC4AFB2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3EC92C-F312-4920-9561-80183F4C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436CEB-F3FD-4567-A202-505B898F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FCF5-D36A-4D16-B125-93086DD7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920DBD-9A68-439E-BD40-426DE460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A00B7E-720E-4EBE-85EE-41EA4B29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1AE6F5-D372-4381-8459-69D132C8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CDD884-72E2-4123-947B-F1814C85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D80F22-9D49-453A-BCE8-2EEACEB1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936AE0-412E-4782-A2EC-3EA2B701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0C190C-E9F5-429D-A857-F9E7F83D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9114C9-22BB-4F54-81AD-13CC924EB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5960C7-E0FB-43C6-87D5-4CC0FABD1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90EABB-CB04-4005-B6EE-0DD260993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5A19-FA39-42BD-8F88-0462F0BE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AD8C80-2B38-4664-956C-E877ADD9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C2F332-7F4F-4013-ADB8-0A9855F3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C34A4B-85B7-4547-90FF-F217CA5B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7D1007-E5BD-4328-8D0F-0727D1C7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CFC125-4D66-4002-B051-51037810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8999D7-DF01-4B42-B26E-0749F2B1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FF7FB4-0106-4140-AD56-1E7AC7C7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45A74E-5420-4049-9586-F7591F0E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262EE9-2B76-4A20-957B-613002E9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BA6CD9-C510-4C38-A137-03AA7C8E4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A642-B5A5-42A7-A73C-A9D389BF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3F276E-BCD1-4DB3-8C46-585632214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181F88-9F13-40CB-988F-3BC587F6E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741127-6CCE-4AAC-8F68-8E04371A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BA2229-DB6B-420A-9E1A-4F267909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C05A26-91D7-4854-A013-04D9887C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3323CA-70F0-453E-BFB3-25EC30DB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B99371-F4DA-40BC-91D2-93D46C0C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892278-3B10-449F-B15D-EBD02362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2145E4-EF21-4C61-9321-D0AF1976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6E99BA-443D-43BA-BCF2-02BDE737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1379-5FD8-407E-BB7D-A0AE012A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BAAE57-8751-4347-8D26-5EBCA2A4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49F7D7-84B0-4683-8FD8-0CDDE7BBD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45BAEC-8932-4931-B101-A55DC9160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EB78D6-5720-460A-83A7-BE6F39F6F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BEABA4-DF61-450C-875F-12370A7F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49F35F-1351-40F4-B272-1DABC9E1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6255A1-AE26-4E04-9F2B-1AE51CFA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D599AD-974C-4263-A0F3-93C90B78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677B52-6083-4800-BB89-9A97D483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5FC51D-3BDD-4461-8259-6701B753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F269-247D-4BD1-9121-5241388B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C009-5708-4C2B-A833-C590E158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8ABA6F-97CB-42EE-9C72-B6552633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0B61A4-1915-42ED-A9A1-0BB39966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964244-96FB-45B1-A3E6-403AA035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B7FDFC-E2DC-4CB0-BBE5-EB1CB4D67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4C02A6-56F9-4A4C-91A2-016C963A6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41D2-C313-4140-ABD5-9708A639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63D5-1248-411F-A2FE-0847972F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FB26-3C9F-40F7-9F6F-44C00EA31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7C74-1E25-4808-8EFD-A28307D21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EC46A-600A-43B4-8642-76ED795B9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46918-7CA4-4FE7-A773-13DACD4A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6394E-ED04-48FF-8320-CF9FA67D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87509-0B95-4D15-A78F-5CEC780F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99F09-0A8A-472D-8E60-5477FCE5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E325-0890-4F19-84CE-2C7914A0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94548-3828-4F72-A393-5342120D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E1D06-7D71-457F-A7A5-A70B7848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BDA11-99B6-42FA-9E05-C0C00FF2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E3E5B-DB41-4BC3-8409-E589E75B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0C28E-2F75-40CD-81F5-CE505B38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A8E2C-26A8-41BA-B5D6-87CD13FB8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BC715-D40E-407C-AC18-2030B21E0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C498DB-E09D-4946-A2D4-E5B104B4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6C3BA2-B9D3-47D2-BA4F-A0FD7F40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5DDE2C-D88E-4F61-AC0E-E65621D5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56E0-2C4D-4539-BE4B-D8CC2C0D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6B4102-52CE-4915-8A69-CFE76474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56D5CA-35A1-4EA8-BED0-853F13E3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5326D3-D319-47D8-B8F7-7669B9F8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D5CB27-F708-4870-BD75-DB9D35F4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73844F-3388-46DC-9273-E2AB1B05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62CE2B-91AC-4EA7-A9DF-5DECDCCE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5DC3C1-6FDF-43C8-A3DE-088F2D0F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1B20E6-870D-44B2-9652-A8CB25206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4958C4-BBC4-4CF1-8073-01D4E41D7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D6B53-1ECE-47D1-A2C0-5628053B8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5CEF-9CD9-4235-B3B7-41F89A91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4D762-3BEA-418C-A9AA-E99E628B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8F7E3-6852-4B3A-8075-9529D48F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1326A-5C38-4EEB-B75A-030D1A0A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05429-EEBD-488F-946F-632EDC80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8FF8B-BB44-4C17-843C-68E96A70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05322-6F6E-44F9-8704-3AE7EF16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5B4A8-455A-45A4-B3A2-C75D4D9B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1635E-8062-4CF5-A087-130061D8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413C3-0C88-43F0-BD27-3654104A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07B3F-C6AE-45B0-BC63-627558E6B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DA28-EADE-442C-B34B-0A17B69C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766A9-F4D7-4E57-81F4-DC90A4EE1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B9500-F2A3-47B4-8C00-0509D58DD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5B374-F2DC-490A-9FC3-AED04452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47D21-2E55-47BD-B8A0-49C2EAA0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500CB-C677-4EC9-98FE-62DFF0B7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AA008-CCD3-4F7F-A577-A9A22FB2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D224B-0C0A-4F97-B8BA-09EC1504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A7DC6-EFDA-49FA-815B-DB20F784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62B4C-4A08-48EB-B759-84091797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BC6CF-2936-44D4-AB4D-BFD270FF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EF65-4146-4A20-A9B2-19BFE5DE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66B6F-52DE-41DF-8662-C3A3C27C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2CD8B-FD80-46EC-840C-E8ABCCCDE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9547E-EBD2-4C94-9D36-6509EB516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76318-BDBD-40FD-BB65-50B785AA0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8F84F-F54C-4E58-9D3F-F23C12EB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D7568-A8FB-4F48-B35A-1D5C5A06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A7992-4254-4026-B005-5837C08B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8F261-3AB1-40FF-8011-C31599B0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E7B9C-6CCA-4CE3-A81C-18264E80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4DAF5-26ED-4425-A459-EA37E84B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3711-FEB8-4196-A445-CCE446B8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CFEF3-14B4-40AD-80E0-1A3D5A8D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CE0D3-9EC4-4354-8864-25EA3E53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4B80A-6431-4610-8BC4-11E5EBA2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2EA68-F141-4542-B3BB-B7BBC7B77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AC2F2-2FD8-4F58-A9FF-810B1093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C686B-29AA-4332-840F-99A349CC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5D4CB-9F43-47D3-9209-43F5D120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F6C7E-38FD-4149-9294-292AC711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196D4-2812-4701-BEE7-BF9DF987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FF9E4-46E7-4563-AB34-324500C0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1D72-3699-4518-8DA9-3C860A17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A62E0-5DF6-4D52-921D-F67BB94F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72DC9-EF31-410E-BBC3-9D0D76D4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7B03F-27C5-4442-B535-CC958D81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06CD2-0581-44EC-B47C-2B15D3FA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EF080-BAD8-47B6-8374-1E1344D3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2FBD6-84A8-4C28-990A-1DB447D85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7D219-79EB-4229-9CBC-DC9669154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1BF10-F925-410A-8838-B85B3372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7C00C-EF32-459A-8B10-AF97E64E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8BF1B7-74E0-465C-9689-8F8D67B1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F493-3998-49C1-9837-CA389C32E11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66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0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E4C0-BDE0-4563-ABB6-67EBE0FBFB6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61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61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61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32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33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CB28-1EDB-4C14-9AA5-12110893614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660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2849-CBEE-49A9-B395-38262CC96DC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3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70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CC25-6B8D-4FEA-87B1-292EF56E3ED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CAF0-9A99-4735-A45E-CF08B1043D6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8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7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24C5-26A0-436A-80E5-377B31822D9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1767-1E89-452A-9978-4DCC78E0C8C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4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5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5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D24C-53DA-4746-96C3-A1E5E8A08D4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0992-12AE-4260-9137-4803D34E532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A7C0-E3D9-457A-B29E-A2CB42668668}" type="slidenum">
              <a:rPr b="0" lang="ru-RU" sz="14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28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3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3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4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55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158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15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0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161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07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8517-CA98-4AA4-936B-03536E23F02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7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5833-9FC3-4C97-831B-030D1182D52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27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7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8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20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AA4F-707C-47AA-930E-3AE7AB5C7A6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5B46-C808-43FC-BC4B-B5B559AAAC8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40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4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450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45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9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F316-3AF1-4020-8FAA-E76F744D3D65}" type="slidenum">
              <a:rPr b="0" lang="ru-RU" sz="14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0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C1B8-15FC-4D66-A218-C699CF4667A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4360" y="1071720"/>
            <a:ext cx="7772400" cy="300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Bookman Old Style"/>
              </a:rPr>
              <a:t>КЛАССНЫЙ ЧАС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Bookman Old Style"/>
              </a:rPr>
              <a:t>как одна из ведущих форм деятельности классного руководител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Oval 11"/>
          <p:cNvSpPr/>
          <p:nvPr/>
        </p:nvSpPr>
        <p:spPr>
          <a:xfrm>
            <a:off x="285840" y="642960"/>
            <a:ext cx="3643200" cy="1571760"/>
          </a:xfrm>
          <a:prstGeom prst="ellipse">
            <a:avLst/>
          </a:prstGeom>
          <a:solidFill>
            <a:srgbClr val="00b2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еимущество трет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Прямоугольник 3"/>
          <p:cNvSpPr/>
          <p:nvPr/>
        </p:nvSpPr>
        <p:spPr>
          <a:xfrm>
            <a:off x="1857240" y="2690640"/>
            <a:ext cx="671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Классный руководитель с помощью классного часа создает определенные условия, с помощью которых он может спрогнозировать результативность воспитательной рабо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Овал 2"/>
          <p:cNvSpPr/>
          <p:nvPr/>
        </p:nvSpPr>
        <p:spPr>
          <a:xfrm>
            <a:off x="428760" y="357120"/>
            <a:ext cx="4143240" cy="157176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еимущество  четверт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Прямоугольник 3"/>
          <p:cNvSpPr/>
          <p:nvPr/>
        </p:nvSpPr>
        <p:spPr>
          <a:xfrm>
            <a:off x="1785960" y="2690640"/>
            <a:ext cx="68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Час, на котором решаются разные проблемы, позволяет видеть учеников в естественной атмосфере общения и решать серьезные нравственные задач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4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70c0"/>
                </a:solidFill>
                <a:latin typeface="Constantia"/>
              </a:rPr>
              <a:t>СОВЕТЫ ПО ОРГАНИЗАЦИИ КЛАССНОГО ЧАСА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9" name="TextBox 6"/>
          <p:cNvSpPr/>
          <p:nvPr/>
        </p:nvSpPr>
        <p:spPr>
          <a:xfrm>
            <a:off x="785880" y="1571760"/>
            <a:ext cx="8358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Содержание классных часов следует строить так, чтобы постепен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переходить от предметной информации к ее оценке, от общих оценок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к развернутым суждения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В процессе обсуждения поставленных вопросов классный руководи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должен быть очень внимателен к выступлениям учащихся, должен вноси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нужные коррективы, ставить дополнительные вопросы, акцентирова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внимание на важных моментах, размышлять вместе с детьми и помоч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им найти правильные решения нравственной пробл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Необходимо учитывать психологические особенности восприят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материала учащимися, следить за их вниманием и при его снижен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использовать интересный по содержанию материал или постави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острый вопрос, использовать музыкальную паузу, сменить вид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деятельности и т. 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Всемирная декларация об обеспечении выживания, защиты, развития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3143160" y="1143000"/>
            <a:ext cx="57866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Деятельность классного руководителя является важнейшим звеном в воспитательной системе учебного заведения, основным механизмом реализации индивидуального подхода к воспитанникам. Обусловлена она современной задачей, которую ставят перед учебным заведением любого типа мировое сообщество, государство, республика, родители - максимальное развитие каждого ребенка, сохранение его неповторимости, раскрытие его талантов и создание условий для нормального духовного, умственного, физического совершенства</a:t>
            </a:r>
            <a:r>
              <a:rPr b="0" lang="ru-RU" sz="2400" spc="-1" strike="noStrike">
                <a:solidFill>
                  <a:srgbClr val="ffff66"/>
                </a:solidFill>
                <a:latin typeface="Tahoma"/>
              </a:rPr>
              <a:t>.</a:t>
            </a:r>
            <a:br>
              <a:rPr sz="24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2" name="Picture 18" descr="j0301252"/>
          <p:cNvPicPr/>
          <p:nvPr/>
        </p:nvPicPr>
        <p:blipFill>
          <a:blip r:embed="rId1"/>
          <a:stretch/>
        </p:blipFill>
        <p:spPr>
          <a:xfrm>
            <a:off x="0" y="2643120"/>
            <a:ext cx="3390840" cy="2898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Прямоугольник 1"/>
          <p:cNvSpPr/>
          <p:nvPr/>
        </p:nvSpPr>
        <p:spPr>
          <a:xfrm>
            <a:off x="3714840" y="714240"/>
            <a:ext cx="514332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70c0"/>
                </a:solidFill>
                <a:uFillTx/>
                <a:latin typeface="Arial Black"/>
              </a:rPr>
              <a:t>Час классного руководителя </a:t>
            </a:r>
            <a:r>
              <a:rPr b="0" lang="ru-RU" sz="2200" spc="-1" strike="noStrike">
                <a:solidFill>
                  <a:srgbClr val="0070c0"/>
                </a:solidFill>
                <a:latin typeface="Arial Black"/>
              </a:rPr>
              <a:t>(классный час) - это форма воспитательной работы классного руководителя в классе, при которой ученики принимают участие в специально  организованной деятельности</a:t>
            </a:r>
            <a:r>
              <a:rPr b="1" lang="ru-RU" sz="2200" spc="-1" strike="noStrike">
                <a:solidFill>
                  <a:srgbClr val="0070c0"/>
                </a:solidFill>
                <a:latin typeface="Arial Black"/>
              </a:rPr>
              <a:t>,</a:t>
            </a:r>
            <a:r>
              <a:rPr b="0" lang="ru-RU" sz="2200" spc="-1" strike="noStrike">
                <a:solidFill>
                  <a:srgbClr val="0070c0"/>
                </a:solidFill>
                <a:latin typeface="Arial Black"/>
              </a:rPr>
              <a:t>способствующей формированию у них системы отношений к окружающему миру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6" name="Picture 3" descr=""/>
          <p:cNvPicPr/>
          <p:nvPr/>
        </p:nvPicPr>
        <p:blipFill>
          <a:blip r:embed="rId1"/>
          <a:stretch/>
        </p:blipFill>
        <p:spPr>
          <a:xfrm>
            <a:off x="214200" y="1143000"/>
            <a:ext cx="3498840" cy="3571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Скругленная прямоугольная выноска 6"/>
          <p:cNvSpPr/>
          <p:nvPr/>
        </p:nvSpPr>
        <p:spPr>
          <a:xfrm>
            <a:off x="2143080" y="3214800"/>
            <a:ext cx="6500880" cy="3000240"/>
          </a:xfrm>
          <a:prstGeom prst="wedgeRoundRectCallout">
            <a:avLst>
              <a:gd name="adj1" fmla="val -25194"/>
              <a:gd name="adj2" fmla="val -72476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Суть </a:t>
            </a:r>
            <a:r>
              <a:rPr b="0" i="1" lang="ru-RU" sz="2000" spc="-1" strike="noStrike">
                <a:solidFill>
                  <a:srgbClr val="3333cc"/>
                </a:solidFill>
                <a:latin typeface="Arial"/>
              </a:rPr>
              <a:t>просветительской функции 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состоит в том, что классный час дает возможность расширить круг тех знаний учеников, которые не нашли отражения в учебных программах. Эти знания могут содержать в себе информацию о событиях, происходящих в городе, в стране и за рубежом. Объектом обсуждения классного часа может быть любое явление или событ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8" name="Прямоугольник 7" descr=""/>
          <p:cNvPicPr/>
          <p:nvPr/>
        </p:nvPicPr>
        <p:blipFill>
          <a:blip r:embed="rId1"/>
          <a:stretch/>
        </p:blipFill>
        <p:spPr>
          <a:xfrm>
            <a:off x="-92160" y="1511280"/>
            <a:ext cx="8480520" cy="1135080"/>
          </a:xfrm>
          <a:prstGeom prst="rect">
            <a:avLst/>
          </a:prstGeom>
          <a:ln w="0">
            <a:noFill/>
          </a:ln>
        </p:spPr>
      </p:pic>
      <p:sp>
        <p:nvSpPr>
          <p:cNvPr id="919" name="Скругленный прямоугольник 8"/>
          <p:cNvSpPr/>
          <p:nvPr/>
        </p:nvSpPr>
        <p:spPr>
          <a:xfrm>
            <a:off x="214200" y="428760"/>
            <a:ext cx="7358040" cy="8571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Constantia"/>
              </a:rPr>
              <a:t>Функции классного час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Прямоугольник 2" descr=""/>
          <p:cNvPicPr/>
          <p:nvPr/>
        </p:nvPicPr>
        <p:blipFill>
          <a:blip r:embed="rId1"/>
          <a:stretch/>
        </p:blipFill>
        <p:spPr>
          <a:xfrm>
            <a:off x="493560" y="706320"/>
            <a:ext cx="6870960" cy="927360"/>
          </a:xfrm>
          <a:prstGeom prst="rect">
            <a:avLst/>
          </a:prstGeom>
          <a:ln w="0">
            <a:noFill/>
          </a:ln>
        </p:spPr>
      </p:pic>
      <p:sp>
        <p:nvSpPr>
          <p:cNvPr id="921" name="Скругленная прямоугольная выноска 3"/>
          <p:cNvSpPr/>
          <p:nvPr/>
        </p:nvSpPr>
        <p:spPr>
          <a:xfrm>
            <a:off x="1285920" y="2357280"/>
            <a:ext cx="7000920" cy="3000600"/>
          </a:xfrm>
          <a:prstGeom prst="wedgeRoundRectCallout">
            <a:avLst>
              <a:gd name="adj1" fmla="val -25194"/>
              <a:gd name="adj2" fmla="val -72476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Arial"/>
              </a:rPr>
              <a:t>Ориентирующая функция 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способствует формированию определенного  отношения к окружающему миру и выработке иерархии материальных и духовных ценностей. Помогает оценивать явления, происходящие в окружающем ми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Прямоугольник 2" descr=""/>
          <p:cNvPicPr/>
          <p:nvPr/>
        </p:nvPicPr>
        <p:blipFill>
          <a:blip r:embed="rId1"/>
          <a:stretch/>
        </p:blipFill>
        <p:spPr>
          <a:xfrm>
            <a:off x="566640" y="560520"/>
            <a:ext cx="5773680" cy="927000"/>
          </a:xfrm>
          <a:prstGeom prst="rect">
            <a:avLst/>
          </a:prstGeom>
          <a:ln w="0">
            <a:noFill/>
          </a:ln>
        </p:spPr>
      </p:pic>
      <p:sp>
        <p:nvSpPr>
          <p:cNvPr id="923" name="Скругленная прямоугольная выноска 3"/>
          <p:cNvSpPr/>
          <p:nvPr/>
        </p:nvSpPr>
        <p:spPr>
          <a:xfrm>
            <a:off x="1357200" y="2500200"/>
            <a:ext cx="6215040" cy="3000600"/>
          </a:xfrm>
          <a:prstGeom prst="wedgeRoundRectCallout">
            <a:avLst>
              <a:gd name="adj1" fmla="val -25194"/>
              <a:gd name="adj2" fmla="val -72476"/>
              <a:gd name="adj3" fmla="val 16667"/>
            </a:avLst>
          </a:prstGeom>
          <a:solidFill>
            <a:srgbClr val="c5a4f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Arial"/>
              </a:rPr>
              <a:t>Направляющая функция </a:t>
            </a: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призвана переводить обсуждение того или иного явления в рамки реального опыта учащих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Прямоугольник 1" descr=""/>
          <p:cNvPicPr/>
          <p:nvPr/>
        </p:nvPicPr>
        <p:blipFill>
          <a:blip r:embed="rId1"/>
          <a:stretch/>
        </p:blipFill>
        <p:spPr>
          <a:xfrm>
            <a:off x="476280" y="633240"/>
            <a:ext cx="5546520" cy="927360"/>
          </a:xfrm>
          <a:prstGeom prst="rect">
            <a:avLst/>
          </a:prstGeom>
          <a:ln w="0">
            <a:noFill/>
          </a:ln>
        </p:spPr>
      </p:pic>
      <p:sp>
        <p:nvSpPr>
          <p:cNvPr id="925" name="Скругленная прямоугольная выноска 2"/>
          <p:cNvSpPr/>
          <p:nvPr/>
        </p:nvSpPr>
        <p:spPr>
          <a:xfrm>
            <a:off x="1071720" y="2214720"/>
            <a:ext cx="7429320" cy="3571560"/>
          </a:xfrm>
          <a:prstGeom prst="wedgeRoundRectCallout">
            <a:avLst>
              <a:gd name="adj1" fmla="val -25194"/>
              <a:gd name="adj2" fmla="val -72476"/>
              <a:gd name="adj3" fmla="val 16667"/>
            </a:avLst>
          </a:prstGeom>
          <a:solidFill>
            <a:srgbClr val="c5a4f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Реализует все вышеуказанные функции </a:t>
            </a:r>
            <a:r>
              <a:rPr b="0" i="1" lang="ru-RU" sz="2400" spc="-1" strike="noStrike">
                <a:solidFill>
                  <a:srgbClr val="3333cc"/>
                </a:solidFill>
                <a:latin typeface="Arial"/>
              </a:rPr>
              <a:t>формирующая функция, 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которая формирует у учеников навыки обдумывания и оценки своих поступков и самих себя, помогает в выработке умелого ведения диалога и высказывания, отстаивания собственного мн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50000">
              <a:srgbClr val="ffff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Line 54"/>
          <p:cNvSpPr/>
          <p:nvPr/>
        </p:nvSpPr>
        <p:spPr>
          <a:xfrm>
            <a:off x="5857920" y="1928880"/>
            <a:ext cx="500040" cy="1285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7" name="Группа 29"/>
          <p:cNvGrpSpPr/>
          <p:nvPr/>
        </p:nvGrpSpPr>
        <p:grpSpPr>
          <a:xfrm>
            <a:off x="-147600" y="357120"/>
            <a:ext cx="9416520" cy="5613840"/>
            <a:chOff x="-147600" y="357120"/>
            <a:chExt cx="9416520" cy="5613840"/>
          </a:xfrm>
        </p:grpSpPr>
        <p:sp>
          <p:nvSpPr>
            <p:cNvPr id="928" name="Line 41"/>
            <p:cNvSpPr/>
            <p:nvPr/>
          </p:nvSpPr>
          <p:spPr>
            <a:xfrm flipH="1">
              <a:off x="2071440" y="1857240"/>
              <a:ext cx="928440" cy="214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Line 42"/>
            <p:cNvSpPr/>
            <p:nvPr/>
          </p:nvSpPr>
          <p:spPr>
            <a:xfrm flipH="1">
              <a:off x="3571560" y="1857240"/>
              <a:ext cx="214200" cy="1000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Line 44"/>
            <p:cNvSpPr/>
            <p:nvPr/>
          </p:nvSpPr>
          <p:spPr>
            <a:xfrm flipH="1">
              <a:off x="1643040" y="1928520"/>
              <a:ext cx="642960" cy="64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Line 45"/>
            <p:cNvSpPr/>
            <p:nvPr/>
          </p:nvSpPr>
          <p:spPr>
            <a:xfrm>
              <a:off x="7072560" y="1928520"/>
              <a:ext cx="1643040" cy="357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Line 50"/>
            <p:cNvSpPr/>
            <p:nvPr/>
          </p:nvSpPr>
          <p:spPr>
            <a:xfrm>
              <a:off x="5072400" y="1928520"/>
              <a:ext cx="285480" cy="178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Line 51"/>
            <p:cNvSpPr/>
            <p:nvPr/>
          </p:nvSpPr>
          <p:spPr>
            <a:xfrm flipH="1">
              <a:off x="4277880" y="1928880"/>
              <a:ext cx="353880" cy="310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Line 53"/>
            <p:cNvSpPr/>
            <p:nvPr/>
          </p:nvSpPr>
          <p:spPr>
            <a:xfrm>
              <a:off x="7572600" y="1857240"/>
              <a:ext cx="868320" cy="85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Line 55"/>
            <p:cNvSpPr/>
            <p:nvPr/>
          </p:nvSpPr>
          <p:spPr>
            <a:xfrm>
              <a:off x="6429600" y="1928520"/>
              <a:ext cx="1143000" cy="250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Text Box 56"/>
            <p:cNvSpPr/>
            <p:nvPr/>
          </p:nvSpPr>
          <p:spPr>
            <a:xfrm>
              <a:off x="928440" y="357120"/>
              <a:ext cx="731700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800" spc="-1" strike="noStrike">
                  <a:solidFill>
                    <a:srgbClr val="ff0000"/>
                  </a:solidFill>
                  <a:latin typeface="Arial"/>
                </a:rPr>
                <a:t>ФОРМЫ</a:t>
              </a:r>
              <a:endParaRPr b="0" lang="en-US" sz="3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3800" spc="-1" strike="noStrike">
                  <a:solidFill>
                    <a:srgbClr val="ff0000"/>
                  </a:solidFill>
                  <a:latin typeface="Arial"/>
                </a:rPr>
                <a:t>КЛАССНОГО ЧАСА</a:t>
              </a:r>
              <a:br>
                <a:rPr sz="3800"/>
              </a:br>
              <a:endParaRPr b="0" lang="en-US" sz="3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7" name="Группа 28"/>
            <p:cNvGrpSpPr/>
            <p:nvPr/>
          </p:nvGrpSpPr>
          <p:grpSpPr>
            <a:xfrm>
              <a:off x="-147600" y="2571480"/>
              <a:ext cx="9416520" cy="3399480"/>
              <a:chOff x="-147600" y="2571480"/>
              <a:chExt cx="9416520" cy="3399480"/>
            </a:xfrm>
          </p:grpSpPr>
          <p:sp>
            <p:nvSpPr>
              <p:cNvPr id="938" name="Прямоугольник 19"/>
              <p:cNvSpPr/>
              <p:nvPr/>
            </p:nvSpPr>
            <p:spPr>
              <a:xfrm>
                <a:off x="-147600" y="4071600"/>
                <a:ext cx="474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65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2c6123"/>
                    </a:solidFill>
                    <a:latin typeface="Constantia"/>
                    <a:ea typeface="Times New Roman"/>
                  </a:rPr>
                  <a:t>беседа (этическая, нравственная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Прямоугольник 20"/>
              <p:cNvSpPr/>
              <p:nvPr/>
            </p:nvSpPr>
            <p:spPr>
              <a:xfrm>
                <a:off x="2890440" y="2785680"/>
                <a:ext cx="1342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2c6123"/>
                    </a:solidFill>
                    <a:latin typeface="Constantia"/>
                    <a:ea typeface="Times New Roman"/>
                  </a:rPr>
                  <a:t>диспуты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TextBox 21"/>
              <p:cNvSpPr/>
              <p:nvPr/>
            </p:nvSpPr>
            <p:spPr>
              <a:xfrm>
                <a:off x="2241720" y="5000400"/>
                <a:ext cx="4600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2c6123"/>
                    </a:solidFill>
                    <a:latin typeface="Constantia"/>
                    <a:ea typeface="Times New Roman"/>
                  </a:rPr>
                  <a:t>встречи с интересными людьми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TextBox 22"/>
              <p:cNvSpPr/>
              <p:nvPr/>
            </p:nvSpPr>
            <p:spPr>
              <a:xfrm>
                <a:off x="4594320" y="3785760"/>
                <a:ext cx="178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2c6123"/>
                    </a:solidFill>
                    <a:latin typeface="Constantia"/>
                    <a:ea typeface="Times New Roman"/>
                  </a:rPr>
                  <a:t>викторины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TextBox 23"/>
              <p:cNvSpPr/>
              <p:nvPr/>
            </p:nvSpPr>
            <p:spPr>
              <a:xfrm>
                <a:off x="5668200" y="3214440"/>
                <a:ext cx="1578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2c6123"/>
                    </a:solidFill>
                    <a:latin typeface="Constantia"/>
                    <a:ea typeface="Times New Roman"/>
                  </a:rPr>
                  <a:t>дискуссии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Прямоугольник 24"/>
              <p:cNvSpPr/>
              <p:nvPr/>
            </p:nvSpPr>
            <p:spPr>
              <a:xfrm>
                <a:off x="5405400" y="4500360"/>
                <a:ext cx="309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2c6123"/>
                    </a:solidFill>
                    <a:latin typeface="Constantia"/>
                    <a:ea typeface="Times New Roman"/>
                  </a:rPr>
                  <a:t>интерактивные игры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TextBox 25"/>
              <p:cNvSpPr/>
              <p:nvPr/>
            </p:nvSpPr>
            <p:spPr>
              <a:xfrm>
                <a:off x="5290560" y="5572080"/>
                <a:ext cx="397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2c6123"/>
                    </a:solidFill>
                    <a:latin typeface="Constantia"/>
                    <a:ea typeface="Times New Roman"/>
                  </a:rPr>
                  <a:t>читательские конференции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Прямоугольник 26"/>
              <p:cNvSpPr/>
              <p:nvPr/>
            </p:nvSpPr>
            <p:spPr>
              <a:xfrm>
                <a:off x="7758000" y="26427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2c6123"/>
                    </a:solidFill>
                    <a:latin typeface="Constantia"/>
                    <a:ea typeface="Times New Roman"/>
                  </a:rPr>
                  <a:t>тренинги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Прямоугольник 27"/>
              <p:cNvSpPr/>
              <p:nvPr/>
            </p:nvSpPr>
            <p:spPr>
              <a:xfrm>
                <a:off x="170640" y="2571480"/>
                <a:ext cx="273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65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2c6123"/>
                    </a:solidFill>
                    <a:latin typeface="Constantia"/>
                    <a:ea typeface="Times New Roman"/>
                  </a:rPr>
                  <a:t>игры-путешествия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8" name="Oval 9"/>
          <p:cNvSpPr/>
          <p:nvPr/>
        </p:nvSpPr>
        <p:spPr>
          <a:xfrm>
            <a:off x="214200" y="2214720"/>
            <a:ext cx="4214880" cy="150012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реимущество перво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Text Box 18"/>
          <p:cNvSpPr/>
          <p:nvPr/>
        </p:nvSpPr>
        <p:spPr>
          <a:xfrm>
            <a:off x="2214720" y="4143240"/>
            <a:ext cx="6000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В рамках классного часа можн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общаться одновременно со всем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учащимися класса, слышать и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мнение по проблеме разговор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наблюдать за их реакци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Text Box 20"/>
          <p:cNvSpPr/>
          <p:nvPr/>
        </p:nvSpPr>
        <p:spPr>
          <a:xfrm>
            <a:off x="1476360" y="566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Text Box 22"/>
          <p:cNvSpPr/>
          <p:nvPr/>
        </p:nvSpPr>
        <p:spPr>
          <a:xfrm>
            <a:off x="-879120" y="571680"/>
            <a:ext cx="105865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Monotype Corsiva"/>
              </a:rPr>
              <a:t>Преимущества хорошо организованного и продуманного класс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Monotype Corsiva"/>
              </a:rPr>
              <a:t>часа очевидны. Классный час, или лучше его называть </a:t>
            </a:r>
            <a:r>
              <a:rPr b="0" i="1" lang="ru-RU" sz="2400" spc="-1" strike="noStrike">
                <a:solidFill>
                  <a:srgbClr val="008000"/>
                </a:solidFill>
                <a:latin typeface="Monotype Corsiva"/>
              </a:rPr>
              <a:t>час общени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Monotype Corsiva"/>
              </a:rPr>
              <a:t>играет очень большую роль в жизни учащихся, если он задум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00"/>
                </a:solidFill>
                <a:latin typeface="Monotype Corsiva"/>
              </a:rPr>
              <a:t>интересно и необычно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Oval 10"/>
          <p:cNvSpPr/>
          <p:nvPr/>
        </p:nvSpPr>
        <p:spPr>
          <a:xfrm>
            <a:off x="142920" y="428760"/>
            <a:ext cx="3714840" cy="1714320"/>
          </a:xfrm>
          <a:prstGeom prst="ellipse">
            <a:avLst/>
          </a:prstGeom>
          <a:solidFill>
            <a:srgbClr val="00cc66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Преимущество второ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Text Box 19"/>
          <p:cNvSpPr/>
          <p:nvPr/>
        </p:nvSpPr>
        <p:spPr>
          <a:xfrm>
            <a:off x="1928880" y="2214720"/>
            <a:ext cx="66438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Tahoma"/>
                <a:ea typeface="Tahoma"/>
              </a:rPr>
              <a:t>Результативность классного часа  состоит и  в том, что он может влиять  как на мнение большинства учащихся, так и на мнение небольшой группы ребят. Иногда, в ходе индивидуальной работы с учеником, учитель часами не может добиться такого успеха, который можно получить в ходе классного часа. Ведь для ребят, особенно подростков, мнение сверстников бывает важнее мнения самого авторитетного взрослого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04:39:23Z</dcterms:created>
  <dc:creator>Танковид Илона</dc:creator>
  <dc:description/>
  <dc:language>en-US</dc:language>
  <cp:lastModifiedBy>Администратор</cp:lastModifiedBy>
  <dcterms:modified xsi:type="dcterms:W3CDTF">2012-03-26T07:41:52Z</dcterms:modified>
  <cp:revision>45</cp:revision>
  <dc:subject/>
  <dc:title>ВЫПУСКНИК ШКОЛЫ, КАКОВ ОН?</dc:title>
</cp:coreProperties>
</file>