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BDE-02C7-4237-A6EC-16513FC0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7A2-796C-413D-8EC3-80C8EB94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E51-53B1-4549-ABBB-A9DB357F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6D4-BB9F-4011-BAD4-49FA6BF6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C83-04B2-455C-A2B0-23B2CB35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277-909B-472B-812A-08F691B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D6A-9696-4C37-953E-1A62CA7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0D-6BB5-4809-845D-41CA87DD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873-D651-45B6-A0A0-F8899C0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9D6-62DE-44D6-AF40-A1F418C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30E-AB9F-4704-9115-6C8FA93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21C-ECC4-4F91-A3C5-CB99264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92F-5B8E-4492-92B4-9ED569181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ngsanaUPC"/>
              </a:rPr>
              <a:t>Килеп </a:t>
            </a: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җитте кыш та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Ай-яй, салкын тышта.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Өч ай торыр торса: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Аның гомере кы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 (9)"/>
          <p:cNvPicPr/>
          <p:nvPr/>
        </p:nvPicPr>
        <p:blipFill>
          <a:blip r:embed="rId1"/>
          <a:stretch/>
        </p:blipFill>
        <p:spPr>
          <a:xfrm>
            <a:off x="1258920" y="220500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263134424_3aa222db120a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1-50"/>
          <p:cNvPicPr/>
          <p:nvPr/>
        </p:nvPicPr>
        <p:blipFill>
          <a:blip r:embed="rId1"/>
          <a:stretch/>
        </p:blipFill>
        <p:spPr>
          <a:xfrm>
            <a:off x="127080" y="450720"/>
            <a:ext cx="88898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Көз җиткән, көз җиткән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Сап- сары булган урма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46622385_1248279702_autumn006"/>
          <p:cNvPicPr/>
          <p:nvPr/>
        </p:nvPicPr>
        <p:blipFill>
          <a:blip r:embed="rId1"/>
          <a:stretch/>
        </p:blipFill>
        <p:spPr>
          <a:xfrm>
            <a:off x="611280" y="1341360"/>
            <a:ext cx="7534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191024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ktyabr_600"/>
          <p:cNvPicPr/>
          <p:nvPr/>
        </p:nvPicPr>
        <p:blipFill>
          <a:blip r:embed="rId1"/>
          <a:stretch/>
        </p:blipFill>
        <p:spPr>
          <a:xfrm>
            <a:off x="0" y="108000"/>
            <a:ext cx="8820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inter_Moon_Wallpape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_4d587_9d3a13c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Тамчылар бии тып та тып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Тамчылар сикерәләр.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Аларны булмый туктатып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Алар яз китерә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6537"/>
          <p:cNvPicPr/>
          <p:nvPr/>
        </p:nvPicPr>
        <p:blipFill>
          <a:blip r:embed="rId1"/>
          <a:stretch/>
        </p:blipFill>
        <p:spPr>
          <a:xfrm>
            <a:off x="1332000" y="1628640"/>
            <a:ext cx="63324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rd-at-spring2"/>
          <p:cNvPicPr/>
          <p:nvPr/>
        </p:nvPicPr>
        <p:blipFill>
          <a:blip r:embed="rId1"/>
          <a:stretch/>
        </p:blipFill>
        <p:spPr>
          <a:xfrm>
            <a:off x="611280" y="198900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ringAUSTIN0702_468x594"/>
          <p:cNvPicPr/>
          <p:nvPr/>
        </p:nvPicPr>
        <p:blipFill>
          <a:blip r:embed="rId2"/>
          <a:stretch/>
        </p:blipFill>
        <p:spPr>
          <a:xfrm>
            <a:off x="4686480" y="1197000"/>
            <a:ext cx="39477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alaelwelsii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lossoms-and-blue-wallpapers_8350_1920x120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Җәй килде- яшелләнде бар җиһа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71aeb265aa60t"/>
          <p:cNvPicPr/>
          <p:nvPr/>
        </p:nvPicPr>
        <p:blipFill>
          <a:blip r:embed="rId1"/>
          <a:stretch/>
        </p:blipFill>
        <p:spPr>
          <a:xfrm>
            <a:off x="1042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55012533_99f1d34e69fe248321627801a966dfd9_full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6:28:49Z</dcterms:created>
  <dc:creator>Р</dc:creator>
  <dc:description/>
  <dc:language>en-US</dc:language>
  <cp:lastModifiedBy>Рамзис</cp:lastModifiedBy>
  <dcterms:modified xsi:type="dcterms:W3CDTF">2013-01-14T14:55:25Z</dcterms:modified>
  <cp:revision>4</cp:revision>
  <dc:subject/>
  <dc:title>Килеп җитте кыш та, Ай-яй, салкын тышта. Өч ай торыр торса: Аның гомере кыска</dc:title>
</cp:coreProperties>
</file>