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B3B-75BF-4E41-A974-32A5A234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539-A948-431D-A993-441E8403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74E-AE78-42FC-AEC1-9C8A4C09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1D2-52C2-4048-8272-10695683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BCA-93BE-4FF5-80C5-910B288B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54D-A923-4ADC-BFF2-6D028ACF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F47-40C0-425B-8220-D7F187EB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09C-0044-4BA2-B1E8-F2B2FADC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7A4-2BC4-41F8-BB7B-2575C378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7E1-851D-4A29-98C6-BA323CF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0E1-CC46-4570-B396-9C52AAA1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330-67CB-45F6-985A-2D0108AA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A824-C8C2-4388-B135-122B8C14EA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ngsanaUPC"/>
              </a:rPr>
              <a:t>Килеп </a:t>
            </a:r>
            <a:r>
              <a:rPr b="0" i="1" lang="tt-RU" sz="2400" spc="-1" strike="noStrike">
                <a:solidFill>
                  <a:srgbClr val="000000"/>
                </a:solidFill>
                <a:latin typeface="AngsanaUPC"/>
              </a:rPr>
              <a:t>җитте кыш та,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ngsanaUPC"/>
              </a:rPr>
              <a:t>Ай-яй, салкын тышта.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ngsanaUPC"/>
              </a:rPr>
              <a:t>Өч ай торыр торса: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ngsanaUPC"/>
              </a:rPr>
              <a:t>Аның гомере кы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 (9)"/>
          <p:cNvPicPr/>
          <p:nvPr/>
        </p:nvPicPr>
        <p:blipFill>
          <a:blip r:embed="rId1"/>
          <a:stretch/>
        </p:blipFill>
        <p:spPr>
          <a:xfrm>
            <a:off x="1258920" y="2205000"/>
            <a:ext cx="63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1263134424_3aa222db120a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21-50"/>
          <p:cNvPicPr/>
          <p:nvPr/>
        </p:nvPicPr>
        <p:blipFill>
          <a:blip r:embed="rId1"/>
          <a:stretch/>
        </p:blipFill>
        <p:spPr>
          <a:xfrm>
            <a:off x="127080" y="450720"/>
            <a:ext cx="888984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Көз җиткән, көз җиткән,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Сап- сары булган урма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46622385_1248279702_autumn006"/>
          <p:cNvPicPr/>
          <p:nvPr/>
        </p:nvPicPr>
        <p:blipFill>
          <a:blip r:embed="rId1"/>
          <a:stretch/>
        </p:blipFill>
        <p:spPr>
          <a:xfrm>
            <a:off x="611280" y="1341360"/>
            <a:ext cx="7534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191024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oktyabr_600"/>
          <p:cNvPicPr/>
          <p:nvPr/>
        </p:nvPicPr>
        <p:blipFill>
          <a:blip r:embed="rId1"/>
          <a:stretch/>
        </p:blipFill>
        <p:spPr>
          <a:xfrm>
            <a:off x="0" y="108000"/>
            <a:ext cx="882000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Winter_Moon_Wallpaper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0_4d587_9d3a13c3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Тамчылар бии тып та тып,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Тамчылар сикерәләр.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Аларны булмый туктатып,</a:t>
            </a:r>
            <a:br>
              <a:rPr sz="2400"/>
            </a:b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Алар яз китерәлә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26537"/>
          <p:cNvPicPr/>
          <p:nvPr/>
        </p:nvPicPr>
        <p:blipFill>
          <a:blip r:embed="rId1"/>
          <a:stretch/>
        </p:blipFill>
        <p:spPr>
          <a:xfrm>
            <a:off x="1332000" y="1628640"/>
            <a:ext cx="63324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rd-at-spring2"/>
          <p:cNvPicPr/>
          <p:nvPr/>
        </p:nvPicPr>
        <p:blipFill>
          <a:blip r:embed="rId1"/>
          <a:stretch/>
        </p:blipFill>
        <p:spPr>
          <a:xfrm>
            <a:off x="611280" y="1989000"/>
            <a:ext cx="3905280" cy="3905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springAUSTIN0702_468x594"/>
          <p:cNvPicPr/>
          <p:nvPr/>
        </p:nvPicPr>
        <p:blipFill>
          <a:blip r:embed="rId2"/>
          <a:stretch/>
        </p:blipFill>
        <p:spPr>
          <a:xfrm>
            <a:off x="4686480" y="1197000"/>
            <a:ext cx="39477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galaelwelsii"/>
          <p:cNvPicPr/>
          <p:nvPr/>
        </p:nvPicPr>
        <p:blipFill>
          <a:blip r:embed="rId1"/>
          <a:stretch/>
        </p:blipFill>
        <p:spPr>
          <a:xfrm>
            <a:off x="971640" y="260280"/>
            <a:ext cx="7272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lossoms-and-blue-wallpapers_8350_1920x1200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Җәй килде- яшелләнде бар җиһа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71aeb265aa60t"/>
          <p:cNvPicPr/>
          <p:nvPr/>
        </p:nvPicPr>
        <p:blipFill>
          <a:blip r:embed="rId1"/>
          <a:stretch/>
        </p:blipFill>
        <p:spPr>
          <a:xfrm>
            <a:off x="104292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55012533_99f1d34e69fe248321627801a966dfd9_full"/>
          <p:cNvPicPr/>
          <p:nvPr/>
        </p:nvPicPr>
        <p:blipFill>
          <a:blip r:embed="rId1"/>
          <a:stretch/>
        </p:blipFill>
        <p:spPr>
          <a:xfrm>
            <a:off x="395280" y="333360"/>
            <a:ext cx="79218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6:28:49Z</dcterms:created>
  <dc:creator>Р</dc:creator>
  <dc:description/>
  <dc:language>en-US</dc:language>
  <cp:lastModifiedBy>Рамзис</cp:lastModifiedBy>
  <dcterms:modified xsi:type="dcterms:W3CDTF">2013-01-14T14:55:25Z</dcterms:modified>
  <cp:revision>4</cp:revision>
  <dc:subject/>
  <dc:title>Килеп җитте кыш та, Ай-яй, салкын тышта. Өч ай торыр торса: Аның гомере кыска</dc:title>
</cp:coreProperties>
</file>