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F537-A33A-41B3-B24E-D854B9800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9C09-6DE8-4E73-BFD7-1B7FAF03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6DF0-9A3E-45E4-9406-B58FF2767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89FC-CE9C-4554-A7FD-4C6A97D37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09A1-EA14-4571-BEB4-BDC8E283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1B50-1E96-43A1-95FF-58C9EC0B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8697-9CFA-4BA5-A653-ABC01108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02B6-58B8-4938-94CD-640E973C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14A5-3F2A-4238-8116-24058F1C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3BCB-08F8-4EC6-822A-3DDA4DE1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AA95-1E67-4684-8B80-82494B54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5AC9-A3BC-422E-9294-AC4F764B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603D-6E5B-44BA-AF15-CB6CEB5CE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0.xml"/><Relationship Id="rId3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3.xml"/><Relationship Id="rId3" Type="http://schemas.openxmlformats.org/officeDocument/2006/relationships/slide" Target="slide103.xml"/><Relationship Id="rId4" Type="http://schemas.openxmlformats.org/officeDocument/2006/relationships/slide" Target="slide103.xml"/><Relationship Id="rId5" Type="http://schemas.openxmlformats.org/officeDocument/2006/relationships/slide" Target="slide103.xml"/><Relationship Id="rId6" Type="http://schemas.openxmlformats.org/officeDocument/2006/relationships/slide" Target="slide102.xml"/><Relationship Id="rId7" Type="http://schemas.openxmlformats.org/officeDocument/2006/relationships/slide" Target="slide102.xml"/><Relationship Id="rId8" Type="http://schemas.openxmlformats.org/officeDocument/2006/relationships/slide" Target="slide102.xml"/><Relationship Id="rId9" Type="http://schemas.openxmlformats.org/officeDocument/2006/relationships/slide" Target="slide103.xml"/><Relationship Id="rId10" Type="http://schemas.openxmlformats.org/officeDocument/2006/relationships/slide" Target="slide103.xml"/><Relationship Id="rId11" Type="http://schemas.openxmlformats.org/officeDocument/2006/relationships/slide" Target="slide103.xml"/><Relationship Id="rId12" Type="http://schemas.openxmlformats.org/officeDocument/2006/relationships/slide" Target="slide103.xml"/><Relationship Id="rId13" Type="http://schemas.openxmlformats.org/officeDocument/2006/relationships/slide" Target="slide102.xml"/><Relationship Id="rId14" Type="http://schemas.openxmlformats.org/officeDocument/2006/relationships/slide" Target="slide103.xml"/><Relationship Id="rId15" Type="http://schemas.openxmlformats.org/officeDocument/2006/relationships/slide" Target="slide103.xml"/><Relationship Id="rId16" Type="http://schemas.openxmlformats.org/officeDocument/2006/relationships/slide" Target="slide102.xml"/><Relationship Id="rId17" Type="http://schemas.openxmlformats.org/officeDocument/2006/relationships/slide" Target="slide103.xml"/><Relationship Id="rId18" Type="http://schemas.openxmlformats.org/officeDocument/2006/relationships/slide" Target="slide102.xml"/><Relationship Id="rId19" Type="http://schemas.openxmlformats.org/officeDocument/2006/relationships/slide" Target="slide102.xml"/><Relationship Id="rId20" Type="http://schemas.openxmlformats.org/officeDocument/2006/relationships/slide" Target="slide103.xml"/><Relationship Id="rId21" Type="http://schemas.openxmlformats.org/officeDocument/2006/relationships/slide" Target="slide103.xml"/><Relationship Id="rId22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1.xml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1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1.xml"/><Relationship Id="rId3" Type="http://schemas.openxmlformats.org/officeDocument/2006/relationships/slide" Target="slide17.xml"/><Relationship Id="rId4" Type="http://schemas.openxmlformats.org/officeDocument/2006/relationships/slide" Target="slide19.xml"/><Relationship Id="rId5" Type="http://schemas.openxmlformats.org/officeDocument/2006/relationships/slide" Target="slide23.xml"/><Relationship Id="rId6" Type="http://schemas.openxmlformats.org/officeDocument/2006/relationships/slide" Target="slide15.xm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6.xml"/><Relationship Id="rId3" Type="http://schemas.openxmlformats.org/officeDocument/2006/relationships/slide" Target="slide28.xml"/><Relationship Id="rId4" Type="http://schemas.openxmlformats.org/officeDocument/2006/relationships/slide" Target="slide30.xml"/><Relationship Id="rId5" Type="http://schemas.openxmlformats.org/officeDocument/2006/relationships/slide" Target="slide32.xml"/><Relationship Id="rId6" Type="http://schemas.openxmlformats.org/officeDocument/2006/relationships/slide" Target="slide34.xml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5.xml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5.xm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5.xml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5.xml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5.xml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7.xml"/><Relationship Id="rId3" Type="http://schemas.openxmlformats.org/officeDocument/2006/relationships/slide" Target="slide39.xml"/><Relationship Id="rId4" Type="http://schemas.openxmlformats.org/officeDocument/2006/relationships/slide" Target="slide45.xml"/><Relationship Id="rId5" Type="http://schemas.openxmlformats.org/officeDocument/2006/relationships/slide" Target="slide&#8230;.xml"/><Relationship Id="rId6" Type="http://schemas.openxmlformats.org/officeDocument/2006/relationships/slide" Target="slide41.xml"/><Relationship Id="rId7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6.xml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6.xml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6.xml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6.xml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6.xml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7.xml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7.xml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7.xml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7.xml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7.xml"/><Relationship Id="rId3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9.xml"/><Relationship Id="rId3" Type="http://schemas.openxmlformats.org/officeDocument/2006/relationships/slide" Target="slide61.xml"/><Relationship Id="rId4" Type="http://schemas.openxmlformats.org/officeDocument/2006/relationships/slide" Target="slide63.xml"/><Relationship Id="rId5" Type="http://schemas.openxmlformats.org/officeDocument/2006/relationships/slide" Target="slide65.xml"/><Relationship Id="rId6" Type="http://schemas.openxmlformats.org/officeDocument/2006/relationships/slide" Target="slide.xml"/><Relationship Id="rId7" Type="http://schemas.openxmlformats.org/officeDocument/2006/relationships/slide" Target="slide69.xml"/><Relationship Id="rId8" Type="http://schemas.openxmlformats.org/officeDocument/2006/relationships/slide" Target="slide71.xml"/><Relationship Id="rId9" Type="http://schemas.openxmlformats.org/officeDocument/2006/relationships/slide" Target="slide73.xml"/><Relationship Id="rId10" Type="http://schemas.openxmlformats.org/officeDocument/2006/relationships/slide" Target="slide75.xml"/><Relationship Id="rId11" Type="http://schemas.openxmlformats.org/officeDocument/2006/relationships/slide" Target="slide77.xml"/><Relationship Id="rId1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8.xml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8.xml"/><Relationship Id="rId3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8.xml"/><Relationship Id="rId3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8.xml"/><Relationship Id="rId3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8.xml"/><Relationship Id="rId3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8.xml"/><Relationship Id="rId3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8.xml"/><Relationship Id="rId3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8.xml"/><Relationship Id="rId3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8.xml"/><Relationship Id="rId3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8.xml"/><Relationship Id="rId3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0.xml"/><Relationship Id="rId3" Type="http://schemas.openxmlformats.org/officeDocument/2006/relationships/slide" Target="slide80.xml"/><Relationship Id="rId4" Type="http://schemas.openxmlformats.org/officeDocument/2006/relationships/slide" Target="slide80.xml"/><Relationship Id="rId5" Type="http://schemas.openxmlformats.org/officeDocument/2006/relationships/slide" Target="slide81.xml"/><Relationship Id="rId6" Type="http://schemas.openxmlformats.org/officeDocument/2006/relationships/slide" Target="slide81.xml"/><Relationship Id="rId7" Type="http://schemas.openxmlformats.org/officeDocument/2006/relationships/slide" Target="slide81.xml"/><Relationship Id="rId8" Type="http://schemas.openxmlformats.org/officeDocument/2006/relationships/slide" Target="slide82.xml"/><Relationship Id="rId9" Type="http://schemas.openxmlformats.org/officeDocument/2006/relationships/slide" Target="slide83.xml"/><Relationship Id="rId10" Type="http://schemas.openxmlformats.org/officeDocument/2006/relationships/slide" Target="slide83.xml"/><Relationship Id="rId11" Type="http://schemas.openxmlformats.org/officeDocument/2006/relationships/slide" Target="slide83.xml"/><Relationship Id="rId12" Type="http://schemas.openxmlformats.org/officeDocument/2006/relationships/slide" Target="slide&#1079;&#1086;&#1083;&#1086;&#1090;&#1086;.xml"/><Relationship Id="rId13" Type="http://schemas.openxmlformats.org/officeDocument/2006/relationships/slide" Target="slide&#1079;&#1086;&#1083;&#1086;&#1090;&#1086;.xml"/><Relationship Id="rId14" Type="http://schemas.openxmlformats.org/officeDocument/2006/relationships/slide" Target="slide&#1079;&#1086;&#1083;&#1086;&#1090;&#1086;.xml"/><Relationship Id="rId15" Type="http://schemas.openxmlformats.org/officeDocument/2006/relationships/slide" Target="slide85.xml"/><Relationship Id="rId16" Type="http://schemas.openxmlformats.org/officeDocument/2006/relationships/slide" Target="slide85.xml"/><Relationship Id="rId17" Type="http://schemas.openxmlformats.org/officeDocument/2006/relationships/slide" Target="slide85.xml"/><Relationship Id="rId18" Type="http://schemas.openxmlformats.org/officeDocument/2006/relationships/slide" Target="slide&#1087;&#1086;&#1076;&#1072;&#1105;&#1090;.xml"/><Relationship Id="rId19" Type="http://schemas.openxmlformats.org/officeDocument/2006/relationships/slide" Target="slide&#1087;&#1086;&#1076;&#1072;&#1105;&#1090;.xml"/><Relationship Id="rId20" Type="http://schemas.openxmlformats.org/officeDocument/2006/relationships/slide" Target="slide&#1087;&#1086;&#1076;&#1072;&#1105;&#1090;.xml"/><Relationship Id="rId21" Type="http://schemas.openxmlformats.org/officeDocument/2006/relationships/slide" Target="slide87.xml"/><Relationship Id="rId22" Type="http://schemas.openxmlformats.org/officeDocument/2006/relationships/slide" Target="slide87.xml"/><Relationship Id="rId23" Type="http://schemas.openxmlformats.org/officeDocument/2006/relationships/slide" Target="slide87.xml"/><Relationship Id="rId24" Type="http://schemas.openxmlformats.org/officeDocument/2006/relationships/slide" Target="slide88.xml"/><Relationship Id="rId25" Type="http://schemas.openxmlformats.org/officeDocument/2006/relationships/slide" Target="slide88.xml"/><Relationship Id="rId26" Type="http://schemas.openxmlformats.org/officeDocument/2006/relationships/slide" Target="slide88.xml"/><Relationship Id="rId27" Type="http://schemas.openxmlformats.org/officeDocument/2006/relationships/slide" Target="slide89.xml"/><Relationship Id="rId28" Type="http://schemas.openxmlformats.org/officeDocument/2006/relationships/slide" Target="slide89.xml"/><Relationship Id="rId29" Type="http://schemas.openxmlformats.org/officeDocument/2006/relationships/slide" Target="slide89.xml"/><Relationship Id="rId3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9.xml"/><Relationship Id="rId3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9.xml"/><Relationship Id="rId3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9.xml"/><Relationship Id="rId3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9.xml"/><Relationship Id="rId3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9.xml"/><Relationship Id="rId3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9.xml"/><Relationship Id="rId3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9.xml"/><Relationship Id="rId3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9.xml"/><Relationship Id="rId3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9.xml"/><Relationship Id="rId3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9.xml"/><Relationship Id="rId3" Type="http://schemas.openxmlformats.org/officeDocument/2006/relationships/slide" Target="slide79.xml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3.xml"/><Relationship Id="rId3" Type="http://schemas.openxmlformats.org/officeDocument/2006/relationships/slide" Target="slide94.xml"/><Relationship Id="rId4" Type="http://schemas.openxmlformats.org/officeDocument/2006/relationships/slide" Target="slide95.xml"/><Relationship Id="rId5" Type="http://schemas.openxmlformats.org/officeDocument/2006/relationships/slide" Target="slide96.xml"/><Relationship Id="rId6" Type="http://schemas.openxmlformats.org/officeDocument/2006/relationships/slide" Target="slide97.xml"/><Relationship Id="rId7" Type="http://schemas.openxmlformats.org/officeDocument/2006/relationships/slide" Target="slide98.xml"/><Relationship Id="rId8" Type="http://schemas.openxmlformats.org/officeDocument/2006/relationships/slide" Target="slide99.xml"/><Relationship Id="rId9" Type="http://schemas.openxmlformats.org/officeDocument/2006/relationships/slide" Target="slide100.xml"/><Relationship Id="rId10" Type="http://schemas.openxmlformats.org/officeDocument/2006/relationships/slide" Target="slide92.xml"/><Relationship Id="rId1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0.xml"/><Relationship Id="rId3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0.xml"/><Relationship Id="rId3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0.xml"/><Relationship Id="rId3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0.xml"/><Relationship Id="rId3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0.xml"/><Relationship Id="rId3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0.xml"/><Relationship Id="rId3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0.xml"/><Relationship Id="rId3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0.xml"/><Relationship Id="rId3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0.xm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курсная интерактивная игр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Доброе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слово сказать -   посошок в руки дать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по русским пословицам и поговоркам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брые слова …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урак дурака видит издал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rId2" action="ppaction://hlinksldjump"/>
          </p:cNvPr>
          <p:cNvSpPr/>
          <p:nvPr/>
        </p:nvSpPr>
        <p:spPr>
          <a:xfrm>
            <a:off x="2509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ятый раунд: «Подумай и отве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вистливое око...                                  Курица по зёрнышку клюёт да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600" spc="-1" strike="noStrike" u="sng">
                <a:solidFill>
                  <a:srgbClr val="3333cc"/>
                </a:solidFill>
                <a:uFillTx/>
                <a:latin typeface="Arial"/>
                <a:hlinkClick r:id="rId2" action="ppaction://hlinksldjump"/>
              </a:rPr>
              <a:t>как рот широко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;                                           - </a:t>
            </a:r>
            <a:r>
              <a:rPr b="0" lang="ru-RU" sz="1600" spc="-1" strike="noStrike" u="sng">
                <a:solidFill>
                  <a:srgbClr val="3333cc"/>
                </a:solidFill>
                <a:uFillTx/>
                <a:latin typeface="Arial"/>
                <a:hlinkClick r:id="rId3" action="ppaction://hlinksldjump"/>
              </a:rPr>
              <a:t>на всех плюёт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600" spc="-1" strike="noStrike" u="sng">
                <a:solidFill>
                  <a:srgbClr val="3333cc"/>
                </a:solidFill>
                <a:uFillTx/>
                <a:latin typeface="Arial"/>
                <a:hlinkClick r:id="rId4" action="ppaction://hlinksldjump"/>
              </a:rPr>
              <a:t>как яма глубоко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;                                          - </a:t>
            </a:r>
            <a:r>
              <a:rPr b="0" lang="ru-RU" sz="1600" spc="-1" strike="noStrike" u="sng">
                <a:solidFill>
                  <a:srgbClr val="3333cc"/>
                </a:solidFill>
                <a:uFillTx/>
                <a:latin typeface="Arial"/>
                <a:hlinkClick r:id="rId5" action="ppaction://hlinksldjump"/>
              </a:rPr>
              <a:t>яйцо несёт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600" spc="-1" strike="noStrike" u="sng">
                <a:solidFill>
                  <a:srgbClr val="3333cc"/>
                </a:solidFill>
                <a:uFillTx/>
                <a:latin typeface="Arial"/>
                <a:hlinkClick r:id="rId6" action="ppaction://hlinksldjump"/>
              </a:rPr>
              <a:t>видит далёко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-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3333cc"/>
                </a:solidFill>
                <a:uFillTx/>
                <a:latin typeface="Arial"/>
                <a:hlinkClick r:id="rId7" action="ppaction://hlinksldjump"/>
              </a:rPr>
              <a:t>сыто живёт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леб-соль кушай, а...                             Голодному Федоту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600" spc="-1" strike="noStrike" u="sng">
                <a:solidFill>
                  <a:srgbClr val="3333cc"/>
                </a:solidFill>
                <a:uFillTx/>
                <a:latin typeface="Arial"/>
                <a:hlinkClick r:id="rId8" action="ppaction://hlinksldjump"/>
              </a:rPr>
              <a:t>хозяина слушай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;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- </a:t>
            </a:r>
            <a:r>
              <a:rPr b="0" lang="ru-RU" sz="1600" spc="-1" strike="noStrike" u="sng">
                <a:solidFill>
                  <a:srgbClr val="3333cc"/>
                </a:solidFill>
                <a:uFillTx/>
                <a:latin typeface="Arial"/>
                <a:hlinkClick r:id="rId9" action="ppaction://hlinksldjump"/>
              </a:rPr>
              <a:t>пора на охоту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600" spc="-1" strike="noStrike" u="sng">
                <a:solidFill>
                  <a:srgbClr val="3333cc"/>
                </a:solidFill>
                <a:uFillTx/>
                <a:latin typeface="Arial"/>
                <a:hlinkClick r:id="rId10" action="ppaction://hlinksldjump"/>
              </a:rPr>
              <a:t>никого не слушай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;                                        - не до рабо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600" spc="-1" strike="noStrike" u="sng">
                <a:solidFill>
                  <a:srgbClr val="3333cc"/>
                </a:solidFill>
                <a:uFillTx/>
                <a:latin typeface="Arial"/>
                <a:hlinkClick r:id="rId11" action="ppaction://hlinksldjump"/>
              </a:rPr>
              <a:t>не затыкай уши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                                            -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и репка в охо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зрячий глаз, да...                                Свиная рожа...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600" spc="-1" strike="noStrike" u="sng">
                <a:solidFill>
                  <a:srgbClr val="3333cc"/>
                </a:solidFill>
                <a:uFillTx/>
                <a:latin typeface="Arial"/>
                <a:hlinkClick r:id="rId12" action="ppaction://hlinksldjump"/>
              </a:rPr>
              <a:t>ослеп враз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;                                                     - на всех похож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- </a:t>
            </a:r>
            <a:r>
              <a:rPr b="0" lang="ru-RU" sz="1600" spc="-1" strike="noStrike" u="sng">
                <a:solidFill>
                  <a:srgbClr val="3333cc"/>
                </a:solidFill>
                <a:uFillTx/>
                <a:latin typeface="Arial"/>
                <a:hlinkClick r:id="rId13" action="ppaction://hlinksldjump"/>
              </a:rPr>
              <a:t>не видит вас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;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-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езде вхож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600" spc="-1" strike="noStrike" u="sng">
                <a:solidFill>
                  <a:srgbClr val="3333cc"/>
                </a:solidFill>
                <a:uFillTx/>
                <a:latin typeface="Arial"/>
                <a:hlinkClick r:id="rId14" action="ppaction://hlinksldjump"/>
              </a:rPr>
              <a:t>очки припас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                                                  - всего дорож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 ленивой пряхи...                                Дурака учить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600" spc="-1" strike="noStrike" u="sng">
                <a:solidFill>
                  <a:srgbClr val="3333cc"/>
                </a:solidFill>
                <a:uFillTx/>
                <a:latin typeface="Arial"/>
                <a:hlinkClick r:id="rId15" action="ppaction://hlinksldjump"/>
              </a:rPr>
              <a:t>всё, как у неряхи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;                                          -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решетом воду носи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- </a:t>
            </a:r>
            <a:r>
              <a:rPr b="0" lang="ru-RU" sz="1600" spc="-1" strike="noStrike" u="sng">
                <a:solidFill>
                  <a:srgbClr val="3333cc"/>
                </a:solidFill>
                <a:uFillTx/>
                <a:latin typeface="Arial"/>
                <a:hlinkClick r:id="rId16" action="ppaction://hlinksldjump"/>
              </a:rPr>
              <a:t>и для себя нет рубахи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;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- лаптем тесто меси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600" spc="-1" strike="noStrike" u="sng">
                <a:solidFill>
                  <a:srgbClr val="3333cc"/>
                </a:solidFill>
                <a:uFillTx/>
                <a:latin typeface="Arial"/>
                <a:hlinkClick r:id="rId17" action="ppaction://hlinksldjump"/>
              </a:rPr>
              <a:t>не бывает свахи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                                           - самому дураком слы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казал бы словечко, да...                    Кабы знал, где упал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600" spc="-1" strike="noStrike" u="sng">
                <a:solidFill>
                  <a:srgbClr val="3333cc"/>
                </a:solidFill>
                <a:uFillTx/>
                <a:latin typeface="Arial"/>
                <a:hlinkClick r:id="rId18" action="ppaction://hlinksldjump"/>
              </a:rPr>
              <a:t>волк </a:t>
            </a:r>
            <a:r>
              <a:rPr b="0" lang="ru-RU" sz="1600" spc="-1" strike="noStrike" u="sng">
                <a:solidFill>
                  <a:srgbClr val="3333cc"/>
                </a:solidFill>
                <a:uFillTx/>
                <a:latin typeface="Arial"/>
                <a:hlinkClick r:id="rId19" action="ppaction://hlinksldjump"/>
              </a:rPr>
              <a:t>недалечко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;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- тут бы сроду не ступа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600" spc="-1" strike="noStrike" u="sng">
                <a:solidFill>
                  <a:srgbClr val="3333cc"/>
                </a:solidFill>
                <a:uFillTx/>
                <a:latin typeface="Arial"/>
                <a:hlinkClick r:id="rId20" action="ppaction://hlinksldjump"/>
              </a:rPr>
              <a:t>не мыто крылечк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;                                       -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тут соломки подостла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600" spc="-1" strike="noStrike" u="sng">
                <a:solidFill>
                  <a:srgbClr val="3333cc"/>
                </a:solidFill>
                <a:uFillTx/>
                <a:latin typeface="Arial"/>
                <a:hlinkClick r:id="rId21" action="ppaction://hlinksldjump"/>
              </a:rPr>
              <a:t>трепещет сердечк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                                     - тут перинки раскида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1116000" y="1484280"/>
            <a:ext cx="712800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цы!!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 правильно ответили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8" name="">
            <a:hlinkClick r:id="rId2" action="ppaction://hlinksldjump"/>
          </p:cNvPr>
          <p:cNvSpPr/>
          <p:nvPr/>
        </p:nvSpPr>
        <p:spPr>
          <a:xfrm>
            <a:off x="2509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2195640" y="1916280"/>
            <a:ext cx="487656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вет неверный!!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0" name="">
            <a:hlinkClick r:id="rId2" action="ppaction://hlinksldjump"/>
          </p:cNvPr>
          <p:cNvSpPr/>
          <p:nvPr/>
        </p:nvSpPr>
        <p:spPr>
          <a:xfrm>
            <a:off x="2509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брые слова дороже богатст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39528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брый человек в добре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брый человек в добре проживёт век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39528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ч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56000" y="1341360"/>
            <a:ext cx="4171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должи пословицу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378880" y="1920960"/>
            <a:ext cx="4314600" cy="4101840"/>
            <a:chOff x="2378880" y="1920960"/>
            <a:chExt cx="4314600" cy="4101840"/>
          </a:xfrm>
        </p:grpSpPr>
        <p:sp>
          <p:nvSpPr>
            <p:cNvPr id="76" name="_s6154"/>
            <p:cNvSpPr/>
            <p:nvPr/>
          </p:nvSpPr>
          <p:spPr>
            <a:xfrm>
              <a:off x="3397320" y="1920960"/>
              <a:ext cx="2278080" cy="2276280"/>
            </a:xfrm>
            <a:custGeom>
              <a:avLst/>
              <a:gdLst>
                <a:gd name="textAreaLeft" fmla="*/ 0 w 2278080"/>
                <a:gd name="textAreaRight" fmla="*/ 2278440 w 2278080"/>
                <a:gd name="textAreaTop" fmla="*/ 0 h 2276280"/>
                <a:gd name="textAreaBottom" fmla="*/ 2276640 h 227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6159"/>
            <p:cNvSpPr/>
            <p:nvPr/>
          </p:nvSpPr>
          <p:spPr>
            <a:xfrm rot="4320000">
              <a:off x="4119840" y="2443680"/>
              <a:ext cx="2276640" cy="2278080"/>
            </a:xfrm>
            <a:custGeom>
              <a:avLst/>
              <a:gdLst>
                <a:gd name="textAreaLeft" fmla="*/ 0 w 2276640"/>
                <a:gd name="textAreaRight" fmla="*/ 2277000 w 2276640"/>
                <a:gd name="textAreaTop" fmla="*/ 0 h 2278080"/>
                <a:gd name="textAreaBottom" fmla="*/ 2278440 h 227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6161"/>
            <p:cNvSpPr/>
            <p:nvPr/>
          </p:nvSpPr>
          <p:spPr>
            <a:xfrm rot="8640000">
              <a:off x="3843000" y="3293640"/>
              <a:ext cx="2278080" cy="2276640"/>
            </a:xfrm>
            <a:custGeom>
              <a:avLst/>
              <a:gdLst>
                <a:gd name="textAreaLeft" fmla="*/ 0 w 2278080"/>
                <a:gd name="textAreaRight" fmla="*/ 2278440 w 2278080"/>
                <a:gd name="textAreaTop" fmla="*/ 0 h 2276640"/>
                <a:gd name="textAreaBottom" fmla="*/ 2277000 h 227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6155"/>
            <p:cNvSpPr/>
            <p:nvPr/>
          </p:nvSpPr>
          <p:spPr>
            <a:xfrm rot="12960000">
              <a:off x="2950920" y="3294000"/>
              <a:ext cx="2278080" cy="2276640"/>
            </a:xfrm>
            <a:custGeom>
              <a:avLst/>
              <a:gdLst>
                <a:gd name="textAreaLeft" fmla="*/ 0 w 2278080"/>
                <a:gd name="textAreaRight" fmla="*/ 2278440 w 2278080"/>
                <a:gd name="textAreaTop" fmla="*/ 0 h 2276640"/>
                <a:gd name="textAreaBottom" fmla="*/ 2277000 h 227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6157"/>
            <p:cNvSpPr/>
            <p:nvPr/>
          </p:nvSpPr>
          <p:spPr>
            <a:xfrm rot="17280000">
              <a:off x="2675520" y="2444040"/>
              <a:ext cx="2276640" cy="2278080"/>
            </a:xfrm>
            <a:custGeom>
              <a:avLst/>
              <a:gdLst>
                <a:gd name="textAreaLeft" fmla="*/ 0 w 2276640"/>
                <a:gd name="textAreaRight" fmla="*/ 2277000 w 2276640"/>
                <a:gd name="textAreaTop" fmla="*/ 0 h 2278080"/>
                <a:gd name="textAreaBottom" fmla="*/ 2278440 h 227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6152"/>
            <p:cNvSpPr/>
            <p:nvPr/>
          </p:nvSpPr>
          <p:spPr>
            <a:xfrm>
              <a:off x="5119560" y="2016000"/>
              <a:ext cx="8384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3333cc"/>
                  </a:solidFill>
                  <a:uFillTx/>
                  <a:latin typeface="Arial"/>
                  <a:hlinkClick r:id="rId2" action="ppaction://hlinksldjump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6153"/>
            <p:cNvSpPr/>
            <p:nvPr/>
          </p:nvSpPr>
          <p:spPr>
            <a:xfrm>
              <a:off x="2492280" y="3927600"/>
              <a:ext cx="8384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3333cc"/>
                  </a:solidFill>
                  <a:uFillTx/>
                  <a:latin typeface="Arial"/>
                  <a:hlinkClick r:id="rId3" action="ppaction://hlinksldjump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6156"/>
            <p:cNvSpPr/>
            <p:nvPr/>
          </p:nvSpPr>
          <p:spPr>
            <a:xfrm>
              <a:off x="3111480" y="2016000"/>
              <a:ext cx="8380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3333cc"/>
                  </a:solidFill>
                  <a:uFillTx/>
                  <a:latin typeface="Arial"/>
                  <a:hlinkClick r:id="rId4" action="ppaction://hlinksldjump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6158"/>
            <p:cNvSpPr/>
            <p:nvPr/>
          </p:nvSpPr>
          <p:spPr>
            <a:xfrm>
              <a:off x="5740560" y="3924360"/>
              <a:ext cx="8380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3333cc"/>
                  </a:solidFill>
                  <a:uFillTx/>
                  <a:latin typeface="Arial"/>
                  <a:hlinkClick r:id="rId5" action="ppaction://hlinksldjump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6160"/>
            <p:cNvSpPr/>
            <p:nvPr/>
          </p:nvSpPr>
          <p:spPr>
            <a:xfrm>
              <a:off x="4118040" y="5105520"/>
              <a:ext cx="8380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 u="sng">
                  <a:solidFill>
                    <a:srgbClr val="3333cc"/>
                  </a:solidFill>
                  <a:uFillTx/>
                  <a:latin typeface="Arial"/>
                  <a:hlinkClick r:id="rId6" action="ppaction://hlinksldjump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2509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амоте учитьс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32400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рамоте учиться всегда пригодится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2509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ек жив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32400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ек живи – век учись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2" action="ppaction://hlinksldjump"/>
          </p:cNvPr>
          <p:cNvSpPr/>
          <p:nvPr/>
        </p:nvSpPr>
        <p:spPr>
          <a:xfrm>
            <a:off x="2509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асна птица перьем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32400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рвый раунд: «Продолжи пословиц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бро. З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мелость. Трус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уж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да. Сов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7407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расна птица перьем, а человек ученье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2509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ченье дороже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32400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ченье дороже богатст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2509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укой свет стоит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32400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укой свет стоит, а ученьем люди живут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2509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мелость. Трус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301760" y="1758960"/>
            <a:ext cx="6467400" cy="3803760"/>
            <a:chOff x="1301760" y="1758960"/>
            <a:chExt cx="6467400" cy="3803760"/>
          </a:xfrm>
        </p:grpSpPr>
        <p:sp>
          <p:nvSpPr>
            <p:cNvPr id="109" name="_s7175"/>
            <p:cNvSpPr/>
            <p:nvPr/>
          </p:nvSpPr>
          <p:spPr>
            <a:xfrm>
              <a:off x="3699000" y="2344680"/>
              <a:ext cx="1673280" cy="167472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7176"/>
            <p:cNvSpPr/>
            <p:nvPr/>
          </p:nvSpPr>
          <p:spPr>
            <a:xfrm>
              <a:off x="3699000" y="1758960"/>
              <a:ext cx="16732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3333cc"/>
                  </a:solidFill>
                  <a:uFillTx/>
                  <a:latin typeface="Arial"/>
                  <a:hlinkClick r:id="rId2" action="ppaction://hlinksldjump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7181"/>
            <p:cNvSpPr/>
            <p:nvPr/>
          </p:nvSpPr>
          <p:spPr>
            <a:xfrm>
              <a:off x="4303800" y="2784600"/>
              <a:ext cx="1673280" cy="167472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7182"/>
            <p:cNvSpPr/>
            <p:nvPr/>
          </p:nvSpPr>
          <p:spPr>
            <a:xfrm>
              <a:off x="6095880" y="2892600"/>
              <a:ext cx="167328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3333cc"/>
                  </a:solidFill>
                  <a:uFillTx/>
                  <a:latin typeface="Arial"/>
                  <a:hlinkClick r:id="rId3" action="ppaction://hlinksldjump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7183"/>
            <p:cNvSpPr/>
            <p:nvPr/>
          </p:nvSpPr>
          <p:spPr>
            <a:xfrm>
              <a:off x="4071960" y="3495600"/>
              <a:ext cx="1673280" cy="1674720"/>
            </a:xfrm>
            <a:prstGeom prst="ellipse">
              <a:avLst/>
            </a:prstGeom>
            <a:solidFill>
              <a:srgbClr val="af67ff">
                <a:alpha val="50000"/>
              </a:srgbClr>
            </a:solidFill>
            <a:ln w="4680">
              <a:solidFill>
                <a:srgbClr val="af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7184"/>
            <p:cNvSpPr/>
            <p:nvPr/>
          </p:nvSpPr>
          <p:spPr>
            <a:xfrm>
              <a:off x="5500800" y="5145120"/>
              <a:ext cx="16732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3333cc"/>
                  </a:solidFill>
                  <a:uFillTx/>
                  <a:latin typeface="Arial"/>
                  <a:hlinkClick r:id="rId4" action="ppaction://hlinksldjump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7177"/>
            <p:cNvSpPr/>
            <p:nvPr/>
          </p:nvSpPr>
          <p:spPr>
            <a:xfrm>
              <a:off x="3324240" y="3494160"/>
              <a:ext cx="1673280" cy="167472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7178"/>
            <p:cNvSpPr/>
            <p:nvPr/>
          </p:nvSpPr>
          <p:spPr>
            <a:xfrm>
              <a:off x="1897200" y="5145120"/>
              <a:ext cx="16729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3333cc"/>
                  </a:solidFill>
                  <a:uFillTx/>
                  <a:latin typeface="Arial"/>
                  <a:hlinkClick r:id="rId5" action="ppaction://hlinksldjump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7179"/>
            <p:cNvSpPr/>
            <p:nvPr/>
          </p:nvSpPr>
          <p:spPr>
            <a:xfrm>
              <a:off x="3094200" y="2782800"/>
              <a:ext cx="1672920" cy="1675080"/>
            </a:xfrm>
            <a:prstGeom prst="ellipse">
              <a:avLst/>
            </a:prstGeom>
            <a:solidFill>
              <a:srgbClr val="af67ff">
                <a:alpha val="50000"/>
              </a:srgbClr>
            </a:solidFill>
            <a:ln w="4680">
              <a:solidFill>
                <a:srgbClr val="af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7180"/>
            <p:cNvSpPr/>
            <p:nvPr/>
          </p:nvSpPr>
          <p:spPr>
            <a:xfrm>
              <a:off x="1301760" y="2892600"/>
              <a:ext cx="167328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3333cc"/>
                  </a:solidFill>
                  <a:uFillTx/>
                  <a:latin typeface="Arial"/>
                  <a:hlinkClick r:id="rId6" action="ppaction://hlinksldjump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5508720" y="3284640"/>
            <a:ext cx="50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мелость город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324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мелость города берё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324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ум смертям не бывать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324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вум смертям не бывать, а одной не миновать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324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должи послов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47640" y="1916280"/>
            <a:ext cx="86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724360" y="3860640"/>
            <a:ext cx="863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627280" y="3860640"/>
            <a:ext cx="863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659640" y="2060640"/>
            <a:ext cx="86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24360" y="2060640"/>
            <a:ext cx="86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Храброму смерть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324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Храброму смерть не страш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324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 смелого собака лает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324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 смелого собака лает, а трусливого куса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324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лка бояться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324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лка бояться – и от белки бежать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2" action="ppaction://hlinksldjump"/>
          </p:cNvPr>
          <p:cNvSpPr/>
          <p:nvPr/>
        </p:nvSpPr>
        <p:spPr>
          <a:xfrm>
            <a:off x="324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ружб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42920" y="1628640"/>
            <a:ext cx="1513080" cy="1366920"/>
          </a:xfrm>
          <a:custGeom>
            <a:avLst/>
            <a:gdLst>
              <a:gd name="textAreaLeft" fmla="*/ 345240 w 1513080"/>
              <a:gd name="textAreaRight" fmla="*/ 1167840 w 1513080"/>
              <a:gd name="textAreaTop" fmla="*/ 312120 h 1366920"/>
              <a:gd name="textAreaBottom" fmla="*/ 105480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33cc"/>
                </a:solidFill>
                <a:uFillTx/>
                <a:latin typeface="Arial"/>
                <a:hlinkClick r:id="rId2" action="ppaction://hlinksldjump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67280" y="1628640"/>
            <a:ext cx="1512720" cy="1366920"/>
          </a:xfrm>
          <a:custGeom>
            <a:avLst/>
            <a:gdLst>
              <a:gd name="textAreaLeft" fmla="*/ 345240 w 1512720"/>
              <a:gd name="textAreaRight" fmla="*/ 1167480 w 1512720"/>
              <a:gd name="textAreaTop" fmla="*/ 312120 h 1366920"/>
              <a:gd name="textAreaBottom" fmla="*/ 105480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33cc"/>
                </a:solidFill>
                <a:uFillTx/>
                <a:latin typeface="Arial"/>
                <a:hlinkClick r:id="rId3" action="ppaction://hlinksldjump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716280"/>
            <a:ext cx="1513080" cy="1366920"/>
          </a:xfrm>
          <a:custGeom>
            <a:avLst/>
            <a:gdLst>
              <a:gd name="textAreaLeft" fmla="*/ 345240 w 1513080"/>
              <a:gd name="textAreaRight" fmla="*/ 1167840 w 1513080"/>
              <a:gd name="textAreaTop" fmla="*/ 312120 h 1366920"/>
              <a:gd name="textAreaBottom" fmla="*/ 105480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33cc"/>
                </a:solidFill>
                <a:uFillTx/>
                <a:latin typeface="Arial"/>
                <a:hlinkClick r:id="rId4" action="ppaction://hlinksldjump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68360" y="3716280"/>
            <a:ext cx="1513080" cy="1366920"/>
          </a:xfrm>
          <a:custGeom>
            <a:avLst/>
            <a:gdLst>
              <a:gd name="textAreaLeft" fmla="*/ 345240 w 1513080"/>
              <a:gd name="textAreaRight" fmla="*/ 1167840 w 1513080"/>
              <a:gd name="textAreaTop" fmla="*/ 312120 h 1366920"/>
              <a:gd name="textAreaBottom" fmla="*/ 105480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33cc"/>
                </a:solidFill>
                <a:uFillTx/>
                <a:latin typeface="Arial"/>
                <a:hlinkClick r:id="rId5" action="ppaction://hlinksldjump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59640" y="1844640"/>
            <a:ext cx="1512720" cy="1366920"/>
          </a:xfrm>
          <a:custGeom>
            <a:avLst/>
            <a:gdLst>
              <a:gd name="textAreaLeft" fmla="*/ 345240 w 1512720"/>
              <a:gd name="textAreaRight" fmla="*/ 1167480 w 1512720"/>
              <a:gd name="textAreaTop" fmla="*/ 312120 h 1366920"/>
              <a:gd name="textAreaBottom" fmla="*/ 105480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33cc"/>
                </a:solidFill>
                <a:uFillTx/>
                <a:latin typeface="Arial"/>
                <a:hlinkClick r:id="rId6" action="ppaction://hlinksldjump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ез друга в жизни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nextslide"/>
          </p:cNvPr>
          <p:cNvSpPr/>
          <p:nvPr/>
        </p:nvSpPr>
        <p:spPr>
          <a:xfrm>
            <a:off x="1792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ез друга в жизни худ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2509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ерному другу 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1792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знь дана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nextslide"/>
          </p:cNvPr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ерному другу цены нет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2509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ружба крепка не лестью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1792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ружба крепка не лестью, а правдой и че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2509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руга ищи, а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nextslide"/>
          </p:cNvPr>
          <p:cNvSpPr/>
          <p:nvPr/>
        </p:nvSpPr>
        <p:spPr>
          <a:xfrm>
            <a:off x="1792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руга ищи, а найдёшь – бере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2509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ерево живёт корням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" action="ppaction://hlinkshowjump?jump=nextslide"/>
          </p:cNvPr>
          <p:cNvSpPr/>
          <p:nvPr/>
        </p:nvSpPr>
        <p:spPr>
          <a:xfrm>
            <a:off x="1792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ерево живёт корнями, а человек – друзьям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2509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да. Совес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5640" y="1341360"/>
            <a:ext cx="1800360" cy="16560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03640" y="3500280"/>
            <a:ext cx="1800360" cy="16560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08000" y="3500280"/>
            <a:ext cx="1800360" cy="16560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227640" y="1413000"/>
            <a:ext cx="1800360" cy="1655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19640" y="1413000"/>
            <a:ext cx="1800000" cy="1655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 ком добра нет, в том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46836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ком добра нет, в том и правды мал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2" action="ppaction://hlinksldjump"/>
          </p:cNvPr>
          <p:cNvSpPr/>
          <p:nvPr/>
        </p:nvSpPr>
        <p:spPr>
          <a:xfrm>
            <a:off x="324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изнь дана на добрые де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2" action="ppaction://hlinksldjump"/>
          </p:cNvPr>
          <p:cNvSpPr/>
          <p:nvPr/>
        </p:nvSpPr>
        <p:spPr>
          <a:xfrm>
            <a:off x="39528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учше горькая правд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46836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учше горькая правда, чем горькая ложь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rId2" action="ppaction://hlinksldjump"/>
          </p:cNvPr>
          <p:cNvSpPr/>
          <p:nvPr/>
        </p:nvSpPr>
        <p:spPr>
          <a:xfrm>
            <a:off x="324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сяк правду ищет, да не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46836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сяк правду ищет, да не всяк её твор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2" action="ppaction://hlinksldjump"/>
          </p:cNvPr>
          <p:cNvSpPr/>
          <p:nvPr/>
        </p:nvSpPr>
        <p:spPr>
          <a:xfrm>
            <a:off x="324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 правду стой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" action="ppaction://hlinkshowjump?jump=nextslide"/>
          </p:cNvPr>
          <p:cNvSpPr/>
          <p:nvPr/>
        </p:nvSpPr>
        <p:spPr>
          <a:xfrm>
            <a:off x="46836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 правду стой горо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rId2" action="ppaction://hlinksldjump"/>
          </p:cNvPr>
          <p:cNvSpPr/>
          <p:nvPr/>
        </p:nvSpPr>
        <p:spPr>
          <a:xfrm>
            <a:off x="324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ело знай, а правду 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46836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ело знай, а правду помн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2" action="ppaction://hlinksldjump"/>
          </p:cNvPr>
          <p:cNvSpPr/>
          <p:nvPr/>
        </p:nvSpPr>
        <p:spPr>
          <a:xfrm>
            <a:off x="324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торой раунд: «Угадай словечк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22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3333cc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3333cc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3333cc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3333cc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3333cc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3333cc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3333cc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3333cc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3333cc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3333cc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2509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 чёрта на куличках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" action="ppaction://hlinkshowjump?jump=nextslide"/>
          </p:cNvPr>
          <p:cNvSpPr/>
          <p:nvPr/>
        </p:nvSpPr>
        <p:spPr>
          <a:xfrm>
            <a:off x="2509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бра желаешь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але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1792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еми пядей во лбу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" action="ppaction://hlinkshowjump?jump=nextslide"/>
          </p:cNvPr>
          <p:cNvSpPr/>
          <p:nvPr/>
        </p:nvSpPr>
        <p:spPr>
          <a:xfrm>
            <a:off x="2509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м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rId2" action="ppaction://hlinksldjump"/>
          </p:cNvPr>
          <p:cNvSpPr/>
          <p:nvPr/>
        </p:nvSpPr>
        <p:spPr>
          <a:xfrm>
            <a:off x="1792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 горшка два вершка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nextslide"/>
          </p:cNvPr>
          <p:cNvSpPr/>
          <p:nvPr/>
        </p:nvSpPr>
        <p:spPr>
          <a:xfrm>
            <a:off x="2509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лень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1792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гда рак на горе свистн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" action="ppaction://hlinkshowjump?jump=nextslide"/>
          </p:cNvPr>
          <p:cNvSpPr/>
          <p:nvPr/>
        </p:nvSpPr>
        <p:spPr>
          <a:xfrm>
            <a:off x="2509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иког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rId2" action="ppaction://hlinksldjump"/>
          </p:cNvPr>
          <p:cNvSpPr/>
          <p:nvPr/>
        </p:nvSpPr>
        <p:spPr>
          <a:xfrm>
            <a:off x="1792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и кола, ни двора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" action="ppaction://hlinkshowjump?jump=nextslide"/>
          </p:cNvPr>
          <p:cNvSpPr/>
          <p:nvPr/>
        </p:nvSpPr>
        <p:spPr>
          <a:xfrm>
            <a:off x="2509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ед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2" action="ppaction://hlinksldjump"/>
          </p:cNvPr>
          <p:cNvSpPr/>
          <p:nvPr/>
        </p:nvSpPr>
        <p:spPr>
          <a:xfrm>
            <a:off x="1792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 голове ветер гуляет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" action="ppaction://hlinkshowjump?jump=nextslide"/>
          </p:cNvPr>
          <p:cNvSpPr/>
          <p:nvPr/>
        </p:nvSpPr>
        <p:spPr>
          <a:xfrm>
            <a:off x="2509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бра желаешь, добро и дела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2" action="ppaction://hlinksldjump"/>
          </p:cNvPr>
          <p:cNvSpPr/>
          <p:nvPr/>
        </p:nvSpPr>
        <p:spPr>
          <a:xfrm>
            <a:off x="39528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лупый, бестолков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rId2" action="ppaction://hlinksldjump"/>
          </p:cNvPr>
          <p:cNvSpPr/>
          <p:nvPr/>
        </p:nvSpPr>
        <p:spPr>
          <a:xfrm>
            <a:off x="1792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оть пруд пруди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2509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н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rId2" action="ppaction://hlinksldjump"/>
          </p:cNvPr>
          <p:cNvSpPr/>
          <p:nvPr/>
        </p:nvSpPr>
        <p:spPr>
          <a:xfrm>
            <a:off x="1792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ыло в пуху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2509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новат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2" action="ppaction://hlinksldjump"/>
          </p:cNvPr>
          <p:cNvSpPr/>
          <p:nvPr/>
        </p:nvSpPr>
        <p:spPr>
          <a:xfrm>
            <a:off x="1792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сле дождичка в четверг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2509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известно ког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2" action="ppaction://hlinksldjump"/>
          </p:cNvPr>
          <p:cNvSpPr/>
          <p:nvPr/>
        </p:nvSpPr>
        <p:spPr>
          <a:xfrm>
            <a:off x="1792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 ходу подмётки рвёт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>
            <a:hlinkClick r:id="" action="ppaction://hlinkshowjump?jump=nextslide"/>
          </p:cNvPr>
          <p:cNvSpPr/>
          <p:nvPr/>
        </p:nvSpPr>
        <p:spPr>
          <a:xfrm>
            <a:off x="2509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овкий, хитр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rId2" action="ppaction://hlinksldjump"/>
          </p:cNvPr>
          <p:cNvSpPr/>
          <p:nvPr/>
        </p:nvSpPr>
        <p:spPr>
          <a:xfrm>
            <a:off x="1792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ретий раунд: «Угадай пословиц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920" y="1457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2" action="ppaction://hlinksldjump"/>
              </a:rPr>
              <a:t>1. В закрытый рот муха не залетит 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3" action="ppaction://hlinksldjump"/>
              </a:rPr>
              <a:t>итальянская пословица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4" action="ppaction://hlinksldjump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5" action="ppaction://hlinksldjump"/>
              </a:rPr>
              <a:t>2. Две собаки вряд ли поделят одну кость 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6" action="ppaction://hlinksldjump"/>
              </a:rPr>
              <a:t>английская пословица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7" action="ppaction://hlinksldjump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8" action="ppaction://hlinksldjump"/>
              </a:rPr>
              <a:t>3. Где нет фруктовых деревьев, свёкла сойдёт за апельсин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ранская послов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9" action="ppaction://hlinksldjump"/>
              </a:rPr>
              <a:t>4. Тот не заблудится, кто спрашивает 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10" action="ppaction://hlinksldjump"/>
              </a:rPr>
              <a:t>финская пословица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11" action="ppaction://hlinksldjump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12" action="ppaction://hlinksldjump"/>
              </a:rPr>
              <a:t>5. Молчаливый рот – золотой рот 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13" action="ppaction://hlinksldjump"/>
              </a:rPr>
              <a:t>немецкая пословица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14" action="ppaction://hlinksldjump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15" action="ppaction://hlinksldjump"/>
              </a:rPr>
              <a:t>6. Разговорами риса не сваришь 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16" action="ppaction://hlinksldjump"/>
              </a:rPr>
              <a:t>китайская пословица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17" action="ppaction://hlinksldjump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18" action="ppaction://hlinksldjump"/>
              </a:rPr>
              <a:t>7. Ранняя птичка съедает червячка 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19" action="ppaction://hlinksldjump"/>
              </a:rPr>
              <a:t>английская пословица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20" action="ppaction://hlinksldjump"/>
              </a:rPr>
              <a:t>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21" action="ppaction://hlinksldjump"/>
              </a:rPr>
              <a:t>8. Пика не кладётся в мешок 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22" action="ppaction://hlinksldjump"/>
              </a:rPr>
              <a:t>польская пословица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23" action="ppaction://hlinksldjump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24" action="ppaction://hlinksldjump"/>
              </a:rPr>
              <a:t>9. Бежал от дождя, попал под ливень 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25" action="ppaction://hlinksldjump"/>
              </a:rPr>
              <a:t>арабская пословица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26" action="ppaction://hlinksldjump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27" action="ppaction://hlinksldjump"/>
              </a:rPr>
              <a:t>10.Не учи рыбу плавать 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28" action="ppaction://hlinksldjump"/>
              </a:rPr>
              <a:t>английская пословица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29" action="ppaction://hlinksldjump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бро не умрёт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лово - не воробей: вылетит – не поймаеш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2" action="ppaction://hlinksldjump"/>
          </p:cNvPr>
          <p:cNvSpPr/>
          <p:nvPr/>
        </p:nvSpPr>
        <p:spPr>
          <a:xfrm>
            <a:off x="324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ва медведя в одной берлоге не уживу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2" action="ppaction://hlinksldjump"/>
          </p:cNvPr>
          <p:cNvSpPr/>
          <p:nvPr/>
        </p:nvSpPr>
        <p:spPr>
          <a:xfrm>
            <a:off x="324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 безрыбье и рак ры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2" action="ppaction://hlinksldjump"/>
          </p:cNvPr>
          <p:cNvSpPr/>
          <p:nvPr/>
        </p:nvSpPr>
        <p:spPr>
          <a:xfrm>
            <a:off x="324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зык до Киева доведё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>
            <a:hlinkClick r:id="rId2" action="ppaction://hlinksldjump"/>
          </p:cNvPr>
          <p:cNvSpPr/>
          <p:nvPr/>
        </p:nvSpPr>
        <p:spPr>
          <a:xfrm>
            <a:off x="324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лово – серебро, молчание – золо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>
            <a:hlinkClick r:id="rId2" action="ppaction://hlinksldjump"/>
          </p:cNvPr>
          <p:cNvSpPr/>
          <p:nvPr/>
        </p:nvSpPr>
        <p:spPr>
          <a:xfrm>
            <a:off x="324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ловья баснями не кормя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rId2" action="ppaction://hlinksldjump"/>
          </p:cNvPr>
          <p:cNvSpPr/>
          <p:nvPr/>
        </p:nvSpPr>
        <p:spPr>
          <a:xfrm>
            <a:off x="324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то рано встаёт, тому Бог подаё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>
            <a:hlinkClick r:id="rId2" action="ppaction://hlinksldjump"/>
          </p:cNvPr>
          <p:cNvSpPr/>
          <p:nvPr/>
        </p:nvSpPr>
        <p:spPr>
          <a:xfrm>
            <a:off x="324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Шила в мешке не утаи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2" action="ppaction://hlinksldjump"/>
          </p:cNvPr>
          <p:cNvSpPr/>
          <p:nvPr/>
        </p:nvSpPr>
        <p:spPr>
          <a:xfrm>
            <a:off x="324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з огня да в полымя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>
            <a:hlinkClick r:id="rId2" action="ppaction://hlinksldjump"/>
          </p:cNvPr>
          <p:cNvSpPr/>
          <p:nvPr/>
        </p:nvSpPr>
        <p:spPr>
          <a:xfrm>
            <a:off x="324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е учи учёного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>
            <a:hlinkClick r:id="rId2" action="ppaction://hlinksldjump"/>
          </p:cNvPr>
          <p:cNvSpPr/>
          <p:nvPr/>
        </p:nvSpPr>
        <p:spPr>
          <a:xfrm>
            <a:off x="324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rId3" action="ppaction://hlinksldjump"/>
          </p:cNvPr>
          <p:cNvSpPr/>
          <p:nvPr/>
        </p:nvSpPr>
        <p:spPr>
          <a:xfrm>
            <a:off x="539640" y="5732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бро не умрёт, а зло пропадёт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2" action="ppaction://hlinksldjump"/>
          </p:cNvPr>
          <p:cNvSpPr/>
          <p:nvPr/>
        </p:nvSpPr>
        <p:spPr>
          <a:xfrm>
            <a:off x="39528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етвёртый раунд: «Перевёртыш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ёрт всем скажет, боров слоп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гатство – недоста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упые ноги ругают к стар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краденной кобыле под хвост заглядыв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ликое безделье хуже крошечного бизне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ужие портки дальше от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резгливость пропадает, когда голод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зделье неумеху не страш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оячего колот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мный умного не слышит близ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" action="ppaction://hlinkshowjump?jump=nextslide"/>
          </p:cNvPr>
          <p:cNvSpPr/>
          <p:nvPr/>
        </p:nvSpPr>
        <p:spPr>
          <a:xfrm>
            <a:off x="6804000" y="1628640"/>
            <a:ext cx="576360" cy="322560"/>
          </a:xfrm>
          <a:custGeom>
            <a:avLst/>
            <a:gdLst>
              <a:gd name="textAreaLeft" fmla="*/ 20880 w 576360"/>
              <a:gd name="textAreaRight" fmla="*/ 555480 w 576360"/>
              <a:gd name="textAreaTop" fmla="*/ 20880 h 322560"/>
              <a:gd name="textAreaBottom" fmla="*/ 301680 h 322560"/>
            </a:gdLst>
            <a:ahLst/>
            <a:rect l="textAreaLeft" t="textAreaTop" r="textAreaRight" b="textAreaBottom"/>
            <a:pathLst>
              <a:path w="38577" h="21600">
                <a:moveTo>
                  <a:pt x="0" y="0"/>
                </a:moveTo>
                <a:lnTo>
                  <a:pt x="38577" y="0"/>
                </a:lnTo>
                <a:lnTo>
                  <a:pt x="38577" y="21600"/>
                </a:lnTo>
                <a:lnTo>
                  <a:pt x="0" y="21600"/>
                </a:lnTo>
                <a:close/>
              </a:path>
              <a:path fill="lightenLess" w="38577" h="21600">
                <a:moveTo>
                  <a:pt x="0" y="0"/>
                </a:moveTo>
                <a:lnTo>
                  <a:pt x="38577" y="0"/>
                </a:lnTo>
                <a:lnTo>
                  <a:pt x="37177" y="1400"/>
                </a:lnTo>
                <a:lnTo>
                  <a:pt x="1400" y="1400"/>
                </a:lnTo>
                <a:close/>
              </a:path>
              <a:path fill="darken" w="38577" h="21600">
                <a:moveTo>
                  <a:pt x="38577" y="0"/>
                </a:moveTo>
                <a:lnTo>
                  <a:pt x="38577" y="21600"/>
                </a:lnTo>
                <a:lnTo>
                  <a:pt x="37177" y="20200"/>
                </a:lnTo>
                <a:lnTo>
                  <a:pt x="37177" y="1400"/>
                </a:lnTo>
                <a:close/>
              </a:path>
              <a:path fill="darkenLess" w="38577" h="21600">
                <a:moveTo>
                  <a:pt x="38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177" y="20200"/>
                </a:lnTo>
                <a:close/>
              </a:path>
              <a:path fill="lighten" w="38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577" h="21600">
                <a:moveTo>
                  <a:pt x="1928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8577" h="21600">
                <a:moveTo>
                  <a:pt x="20394" y="14281"/>
                </a:moveTo>
                <a:lnTo>
                  <a:pt x="20394" y="12323"/>
                </a:lnTo>
                <a:cubicBezTo>
                  <a:pt x="20394" y="11496"/>
                  <a:pt x="20724" y="10800"/>
                  <a:pt x="21325" y="10800"/>
                </a:cubicBezTo>
                <a:cubicBezTo>
                  <a:pt x="22456" y="10800"/>
                  <a:pt x="23353" y="9434"/>
                  <a:pt x="23353" y="7849"/>
                </a:cubicBezTo>
                <a:cubicBezTo>
                  <a:pt x="23353" y="5534"/>
                  <a:pt x="21499" y="3794"/>
                  <a:pt x="19288" y="3794"/>
                </a:cubicBezTo>
                <a:cubicBezTo>
                  <a:pt x="17078" y="3794"/>
                  <a:pt x="15406" y="5534"/>
                  <a:pt x="15406" y="7849"/>
                </a:cubicBezTo>
                <a:lnTo>
                  <a:pt x="17260" y="7849"/>
                </a:lnTo>
                <a:cubicBezTo>
                  <a:pt x="17260" y="6709"/>
                  <a:pt x="18183" y="5821"/>
                  <a:pt x="19288" y="5821"/>
                </a:cubicBezTo>
                <a:cubicBezTo>
                  <a:pt x="20394" y="5821"/>
                  <a:pt x="21325" y="6709"/>
                  <a:pt x="21325" y="7849"/>
                </a:cubicBezTo>
                <a:cubicBezTo>
                  <a:pt x="21325" y="8589"/>
                  <a:pt x="20855" y="9320"/>
                  <a:pt x="20394" y="9320"/>
                </a:cubicBezTo>
                <a:cubicBezTo>
                  <a:pt x="19288" y="9320"/>
                  <a:pt x="18183" y="10800"/>
                  <a:pt x="18183" y="12323"/>
                </a:cubicBezTo>
                <a:lnTo>
                  <a:pt x="18183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2" action="ppaction://hlinksldjump"/>
          </p:cNvPr>
          <p:cNvSpPr/>
          <p:nvPr/>
        </p:nvSpPr>
        <p:spPr>
          <a:xfrm>
            <a:off x="6516720" y="2492280"/>
            <a:ext cx="576360" cy="322200"/>
          </a:xfrm>
          <a:custGeom>
            <a:avLst/>
            <a:gdLst>
              <a:gd name="textAreaLeft" fmla="*/ 20880 w 576360"/>
              <a:gd name="textAreaRight" fmla="*/ 555480 w 57636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8620" h="21600">
                <a:moveTo>
                  <a:pt x="0" y="0"/>
                </a:moveTo>
                <a:lnTo>
                  <a:pt x="38620" y="0"/>
                </a:lnTo>
                <a:lnTo>
                  <a:pt x="38620" y="21600"/>
                </a:lnTo>
                <a:lnTo>
                  <a:pt x="0" y="21600"/>
                </a:lnTo>
                <a:close/>
              </a:path>
              <a:path fill="lightenLess" w="38620" h="21600">
                <a:moveTo>
                  <a:pt x="0" y="0"/>
                </a:moveTo>
                <a:lnTo>
                  <a:pt x="38620" y="0"/>
                </a:lnTo>
                <a:lnTo>
                  <a:pt x="37220" y="1400"/>
                </a:lnTo>
                <a:lnTo>
                  <a:pt x="1400" y="1400"/>
                </a:lnTo>
                <a:close/>
              </a:path>
              <a:path fill="darken" w="38620" h="21600">
                <a:moveTo>
                  <a:pt x="38620" y="0"/>
                </a:moveTo>
                <a:lnTo>
                  <a:pt x="38620" y="21600"/>
                </a:lnTo>
                <a:lnTo>
                  <a:pt x="37220" y="20200"/>
                </a:lnTo>
                <a:lnTo>
                  <a:pt x="37220" y="1400"/>
                </a:lnTo>
                <a:close/>
              </a:path>
              <a:path fill="darkenLess" w="38620" h="21600">
                <a:moveTo>
                  <a:pt x="38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0" y="20200"/>
                </a:lnTo>
                <a:close/>
              </a:path>
              <a:path fill="lighten" w="38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0" h="21600">
                <a:moveTo>
                  <a:pt x="1931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8620" h="21600">
                <a:moveTo>
                  <a:pt x="20415" y="14281"/>
                </a:moveTo>
                <a:lnTo>
                  <a:pt x="20415" y="12323"/>
                </a:lnTo>
                <a:cubicBezTo>
                  <a:pt x="20415" y="11496"/>
                  <a:pt x="20746" y="10800"/>
                  <a:pt x="21346" y="10800"/>
                </a:cubicBezTo>
                <a:cubicBezTo>
                  <a:pt x="22478" y="10800"/>
                  <a:pt x="23374" y="9434"/>
                  <a:pt x="23374" y="7849"/>
                </a:cubicBezTo>
                <a:cubicBezTo>
                  <a:pt x="23374" y="5534"/>
                  <a:pt x="21521" y="3794"/>
                  <a:pt x="19310" y="3794"/>
                </a:cubicBezTo>
                <a:cubicBezTo>
                  <a:pt x="17099" y="3794"/>
                  <a:pt x="15428" y="5534"/>
                  <a:pt x="15428" y="7849"/>
                </a:cubicBezTo>
                <a:lnTo>
                  <a:pt x="17282" y="7849"/>
                </a:lnTo>
                <a:cubicBezTo>
                  <a:pt x="17282" y="6709"/>
                  <a:pt x="18204" y="5821"/>
                  <a:pt x="19310" y="5821"/>
                </a:cubicBezTo>
                <a:cubicBezTo>
                  <a:pt x="20415" y="5821"/>
                  <a:pt x="21346" y="6709"/>
                  <a:pt x="21346" y="7849"/>
                </a:cubicBezTo>
                <a:cubicBezTo>
                  <a:pt x="21346" y="8589"/>
                  <a:pt x="20876" y="9320"/>
                  <a:pt x="20415" y="9320"/>
                </a:cubicBezTo>
                <a:cubicBezTo>
                  <a:pt x="19310" y="9320"/>
                  <a:pt x="18204" y="10800"/>
                  <a:pt x="18204" y="12323"/>
                </a:cubicBezTo>
                <a:lnTo>
                  <a:pt x="18204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rId3" action="ppaction://hlinksldjump"/>
          </p:cNvPr>
          <p:cNvSpPr/>
          <p:nvPr/>
        </p:nvSpPr>
        <p:spPr>
          <a:xfrm>
            <a:off x="8244000" y="2997360"/>
            <a:ext cx="576000" cy="322200"/>
          </a:xfrm>
          <a:custGeom>
            <a:avLst/>
            <a:gdLst>
              <a:gd name="textAreaLeft" fmla="*/ 20880 w 576000"/>
              <a:gd name="textAreaRight" fmla="*/ 555120 w 57600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8596" h="21600">
                <a:moveTo>
                  <a:pt x="0" y="0"/>
                </a:moveTo>
                <a:lnTo>
                  <a:pt x="38596" y="0"/>
                </a:lnTo>
                <a:lnTo>
                  <a:pt x="38596" y="21600"/>
                </a:lnTo>
                <a:lnTo>
                  <a:pt x="0" y="21600"/>
                </a:lnTo>
                <a:close/>
              </a:path>
              <a:path fill="lightenLess" w="38596" h="21600">
                <a:moveTo>
                  <a:pt x="0" y="0"/>
                </a:moveTo>
                <a:lnTo>
                  <a:pt x="38596" y="0"/>
                </a:lnTo>
                <a:lnTo>
                  <a:pt x="37196" y="1400"/>
                </a:lnTo>
                <a:lnTo>
                  <a:pt x="1400" y="1400"/>
                </a:lnTo>
                <a:close/>
              </a:path>
              <a:path fill="darken" w="38596" h="21600">
                <a:moveTo>
                  <a:pt x="38596" y="0"/>
                </a:moveTo>
                <a:lnTo>
                  <a:pt x="38596" y="21600"/>
                </a:lnTo>
                <a:lnTo>
                  <a:pt x="37196" y="20200"/>
                </a:lnTo>
                <a:lnTo>
                  <a:pt x="37196" y="1400"/>
                </a:lnTo>
                <a:close/>
              </a:path>
              <a:path fill="darkenLess" w="38596" h="21600">
                <a:moveTo>
                  <a:pt x="38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196" y="20200"/>
                </a:lnTo>
                <a:close/>
              </a:path>
              <a:path fill="lighten" w="38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596" h="21600">
                <a:moveTo>
                  <a:pt x="1929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8596" h="21600">
                <a:moveTo>
                  <a:pt x="20403" y="14281"/>
                </a:moveTo>
                <a:lnTo>
                  <a:pt x="20403" y="12323"/>
                </a:lnTo>
                <a:cubicBezTo>
                  <a:pt x="20403" y="11496"/>
                  <a:pt x="20734" y="10800"/>
                  <a:pt x="21334" y="10800"/>
                </a:cubicBezTo>
                <a:cubicBezTo>
                  <a:pt x="22466" y="10800"/>
                  <a:pt x="23362" y="9434"/>
                  <a:pt x="23362" y="7849"/>
                </a:cubicBezTo>
                <a:cubicBezTo>
                  <a:pt x="23362" y="5534"/>
                  <a:pt x="21509" y="3794"/>
                  <a:pt x="19298" y="3794"/>
                </a:cubicBezTo>
                <a:cubicBezTo>
                  <a:pt x="17087" y="3794"/>
                  <a:pt x="15416" y="5534"/>
                  <a:pt x="15416" y="7849"/>
                </a:cubicBezTo>
                <a:lnTo>
                  <a:pt x="17270" y="7849"/>
                </a:lnTo>
                <a:cubicBezTo>
                  <a:pt x="17270" y="6709"/>
                  <a:pt x="18192" y="5821"/>
                  <a:pt x="19298" y="5821"/>
                </a:cubicBezTo>
                <a:cubicBezTo>
                  <a:pt x="20403" y="5821"/>
                  <a:pt x="21334" y="6709"/>
                  <a:pt x="21334" y="7849"/>
                </a:cubicBezTo>
                <a:cubicBezTo>
                  <a:pt x="21334" y="8589"/>
                  <a:pt x="20864" y="9320"/>
                  <a:pt x="20403" y="9320"/>
                </a:cubicBezTo>
                <a:cubicBezTo>
                  <a:pt x="19298" y="9320"/>
                  <a:pt x="18192" y="10800"/>
                  <a:pt x="18192" y="12323"/>
                </a:cubicBezTo>
                <a:lnTo>
                  <a:pt x="18192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rId4" action="ppaction://hlinksldjump"/>
          </p:cNvPr>
          <p:cNvSpPr/>
          <p:nvPr/>
        </p:nvSpPr>
        <p:spPr>
          <a:xfrm>
            <a:off x="8388360" y="3429000"/>
            <a:ext cx="576360" cy="322200"/>
          </a:xfrm>
          <a:custGeom>
            <a:avLst/>
            <a:gdLst>
              <a:gd name="textAreaLeft" fmla="*/ 20880 w 576360"/>
              <a:gd name="textAreaRight" fmla="*/ 555480 w 57636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8620" h="21600">
                <a:moveTo>
                  <a:pt x="0" y="0"/>
                </a:moveTo>
                <a:lnTo>
                  <a:pt x="38620" y="0"/>
                </a:lnTo>
                <a:lnTo>
                  <a:pt x="38620" y="21600"/>
                </a:lnTo>
                <a:lnTo>
                  <a:pt x="0" y="21600"/>
                </a:lnTo>
                <a:close/>
              </a:path>
              <a:path fill="lightenLess" w="38620" h="21600">
                <a:moveTo>
                  <a:pt x="0" y="0"/>
                </a:moveTo>
                <a:lnTo>
                  <a:pt x="38620" y="0"/>
                </a:lnTo>
                <a:lnTo>
                  <a:pt x="37220" y="1400"/>
                </a:lnTo>
                <a:lnTo>
                  <a:pt x="1400" y="1400"/>
                </a:lnTo>
                <a:close/>
              </a:path>
              <a:path fill="darken" w="38620" h="21600">
                <a:moveTo>
                  <a:pt x="38620" y="0"/>
                </a:moveTo>
                <a:lnTo>
                  <a:pt x="38620" y="21600"/>
                </a:lnTo>
                <a:lnTo>
                  <a:pt x="37220" y="20200"/>
                </a:lnTo>
                <a:lnTo>
                  <a:pt x="37220" y="1400"/>
                </a:lnTo>
                <a:close/>
              </a:path>
              <a:path fill="darkenLess" w="38620" h="21600">
                <a:moveTo>
                  <a:pt x="38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0" y="20200"/>
                </a:lnTo>
                <a:close/>
              </a:path>
              <a:path fill="lighten" w="38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0" h="21600">
                <a:moveTo>
                  <a:pt x="1931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8620" h="21600">
                <a:moveTo>
                  <a:pt x="20415" y="14281"/>
                </a:moveTo>
                <a:lnTo>
                  <a:pt x="20415" y="12323"/>
                </a:lnTo>
                <a:cubicBezTo>
                  <a:pt x="20415" y="11496"/>
                  <a:pt x="20746" y="10800"/>
                  <a:pt x="21346" y="10800"/>
                </a:cubicBezTo>
                <a:cubicBezTo>
                  <a:pt x="22478" y="10800"/>
                  <a:pt x="23374" y="9434"/>
                  <a:pt x="23374" y="7849"/>
                </a:cubicBezTo>
                <a:cubicBezTo>
                  <a:pt x="23374" y="5534"/>
                  <a:pt x="21521" y="3794"/>
                  <a:pt x="19310" y="3794"/>
                </a:cubicBezTo>
                <a:cubicBezTo>
                  <a:pt x="17099" y="3794"/>
                  <a:pt x="15428" y="5534"/>
                  <a:pt x="15428" y="7849"/>
                </a:cubicBezTo>
                <a:lnTo>
                  <a:pt x="17282" y="7849"/>
                </a:lnTo>
                <a:cubicBezTo>
                  <a:pt x="17282" y="6709"/>
                  <a:pt x="18204" y="5821"/>
                  <a:pt x="19310" y="5821"/>
                </a:cubicBezTo>
                <a:cubicBezTo>
                  <a:pt x="20415" y="5821"/>
                  <a:pt x="21346" y="6709"/>
                  <a:pt x="21346" y="7849"/>
                </a:cubicBezTo>
                <a:cubicBezTo>
                  <a:pt x="21346" y="8589"/>
                  <a:pt x="20876" y="9320"/>
                  <a:pt x="20415" y="9320"/>
                </a:cubicBezTo>
                <a:cubicBezTo>
                  <a:pt x="19310" y="9320"/>
                  <a:pt x="18204" y="10800"/>
                  <a:pt x="18204" y="12323"/>
                </a:cubicBezTo>
                <a:lnTo>
                  <a:pt x="18204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>
            <a:hlinkClick r:id="rId5" action="ppaction://hlinksldjump"/>
          </p:cNvPr>
          <p:cNvSpPr/>
          <p:nvPr/>
        </p:nvSpPr>
        <p:spPr>
          <a:xfrm>
            <a:off x="6300720" y="3860640"/>
            <a:ext cx="576360" cy="322560"/>
          </a:xfrm>
          <a:custGeom>
            <a:avLst/>
            <a:gdLst>
              <a:gd name="textAreaLeft" fmla="*/ 20880 w 576360"/>
              <a:gd name="textAreaRight" fmla="*/ 555480 w 576360"/>
              <a:gd name="textAreaTop" fmla="*/ 20880 h 322560"/>
              <a:gd name="textAreaBottom" fmla="*/ 301680 h 322560"/>
            </a:gdLst>
            <a:ahLst/>
            <a:rect l="textAreaLeft" t="textAreaTop" r="textAreaRight" b="textAreaBottom"/>
            <a:pathLst>
              <a:path w="38577" h="21600">
                <a:moveTo>
                  <a:pt x="0" y="0"/>
                </a:moveTo>
                <a:lnTo>
                  <a:pt x="38577" y="0"/>
                </a:lnTo>
                <a:lnTo>
                  <a:pt x="38577" y="21600"/>
                </a:lnTo>
                <a:lnTo>
                  <a:pt x="0" y="21600"/>
                </a:lnTo>
                <a:close/>
              </a:path>
              <a:path fill="lightenLess" w="38577" h="21600">
                <a:moveTo>
                  <a:pt x="0" y="0"/>
                </a:moveTo>
                <a:lnTo>
                  <a:pt x="38577" y="0"/>
                </a:lnTo>
                <a:lnTo>
                  <a:pt x="37177" y="1400"/>
                </a:lnTo>
                <a:lnTo>
                  <a:pt x="1400" y="1400"/>
                </a:lnTo>
                <a:close/>
              </a:path>
              <a:path fill="darken" w="38577" h="21600">
                <a:moveTo>
                  <a:pt x="38577" y="0"/>
                </a:moveTo>
                <a:lnTo>
                  <a:pt x="38577" y="21600"/>
                </a:lnTo>
                <a:lnTo>
                  <a:pt x="37177" y="20200"/>
                </a:lnTo>
                <a:lnTo>
                  <a:pt x="37177" y="1400"/>
                </a:lnTo>
                <a:close/>
              </a:path>
              <a:path fill="darkenLess" w="38577" h="21600">
                <a:moveTo>
                  <a:pt x="38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177" y="20200"/>
                </a:lnTo>
                <a:close/>
              </a:path>
              <a:path fill="lighten" w="38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577" h="21600">
                <a:moveTo>
                  <a:pt x="1928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8577" h="21600">
                <a:moveTo>
                  <a:pt x="20394" y="14281"/>
                </a:moveTo>
                <a:lnTo>
                  <a:pt x="20394" y="12323"/>
                </a:lnTo>
                <a:cubicBezTo>
                  <a:pt x="20394" y="11496"/>
                  <a:pt x="20724" y="10800"/>
                  <a:pt x="21325" y="10800"/>
                </a:cubicBezTo>
                <a:cubicBezTo>
                  <a:pt x="22456" y="10800"/>
                  <a:pt x="23353" y="9434"/>
                  <a:pt x="23353" y="7849"/>
                </a:cubicBezTo>
                <a:cubicBezTo>
                  <a:pt x="23353" y="5534"/>
                  <a:pt x="21499" y="3794"/>
                  <a:pt x="19288" y="3794"/>
                </a:cubicBezTo>
                <a:cubicBezTo>
                  <a:pt x="17078" y="3794"/>
                  <a:pt x="15406" y="5534"/>
                  <a:pt x="15406" y="7849"/>
                </a:cubicBezTo>
                <a:lnTo>
                  <a:pt x="17260" y="7849"/>
                </a:lnTo>
                <a:cubicBezTo>
                  <a:pt x="17260" y="6709"/>
                  <a:pt x="18183" y="5821"/>
                  <a:pt x="19288" y="5821"/>
                </a:cubicBezTo>
                <a:cubicBezTo>
                  <a:pt x="20394" y="5821"/>
                  <a:pt x="21325" y="6709"/>
                  <a:pt x="21325" y="7849"/>
                </a:cubicBezTo>
                <a:cubicBezTo>
                  <a:pt x="21325" y="8589"/>
                  <a:pt x="20855" y="9320"/>
                  <a:pt x="20394" y="9320"/>
                </a:cubicBezTo>
                <a:cubicBezTo>
                  <a:pt x="19288" y="9320"/>
                  <a:pt x="18183" y="10800"/>
                  <a:pt x="18183" y="12323"/>
                </a:cubicBezTo>
                <a:lnTo>
                  <a:pt x="18183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>
            <a:hlinkClick r:id="rId6" action="ppaction://hlinksldjump"/>
          </p:cNvPr>
          <p:cNvSpPr/>
          <p:nvPr/>
        </p:nvSpPr>
        <p:spPr>
          <a:xfrm>
            <a:off x="7885080" y="4292640"/>
            <a:ext cx="576360" cy="322200"/>
          </a:xfrm>
          <a:custGeom>
            <a:avLst/>
            <a:gdLst>
              <a:gd name="textAreaLeft" fmla="*/ 20880 w 576360"/>
              <a:gd name="textAreaRight" fmla="*/ 555480 w 57636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8620" h="21600">
                <a:moveTo>
                  <a:pt x="0" y="0"/>
                </a:moveTo>
                <a:lnTo>
                  <a:pt x="38620" y="0"/>
                </a:lnTo>
                <a:lnTo>
                  <a:pt x="38620" y="21600"/>
                </a:lnTo>
                <a:lnTo>
                  <a:pt x="0" y="21600"/>
                </a:lnTo>
                <a:close/>
              </a:path>
              <a:path fill="lightenLess" w="38620" h="21600">
                <a:moveTo>
                  <a:pt x="0" y="0"/>
                </a:moveTo>
                <a:lnTo>
                  <a:pt x="38620" y="0"/>
                </a:lnTo>
                <a:lnTo>
                  <a:pt x="37220" y="1400"/>
                </a:lnTo>
                <a:lnTo>
                  <a:pt x="1400" y="1400"/>
                </a:lnTo>
                <a:close/>
              </a:path>
              <a:path fill="darken" w="38620" h="21600">
                <a:moveTo>
                  <a:pt x="38620" y="0"/>
                </a:moveTo>
                <a:lnTo>
                  <a:pt x="38620" y="21600"/>
                </a:lnTo>
                <a:lnTo>
                  <a:pt x="37220" y="20200"/>
                </a:lnTo>
                <a:lnTo>
                  <a:pt x="37220" y="1400"/>
                </a:lnTo>
                <a:close/>
              </a:path>
              <a:path fill="darkenLess" w="38620" h="21600">
                <a:moveTo>
                  <a:pt x="38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0" y="20200"/>
                </a:lnTo>
                <a:close/>
              </a:path>
              <a:path fill="lighten" w="38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0" h="21600">
                <a:moveTo>
                  <a:pt x="1931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8620" h="21600">
                <a:moveTo>
                  <a:pt x="20415" y="14281"/>
                </a:moveTo>
                <a:lnTo>
                  <a:pt x="20415" y="12323"/>
                </a:lnTo>
                <a:cubicBezTo>
                  <a:pt x="20415" y="11496"/>
                  <a:pt x="20746" y="10800"/>
                  <a:pt x="21346" y="10800"/>
                </a:cubicBezTo>
                <a:cubicBezTo>
                  <a:pt x="22478" y="10800"/>
                  <a:pt x="23374" y="9434"/>
                  <a:pt x="23374" y="7849"/>
                </a:cubicBezTo>
                <a:cubicBezTo>
                  <a:pt x="23374" y="5534"/>
                  <a:pt x="21521" y="3794"/>
                  <a:pt x="19310" y="3794"/>
                </a:cubicBezTo>
                <a:cubicBezTo>
                  <a:pt x="17099" y="3794"/>
                  <a:pt x="15428" y="5534"/>
                  <a:pt x="15428" y="7849"/>
                </a:cubicBezTo>
                <a:lnTo>
                  <a:pt x="17282" y="7849"/>
                </a:lnTo>
                <a:cubicBezTo>
                  <a:pt x="17282" y="6709"/>
                  <a:pt x="18204" y="5821"/>
                  <a:pt x="19310" y="5821"/>
                </a:cubicBezTo>
                <a:cubicBezTo>
                  <a:pt x="20415" y="5821"/>
                  <a:pt x="21346" y="6709"/>
                  <a:pt x="21346" y="7849"/>
                </a:cubicBezTo>
                <a:cubicBezTo>
                  <a:pt x="21346" y="8589"/>
                  <a:pt x="20876" y="9320"/>
                  <a:pt x="20415" y="9320"/>
                </a:cubicBezTo>
                <a:cubicBezTo>
                  <a:pt x="19310" y="9320"/>
                  <a:pt x="18204" y="10800"/>
                  <a:pt x="18204" y="12323"/>
                </a:cubicBezTo>
                <a:lnTo>
                  <a:pt x="18204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rId7" action="ppaction://hlinksldjump"/>
          </p:cNvPr>
          <p:cNvSpPr/>
          <p:nvPr/>
        </p:nvSpPr>
        <p:spPr>
          <a:xfrm>
            <a:off x="6732720" y="4724280"/>
            <a:ext cx="576000" cy="322560"/>
          </a:xfrm>
          <a:custGeom>
            <a:avLst/>
            <a:gdLst>
              <a:gd name="textAreaLeft" fmla="*/ 20880 w 576000"/>
              <a:gd name="textAreaRight" fmla="*/ 555120 w 576000"/>
              <a:gd name="textAreaTop" fmla="*/ 20880 h 322560"/>
              <a:gd name="textAreaBottom" fmla="*/ 301680 h 322560"/>
            </a:gdLst>
            <a:ahLst/>
            <a:rect l="textAreaLeft" t="textAreaTop" r="textAreaRight" b="textAreaBottom"/>
            <a:pathLst>
              <a:path w="38553" h="21600">
                <a:moveTo>
                  <a:pt x="0" y="0"/>
                </a:moveTo>
                <a:lnTo>
                  <a:pt x="38553" y="0"/>
                </a:lnTo>
                <a:lnTo>
                  <a:pt x="38553" y="21600"/>
                </a:lnTo>
                <a:lnTo>
                  <a:pt x="0" y="21600"/>
                </a:lnTo>
                <a:close/>
              </a:path>
              <a:path fill="lightenLess" w="38553" h="21600">
                <a:moveTo>
                  <a:pt x="0" y="0"/>
                </a:moveTo>
                <a:lnTo>
                  <a:pt x="38553" y="0"/>
                </a:lnTo>
                <a:lnTo>
                  <a:pt x="37153" y="1400"/>
                </a:lnTo>
                <a:lnTo>
                  <a:pt x="1400" y="1400"/>
                </a:lnTo>
                <a:close/>
              </a:path>
              <a:path fill="darken" w="38553" h="21600">
                <a:moveTo>
                  <a:pt x="38553" y="0"/>
                </a:moveTo>
                <a:lnTo>
                  <a:pt x="38553" y="21600"/>
                </a:lnTo>
                <a:lnTo>
                  <a:pt x="37153" y="20200"/>
                </a:lnTo>
                <a:lnTo>
                  <a:pt x="37153" y="1400"/>
                </a:lnTo>
                <a:close/>
              </a:path>
              <a:path fill="darkenLess" w="38553" h="21600">
                <a:moveTo>
                  <a:pt x="385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153" y="20200"/>
                </a:lnTo>
                <a:close/>
              </a:path>
              <a:path fill="lighten" w="385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553" h="21600">
                <a:moveTo>
                  <a:pt x="1927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8553" h="21600">
                <a:moveTo>
                  <a:pt x="20382" y="14281"/>
                </a:moveTo>
                <a:lnTo>
                  <a:pt x="20382" y="12323"/>
                </a:lnTo>
                <a:cubicBezTo>
                  <a:pt x="20382" y="11496"/>
                  <a:pt x="20712" y="10800"/>
                  <a:pt x="21313" y="10800"/>
                </a:cubicBezTo>
                <a:cubicBezTo>
                  <a:pt x="22444" y="10800"/>
                  <a:pt x="23341" y="9434"/>
                  <a:pt x="23341" y="7849"/>
                </a:cubicBezTo>
                <a:cubicBezTo>
                  <a:pt x="23341" y="5534"/>
                  <a:pt x="21487" y="3794"/>
                  <a:pt x="19276" y="3794"/>
                </a:cubicBezTo>
                <a:cubicBezTo>
                  <a:pt x="17066" y="3794"/>
                  <a:pt x="15394" y="5534"/>
                  <a:pt x="15394" y="7849"/>
                </a:cubicBezTo>
                <a:lnTo>
                  <a:pt x="17248" y="7849"/>
                </a:lnTo>
                <a:cubicBezTo>
                  <a:pt x="17248" y="6709"/>
                  <a:pt x="18171" y="5821"/>
                  <a:pt x="19276" y="5821"/>
                </a:cubicBezTo>
                <a:cubicBezTo>
                  <a:pt x="20382" y="5821"/>
                  <a:pt x="21313" y="6709"/>
                  <a:pt x="21313" y="7849"/>
                </a:cubicBezTo>
                <a:cubicBezTo>
                  <a:pt x="21313" y="8589"/>
                  <a:pt x="20843" y="9320"/>
                  <a:pt x="20382" y="9320"/>
                </a:cubicBezTo>
                <a:cubicBezTo>
                  <a:pt x="19276" y="9320"/>
                  <a:pt x="18171" y="10800"/>
                  <a:pt x="18171" y="12323"/>
                </a:cubicBezTo>
                <a:lnTo>
                  <a:pt x="18171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>
            <a:hlinkClick r:id="rId8" action="ppaction://hlinksldjump"/>
          </p:cNvPr>
          <p:cNvSpPr/>
          <p:nvPr/>
        </p:nvSpPr>
        <p:spPr>
          <a:xfrm>
            <a:off x="4572000" y="5157720"/>
            <a:ext cx="576360" cy="322200"/>
          </a:xfrm>
          <a:custGeom>
            <a:avLst/>
            <a:gdLst>
              <a:gd name="textAreaLeft" fmla="*/ 20880 w 576360"/>
              <a:gd name="textAreaRight" fmla="*/ 555480 w 57636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8620" h="21600">
                <a:moveTo>
                  <a:pt x="0" y="0"/>
                </a:moveTo>
                <a:lnTo>
                  <a:pt x="38620" y="0"/>
                </a:lnTo>
                <a:lnTo>
                  <a:pt x="38620" y="21600"/>
                </a:lnTo>
                <a:lnTo>
                  <a:pt x="0" y="21600"/>
                </a:lnTo>
                <a:close/>
              </a:path>
              <a:path fill="lightenLess" w="38620" h="21600">
                <a:moveTo>
                  <a:pt x="0" y="0"/>
                </a:moveTo>
                <a:lnTo>
                  <a:pt x="38620" y="0"/>
                </a:lnTo>
                <a:lnTo>
                  <a:pt x="37220" y="1400"/>
                </a:lnTo>
                <a:lnTo>
                  <a:pt x="1400" y="1400"/>
                </a:lnTo>
                <a:close/>
              </a:path>
              <a:path fill="darken" w="38620" h="21600">
                <a:moveTo>
                  <a:pt x="38620" y="0"/>
                </a:moveTo>
                <a:lnTo>
                  <a:pt x="38620" y="21600"/>
                </a:lnTo>
                <a:lnTo>
                  <a:pt x="37220" y="20200"/>
                </a:lnTo>
                <a:lnTo>
                  <a:pt x="37220" y="1400"/>
                </a:lnTo>
                <a:close/>
              </a:path>
              <a:path fill="darkenLess" w="38620" h="21600">
                <a:moveTo>
                  <a:pt x="38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0" y="20200"/>
                </a:lnTo>
                <a:close/>
              </a:path>
              <a:path fill="lighten" w="38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0" h="21600">
                <a:moveTo>
                  <a:pt x="1931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8620" h="21600">
                <a:moveTo>
                  <a:pt x="20415" y="14281"/>
                </a:moveTo>
                <a:lnTo>
                  <a:pt x="20415" y="12323"/>
                </a:lnTo>
                <a:cubicBezTo>
                  <a:pt x="20415" y="11496"/>
                  <a:pt x="20746" y="10800"/>
                  <a:pt x="21346" y="10800"/>
                </a:cubicBezTo>
                <a:cubicBezTo>
                  <a:pt x="22478" y="10800"/>
                  <a:pt x="23374" y="9434"/>
                  <a:pt x="23374" y="7849"/>
                </a:cubicBezTo>
                <a:cubicBezTo>
                  <a:pt x="23374" y="5534"/>
                  <a:pt x="21521" y="3794"/>
                  <a:pt x="19310" y="3794"/>
                </a:cubicBezTo>
                <a:cubicBezTo>
                  <a:pt x="17099" y="3794"/>
                  <a:pt x="15428" y="5534"/>
                  <a:pt x="15428" y="7849"/>
                </a:cubicBezTo>
                <a:lnTo>
                  <a:pt x="17282" y="7849"/>
                </a:lnTo>
                <a:cubicBezTo>
                  <a:pt x="17282" y="6709"/>
                  <a:pt x="18204" y="5821"/>
                  <a:pt x="19310" y="5821"/>
                </a:cubicBezTo>
                <a:cubicBezTo>
                  <a:pt x="20415" y="5821"/>
                  <a:pt x="21346" y="6709"/>
                  <a:pt x="21346" y="7849"/>
                </a:cubicBezTo>
                <a:cubicBezTo>
                  <a:pt x="21346" y="8589"/>
                  <a:pt x="20876" y="9320"/>
                  <a:pt x="20415" y="9320"/>
                </a:cubicBezTo>
                <a:cubicBezTo>
                  <a:pt x="19310" y="9320"/>
                  <a:pt x="18204" y="10800"/>
                  <a:pt x="18204" y="12323"/>
                </a:cubicBezTo>
                <a:lnTo>
                  <a:pt x="18204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>
            <a:hlinkClick r:id="rId9" action="ppaction://hlinksldjump"/>
          </p:cNvPr>
          <p:cNvSpPr/>
          <p:nvPr/>
        </p:nvSpPr>
        <p:spPr>
          <a:xfrm>
            <a:off x="6804000" y="5589720"/>
            <a:ext cx="576360" cy="322200"/>
          </a:xfrm>
          <a:custGeom>
            <a:avLst/>
            <a:gdLst>
              <a:gd name="textAreaLeft" fmla="*/ 20880 w 576360"/>
              <a:gd name="textAreaRight" fmla="*/ 555480 w 57636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8620" h="21600">
                <a:moveTo>
                  <a:pt x="0" y="0"/>
                </a:moveTo>
                <a:lnTo>
                  <a:pt x="38620" y="0"/>
                </a:lnTo>
                <a:lnTo>
                  <a:pt x="38620" y="21600"/>
                </a:lnTo>
                <a:lnTo>
                  <a:pt x="0" y="21600"/>
                </a:lnTo>
                <a:close/>
              </a:path>
              <a:path fill="lightenLess" w="38620" h="21600">
                <a:moveTo>
                  <a:pt x="0" y="0"/>
                </a:moveTo>
                <a:lnTo>
                  <a:pt x="38620" y="0"/>
                </a:lnTo>
                <a:lnTo>
                  <a:pt x="37220" y="1400"/>
                </a:lnTo>
                <a:lnTo>
                  <a:pt x="1400" y="1400"/>
                </a:lnTo>
                <a:close/>
              </a:path>
              <a:path fill="darken" w="38620" h="21600">
                <a:moveTo>
                  <a:pt x="38620" y="0"/>
                </a:moveTo>
                <a:lnTo>
                  <a:pt x="38620" y="21600"/>
                </a:lnTo>
                <a:lnTo>
                  <a:pt x="37220" y="20200"/>
                </a:lnTo>
                <a:lnTo>
                  <a:pt x="37220" y="1400"/>
                </a:lnTo>
                <a:close/>
              </a:path>
              <a:path fill="darkenLess" w="38620" h="21600">
                <a:moveTo>
                  <a:pt x="38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0" y="20200"/>
                </a:lnTo>
                <a:close/>
              </a:path>
              <a:path fill="lighten" w="38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0" h="21600">
                <a:moveTo>
                  <a:pt x="1931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8620" h="21600">
                <a:moveTo>
                  <a:pt x="20415" y="14281"/>
                </a:moveTo>
                <a:lnTo>
                  <a:pt x="20415" y="12323"/>
                </a:lnTo>
                <a:cubicBezTo>
                  <a:pt x="20415" y="11496"/>
                  <a:pt x="20746" y="10800"/>
                  <a:pt x="21346" y="10800"/>
                </a:cubicBezTo>
                <a:cubicBezTo>
                  <a:pt x="22478" y="10800"/>
                  <a:pt x="23374" y="9434"/>
                  <a:pt x="23374" y="7849"/>
                </a:cubicBezTo>
                <a:cubicBezTo>
                  <a:pt x="23374" y="5534"/>
                  <a:pt x="21521" y="3794"/>
                  <a:pt x="19310" y="3794"/>
                </a:cubicBezTo>
                <a:cubicBezTo>
                  <a:pt x="17099" y="3794"/>
                  <a:pt x="15428" y="5534"/>
                  <a:pt x="15428" y="7849"/>
                </a:cubicBezTo>
                <a:lnTo>
                  <a:pt x="17282" y="7849"/>
                </a:lnTo>
                <a:cubicBezTo>
                  <a:pt x="17282" y="6709"/>
                  <a:pt x="18204" y="5821"/>
                  <a:pt x="19310" y="5821"/>
                </a:cubicBezTo>
                <a:cubicBezTo>
                  <a:pt x="20415" y="5821"/>
                  <a:pt x="21346" y="6709"/>
                  <a:pt x="21346" y="7849"/>
                </a:cubicBezTo>
                <a:cubicBezTo>
                  <a:pt x="21346" y="8589"/>
                  <a:pt x="20876" y="9320"/>
                  <a:pt x="20415" y="9320"/>
                </a:cubicBezTo>
                <a:cubicBezTo>
                  <a:pt x="19310" y="9320"/>
                  <a:pt x="18204" y="10800"/>
                  <a:pt x="18204" y="12323"/>
                </a:cubicBezTo>
                <a:lnTo>
                  <a:pt x="18204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rId10" action="ppaction://hlinksldjump"/>
          </p:cNvPr>
          <p:cNvSpPr/>
          <p:nvPr/>
        </p:nvSpPr>
        <p:spPr>
          <a:xfrm>
            <a:off x="5435640" y="2133720"/>
            <a:ext cx="576360" cy="322200"/>
          </a:xfrm>
          <a:custGeom>
            <a:avLst/>
            <a:gdLst>
              <a:gd name="textAreaLeft" fmla="*/ 20880 w 576360"/>
              <a:gd name="textAreaRight" fmla="*/ 555480 w 57636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8620" h="21600">
                <a:moveTo>
                  <a:pt x="0" y="0"/>
                </a:moveTo>
                <a:lnTo>
                  <a:pt x="38620" y="0"/>
                </a:lnTo>
                <a:lnTo>
                  <a:pt x="38620" y="21600"/>
                </a:lnTo>
                <a:lnTo>
                  <a:pt x="0" y="21600"/>
                </a:lnTo>
                <a:close/>
              </a:path>
              <a:path fill="lightenLess" w="38620" h="21600">
                <a:moveTo>
                  <a:pt x="0" y="0"/>
                </a:moveTo>
                <a:lnTo>
                  <a:pt x="38620" y="0"/>
                </a:lnTo>
                <a:lnTo>
                  <a:pt x="37220" y="1400"/>
                </a:lnTo>
                <a:lnTo>
                  <a:pt x="1400" y="1400"/>
                </a:lnTo>
                <a:close/>
              </a:path>
              <a:path fill="darken" w="38620" h="21600">
                <a:moveTo>
                  <a:pt x="38620" y="0"/>
                </a:moveTo>
                <a:lnTo>
                  <a:pt x="38620" y="21600"/>
                </a:lnTo>
                <a:lnTo>
                  <a:pt x="37220" y="20200"/>
                </a:lnTo>
                <a:lnTo>
                  <a:pt x="37220" y="1400"/>
                </a:lnTo>
                <a:close/>
              </a:path>
              <a:path fill="darkenLess" w="38620" h="21600">
                <a:moveTo>
                  <a:pt x="38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0" y="20200"/>
                </a:lnTo>
                <a:close/>
              </a:path>
              <a:path fill="lighten" w="38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0" h="21600">
                <a:moveTo>
                  <a:pt x="1931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8620" h="21600">
                <a:moveTo>
                  <a:pt x="20415" y="14281"/>
                </a:moveTo>
                <a:lnTo>
                  <a:pt x="20415" y="12323"/>
                </a:lnTo>
                <a:cubicBezTo>
                  <a:pt x="20415" y="11496"/>
                  <a:pt x="20746" y="10800"/>
                  <a:pt x="21346" y="10800"/>
                </a:cubicBezTo>
                <a:cubicBezTo>
                  <a:pt x="22478" y="10800"/>
                  <a:pt x="23374" y="9434"/>
                  <a:pt x="23374" y="7849"/>
                </a:cubicBezTo>
                <a:cubicBezTo>
                  <a:pt x="23374" y="5534"/>
                  <a:pt x="21521" y="3794"/>
                  <a:pt x="19310" y="3794"/>
                </a:cubicBezTo>
                <a:cubicBezTo>
                  <a:pt x="17099" y="3794"/>
                  <a:pt x="15428" y="5534"/>
                  <a:pt x="15428" y="7849"/>
                </a:cubicBezTo>
                <a:lnTo>
                  <a:pt x="17282" y="7849"/>
                </a:lnTo>
                <a:cubicBezTo>
                  <a:pt x="17282" y="6709"/>
                  <a:pt x="18204" y="5821"/>
                  <a:pt x="19310" y="5821"/>
                </a:cubicBezTo>
                <a:cubicBezTo>
                  <a:pt x="20415" y="5821"/>
                  <a:pt x="21346" y="6709"/>
                  <a:pt x="21346" y="7849"/>
                </a:cubicBezTo>
                <a:cubicBezTo>
                  <a:pt x="21346" y="8589"/>
                  <a:pt x="20876" y="9320"/>
                  <a:pt x="20415" y="9320"/>
                </a:cubicBezTo>
                <a:cubicBezTo>
                  <a:pt x="19310" y="9320"/>
                  <a:pt x="18204" y="10800"/>
                  <a:pt x="18204" y="12323"/>
                </a:cubicBezTo>
                <a:lnTo>
                  <a:pt x="18204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9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ог не выдаст, свинья не съест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>
            <a:hlinkClick r:id="rId2" action="ppaction://hlinksldjump"/>
          </p:cNvPr>
          <p:cNvSpPr/>
          <p:nvPr/>
        </p:nvSpPr>
        <p:spPr>
          <a:xfrm>
            <a:off x="2509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едность – не порок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>
            <a:hlinkClick r:id="rId2" action="ppaction://hlinksldjump"/>
          </p:cNvPr>
          <p:cNvSpPr/>
          <p:nvPr/>
        </p:nvSpPr>
        <p:spPr>
          <a:xfrm>
            <a:off x="2509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мную голову почитают смолоду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>
            <a:hlinkClick r:id="rId2" action="ppaction://hlinksldjump"/>
          </p:cNvPr>
          <p:cNvSpPr/>
          <p:nvPr/>
        </p:nvSpPr>
        <p:spPr>
          <a:xfrm>
            <a:off x="2509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арёному коню в зубы не смотрят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rId2" action="ppaction://hlinksldjump"/>
          </p:cNvPr>
          <p:cNvSpPr/>
          <p:nvPr/>
        </p:nvSpPr>
        <p:spPr>
          <a:xfrm>
            <a:off x="2509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аленькое дело лучше большого безделья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rId2" action="ppaction://hlinksldjump"/>
          </p:cNvPr>
          <p:cNvSpPr/>
          <p:nvPr/>
        </p:nvSpPr>
        <p:spPr>
          <a:xfrm>
            <a:off x="2509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воя рубашка ближе к телу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>
            <a:hlinkClick r:id="rId2" action="ppaction://hlinksldjump"/>
          </p:cNvPr>
          <p:cNvSpPr/>
          <p:nvPr/>
        </p:nvSpPr>
        <p:spPr>
          <a:xfrm>
            <a:off x="2509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ппетит приходит во время ед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2509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ело мастера боится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rId2" action="ppaction://hlinksldjump"/>
          </p:cNvPr>
          <p:cNvSpPr/>
          <p:nvPr/>
        </p:nvSpPr>
        <p:spPr>
          <a:xfrm>
            <a:off x="2509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ежачего не бьют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rId2" action="ppaction://hlinksldjump"/>
          </p:cNvPr>
          <p:cNvSpPr/>
          <p:nvPr/>
        </p:nvSpPr>
        <p:spPr>
          <a:xfrm>
            <a:off x="2509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07:02:15Z</dcterms:created>
  <dc:creator>завуч</dc:creator>
  <dc:description/>
  <dc:language>en-US</dc:language>
  <cp:lastModifiedBy>Proffi</cp:lastModifiedBy>
  <dcterms:modified xsi:type="dcterms:W3CDTF">2008-01-16T13:21:06Z</dcterms:modified>
  <cp:revision>4</cp:revision>
  <dc:subject/>
  <dc:title>Конкурсная интерактивная игра:</dc:title>
</cp:coreProperties>
</file>