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AB7-45C6-4BA7-8571-7440D01C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8B8-FE05-4C98-B0D3-2BD0BACB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B6F-F79D-47A2-BE6D-2B96EAFE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6FC-17DE-4E0A-A6B1-61D06D4F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4BD-5EA4-4566-862A-6BC73E06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7431-32A4-438F-8374-48AA044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0C2E-C547-415B-90A7-50C35CFC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F126-ED0A-48E9-B41F-8C44E75A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E051-3486-47FA-9F2E-8EF1E781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2FEE-17DE-4D3D-A531-8BDB01C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0BEF-E58F-4ECB-B777-F683E87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D9C-1139-47A5-AE5D-4168186E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CA86-1074-468B-B458-D83555E9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F4E1-2EF7-4458-B18C-0F831379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DC49-9E34-417A-814A-131EC527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B41-7D07-4105-AAB0-6B8C3662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1555-878B-4D3A-B888-3400364A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0F6E-306B-4B38-BBFF-20594DFD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27C8-9E44-482D-A158-2AA61065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B367-3756-4FC8-9ACD-3D5553D3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9AF2-990E-4A1D-B9A7-A3548A77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CA8C-1AAE-47D6-B51E-39356B6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CF7-8A57-4850-8F98-D80483EE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D698-9812-48ED-8F5A-3EEDDBD8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475F-6276-4E05-BE04-B049D4FF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7323B-AA81-4117-BCEC-899CD8FA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C27A-F03D-4BE8-A3E6-0224E01D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81B9-560A-4ED5-ACA8-6B087C68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A465-B5D3-49A1-9A5F-C4F00239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2206-14EA-4DDC-A88D-979F9B00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AD526-413E-4DCD-AF60-C415AA15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187E-532E-4CF9-A1F5-A1144DA3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FEC9-2A63-4A8C-991D-ABB2DF3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EB9-9B5C-4367-B8C9-2D905E56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5C71-DF5B-47F5-A18B-9A56A554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215C-8ECB-48AF-9007-8E380CD3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93906-7390-4F8B-9661-23AA869D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7B582-BB31-490C-BF67-861D6C40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64767-DB2F-4A9B-844E-51238A3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0028-E018-45E5-B3A1-98DEFD50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B955-2A5C-4C52-8C15-91D4FBD0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E60B-0342-442C-ACB3-EE14F629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78CF6-6524-4E0B-9157-9C388007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3F9C-9103-4DC9-9268-E58E488A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EC2-800F-4A08-A161-91B0EE69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D7F2B-B0AC-4E05-866B-638FCE68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4BC5-8629-4032-804B-107B783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C4F3-8C94-40DE-88F2-6ADEF1E1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0B96-FF43-464B-B84E-FEF3509B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18EA2-9257-42B4-A331-6C7E91E6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53DAC-58FF-4AEC-A07B-5BF5971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82E87-499D-40B6-A9C9-BCF624D4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DC51-3765-41EE-9D31-3B81EDA8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84D64-6503-4938-BB8C-CC543500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37539-5820-46C0-A26D-64C1D8DF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7B6-617D-49CB-A268-1F008CC1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C0139-1447-49ED-A96E-A2AFACD9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A8D52-F458-4B2C-9E56-019DA9FB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4CCA9-2041-4DA5-9E1F-91C6C0DD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345E-1664-43AC-9CCE-E87D319F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E79B-D7A1-4D77-B2EC-3EEBE252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63683-AD78-4EC6-8422-8013543E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C1E7B-CC1C-4760-91D4-26A7253E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2A193-592F-4046-8568-8F3A2E22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FB76-5821-4D0E-A20A-BFFE907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742C0-508B-46D3-B2F3-6888B474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731-89FE-4A09-B87A-915D25A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A6C92-5ED3-489F-8BAB-0D769E57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C2BBB-FE77-4DD7-AE6E-B920CA13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ACBB3-FC02-404E-B00E-F4CBC911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C7841-E1D3-417C-8744-1009247D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C7369-739C-4133-871F-14AFABA1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025E2-FF70-40B2-82FE-39896A68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2B97C-9D1C-4074-9127-5AEA1101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83B99-DB7F-4CB3-93F1-5C5476CC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1332F-A591-4F75-9E62-3E40C8A1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EFF88-A64B-4E03-B206-A3C45142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744-2A43-4785-AF82-DE4DBD17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62301-D4FD-494D-8F57-1770D1E2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2ACEA-436D-43F2-80AC-7E395C1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C915B-0E86-40A9-877D-0ECE6CD0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23D5F-CAEB-4350-8C49-45670688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635FF-2842-47A4-AD98-3DC6604B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5EB-409D-49D0-ACE6-326B752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3934-96CD-4001-A8A0-0EEBC0CCBD3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9470-3F04-46C7-BF76-CF32B61072D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562D-FD5D-47D2-A34D-EBB889AE10A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119B-FFA4-4668-B4C0-89C2F720985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854E-601F-40B5-8C0C-0DCAE60BA10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5DCC-7A9B-483D-81E8-D832D7C1850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C9D-E8D3-436F-8ADC-C3AC96CD2BB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Семейный альбом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00120" y="4572000"/>
            <a:ext cx="7354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Работу выполнила ученица 8 класса Тарасова Юлиан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Преподаватель: Цветцих Любовь Эдуард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23540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Это я !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000080" y="1571400"/>
            <a:ext cx="5926320" cy="450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Я родилась в городе Омске. В 2 годи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Переехала жить к бабушке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с дедушкой. Сейчас мне 13 лет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D:\ФОТО\Все подряд)))\я малявка)).jpg"/>
          <p:cNvPicPr/>
          <p:nvPr/>
        </p:nvPicPr>
        <p:blipFill>
          <a:blip r:embed="rId2"/>
          <a:srcRect l="44313" t="26697" r="4641" b="0"/>
          <a:stretch/>
        </p:blipFill>
        <p:spPr>
          <a:xfrm>
            <a:off x="7429680" y="285840"/>
            <a:ext cx="1571400" cy="3368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D:\ФОТО\Все подряд)))\я в платьеоранжевом...jpg"/>
          <p:cNvPicPr/>
          <p:nvPr/>
        </p:nvPicPr>
        <p:blipFill>
          <a:blip r:embed="rId3"/>
          <a:srcRect l="13815" t="0" r="9549" b="0"/>
          <a:stretch/>
        </p:blipFill>
        <p:spPr>
          <a:xfrm>
            <a:off x="5929200" y="2428920"/>
            <a:ext cx="1928880" cy="3643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D:\ФОТО\Все подряд)))\IMG_5120.jpg"/>
          <p:cNvPicPr/>
          <p:nvPr/>
        </p:nvPicPr>
        <p:blipFill>
          <a:blip r:embed="rId4"/>
          <a:srcRect l="0" t="0" r="0" b="4168"/>
          <a:stretch/>
        </p:blipFill>
        <p:spPr>
          <a:xfrm>
            <a:off x="3643200" y="3286080"/>
            <a:ext cx="2286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ой прадедушка, Свириденко Семен Михайлович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й прадедушка родился в 19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 году 6 января в Омской области Русскополянского района сел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ноусовк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 Закончил 7 лет школы. В 1944 году был призван в армию. Служил в Дальневосточном флоте. Их корабль обезвреживал мины  в Японском море и Тихом океане. В родное село мой прадедушка вернулся в 1951 году. Имеет боевые награды. Он  занесен в красную книгу в Русскополянском музее боевой славы.  Я очень горжусь своим прадедом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ой дедушка, Свириденко Александр Семенович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85520" y="1447920"/>
            <a:ext cx="5351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одился в Казахстане Рудник Бестюбе Акмоленской области в1953 году. В 1970 году закончил Русскополянскую среднюю школу №2. За добросовестный труд фотография моего дедушки висит на районной доске почет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5" descr="D:\ФОТО\Первое сентября\{Юl¡@nk@}079.jpg"/>
          <p:cNvPicPr/>
          <p:nvPr/>
        </p:nvPicPr>
        <p:blipFill>
          <a:blip r:embed="rId2"/>
          <a:stretch/>
        </p:blipFill>
        <p:spPr>
          <a:xfrm>
            <a:off x="6000840" y="1500120"/>
            <a:ext cx="2894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Моя мамочка, Тарасова Людмила Александровна.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я мама родилась в 1979 году в городе Омске. Закончила Омскую среднюю школу №52 в 1996. Закончила ОмГУ отделение хим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E:\Юлиана\IMG_5183.jpg"/>
          <p:cNvPicPr/>
          <p:nvPr/>
        </p:nvPicPr>
        <p:blipFill>
          <a:blip r:embed="rId2"/>
          <a:stretch/>
        </p:blipFill>
        <p:spPr>
          <a:xfrm>
            <a:off x="1714680" y="3714840"/>
            <a:ext cx="3965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Бабушка, Свириденко Ольга Максимовн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214280" y="1590840"/>
            <a:ext cx="54943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С моей бабушкой я живу уже с 2-х лет. Бабушка Оля самая лучшая бабушка на свете. Она совершенно разбирается во всем,  разносторонний человек. Она помогает мне решать мои проблемы, я ей тоже помогла осваивать Интернет. Она очень вкусно готовит. Мы с дедом Сашей за ней как за каменной стеной. Я помогаю ей убираться по дому. Она очень любит играть на компьютере. И легко переводит текст с  английского языка. У моей бабушки 2 сына. Один живет в Омске, а другой в Америке. Я люблю свою бабулю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C:\Documents and Settings\Uliana\Рабочий стол\Изображение.jpg"/>
          <p:cNvPicPr/>
          <p:nvPr/>
        </p:nvPicPr>
        <p:blipFill>
          <a:blip r:embed="rId2"/>
          <a:srcRect l="59009" t="2007" r="0" b="50795"/>
          <a:stretch/>
        </p:blipFill>
        <p:spPr>
          <a:xfrm>
            <a:off x="6858000" y="1643040"/>
            <a:ext cx="2165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ашний</cp:lastModifiedBy>
  <dcterms:modified xsi:type="dcterms:W3CDTF">2009-12-05T15:51:29Z</dcterms:modified>
  <cp:revision>15</cp:revision>
  <dc:subject/>
  <dc:title>Семейный альбом</dc:title>
</cp:coreProperties>
</file>