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F8C2-F03E-4FBB-90F7-3B2EA2A01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83B8-323A-4807-8E69-30D38D45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68C6-E7DD-4EEB-8689-101044367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A9AA-256D-4DD4-9E06-0279286B5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00C4-BCB0-47CC-A56E-48E8B9D8E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10A5B-5D62-4DD7-9B6B-04E19A24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1579-ADD2-44DE-A8C5-EB1D34C7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94CC8-5B5B-4AA4-9492-FFF12AC7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19BD-72CF-4F44-AD28-FFF94164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B68A-0972-4F53-ADED-D6FA0DBD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B668-F1F2-419F-9373-6BC6A6E8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A89A-E42B-4578-966F-52C54AF4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ADBD-902C-494F-B718-0460E26E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177A-F905-42D6-8791-39690948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3777-4F99-4862-B798-6041E9B0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CEE6B-1D0C-4377-8CE4-50535A8F6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210F-0533-47D8-A80F-4A97C1490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BFB8D-77E3-423D-9E05-A4F5E0DB8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46455-7D51-4A36-BB09-E2202ABD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C7984-BBD7-44A4-8149-EC6C0C72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18A21-9F0D-41A2-A952-BBF03E0B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66013-9512-40BD-A911-85770240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3A5D-92C9-42CB-A872-97D61BD2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6577D-0DF0-4647-BD69-E6B1A707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486A3-CF83-49F3-9DB7-6CAB9DDD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A01B4-B8CD-473F-83EC-C2F7ECB2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79251-0309-41F7-8D4D-754CF556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B212C-FB9F-48BC-8C66-1738CFFA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0F0DF-1C84-48E3-B448-BC2340A51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3785A-61C8-4346-AD47-C70A9A538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BA7A1-4AAF-4BDF-8743-3784D8D72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8059A-9534-4A7B-AAE5-085114A1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8059C-9B59-41DA-840C-6DAB80A7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7525-EE9B-481E-A552-5FE38A90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A2C5A-BA96-43C0-919F-C434CDAA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9790E-8829-4BF7-B466-9042D063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5834D-C5AB-430F-867F-19C55BF5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2BCA4-3AD1-4129-9E4E-7DBF2273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E1BD5-B753-48A5-9319-C2F5A0E8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1530D-5469-4AF9-B5A8-9A06C2FC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8CBB1-5207-4D82-AC08-8C9D347F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E5E8D-B02D-429D-8718-81F0BB48E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6879B-B1D3-4F49-8E3A-63C3A0556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EA47C-A431-4813-B9F7-3CC509619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B5AE-3440-45B8-9856-96796193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E4255-9C3E-4C28-A241-6D38CFE2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DDD22-00EF-4AA2-88B9-1687AFB6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FE9CE-1E5D-4D25-A344-10245026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DCA31-1DC1-4D4A-AD1C-529F60BE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BE4F8-C4DC-427D-B152-65B856DC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2F5E8-C848-4E12-953C-1E781E95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06D53-D19B-4875-B3C5-37DF0F1C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46374-1B5A-4736-AC8E-546552DE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59B36-A689-4138-A5C5-3C973119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11ACF-61AB-4AB7-8D21-5D1EF7008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0B52-98A7-49EF-9CAF-75F69710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02812-BB0D-4796-8614-AEC2F6F80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69B5F-ECF9-4628-B73B-D72602094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34E22-B545-48FC-A46B-19C7E6CA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5B5D2-CF9C-4F18-8255-A309B591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2E50F-431F-4B5E-8F6E-BE0E08A7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2291D-48B6-4D58-8F29-5F26E3AA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4DC87-EDBF-493A-B6D3-AD170385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D3420-E968-419F-9714-42731D09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82AFC-4604-47AD-AA9A-5D30FD94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F9E19-DA57-4110-8E3A-DDB9E70C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9333-FA53-4A96-AF31-4A158A7F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CEFD7-49F9-457D-933E-062F485F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81AB4-38CB-4BBC-B4C3-BB6D6EEDD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669A9-97F1-4543-863C-7CC5F8053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423FC-6B4A-4F6A-9013-59B791B36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017A6-3896-4E94-ABF3-94C5218D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5E2DD-741E-4205-966D-1448FD7C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DC71E-AD9A-4470-8CBF-E14E77DD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1C2D5-E58A-4DEA-A57E-9B238B2D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D3C26-614D-461A-83DD-E46CA15B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B61B7-7856-4FFE-B015-C2298168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553A-9750-476E-8241-D5394072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C0E88-0FC6-4D78-B2E9-061B2643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15207-5AE5-4101-A081-C53F3B7C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FCF30-9E52-4A4D-BE8A-D593370B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E2DDC-E7AA-4BA0-9B60-F8D2EAD15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6B5B9-35B2-46EF-A3C3-B133F6C69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4C62-00AD-409D-8ACF-5043DD0C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114C-4C6C-43CB-AF60-0AAB20D73130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03D6-FC4E-4722-922C-7437C345436C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B49D-69C7-4A61-8B04-5736BD8AE75F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860E-E1AB-4769-AFCD-674F0574B473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B7D2-F634-4F31-A0CE-9E936D3525AF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CE6E-32A4-46FA-8D18-C9BED46E1068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8185-CE9D-482D-9F71-61350C065B19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Wingdings"/>
                <a:ea typeface="Wingdings"/>
              </a:rPr>
              <a:t></a:t>
            </a: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Семейный альбом</a:t>
            </a:r>
            <a:r>
              <a:rPr b="0" lang="en-US" sz="4300" spc="-1" strike="noStrike">
                <a:solidFill>
                  <a:srgbClr val="572314"/>
                </a:solidFill>
                <a:latin typeface="Wingdings"/>
                <a:ea typeface="Wingdings"/>
              </a:rPr>
              <a:t>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500120" y="4572000"/>
            <a:ext cx="735480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Corbel"/>
              </a:rPr>
              <a:t>Работу выполнила ученица 8 класса Тарасова Юлиана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Corbel"/>
              </a:rPr>
              <a:t>Преподаватель: Цветцих Любовь Эдуардовна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28480" y="0"/>
            <a:ext cx="235404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Это я !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000080" y="1571400"/>
            <a:ext cx="5926320" cy="4500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Corbel"/>
              </a:rPr>
              <a:t>Я родилась в городе Омске. В 2 годика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Corbel"/>
              </a:rPr>
              <a:t>Переехала жить к бабушке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Corbel"/>
              </a:rPr>
              <a:t>с дедушкой. Сейчас мне 13 лет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2" name="Picture 2" descr="D:\ФОТО\Все подряд)))\я малявка)).jpg"/>
          <p:cNvPicPr/>
          <p:nvPr/>
        </p:nvPicPr>
        <p:blipFill>
          <a:blip r:embed="rId2"/>
          <a:srcRect l="44313" t="26697" r="4641" b="0"/>
          <a:stretch/>
        </p:blipFill>
        <p:spPr>
          <a:xfrm>
            <a:off x="7429680" y="285840"/>
            <a:ext cx="1571400" cy="33685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" descr="D:\ФОТО\Все подряд)))\я в платьеоранжевом...jpg"/>
          <p:cNvPicPr/>
          <p:nvPr/>
        </p:nvPicPr>
        <p:blipFill>
          <a:blip r:embed="rId3"/>
          <a:srcRect l="13815" t="0" r="9549" b="0"/>
          <a:stretch/>
        </p:blipFill>
        <p:spPr>
          <a:xfrm>
            <a:off x="5929200" y="2428920"/>
            <a:ext cx="1928880" cy="36432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D:\ФОТО\Все подряд)))\IMG_5120.jpg"/>
          <p:cNvPicPr/>
          <p:nvPr/>
        </p:nvPicPr>
        <p:blipFill>
          <a:blip r:embed="rId4"/>
          <a:srcRect l="0" t="0" r="0" b="4168"/>
          <a:stretch/>
        </p:blipFill>
        <p:spPr>
          <a:xfrm>
            <a:off x="3643200" y="3286080"/>
            <a:ext cx="22860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Мой прадедушка, Свириденко Семен Михайлович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Мой прадедушка родился в 19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7 году 6 января в Омской области Русскополянского района село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рноусовка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. Закончил 7 лет школы. В 1944 году был призван в армию. Служил в Дальневосточном флоте. Их корабль обезвреживал мины  в Японском море и Тихом океане. В родное село мой прадедушка вернулся в 1951 году. Имеет боевые награды. Он  занесен в красную книгу в Русскополянском музее боевой славы.  Я очень горжусь своим прадедом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Мой дедушка, Свириденко Александр Семенович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85520" y="1447920"/>
            <a:ext cx="5351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Родился в Казахстане Рудник Бестюбе Акмоленской области в1953 году. В 1970 году закончил Русскополянскую среднюю школу №2. За добросовестный труд фотография моего дедушки висит на районной доске почета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Picture 5" descr="D:\ФОТО\Первое сентября\{Юl¡@nk@}079.jpg"/>
          <p:cNvPicPr/>
          <p:nvPr/>
        </p:nvPicPr>
        <p:blipFill>
          <a:blip r:embed="rId2"/>
          <a:stretch/>
        </p:blipFill>
        <p:spPr>
          <a:xfrm>
            <a:off x="6000840" y="1500120"/>
            <a:ext cx="28940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Моя мамочка, Тарасова Людмила Александровна.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оя мама родилась в 1979 году в городе Омске. Закончила Омскую среднюю школу №52 в 1996. Закончила ОмГУ отделение химия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Picture 4" descr="E:\Юлиана\IMG_5183.jpg"/>
          <p:cNvPicPr/>
          <p:nvPr/>
        </p:nvPicPr>
        <p:blipFill>
          <a:blip r:embed="rId2"/>
          <a:stretch/>
        </p:blipFill>
        <p:spPr>
          <a:xfrm>
            <a:off x="1714680" y="3714840"/>
            <a:ext cx="39654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Бабушка, Свириденко Ольга Максимовн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214280" y="1590840"/>
            <a:ext cx="549432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С моей бабушкой я живу уже с 2-х лет. Бабушка Оля самая лучшая бабушка на свете. Она совершенно разбирается во всем,  разносторонний человек. Она помогает мне решать мои проблемы, я ей тоже помогла осваивать Интернет. Она очень вкусно готовит. Мы с дедом Сашей за ней как за каменной стеной. Я помогаю ей убираться по дому. Она очень любит играть на компьютере. И легко переводит текст с  английского языка. У моей бабушки 2 сына. Один живет в Омске, а другой в Америке. Я люблю свою бабулю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5" name="Picture 2" descr="C:\Documents and Settings\Uliana\Рабочий стол\Изображение.jpg"/>
          <p:cNvPicPr/>
          <p:nvPr/>
        </p:nvPicPr>
        <p:blipFill>
          <a:blip r:embed="rId2"/>
          <a:srcRect l="59009" t="2007" r="0" b="50795"/>
          <a:stretch/>
        </p:blipFill>
        <p:spPr>
          <a:xfrm>
            <a:off x="6858000" y="1643040"/>
            <a:ext cx="2165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ашний</cp:lastModifiedBy>
  <dcterms:modified xsi:type="dcterms:W3CDTF">2009-12-05T15:51:29Z</dcterms:modified>
  <cp:revision>15</cp:revision>
  <dc:subject/>
  <dc:title>Семейный альбом</dc:title>
</cp:coreProperties>
</file>