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047-EA25-4D40-90B8-1F71ACA1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B392-E06C-4530-854D-6BEA05EC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07A-1152-4A9B-8906-F4F0C8F8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CAE7-2A29-4F6D-925A-5B79111D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2794-AEFF-40BA-94CB-60F4C361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E4A-A867-44B7-982D-0789C71A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783-B22A-4553-A441-3D77030E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BA7-784C-46BB-A938-F3BD71E2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F991-56E2-4B1F-B435-C480E2D4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22CD-ED47-4595-B0AC-A51B2270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961-CD35-43D4-9210-F3E85CF2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15A-3EF2-424C-882C-82B99C0F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7BCF-0D51-4832-9AEB-DC5A24554B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solidFill>
            <a:srgbClr val="009999"/>
          </a:solidFill>
          <a:ln w="936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НОВОГОДНЯЯ</a:t>
            </a:r>
            <a:br>
              <a:rPr sz="6600"/>
            </a:b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ШИШ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шишка из бум 012"/>
          <p:cNvPicPr/>
          <p:nvPr/>
        </p:nvPicPr>
        <p:blipFill>
          <a:blip r:embed="rId1"/>
          <a:stretch/>
        </p:blipFill>
        <p:spPr>
          <a:xfrm>
            <a:off x="838080" y="3352680"/>
            <a:ext cx="24228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шишка из бум 009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шишка из бум 010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шишка из бум 011"/>
          <p:cNvPicPr/>
          <p:nvPr/>
        </p:nvPicPr>
        <p:blipFill>
          <a:blip r:embed="rId1"/>
          <a:stretch/>
        </p:blipFill>
        <p:spPr>
          <a:xfrm>
            <a:off x="1903320" y="304920"/>
            <a:ext cx="436572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шишка из бум 00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шишка из бум 002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шишка из бум 003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шишка из бум 004"/>
          <p:cNvPicPr/>
          <p:nvPr/>
        </p:nvPicPr>
        <p:blipFill>
          <a:blip r:embed="rId1"/>
          <a:stretch/>
        </p:blipFill>
        <p:spPr>
          <a:xfrm>
            <a:off x="1600200" y="15238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шишка из бум 00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шишка из бум 006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шишка из бум 007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шишка из бум 00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1-14T06:37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