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D4A-7750-4FC2-B63C-C32F6B3E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7A3-4A6D-4789-9686-45EB5461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BDE-E475-4FA8-A8AF-2AB4E47C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83F-2F41-4492-A3E3-D09A72A0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161-67CE-40EF-9C8D-CEEB7400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391-CC62-4478-B13F-687C306B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997-627D-4FF6-8E20-7569E6B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58F-355B-4D19-ABC8-59DBD29D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A7F-8698-4DFC-9356-034AB876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C11-4364-4617-9903-6A470102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CA3-E5A9-446C-9266-6044655D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F66-7BA2-4922-BC14-7D25458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C07E-7635-45D6-8129-586F4B415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НОВОГОДНЯЯ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ШИШ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шишка из бум 012"/>
          <p:cNvPicPr/>
          <p:nvPr/>
        </p:nvPicPr>
        <p:blipFill>
          <a:blip r:embed="rId1"/>
          <a:stretch/>
        </p:blipFill>
        <p:spPr>
          <a:xfrm>
            <a:off x="838080" y="3352680"/>
            <a:ext cx="2422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шишка из бум 00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ишка из бум 01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шишка из бум 011"/>
          <p:cNvPicPr/>
          <p:nvPr/>
        </p:nvPicPr>
        <p:blipFill>
          <a:blip r:embed="rId1"/>
          <a:stretch/>
        </p:blipFill>
        <p:spPr>
          <a:xfrm>
            <a:off x="1903320" y="304920"/>
            <a:ext cx="43657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шишка из бум 00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шишка из бум 00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шишка из бум 00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шишка из бум 004"/>
          <p:cNvPicPr/>
          <p:nvPr/>
        </p:nvPicPr>
        <p:blipFill>
          <a:blip r:embed="rId1"/>
          <a:stretch/>
        </p:blipFill>
        <p:spPr>
          <a:xfrm>
            <a:off x="1600200" y="15238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шишка из бум 00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шишка из бум 00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шишка из бум 007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шишка из бум 00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14T06:37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