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166-6881-4C3A-8CCC-AE121E32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84D-9100-486D-A8C1-5250A00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E80-916D-4ADF-B835-A1B29A96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E3D-6E8C-428F-BD65-F2541E11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F60-EBF9-444D-83B7-7735287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BEA-D663-49CA-BC9A-577A770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C02-DF13-49A7-AC45-79F426C1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841-B228-4827-B6B7-CB3E75A8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ED9-B15F-4F3A-BC94-BFBD8140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D9E-49CE-4274-9FCA-5D145E2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5D3-B11B-4772-9599-038451B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627-F51C-4DC5-8A02-97EB0A9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B3B-8D0A-4C1C-B456-577D702DC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b0f0"/>
                </a:solidFill>
                <a:latin typeface="Calibri"/>
              </a:rPr>
              <a:t>НЕБЕСНЫЕ СТРАНН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2857320"/>
            <a:ext cx="785808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ыполнил: ученик 2 класса Сомов Никол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МБОУ СОШ с. Шереметьев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Лысогорского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аратовск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Руководитель: Софьин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Обла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 воздухе всегда находятся водяные пары, но мы их не видим. Если водяной пар попадает в холодные слои воздуха, то он превращается в ледяные кристаллы или водяные капли. Скапливаясь, они образуют обл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4214880" y="4759200"/>
            <a:ext cx="11653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акие бывают обл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лака образуются на разной высоте. В солнечный день высоко в небе можно увидеть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еристы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облака. Они похожи на перья 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перистые.jpg"/>
          <p:cNvPicPr/>
          <p:nvPr/>
        </p:nvPicPr>
        <p:blipFill>
          <a:blip r:embed="rId1"/>
          <a:stretch/>
        </p:blipFill>
        <p:spPr>
          <a:xfrm>
            <a:off x="4406760" y="4218120"/>
            <a:ext cx="2889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иже проплывают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учевые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лака, которые напоминают снежные г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кучевые.jpg"/>
          <p:cNvPicPr/>
          <p:nvPr/>
        </p:nvPicPr>
        <p:blipFill>
          <a:blip r:embed="rId1"/>
          <a:stretch/>
        </p:blipFill>
        <p:spPr>
          <a:xfrm>
            <a:off x="4048200" y="3986280"/>
            <a:ext cx="2833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 в пасмурный день всё небо покрывают серые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лоисты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облака. Они висят низко над зем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слоистые.jpg"/>
          <p:cNvPicPr/>
          <p:nvPr/>
        </p:nvPicPr>
        <p:blipFill>
          <a:blip r:embed="rId1"/>
          <a:stretch/>
        </p:blipFill>
        <p:spPr>
          <a:xfrm>
            <a:off x="3760920" y="3919680"/>
            <a:ext cx="32367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огда облака сгущаются и становятся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розовой тучей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огда они рассеиваются и исчез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грозовые тучи.png"/>
          <p:cNvPicPr/>
          <p:nvPr/>
        </p:nvPicPr>
        <p:blipFill>
          <a:blip r:embed="rId1"/>
          <a:stretch/>
        </p:blipFill>
        <p:spPr>
          <a:xfrm>
            <a:off x="4334040" y="3713040"/>
            <a:ext cx="3682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Я люблю наблюдать за появлением облаков и изменением их ф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111.jpeg"/>
          <p:cNvPicPr/>
          <p:nvPr/>
        </p:nvPicPr>
        <p:blipFill>
          <a:blip r:embed="rId1"/>
          <a:stretch/>
        </p:blipFill>
        <p:spPr>
          <a:xfrm>
            <a:off x="3621240" y="3809880"/>
            <a:ext cx="34257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1:12:22Z</dcterms:created>
  <dc:creator>A.Klein</dc:creator>
  <dc:description/>
  <dc:language>en-US</dc:language>
  <cp:lastModifiedBy>Диман</cp:lastModifiedBy>
  <dcterms:modified xsi:type="dcterms:W3CDTF">2013-01-14T11:07:18Z</dcterms:modified>
  <cp:revision>16</cp:revision>
  <dc:subject/>
  <dc:title>Слайд 1</dc:title>
</cp:coreProperties>
</file>