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846B-DCB4-4B0F-8611-5929BE78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18A-0BF8-4A00-B679-430A0938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5354-1E81-4BF1-B470-52BC6E5E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9C8-B002-4952-A07B-A6D4526B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3BF-0157-4612-9BA1-6C2E9987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5C2E-163C-4F47-8C19-47714145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E8D-A4B4-4D27-BB79-103D5F8A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197-F9D6-4D35-8E70-90750E49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6B0-45C6-4AFB-A814-511B9F75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B5C-C5BC-4897-8B22-BC6CBAED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0E9-C82C-42D7-9024-37C78BAE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EE3-0AE3-435C-8C35-995795AE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ECBD-9446-42F0-B8F4-952F8A995A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00b0f0"/>
                </a:solidFill>
                <a:latin typeface="Calibri"/>
              </a:rPr>
              <a:t>НЕБЕСНЫЕ СТРАННИ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960" y="2857320"/>
            <a:ext cx="7858080" cy="27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ыполнил: ученик 2 класса Сомов Никол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МБОУ СОШ с. Шереметьев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Лысогорского рай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                 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Саратовской обл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Руководитель: Софьина Татьяна Анатол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Calibri"/>
              </a:rPr>
              <a:t>Обла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В воздухе всегда находятся водяные пары, но мы их не видим. Если водяной пар попадает в холодные слои воздуха, то он превращается в ледяные кристаллы или водяные капли. Скапливаясь, они образуют обла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C:\Program Files\Microsoft Office\MEDIA\CAGCAT10\j0293828.wmf"/>
          <p:cNvPicPr/>
          <p:nvPr/>
        </p:nvPicPr>
        <p:blipFill>
          <a:blip r:embed="rId1"/>
          <a:stretch/>
        </p:blipFill>
        <p:spPr>
          <a:xfrm>
            <a:off x="4214880" y="4759200"/>
            <a:ext cx="116532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Какие бывают обла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блака образуются на разной высоте. В солнечный день высоко в небе можно увидеть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перистые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облака. Они похожи на перья пти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перистые.jpg"/>
          <p:cNvPicPr/>
          <p:nvPr/>
        </p:nvPicPr>
        <p:blipFill>
          <a:blip r:embed="rId1"/>
          <a:stretch/>
        </p:blipFill>
        <p:spPr>
          <a:xfrm>
            <a:off x="4406760" y="4218120"/>
            <a:ext cx="288936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Ниже проплывают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кучевые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блака, которые напоминают снежные го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кучевые.jpg"/>
          <p:cNvPicPr/>
          <p:nvPr/>
        </p:nvPicPr>
        <p:blipFill>
          <a:blip r:embed="rId1"/>
          <a:stretch/>
        </p:blipFill>
        <p:spPr>
          <a:xfrm>
            <a:off x="4048200" y="3986280"/>
            <a:ext cx="283356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 в пасмурный день всё небо покрывают серые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лоистые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облака. Они висят низко над зем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слоистые.jpg"/>
          <p:cNvPicPr/>
          <p:nvPr/>
        </p:nvPicPr>
        <p:blipFill>
          <a:blip r:embed="rId1"/>
          <a:stretch/>
        </p:blipFill>
        <p:spPr>
          <a:xfrm>
            <a:off x="3760920" y="3919680"/>
            <a:ext cx="323676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ногда облака сгущаются и становятся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грозовой тучей.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ногда они рассеиваются и исчезаю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грозовые тучи.png"/>
          <p:cNvPicPr/>
          <p:nvPr/>
        </p:nvPicPr>
        <p:blipFill>
          <a:blip r:embed="rId1"/>
          <a:stretch/>
        </p:blipFill>
        <p:spPr>
          <a:xfrm>
            <a:off x="4334040" y="3713040"/>
            <a:ext cx="36828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3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Я люблю наблюдать за появлением облаков и изменением их фор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111.jpeg"/>
          <p:cNvPicPr/>
          <p:nvPr/>
        </p:nvPicPr>
        <p:blipFill>
          <a:blip r:embed="rId1"/>
          <a:stretch/>
        </p:blipFill>
        <p:spPr>
          <a:xfrm>
            <a:off x="3621240" y="3809880"/>
            <a:ext cx="34257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11:12:22Z</dcterms:created>
  <dc:creator>A.Klein</dc:creator>
  <dc:description/>
  <dc:language>en-US</dc:language>
  <cp:lastModifiedBy>Диман</cp:lastModifiedBy>
  <dcterms:modified xsi:type="dcterms:W3CDTF">2013-01-14T11:07:18Z</dcterms:modified>
  <cp:revision>16</cp:revision>
  <dc:subject/>
  <dc:title>Слайд 1</dc:title>
</cp:coreProperties>
</file>