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12.png" ContentType="image/png"/>
  <Override PartName="/ppt/media/image2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2.gif" ContentType="image/gif"/>
  <Override PartName="/ppt/media/image25.png" ContentType="image/png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B46-3CD1-4932-B67B-ADA2774E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DCD-97E6-4D22-9B93-6AACAD4C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026-AF96-4D1A-B8C5-B2F9866D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23B-46EB-40B6-BE7B-F9E5498B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428-2996-4514-A137-FA475051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A6E-08B3-4C10-A002-8C4C7870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BB0-9C44-4F1A-BB8C-55F8283B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F8A-93FC-4F54-ADFF-67FF7658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43B-6331-419F-AC7C-1446EA45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514-5B3F-45D0-8EAE-6E9BBC8B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905-CEC3-4EB5-A36B-DD40E649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D98-C32E-49F0-9CEC-8F9CF62F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EB9F-A0BD-46BA-B61B-4915E66584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cdolls118.gif"/>
          <p:cNvPicPr/>
          <p:nvPr/>
        </p:nvPicPr>
        <p:blipFill>
          <a:blip r:embed="rId1"/>
          <a:stretch/>
        </p:blipFill>
        <p:spPr>
          <a:xfrm>
            <a:off x="68400" y="47556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989080" y="5013360"/>
            <a:ext cx="381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БОУ СОШ №1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зкова Ольга Юр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124000" y="915840"/>
            <a:ext cx="55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вонкие и глух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гласные на конц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133080" y="306864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урок рус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во 2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5" descr="CA46RORW"/>
          <p:cNvPicPr/>
          <p:nvPr/>
        </p:nvPicPr>
        <p:blipFill>
          <a:blip r:embed="rId1"/>
          <a:stretch/>
        </p:blipFill>
        <p:spPr>
          <a:xfrm>
            <a:off x="6588000" y="3860640"/>
            <a:ext cx="2303640" cy="273528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304920" y="237960"/>
            <a:ext cx="8972280" cy="74952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9" descr=""/>
          <p:cNvPicPr/>
          <p:nvPr/>
        </p:nvPicPr>
        <p:blipFill>
          <a:blip r:embed="rId3"/>
          <a:stretch/>
        </p:blipFill>
        <p:spPr>
          <a:xfrm>
            <a:off x="450720" y="1249200"/>
            <a:ext cx="732168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http://go4.imgsmail.ru/imgpreview?key=http%3A//4.bp.blogspot.com/-cSa3wOr47dE/TZTA3CGTcAI/AAAAAAAACpE/yDtODZeecSE/s1600/58434809%5F27256318%5Fart%5Fvetton%5Fru%5F783.jpg&amp;mb=imgdb_preview_92"/>
          <p:cNvPicPr/>
          <p:nvPr/>
        </p:nvPicPr>
        <p:blipFill>
          <a:blip r:embed="rId1"/>
          <a:stretch/>
        </p:blipFill>
        <p:spPr>
          <a:xfrm>
            <a:off x="6588000" y="189000"/>
            <a:ext cx="2305080" cy="18414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" descr=""/>
          <p:cNvPicPr/>
          <p:nvPr/>
        </p:nvPicPr>
        <p:blipFill>
          <a:blip r:embed="rId2"/>
          <a:stretch/>
        </p:blipFill>
        <p:spPr>
          <a:xfrm>
            <a:off x="781200" y="438120"/>
            <a:ext cx="4260600" cy="8240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3" descr=""/>
          <p:cNvPicPr/>
          <p:nvPr/>
        </p:nvPicPr>
        <p:blipFill>
          <a:blip r:embed="rId3"/>
          <a:stretch/>
        </p:blipFill>
        <p:spPr>
          <a:xfrm>
            <a:off x="384120" y="1743120"/>
            <a:ext cx="7278840" cy="23526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6" descr=""/>
          <p:cNvPicPr/>
          <p:nvPr/>
        </p:nvPicPr>
        <p:blipFill>
          <a:blip r:embed="rId4"/>
          <a:stretch/>
        </p:blipFill>
        <p:spPr>
          <a:xfrm>
            <a:off x="212760" y="4359240"/>
            <a:ext cx="7731000" cy="865080"/>
          </a:xfrm>
          <a:prstGeom prst="rect">
            <a:avLst/>
          </a:prstGeom>
          <a:ln w="0">
            <a:noFill/>
          </a:ln>
        </p:spPr>
      </p:pic>
      <p:sp>
        <p:nvSpPr>
          <p:cNvPr id="105" name="Овал 7"/>
          <p:cNvSpPr/>
          <p:nvPr/>
        </p:nvSpPr>
        <p:spPr>
          <a:xfrm>
            <a:off x="8101080" y="4292640"/>
            <a:ext cx="718920" cy="72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8"/>
          <p:cNvSpPr/>
          <p:nvPr/>
        </p:nvSpPr>
        <p:spPr>
          <a:xfrm>
            <a:off x="8101080" y="5084640"/>
            <a:ext cx="718920" cy="720720"/>
          </a:xfrm>
          <a:prstGeom prst="ellipse">
            <a:avLst/>
          </a:prstGeom>
          <a:solidFill>
            <a:srgbClr val="3366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9"/>
          <p:cNvSpPr/>
          <p:nvPr/>
        </p:nvSpPr>
        <p:spPr>
          <a:xfrm>
            <a:off x="8101080" y="5877000"/>
            <a:ext cx="718920" cy="720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255600" y="165240"/>
            <a:ext cx="868032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539640" y="1052640"/>
          <a:ext cx="8209080" cy="5554440"/>
        </p:xfrm>
        <a:graphic>
          <a:graphicData uri="http://schemas.openxmlformats.org/drawingml/2006/table">
            <a:tbl>
              <a:tblPr/>
              <a:tblGrid>
                <a:gridCol w="3916440"/>
                <a:gridCol w="1482840"/>
                <a:gridCol w="1216080"/>
                <a:gridCol w="1593720"/>
              </a:tblGrid>
              <a:tr h="137160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е свою работу на уроке с помощью цветовых сигналов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л в полную сил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л хорош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г работать луч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</a:t>
                      </a: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знаю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арные согласные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</a:t>
                      </a: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виж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арные согласные на конце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64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</a:t>
                      </a: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умею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дбирать проверочные слов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Oval 8"/>
          <p:cNvSpPr/>
          <p:nvPr/>
        </p:nvSpPr>
        <p:spPr>
          <a:xfrm>
            <a:off x="6443640" y="2997360"/>
            <a:ext cx="406440" cy="34272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4932360" y="2997360"/>
            <a:ext cx="406440" cy="3427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7667640" y="2997360"/>
            <a:ext cx="406440" cy="342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5003640" y="4292640"/>
            <a:ext cx="406440" cy="3427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6443640" y="4221000"/>
            <a:ext cx="406440" cy="34308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"/>
          <p:cNvSpPr/>
          <p:nvPr/>
        </p:nvSpPr>
        <p:spPr>
          <a:xfrm>
            <a:off x="7740720" y="4292640"/>
            <a:ext cx="406440" cy="342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5003640" y="5661000"/>
            <a:ext cx="406440" cy="343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"/>
          <p:cNvSpPr/>
          <p:nvPr/>
        </p:nvSpPr>
        <p:spPr>
          <a:xfrm>
            <a:off x="6443640" y="5661000"/>
            <a:ext cx="406440" cy="34308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"/>
          <p:cNvSpPr/>
          <p:nvPr/>
        </p:nvSpPr>
        <p:spPr>
          <a:xfrm>
            <a:off x="7740720" y="5661000"/>
            <a:ext cx="406440" cy="3430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378000"/>
            <a:ext cx="7437240" cy="109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&amp;Ocy;&amp;tcy;&amp;kcy;&amp;rcy;&amp;ycy;&amp;tcy;&amp;kcy;&amp;acy; &amp;tscy;&amp;vcy;&amp;iecy;&amp;tcy;&amp;ycy; - 43fdae481cce - "/>
          <p:cNvPicPr/>
          <p:nvPr/>
        </p:nvPicPr>
        <p:blipFill>
          <a:blip r:embed="rId2"/>
          <a:stretch/>
        </p:blipFill>
        <p:spPr>
          <a:xfrm>
            <a:off x="2484360" y="1700280"/>
            <a:ext cx="438156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1" descr=""/>
          <p:cNvPicPr/>
          <p:nvPr/>
        </p:nvPicPr>
        <p:blipFill>
          <a:blip r:embed="rId1"/>
          <a:stretch/>
        </p:blipFill>
        <p:spPr>
          <a:xfrm>
            <a:off x="-79200" y="2779560"/>
            <a:ext cx="9289800" cy="1073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im7-tub-ru.yandex.net/i?id=430980540-48-72&amp;n=21"/>
          <p:cNvPicPr/>
          <p:nvPr/>
        </p:nvPicPr>
        <p:blipFill>
          <a:blip r:embed="rId2"/>
          <a:stretch/>
        </p:blipFill>
        <p:spPr>
          <a:xfrm>
            <a:off x="6443640" y="549360"/>
            <a:ext cx="201600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022400" y="692280"/>
            <a:ext cx="69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Красивыми цветами запестрел лу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[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к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]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116000" y="187308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На грядке вы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539960" y="1863720"/>
            <a:ext cx="12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лу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[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к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]</a:t>
            </a: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7215840" y="3705120"/>
            <a:ext cx="752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лу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1910520" y="3699000"/>
            <a:ext cx="782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лу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735720" y="2954160"/>
            <a:ext cx="83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[</a:t>
            </a: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к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5295960" y="2500200"/>
            <a:ext cx="4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Arial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 flipV="1">
            <a:off x="4726080" y="3230640"/>
            <a:ext cx="396720" cy="17928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4726080" y="3443400"/>
            <a:ext cx="396720" cy="17928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8" descr="http://www.tumentoday.ru/wp-content/uploads/2011/03/35-15-1.jpg"/>
          <p:cNvPicPr/>
          <p:nvPr/>
        </p:nvPicPr>
        <p:blipFill>
          <a:blip r:embed="rId1"/>
          <a:stretch/>
        </p:blipFill>
        <p:spPr>
          <a:xfrm>
            <a:off x="927000" y="4503600"/>
            <a:ext cx="2951280" cy="2159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http://s52.radikal.ru/i136/1007/c7/570e59de0ad4t.jpg"/>
          <p:cNvPicPr/>
          <p:nvPr/>
        </p:nvPicPr>
        <p:blipFill>
          <a:blip r:embed="rId2"/>
          <a:stretch/>
        </p:blipFill>
        <p:spPr>
          <a:xfrm>
            <a:off x="5940360" y="4641840"/>
            <a:ext cx="27558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684360" y="2060640"/>
            <a:ext cx="770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набор инструкций, описывающих порядок действий исполнителя для достижения результата решения задачи за конечное число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2" descr=""/>
          <p:cNvPicPr/>
          <p:nvPr/>
        </p:nvPicPr>
        <p:blipFill>
          <a:blip r:embed="rId1"/>
          <a:stretch/>
        </p:blipFill>
        <p:spPr>
          <a:xfrm>
            <a:off x="433440" y="128520"/>
            <a:ext cx="7991280" cy="118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im7-tub-ru.yandex.net/i?id=430980540-48-72&amp;n=21"/>
          <p:cNvPicPr/>
          <p:nvPr/>
        </p:nvPicPr>
        <p:blipFill>
          <a:blip r:embed="rId2"/>
          <a:stretch/>
        </p:blipFill>
        <p:spPr>
          <a:xfrm>
            <a:off x="6300720" y="4437000"/>
            <a:ext cx="172728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2" descr="http://im3-tub-ru.yandex.net/i?id=414344067-50-72&amp;n=21"/>
          <p:cNvPicPr/>
          <p:nvPr/>
        </p:nvPicPr>
        <p:blipFill>
          <a:blip r:embed="rId1"/>
          <a:stretch/>
        </p:blipFill>
        <p:spPr>
          <a:xfrm>
            <a:off x="6732720" y="4941720"/>
            <a:ext cx="1790640" cy="14288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285840"/>
            <a:ext cx="7547040" cy="51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http://im3-tub-ru.yandex.net/i?id=414344067-50-72&amp;n=21"/>
          <p:cNvPicPr/>
          <p:nvPr/>
        </p:nvPicPr>
        <p:blipFill>
          <a:blip r:embed="rId3"/>
          <a:stretch/>
        </p:blipFill>
        <p:spPr>
          <a:xfrm>
            <a:off x="3687840" y="4941720"/>
            <a:ext cx="179064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http://im3-tub-ru.yandex.net/i?id=414344067-50-72&amp;n=21"/>
          <p:cNvPicPr/>
          <p:nvPr/>
        </p:nvPicPr>
        <p:blipFill>
          <a:blip r:embed="rId4"/>
          <a:stretch/>
        </p:blipFill>
        <p:spPr>
          <a:xfrm>
            <a:off x="539640" y="4941720"/>
            <a:ext cx="1790640" cy="14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523880" y="1397160"/>
          <a:ext cx="6096240" cy="741240"/>
        </p:xfrm>
        <a:graphic>
          <a:graphicData uri="http://schemas.openxmlformats.org/drawingml/2006/table">
            <a:tbl>
              <a:tblPr/>
              <a:tblGrid>
                <a:gridCol w="887400"/>
                <a:gridCol w="5208840"/>
              </a:tblGrid>
              <a:tr h="74124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ловуш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обрать проверочное слово, чтобы на проверяемую гласную падало удар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535040" y="2189160"/>
          <a:ext cx="6096240" cy="374760"/>
        </p:xfrm>
        <a:graphic>
          <a:graphicData uri="http://schemas.openxmlformats.org/drawingml/2006/table">
            <a:tbl>
              <a:tblPr/>
              <a:tblGrid>
                <a:gridCol w="816120"/>
                <a:gridCol w="5280120"/>
              </a:tblGrid>
              <a:tr h="37476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авнить проверочное и проверяемое сло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535040" y="2693880"/>
          <a:ext cx="6096240" cy="374760"/>
        </p:xfrm>
        <a:graphic>
          <a:graphicData uri="http://schemas.openxmlformats.org/drawingml/2006/table">
            <a:tbl>
              <a:tblPr/>
              <a:tblGrid>
                <a:gridCol w="816120"/>
                <a:gridCol w="5280120"/>
              </a:tblGrid>
              <a:tr h="37476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видеть слово с парным согласным на конц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535040" y="3141720"/>
          <a:ext cx="6096240" cy="374760"/>
        </p:xfrm>
        <a:graphic>
          <a:graphicData uri="http://schemas.openxmlformats.org/drawingml/2006/table">
            <a:tbl>
              <a:tblPr/>
              <a:tblGrid>
                <a:gridCol w="816120"/>
                <a:gridCol w="5280120"/>
              </a:tblGrid>
              <a:tr h="37476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черкнуть орфограмм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535040" y="3562200"/>
          <a:ext cx="6096240" cy="374760"/>
        </p:xfrm>
        <a:graphic>
          <a:graphicData uri="http://schemas.openxmlformats.org/drawingml/2006/table">
            <a:tbl>
              <a:tblPr/>
              <a:tblGrid>
                <a:gridCol w="816120"/>
                <a:gridCol w="5280120"/>
              </a:tblGrid>
              <a:tr h="374760">
                <a:tc>
                  <a:txBody>
                    <a:bodyPr lIns="68760" rIns="687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обрать проверочное сло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8dc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282680" y="404640"/>
            <a:ext cx="646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Arial"/>
              </a:rPr>
              <a:t>Алгоритм проверки на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ff"/>
                </a:solidFill>
                <a:latin typeface="Arial"/>
              </a:rPr>
              <a:t>парных согласных на конц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7-tub-ru.yandex.net/i?id=430980540-48-72&amp;n=21"/>
          <p:cNvPicPr/>
          <p:nvPr/>
        </p:nvPicPr>
        <p:blipFill>
          <a:blip r:embed="rId1"/>
          <a:stretch/>
        </p:blipFill>
        <p:spPr>
          <a:xfrm>
            <a:off x="7308720" y="4869000"/>
            <a:ext cx="1727280" cy="18651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116000" y="1916280"/>
            <a:ext cx="7704000" cy="459720"/>
          </a:xfrm>
          <a:prstGeom prst="rect">
            <a:avLst/>
          </a:prstGeom>
          <a:noFill/>
          <a:ln w="324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Увидеть слово с парным согласным на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1108080" y="4221000"/>
            <a:ext cx="7705800" cy="459720"/>
          </a:xfrm>
          <a:prstGeom prst="rect">
            <a:avLst/>
          </a:prstGeom>
          <a:noFill/>
          <a:ln w="936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Подчеркнуть орфогра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8"/>
          <p:cNvSpPr/>
          <p:nvPr/>
        </p:nvSpPr>
        <p:spPr>
          <a:xfrm>
            <a:off x="1100160" y="3459240"/>
            <a:ext cx="7705800" cy="459720"/>
          </a:xfrm>
          <a:prstGeom prst="rect">
            <a:avLst/>
          </a:prstGeom>
          <a:noFill/>
          <a:ln w="936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Сравнить проверочное и проверяемо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9"/>
          <p:cNvSpPr/>
          <p:nvPr/>
        </p:nvSpPr>
        <p:spPr>
          <a:xfrm>
            <a:off x="1087560" y="2692440"/>
            <a:ext cx="7705440" cy="459720"/>
          </a:xfrm>
          <a:prstGeom prst="rect">
            <a:avLst/>
          </a:prstGeom>
          <a:noFill/>
          <a:ln w="9360">
            <a:solidFill>
              <a:srgbClr val="8dc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Подобрать проверочное сл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7" descr=""/>
          <p:cNvPicPr/>
          <p:nvPr/>
        </p:nvPicPr>
        <p:blipFill>
          <a:blip r:embed="rId2"/>
          <a:stretch/>
        </p:blipFill>
        <p:spPr>
          <a:xfrm>
            <a:off x="244440" y="4767120"/>
            <a:ext cx="7362720" cy="633600"/>
          </a:xfrm>
          <a:prstGeom prst="rect">
            <a:avLst/>
          </a:prstGeom>
          <a:ln w="0">
            <a:noFill/>
          </a:ln>
        </p:spPr>
      </p:pic>
      <p:sp>
        <p:nvSpPr>
          <p:cNvPr id="77" name="Овал 8"/>
          <p:cNvSpPr/>
          <p:nvPr/>
        </p:nvSpPr>
        <p:spPr>
          <a:xfrm>
            <a:off x="1835280" y="5516640"/>
            <a:ext cx="720720" cy="72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0"/>
          <p:cNvSpPr/>
          <p:nvPr/>
        </p:nvSpPr>
        <p:spPr>
          <a:xfrm>
            <a:off x="3059280" y="5516640"/>
            <a:ext cx="720720" cy="720720"/>
          </a:xfrm>
          <a:prstGeom prst="ellipse">
            <a:avLst/>
          </a:prstGeom>
          <a:solidFill>
            <a:srgbClr val="3366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1"/>
          <p:cNvSpPr/>
          <p:nvPr/>
        </p:nvSpPr>
        <p:spPr>
          <a:xfrm>
            <a:off x="4211640" y="5516640"/>
            <a:ext cx="720720" cy="720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ttp://go2.imgsmail.ru/imgpreview?key=http%3A//wallpage.ru/imgmig/wallpapers%5F20146.jpg&amp;mb=imgdb_preview_88"/>
          <p:cNvPicPr/>
          <p:nvPr/>
        </p:nvPicPr>
        <p:blipFill>
          <a:blip r:embed="rId1"/>
          <a:stretch/>
        </p:blipFill>
        <p:spPr>
          <a:xfrm>
            <a:off x="0" y="69228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1" descr=""/>
          <p:cNvPicPr/>
          <p:nvPr/>
        </p:nvPicPr>
        <p:blipFill>
          <a:blip r:embed="rId2"/>
          <a:stretch/>
        </p:blipFill>
        <p:spPr>
          <a:xfrm>
            <a:off x="1847880" y="1116000"/>
            <a:ext cx="7418520" cy="116352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" descr=""/>
          <p:cNvPicPr/>
          <p:nvPr/>
        </p:nvPicPr>
        <p:blipFill>
          <a:blip r:embed="rId3"/>
          <a:stretch/>
        </p:blipFill>
        <p:spPr>
          <a:xfrm>
            <a:off x="225360" y="2932200"/>
            <a:ext cx="8674200" cy="85392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3" descr=""/>
          <p:cNvPicPr/>
          <p:nvPr/>
        </p:nvPicPr>
        <p:blipFill>
          <a:blip r:embed="rId4"/>
          <a:stretch/>
        </p:blipFill>
        <p:spPr>
          <a:xfrm>
            <a:off x="225360" y="3797280"/>
            <a:ext cx="6980400" cy="8478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4" descr=""/>
          <p:cNvPicPr/>
          <p:nvPr/>
        </p:nvPicPr>
        <p:blipFill>
          <a:blip r:embed="rId5"/>
          <a:stretch/>
        </p:blipFill>
        <p:spPr>
          <a:xfrm>
            <a:off x="298440" y="4657680"/>
            <a:ext cx="7547040" cy="85248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5" descr=""/>
          <p:cNvPicPr/>
          <p:nvPr/>
        </p:nvPicPr>
        <p:blipFill>
          <a:blip r:embed="rId6"/>
          <a:stretch/>
        </p:blipFill>
        <p:spPr>
          <a:xfrm>
            <a:off x="334800" y="182520"/>
            <a:ext cx="883944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go1.imgsmail.ru/imgpreview?key=http%3A//i.allday.ru/uploads/posts/2010-11/1289854441%5Fsmilik-2.jpg&amp;mb=imgdb_preview_86"/>
          <p:cNvPicPr/>
          <p:nvPr/>
        </p:nvPicPr>
        <p:blipFill>
          <a:blip r:embed="rId1"/>
          <a:stretch/>
        </p:blipFill>
        <p:spPr>
          <a:xfrm>
            <a:off x="324000" y="260280"/>
            <a:ext cx="1990440" cy="181944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3" descr=""/>
          <p:cNvPicPr/>
          <p:nvPr/>
        </p:nvPicPr>
        <p:blipFill>
          <a:blip r:embed="rId2"/>
          <a:stretch/>
        </p:blipFill>
        <p:spPr>
          <a:xfrm>
            <a:off x="2712960" y="731880"/>
            <a:ext cx="5857920" cy="110952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4" descr=""/>
          <p:cNvPicPr/>
          <p:nvPr/>
        </p:nvPicPr>
        <p:blipFill>
          <a:blip r:embed="rId3"/>
          <a:stretch/>
        </p:blipFill>
        <p:spPr>
          <a:xfrm>
            <a:off x="371520" y="2786040"/>
            <a:ext cx="5456160" cy="8524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5" descr=""/>
          <p:cNvPicPr/>
          <p:nvPr/>
        </p:nvPicPr>
        <p:blipFill>
          <a:blip r:embed="rId4"/>
          <a:stretch/>
        </p:blipFill>
        <p:spPr>
          <a:xfrm>
            <a:off x="225360" y="3797280"/>
            <a:ext cx="6980400" cy="84780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6" descr=""/>
          <p:cNvPicPr/>
          <p:nvPr/>
        </p:nvPicPr>
        <p:blipFill>
          <a:blip r:embed="rId5"/>
          <a:stretch/>
        </p:blipFill>
        <p:spPr>
          <a:xfrm>
            <a:off x="298440" y="4657680"/>
            <a:ext cx="7547040" cy="8524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8" descr=""/>
          <p:cNvPicPr/>
          <p:nvPr/>
        </p:nvPicPr>
        <p:blipFill>
          <a:blip r:embed="rId6"/>
          <a:stretch/>
        </p:blipFill>
        <p:spPr>
          <a:xfrm>
            <a:off x="139680" y="5437080"/>
            <a:ext cx="7729560" cy="866880"/>
          </a:xfrm>
          <a:prstGeom prst="rect">
            <a:avLst/>
          </a:prstGeom>
          <a:ln w="0">
            <a:noFill/>
          </a:ln>
        </p:spPr>
      </p:pic>
      <p:sp>
        <p:nvSpPr>
          <p:cNvPr id="92" name="Овал 13"/>
          <p:cNvSpPr/>
          <p:nvPr/>
        </p:nvSpPr>
        <p:spPr>
          <a:xfrm>
            <a:off x="8101080" y="4292640"/>
            <a:ext cx="718920" cy="72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4"/>
          <p:cNvSpPr/>
          <p:nvPr/>
        </p:nvSpPr>
        <p:spPr>
          <a:xfrm>
            <a:off x="8101080" y="5084640"/>
            <a:ext cx="718920" cy="720720"/>
          </a:xfrm>
          <a:prstGeom prst="ellipse">
            <a:avLst/>
          </a:prstGeom>
          <a:solidFill>
            <a:srgbClr val="3366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5"/>
          <p:cNvSpPr/>
          <p:nvPr/>
        </p:nvSpPr>
        <p:spPr>
          <a:xfrm>
            <a:off x="8101080" y="5877000"/>
            <a:ext cx="718920" cy="720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im7-tub-ru.yandex.net/i?id=430980540-48-72&amp;n=21"/>
          <p:cNvPicPr/>
          <p:nvPr/>
        </p:nvPicPr>
        <p:blipFill>
          <a:blip r:embed="rId1"/>
          <a:stretch/>
        </p:blipFill>
        <p:spPr>
          <a:xfrm>
            <a:off x="7308720" y="4869000"/>
            <a:ext cx="1727280" cy="186516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1292400" y="146160"/>
            <a:ext cx="6906960" cy="14446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324000" y="1557360"/>
            <a:ext cx="88200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04040"/>
                </a:solidFill>
                <a:latin typeface="Arial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Способ подбора проверочных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после согласной должна появиться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лас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зменить форму слова. Сделать много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дуб – дуб</a:t>
            </a: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ы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, нет дуб</a:t>
            </a: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добрать родственное слово  - (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уб – дуб</a:t>
            </a: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1" i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9:09:11Z</dcterms:created>
  <dc:creator>ANDREY</dc:creator>
  <dc:description/>
  <dc:language>en-US</dc:language>
  <cp:lastModifiedBy>Admin</cp:lastModifiedBy>
  <dcterms:modified xsi:type="dcterms:W3CDTF">2013-01-08T13:31:30Z</dcterms:modified>
  <cp:revision>42</cp:revision>
  <dc:subject/>
  <dc:title>Слайд 1</dc:title>
</cp:coreProperties>
</file>