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2407-FA02-4D4B-AC2A-DCBF972B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E297-87AC-4F74-8BD3-0E0E9D64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3186-76E5-4CDB-9939-3F4E528A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84A6-6EDE-454C-BE82-42D2C0DA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480C-92CA-40F7-85D1-E6C9C98B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4942-5E7B-4B51-941B-27A35F9F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2C70-ED6F-4B12-A7E5-7D2CA4E0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29EE-8308-4309-9116-3C86905D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92FF-D28A-4565-8BA9-49C6D840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7C47-6CD8-4D5D-9970-840CD7E9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3517-E7C8-49FC-AB4B-8D02E35B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A2BB-EB84-4329-8D30-A541D747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9D48-A85B-4E77-AAF7-5C4D76D8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B2D3-7F78-4E75-A75D-C74738B1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065D-72FC-4F5E-AA52-4241327C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BF84-8DA2-42A5-BEB2-E2211B45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43DE-5E93-4C8B-B16D-FC48B7A2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54B7-9ED4-4F38-B898-51C6DC4C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E265-1127-4522-BAB6-A7F86A86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CB45-FEB0-4BC1-994B-BB884AD6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7B69-25D7-4F15-9DD5-92FD0B04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1AA1-EE67-4AC1-92E7-D2370740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F038-A3A3-446F-8277-61C54D57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67F4-B68D-4996-88FC-51EAF628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665B-6078-445E-A7B3-7152E59F658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2D81-000F-406A-B74C-0DCF78CA019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Подвижные игры для начальной школы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427280" y="5445000"/>
            <a:ext cx="4392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Выполнила Шевчук Дарь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Ученица 10 «А» класс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гимназии № 3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42920" y="2565360"/>
            <a:ext cx="3168720" cy="2344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Соревнование тачек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Игроки команд, распределившись по парам, встают за линией старта. Один игрок принимает положение, лежа в упоре и разводят ноги на ширину плеч. Партнер держит его за ноги. По сигналу руководителя игроки каждой команды катят тачки вперед: те, кто находится в упоре лежа, перебирают руками. Когда водитель тачки пересечет линию финиша (в 10-15 м), игроки меняются ролями и возвращаются обратно. Следующая пара выходит вперед, как только игрок с тачкой пересечет линию стар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Garamond"/>
              </a:rPr>
              <a:t>Литература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 И.М.. Коротков Подвижные игры детей. Москва. «Советская Россия» 1987 г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. Л.Б. Гурвич Работа воспитателя в группе продленного дня (1 – 3 классы) Москва. «Просвещение» 1982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. А.В. Кенеман Детские подвижные игры. Москва «Просвещение» 198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4. В. И. Лях. А.А. Зданевич Комплексная программа физического воспитания 1 – 11 классы. Москва «Просвещение» 200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. Л.Б. Гурвич Работа воспитателя в группе продленного дня (1-3 классы) Москва «Просвещение» 1982г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Garamond"/>
              </a:rPr>
              <a:t>Задачи подвижных игр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: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76720" y="1125000"/>
            <a:ext cx="54100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) укреплять здоровье занимающихся, способствовать их правильному физическому развитию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) содействовать овладению жизненно необходимыми двигательными навыками, умениями и совершенствованию в них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) воспитывать у детей необходимые морально-волевые и физические качеств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) прививать учащимся организаторские навыки и привычку систематически самостоятельно заниматься играм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В летнем лагере. Подвижные игры "/>
          <p:cNvPicPr/>
          <p:nvPr/>
        </p:nvPicPr>
        <p:blipFill>
          <a:blip r:embed="rId2"/>
          <a:stretch/>
        </p:blipFill>
        <p:spPr>
          <a:xfrm>
            <a:off x="468360" y="1700280"/>
            <a:ext cx="2743200" cy="42638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Garamond"/>
              </a:rPr>
              <a:t>Цель подвижных игр: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24000" y="907560"/>
            <a:ext cx="47624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76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Garamond"/>
              </a:rPr>
              <a:t>1) удовлетворять биологические потребности учащихся в движениях;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76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Garamond"/>
              </a:rPr>
              <a:t>2) увеличивать двигательный режим ребенка;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76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Garamond"/>
              </a:rPr>
              <a:t>3) формировать мотив, потребность в активной двигательной деятельности;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76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Garamond"/>
              </a:rPr>
              <a:t>4) повышать положительное психо-эмоциональное состояние ребенка;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76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Garamond"/>
              </a:rPr>
              <a:t>5) развивать коммуникативные навыки;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76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Garamond"/>
              </a:rPr>
              <a:t>6) сокращать адаптационный период пребывания в школе.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2862000" cy="2664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95280" y="472428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гры помогают ребенку расширять и углублять свои представления об окружающей действительности. Выполняя различные роли, дети практически используют свои знания о повадках животных, птиц, насекомых, о явлениях природы, о средствах передвижения, о современной технике. В процессе игр создаются возможности для развития речи, упражнения в счете и т. д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efee"/>
                </a:solidFill>
                <a:latin typeface="Garamond"/>
              </a:rPr>
              <a:t>Требования к качеству освоения программного материала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 результате освоения минимума программы по подвижным играм учащиеся 1-4 классов должны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знать и иметь представления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о режиме дня и личной гигиене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о правилах проведения подвижных игр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о правилах поведения на занятиях подвижными играм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о правилах подготовки мест для самостоятельных занятий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о правилах использования закаливающих процедур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о причинах возникновения травм во время занятий и профилактике травматизм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уметь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самостоятельно организовывать и проводить подвижные игры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взаимодействовать с партнером, командой и соперником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вести наблюдения за показателями ЧСС во время игр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оказывать первую медицинскую помощь при ссадинах, царапинах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efee"/>
                </a:solidFill>
                <a:latin typeface="Garamond"/>
              </a:rPr>
              <a:t>Формы проведения подвижных игр:</a:t>
            </a:r>
            <a:br>
              <a:rPr sz="3200"/>
            </a:b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92000" y="1052640"/>
            <a:ext cx="5472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Занятия могут проводиться в форме обычного урока, предусмотренного расписанием, или как факультативные во второй половине дня. Уроки следует проводить при строго дифференцированной нагрузке с учетом индивидуального состояния учащихся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Начинается урок с разминки, которая может включать в себя гимнастические упражнения, танцевальные комплексы с небольшим объемом движений и невысокой интенсивностью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84360" y="1197000"/>
            <a:ext cx="2735280" cy="2144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4360" y="400536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новная часть состоит из игр. Содержание основной части должно быть разнообразным: подвижные игры, игры-эстафеты, спортивные упражнения, элементы спортивных игр, самостоятельные игры де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заключительной части проводятся упражнения на гибкость, дыхательные и расслабляющие упражнения, игры малой подвижности, даются творческие зад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b9efee"/>
                </a:solidFill>
                <a:latin typeface="Garamond"/>
              </a:rPr>
              <a:t>Коршун и наседка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708000" y="1600200"/>
            <a:ext cx="497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Дети выстраиваются в колонну друг за другом, держа за пояс впереди стоящего. Первый человек в колонне — это наседка, а  последний — это самый маленький цыплёнок. За ним-то и охотится коршун.  Задача коршуна — поймать цыплёнка. При этом цепочка не должна распадаться, то есть, руки нельзя расцеплять. Когда коршун поймает цыплёнка, можно выбрать других коршуна и наседк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3311640" cy="3024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9efee"/>
                </a:solidFill>
                <a:latin typeface="Garamond"/>
              </a:rPr>
              <a:t>Удоч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35280" y="1599840"/>
            <a:ext cx="505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Для игры понадобится веревочка длиной 2-3 м и мешочек с песком — удочка. Можно также использовать обычную скакалку. Мешочек закрепляют на конце верев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Из участников выбирают водящего. Все играющие становятся в круг, а водящий - в середину круга с веревкой в руках. Он вращает веревку с мешочком так, чтобы тот скользил по полу, делая круг за кругом под ногами играющих.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2862360" cy="3456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Garamond"/>
              </a:rPr>
              <a:t>Утиная охота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780000" y="981000"/>
            <a:ext cx="49068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Участники игры делятся на две команды, одна из которых - охотники, другая - утки. Охотники образуют большой круг, утки занимают центр этого круг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 сигналу охотники начинают выбивать уток мячом из круга. Охотник может сам метать мяч или передать мяч для броска партнеру по команд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4221000"/>
            <a:ext cx="856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тки бегают внутри круга, спасаясь от мяча, уворачиваются и подпрыгивают. Подбитая утка покидает круг. Уткам разрешено ловить мяч, в этом случае одна из покинувших круг уток возвращается. Кого из выбывших уток вернуть, решает тот, кто поймал мя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гра заканчивается, когда в круге не остается ни одной утки, после чего команды меняются рол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2880000" cy="26636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Быстро по места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132000" y="1557360"/>
            <a:ext cx="511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Играющие становятся в 1, 2,3  колонны. По команде «убежали» дети разбегаются. По команде «быстро все по местам» все должны построиться в исходное положение. Проигрывает та команда (колонна) которая заняла место последняя. Построения могут быть самыми разнообразными (в колоннах, кружках, квадратах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2376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3T05:52:35Z</dcterms:created>
  <dc:creator>ИККК</dc:creator>
  <dc:description/>
  <dc:language>en-US</dc:language>
  <cp:lastModifiedBy>ИККК</cp:lastModifiedBy>
  <dcterms:modified xsi:type="dcterms:W3CDTF">2012-11-23T11:32:33Z</dcterms:modified>
  <cp:revision>4</cp:revision>
  <dc:subject/>
  <dc:title>Подвижные игры для начальной школы</dc:title>
</cp:coreProperties>
</file>