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971-0EDC-4274-B267-58718204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42F-4C6E-4362-9C3E-010CA4DC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3DB-4F29-49C1-9EB7-C92F7B08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312F-02CD-40D9-A5C7-08C2D699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6B2A-CE3C-455E-9415-E242650C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9F6A-9D5E-4BC0-9826-91B2DC14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E721-5FD1-4ACC-B27A-1E40FF8F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F17D-69AD-4CAB-8056-701AA072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1245-25B1-412C-A84E-5EBC1F44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E658-FF9D-4D42-9743-11B04499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39AD-8DAD-4E08-9BEE-F6128353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AF1-4FC3-4A31-80C4-17077ABD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E6F4-1896-4BB7-8AD1-E25D9D34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FE17-A44F-43D0-9C00-81A6897F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B31C-2BD2-4153-AC9E-B5DEC831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D64A-2AEA-4603-A118-3D15E589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2ED6-A393-484C-ACE5-7F6D1DCD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8AB-1B4C-4192-B7AA-21099C04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ABA-2E25-4AD2-89FE-32E95AC0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020-693A-4F56-A76E-95EF7DC3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008-B118-4558-A939-71BF4116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804-A065-4BC9-8B30-7B46CC55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BC6-6CD0-4410-BC54-AF4207F9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E42-0CBA-4390-B5F5-39619E3B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B63E-CD8D-4761-A54A-6645202E6CB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3884-63AF-4CF8-BB97-1D7CF5BB72A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Подвижные игры для начальной школы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427280" y="5445000"/>
            <a:ext cx="4392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ыполнила Шевчук Дарь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Ученица 10 «А» клас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имназии № 3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3168720" cy="2344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Соревнование тачек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гроки команд, распределившись по парам, встают за линией старта. Один игрок принимает положение, лежа в упоре и разводят ноги на ширину плеч. Партнер держит его за ноги. По сигналу руководителя игроки каждой команды катят тачки вперед: те, кто находится в упоре лежа, перебирают руками. Когда водитель тачки пересечет линию финиша (в 10-15 м), игроки меняются ролями и возвращаются обратно. Следующая пара выходит вперед, как только игрок с тачкой пересечет линию стар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Литература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И.М.. Коротков Подвижные игры детей. Москва. «Советская Россия» 1987 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Л.Б. Гурвич Работа воспитателя в группе продленного дня (1 – 3 классы) Москва. «Просвещение» 198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А.В. Кенеман Детские подвижные игры. Москва «Просвещение» 198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 В. И. Лях. А.А. Зданевич Комплексная программа физического воспитания 1 – 11 классы. Москва «Просвещение» 200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. Л.Б. Гурвич Работа воспитателя в группе продленного дня (1-3 классы) Москва «Просвещение» 1982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Задачи подвижных игр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: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76720" y="1125000"/>
            <a:ext cx="54100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) укреплять здоровье занимающихся, способствовать их правильному физическому развитию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) содействовать овладению жизненно необходимыми двигательными навыками, умениями и совершенствованию в них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) воспитывать у детей необходимые морально-волевые и физические качеств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) прививать учащимся организаторские навыки и привычку систематически самостоятельно заниматься игра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В летнем лагере. Подвижные игры "/>
          <p:cNvPicPr/>
          <p:nvPr/>
        </p:nvPicPr>
        <p:blipFill>
          <a:blip r:embed="rId2"/>
          <a:stretch/>
        </p:blipFill>
        <p:spPr>
          <a:xfrm>
            <a:off x="468360" y="1700280"/>
            <a:ext cx="2743200" cy="4263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Цель подвижных игр: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24000" y="907560"/>
            <a:ext cx="47624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1) удовлетворять биологические потребности учащихся в движениях;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2) увеличивать двигательный режим ребенка;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3) формировать мотив, потребность в активной двигательной деятельности;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4) повышать положительное психо-эмоциональное состояние ребенка;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5) развивать коммуникативные навыки;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6) сокращать адаптационный период пребывания в школе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286200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5280" y="472428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гры помогают ребенку расширять и углублять свои представления об окружающей действительности. Выполняя различные роли, дети практически используют свои знания о повадках животных, птиц, насекомых, о явлениях природы, о средствах передвижения, о современной технике. В процессе игр создаются возможности для развития речи, упражнения в счете и т. 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efee"/>
                </a:solidFill>
                <a:latin typeface="Garamond"/>
              </a:rPr>
              <a:t>Требования к качеству освоения программного материала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 результате освоения минимума программы по подвижным играм учащиеся 1-4 классов должны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знать и иметь представления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о режиме дня и личной гигиен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о правилах проведения подвижных игр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о правилах поведения на занятиях подвижными игр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о правилах подготовки мест для самостоятельных заняти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о правилах использования закаливающих процедур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о причинах возникновения травм во время занятий и профилактике травматизм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уметь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самостоятельно организовывать и проводить подвижные игр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взаимодействовать с партнером, командой и соперником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вести наблюдения за показателями ЧСС во время иг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оказывать первую медицинскую помощь при ссадинах, царапин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Формы проведения подвижных игр:</a:t>
            </a: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92000" y="1052640"/>
            <a:ext cx="5472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Занятия могут проводиться в форме обычного урока, предусмотренного расписанием, или как факультативные во второй половине дня. Уроки следует проводить при строго дифференцированной нагрузке с учетом индивидуального состояния учащихс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чинается урок с разминки, которая может включать в себя гимнастические упражнения, танцевальные комплексы с небольшим объемом движений и невысокой интенсивность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2735280" cy="2144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4005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ая часть состоит из игр. Содержание основной части должно быть разнообразным: подвижные игры, игры-эстафеты, спортивные упражнения, элементы спортивных игр, самостоятельные игры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заключительной части проводятся упражнения на гибкость, дыхательные и расслабляющие упражнения, игры малой подвижности, даются творчески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Коршун и наседка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ети выстраиваются в колонну друг за другом, держа за пояс впереди стоящего. Первый человек в колонне — это наседка, а  последний — это самый маленький цыплёнок. За ним-то и охотится коршун.  Задача коршуна — поймать цыплёнка. При этом цепочка не должна распадаться, то есть, руки нельзя расцеплять. Когда коршун поймает цыплёнка, можно выбрать других коршуна и наседк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3311640" cy="3024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9efee"/>
                </a:solidFill>
                <a:latin typeface="Garamond"/>
              </a:rPr>
              <a:t>Уд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ля игры понадобится веревочка длиной 2-3 м и мешочек с песком — удочка. Можно также использовать обычную скакалку. Мешочек закрепляют на конце верев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з участников выбирают водящего. Все играющие становятся в круг, а водящий - в середину круга с веревкой в руках. Он вращает веревку с мешочком так, чтобы тот скользил по полу, делая круг за кругом под ногами играющих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2862360" cy="3456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Утиная охота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80000" y="981000"/>
            <a:ext cx="49068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Участники игры делятся на две команды, одна из которых - охотники, другая - утки. Охотники образуют большой круг, утки занимают центр этого круг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 сигналу охотники начинают выбивать уток мячом из круга. Охотник может сам метать мяч или передать мяч для броска партнеру по команд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422100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тки бегают внутри круга, спасаясь от мяча, уворачиваются и подпрыгивают. Подбитая утка покидает круг. Уткам разрешено ловить мяч, в этом случае одна из покинувших круг уток возвращается. Кого из выбывших уток вернуть, решает тот, кто поймал мя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гра заканчивается, когда в круге не остается ни одной утки, после чего команды меняются ро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2880000" cy="2663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Быстро по мест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132000" y="1557360"/>
            <a:ext cx="51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грающие становятся в 1, 2,3  колонны. По команде «убежали» дети разбегаются. По команде «быстро все по местам» все должны построиться в исходное положение. Проигрывает та команда (колонна) которая заняла место последняя. Построения могут быть самыми разнообразными (в колоннах, кружках, квадратах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2376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05:52:35Z</dcterms:created>
  <dc:creator>ИККК</dc:creator>
  <dc:description/>
  <dc:language>en-US</dc:language>
  <cp:lastModifiedBy>ИККК</cp:lastModifiedBy>
  <dcterms:modified xsi:type="dcterms:W3CDTF">2012-11-23T11:32:33Z</dcterms:modified>
  <cp:revision>4</cp:revision>
  <dc:subject/>
  <dc:title>Подвижные игры для начальной школы</dc:title>
</cp:coreProperties>
</file>