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29.jpeg" ContentType="image/jpeg"/>
  <Override PartName="/ppt/media/image42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11C-8529-49DE-B188-FA44059B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CB2-0940-46E5-9FAA-FA9D2DB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281-2E92-4165-BAF1-AB568A87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1D1-3A33-49B4-8697-195C44A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1CA-A45B-4DFC-9AF7-A496A440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40B-AACE-444D-829B-CC5824C7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42C-4498-49CC-ACF2-A22A0B5C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BF2-1A3D-4620-9B57-34579F3C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FA9-740E-411F-B612-1A3C1A8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94C-04E0-400B-A823-98EF91C8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0EC-19B5-492B-B022-24465C4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990-0264-4E8F-AA86-CEE0A2F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9C79-5243-4C2E-8837-AA10799B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roymart.com.ua/ru/publications/21794/" TargetMode="External"/><Relationship Id="rId2" Type="http://schemas.openxmlformats.org/officeDocument/2006/relationships/hyperlink" Target="http://fotki.yandex.ru/users/serg-sergeew/view/124204/" TargetMode="External"/><Relationship Id="rId3" Type="http://schemas.openxmlformats.org/officeDocument/2006/relationships/hyperlink" Target="http://www.mizl.ru/news/?rub=r&amp;nws=1&amp;rn=111&amp;mn=21" TargetMode="External"/><Relationship Id="rId4" Type="http://schemas.openxmlformats.org/officeDocument/2006/relationships/hyperlink" Target="http://www.mizl.ru/news/?rub=r&amp;nws=1&amp;rn=111&amp;mn=21" TargetMode="External"/><Relationship Id="rId5" Type="http://schemas.openxmlformats.org/officeDocument/2006/relationships/hyperlink" Target="http://www.mizl.ru/news/?rub=r&amp;nws=1&amp;rn=111&amp;mn=21" TargetMode="External"/><Relationship Id="rId6" Type="http://schemas.openxmlformats.org/officeDocument/2006/relationships/hyperlink" Target="http://www.mizl.ru/news/?rub=r&amp;nws=1&amp;rn=111&amp;mn=21" TargetMode="External"/><Relationship Id="rId7" Type="http://schemas.openxmlformats.org/officeDocument/2006/relationships/hyperlink" Target="http://www.mizl.ru/news/?rub=r&amp;nws=1&amp;rn=111&amp;mn=21" TargetMode="External"/><Relationship Id="rId8" Type="http://schemas.openxmlformats.org/officeDocument/2006/relationships/hyperlink" Target="http://digestweb.ru/14489-uchenye-obnaruzhili-samyj-silnyj-magnit.html" TargetMode="External"/><Relationship Id="rId9" Type="http://schemas.openxmlformats.org/officeDocument/2006/relationships/hyperlink" Target="http://www.fx-invest.ru/news/?PAGEN_1=137" TargetMode="External"/><Relationship Id="rId10" Type="http://schemas.openxmlformats.org/officeDocument/2006/relationships/hyperlink" Target="http://board.atlant.ws/nedvizhimost/prodam/kommercheskaya_nedvizhimost/29584.html" TargetMode="External"/><Relationship Id="rId11" Type="http://schemas.openxmlformats.org/officeDocument/2006/relationships/hyperlink" Target="http://news.bbc.co.uk/hi/russian/russia/newsid_6705000/6705953.stm" TargetMode="External"/><Relationship Id="rId12" Type="http://schemas.openxmlformats.org/officeDocument/2006/relationships/hyperlink" Target="http://acunamatata.ru/product_info.php?cPath=50&amp;products_id=614" TargetMode="External"/><Relationship Id="rId13" Type="http://schemas.openxmlformats.org/officeDocument/2006/relationships/hyperlink" Target="http://acunamatata.ru/product_info.php?cPath=50&amp;products_id=614" TargetMode="External"/><Relationship Id="rId14" Type="http://schemas.openxmlformats.org/officeDocument/2006/relationships/hyperlink" Target="http://acunamatata.ru/product_info.php?cPath=50&amp;products_id=614" TargetMode="External"/><Relationship Id="rId15" Type="http://schemas.openxmlformats.org/officeDocument/2006/relationships/hyperlink" Target="http://lenta.ru/news/2010/05/09/second/" TargetMode="External"/><Relationship Id="rId16" Type="http://schemas.openxmlformats.org/officeDocument/2006/relationships/hyperlink" Target="http://rewer.net/tag/ugol/" TargetMode="External"/><Relationship Id="rId17" Type="http://schemas.openxmlformats.org/officeDocument/2006/relationships/hyperlink" Target="http://rewer.net/tag/ugol/" TargetMode="External"/><Relationship Id="rId18" Type="http://schemas.openxmlformats.org/officeDocument/2006/relationships/hyperlink" Target="http://rewer.net/tag/ugol/" TargetMode="External"/><Relationship Id="rId19" Type="http://schemas.openxmlformats.org/officeDocument/2006/relationships/hyperlink" Target="http://40854.ru.all-biz.info/" TargetMode="External"/><Relationship Id="rId20" Type="http://schemas.openxmlformats.org/officeDocument/2006/relationships/hyperlink" Target="http://sn.by/2010/09/page/5/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733920" y="2133720"/>
            <a:ext cx="4876560" cy="2286000"/>
          </a:xfrm>
          <a:prstGeom prst="rect">
            <a:avLst/>
          </a:prstGeom>
          <a:noFill/>
          <a:ln w="38160">
            <a:solidFill>
              <a:srgbClr val="d60093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езентацию</a:t>
            </a: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дгото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Панин Да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ученик 4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БОУ ООШ с. Четы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609480"/>
            <a:ext cx="4905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езные ископаем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303280" cy="340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562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фонин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3571920" y="1000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Трапеция 10"/>
          <p:cNvSpPr/>
          <p:nvPr/>
        </p:nvSpPr>
        <p:spPr>
          <a:xfrm>
            <a:off x="7929720" y="214200"/>
            <a:ext cx="642960" cy="1000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2833560" cy="232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404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4200" y="171468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Arial"/>
                <a:ea typeface="Arial"/>
              </a:rPr>
              <a:t>Полезные ископаемые – бесценное богатство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Безимени-9.gif"/>
          <p:cNvPicPr/>
          <p:nvPr/>
        </p:nvPicPr>
        <p:blipFill>
          <a:blip r:embed="rId1"/>
          <a:stretch/>
        </p:blipFill>
        <p:spPr>
          <a:xfrm>
            <a:off x="642960" y="42148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Безимени-10.gif"/>
          <p:cNvPicPr/>
          <p:nvPr/>
        </p:nvPicPr>
        <p:blipFill>
          <a:blip r:embed="rId2"/>
          <a:stretch/>
        </p:blipFill>
        <p:spPr>
          <a:xfrm>
            <a:off x="6000840" y="3990960"/>
            <a:ext cx="2633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0" y="3643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stroymart.com.ua/ru/publications/2179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0" y="32860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fotki.yandex.ru/users/serg-sergeew/view/1242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0" y="40006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izl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news/?rub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&amp;nw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1&amp;rn=111&amp;mn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0" y="42861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digestweb.ru/14489-uchenye-obnaruzhili-samyj-silnyj-magn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0" y="4643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fx-invest.ru/news/?PAGEN_1=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0" y="4929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board.atlant.ws/nedvizhimost/prodam/kommercheskaya_nedvizhimost/2958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0" y="528624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news.bbc.co.uk/hi/russian/russia/newsid_6705000/6705953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0" y="5643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cunamatata.ru/product_info.php?cPa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50&amp;products_id=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5"/>
          <p:cNvSpPr/>
          <p:nvPr/>
        </p:nvSpPr>
        <p:spPr>
          <a:xfrm>
            <a:off x="23760" y="3000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lenta.ru/news/2010/05/09/secon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6"/>
          <p:cNvSpPr/>
          <p:nvPr/>
        </p:nvSpPr>
        <p:spPr>
          <a:xfrm>
            <a:off x="7560" y="2643120"/>
            <a:ext cx="26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wer.net/tag/ugol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7"/>
          <p:cNvSpPr/>
          <p:nvPr/>
        </p:nvSpPr>
        <p:spPr>
          <a:xfrm>
            <a:off x="15840" y="22860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40854.ru.all-biz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16920" y="592920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sn.by/2010/09/page/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0" y="1928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oterror.ru/istinnye-zapasy-nefti-i-gaza-chto-ot-nas-skryvayut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1"/>
          <p:cNvSpPr/>
          <p:nvPr/>
        </p:nvSpPr>
        <p:spPr>
          <a:xfrm>
            <a:off x="0" y="16430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p.ric.ua/index.php?cstart=724&amp;year=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2"/>
          <p:cNvSpPr/>
          <p:nvPr/>
        </p:nvSpPr>
        <p:spPr>
          <a:xfrm>
            <a:off x="0" y="7142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ita.ru/politics/primorskij-kraj_28.03.2007_82483_flag-i-gerb-primorskogo-kraja-ukrasjat-izbiratelnye-uchastk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3"/>
          <p:cNvSpPr/>
          <p:nvPr/>
        </p:nvSpPr>
        <p:spPr>
          <a:xfrm>
            <a:off x="0" y="12859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imamedia.ru/old/news/show/?id=141869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4"/>
          <p:cNvSpPr/>
          <p:nvPr/>
        </p:nvSpPr>
        <p:spPr>
          <a:xfrm>
            <a:off x="500040" y="1429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5"/>
          <p:cNvSpPr/>
          <p:nvPr/>
        </p:nvSpPr>
        <p:spPr>
          <a:xfrm>
            <a:off x="285840" y="2602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Calibri"/>
              </a:rPr>
              <a:t>Полезные ископаемы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 action="ppaction://hlinksldjump"/>
              </a:rPr>
              <a:t>горные породы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2" action="ppaction://hlinksldjump"/>
              </a:rPr>
              <a:t>минералы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, которые добывают из недр Земли и её поверхности, и используют в хозяй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Безимени-3.gif"/>
          <p:cNvPicPr/>
          <p:nvPr/>
        </p:nvPicPr>
        <p:blipFill>
          <a:blip r:embed="rId3"/>
          <a:stretch/>
        </p:blipFill>
        <p:spPr>
          <a:xfrm>
            <a:off x="457200" y="3048120"/>
            <a:ext cx="83581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Содержимое 2"/>
          <p:cNvSpPr/>
          <p:nvPr/>
        </p:nvSpPr>
        <p:spPr>
          <a:xfrm>
            <a:off x="4786200" y="714240"/>
            <a:ext cx="4357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1. </a:t>
            </a:r>
            <a:r>
              <a:rPr b="1" lang="en-US" sz="1700" spc="-1" strike="noStrike">
                <a:solidFill>
                  <a:srgbClr val="663300"/>
                </a:solidFill>
                <a:latin typeface="Arial"/>
              </a:rPr>
              <a:t>Чёрного цв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2. Твёрдо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3. Непрозрач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4. Пл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Равнобедренный треугольник 31"/>
          <p:cNvSpPr/>
          <p:nvPr/>
        </p:nvSpPr>
        <p:spPr>
          <a:xfrm>
            <a:off x="7929720" y="285840"/>
            <a:ext cx="928440" cy="1000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999520" y="21420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Железная 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3" descr="Безимени-7.gif"/>
          <p:cNvPicPr/>
          <p:nvPr/>
        </p:nvPicPr>
        <p:blipFill>
          <a:blip r:embed="rId1"/>
          <a:stretch/>
        </p:blipFill>
        <p:spPr>
          <a:xfrm>
            <a:off x="914400" y="914400"/>
            <a:ext cx="200016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 rot="21460200">
            <a:off x="6962760" y="507852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1" descr="Безимени-1.gif"/>
          <p:cNvPicPr/>
          <p:nvPr/>
        </p:nvPicPr>
        <p:blipFill>
          <a:blip r:embed="rId4"/>
          <a:stretch/>
        </p:blipFill>
        <p:spPr>
          <a:xfrm>
            <a:off x="3809880" y="4952880"/>
            <a:ext cx="20322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5"/>
          <a:stretch/>
        </p:blipFill>
        <p:spPr>
          <a:xfrm>
            <a:off x="1219320" y="2666880"/>
            <a:ext cx="2357280" cy="2140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4" descr="Безимени-2.gif"/>
          <p:cNvPicPr/>
          <p:nvPr/>
        </p:nvPicPr>
        <p:blipFill>
          <a:blip r:embed="rId6"/>
          <a:stretch/>
        </p:blipFill>
        <p:spPr>
          <a:xfrm>
            <a:off x="1219320" y="4952880"/>
            <a:ext cx="2125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5357880" y="128592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Рысь\Downloads\бут..jpg"/>
          <p:cNvPicPr/>
          <p:nvPr/>
        </p:nvPicPr>
        <p:blipFill>
          <a:blip r:embed="rId1"/>
          <a:stretch/>
        </p:blipFill>
        <p:spPr>
          <a:xfrm>
            <a:off x="3200400" y="4800600"/>
            <a:ext cx="2706840" cy="1592280"/>
          </a:xfrm>
          <a:prstGeom prst="rect">
            <a:avLst/>
          </a:prstGeom>
          <a:ln w="0">
            <a:noFill/>
          </a:ln>
        </p:spPr>
      </p:pic>
      <p:sp>
        <p:nvSpPr>
          <p:cNvPr id="58" name="Трапеция 13"/>
          <p:cNvSpPr/>
          <p:nvPr/>
        </p:nvSpPr>
        <p:spPr>
          <a:xfrm>
            <a:off x="7929720" y="214200"/>
            <a:ext cx="642960" cy="1000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5571360" y="1429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4929120" y="7858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. 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.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3. С резким запахом (бенз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4. Легч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5.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248904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3"/>
          <a:stretch/>
        </p:blipFill>
        <p:spPr>
          <a:xfrm>
            <a:off x="6400800" y="4495680"/>
            <a:ext cx="2550960" cy="1689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7"/>
          <p:cNvSpPr/>
          <p:nvPr/>
        </p:nvSpPr>
        <p:spPr>
          <a:xfrm>
            <a:off x="3505320" y="28954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полагают, что образуется из остатков водорослей и мельчайших растений 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1690920" cy="202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5"/>
          <a:stretch/>
        </p:blipFill>
        <p:spPr>
          <a:xfrm>
            <a:off x="304920" y="28954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варц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слюда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олевой шп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ел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чёр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(роз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зё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Заголовок 1"/>
          <p:cNvSpPr/>
          <p:nvPr/>
        </p:nvSpPr>
        <p:spPr>
          <a:xfrm>
            <a:off x="3886200" y="2590920"/>
            <a:ext cx="3376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. Твёрд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2. Серого или красно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3. Непрозра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4. Зернис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5. Очень п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6633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4628880" y="28584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4" descr="Безимени-4.gif"/>
          <p:cNvPicPr/>
          <p:nvPr/>
        </p:nvPicPr>
        <p:blipFill>
          <a:blip r:embed="rId1"/>
          <a:stretch/>
        </p:blipFill>
        <p:spPr>
          <a:xfrm>
            <a:off x="7215120" y="0"/>
            <a:ext cx="171144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гранит.bmp"/>
          <p:cNvPicPr/>
          <p:nvPr/>
        </p:nvPicPr>
        <p:blipFill>
          <a:blip r:embed="rId2"/>
          <a:stretch/>
        </p:blipFill>
        <p:spPr>
          <a:xfrm>
            <a:off x="228600" y="1219320"/>
            <a:ext cx="2784600" cy="1719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7"/>
          <p:cNvSpPr/>
          <p:nvPr/>
        </p:nvSpPr>
        <p:spPr>
          <a:xfrm>
            <a:off x="380880" y="312408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Гранитный 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368360" cy="179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53036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3357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извест.прим.2.jpg"/>
          <p:cNvPicPr/>
          <p:nvPr/>
        </p:nvPicPr>
        <p:blipFill>
          <a:blip r:embed="rId1"/>
          <a:stretch/>
        </p:blipFill>
        <p:spPr>
          <a:xfrm>
            <a:off x="4714920" y="4357800"/>
            <a:ext cx="2900160" cy="219708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2214720" y="928800"/>
            <a:ext cx="62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1. 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2. Белого, серого или жё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3. 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4. Пл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5. Если капнуть каплю кислоты – шипит (выделяется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9440" y="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3" descr="Безимени-4.gif"/>
          <p:cNvPicPr/>
          <p:nvPr/>
        </p:nvPicPr>
        <p:blipFill>
          <a:blip r:embed="rId2"/>
          <a:stretch/>
        </p:blipFill>
        <p:spPr>
          <a:xfrm>
            <a:off x="0" y="838080"/>
            <a:ext cx="1666800" cy="1249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7715160" y="214200"/>
            <a:ext cx="95256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3"/>
          <a:stretch/>
        </p:blipFill>
        <p:spPr>
          <a:xfrm>
            <a:off x="357120" y="2895480"/>
            <a:ext cx="3986280" cy="296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4"/>
          <a:stretch/>
        </p:blipFill>
        <p:spPr>
          <a:xfrm>
            <a:off x="7000920" y="2500200"/>
            <a:ext cx="1874880" cy="2500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Безимени-5.gif"/>
          <p:cNvPicPr/>
          <p:nvPr/>
        </p:nvPicPr>
        <p:blipFill>
          <a:blip r:embed="rId5"/>
          <a:stretch/>
        </p:blipFill>
        <p:spPr>
          <a:xfrm rot="1038600">
            <a:off x="4726080" y="2723760"/>
            <a:ext cx="219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3352680" y="1219320"/>
            <a:ext cx="5410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1. Состоит из мелких частиц – чешу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2. Красного, жёлтого, серого или     бело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3. Пласт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4. Плохо пропускает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11"/>
          <p:cNvGrpSpPr/>
          <p:nvPr/>
        </p:nvGrpSpPr>
        <p:grpSpPr>
          <a:xfrm>
            <a:off x="7857720" y="213840"/>
            <a:ext cx="786240" cy="786240"/>
            <a:chOff x="7857720" y="213840"/>
            <a:chExt cx="786240" cy="786240"/>
          </a:xfrm>
        </p:grpSpPr>
        <p:sp>
          <p:nvSpPr>
            <p:cNvPr id="90" name="Прямоугольный треугольник 9"/>
            <p:cNvSpPr/>
            <p:nvPr/>
          </p:nvSpPr>
          <p:spPr>
            <a:xfrm>
              <a:off x="7858080" y="214200"/>
              <a:ext cx="785880" cy="78588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оугольный треугольник 10"/>
            <p:cNvSpPr/>
            <p:nvPr/>
          </p:nvSpPr>
          <p:spPr>
            <a:xfrm rot="10800000">
              <a:off x="7857720" y="213840"/>
              <a:ext cx="785880" cy="78588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1"/>
          <p:cNvSpPr/>
          <p:nvPr/>
        </p:nvSpPr>
        <p:spPr>
          <a:xfrm>
            <a:off x="4586400" y="21420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819160" cy="227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3919320" cy="2890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Безимени-6.gif"/>
          <p:cNvPicPr/>
          <p:nvPr/>
        </p:nvPicPr>
        <p:blipFill>
          <a:blip r:embed="rId3"/>
          <a:stretch/>
        </p:blipFill>
        <p:spPr>
          <a:xfrm>
            <a:off x="357120" y="2857680"/>
            <a:ext cx="1952640" cy="2266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Безимени-7.gif"/>
          <p:cNvPicPr/>
          <p:nvPr/>
        </p:nvPicPr>
        <p:blipFill>
          <a:blip r:embed="rId4"/>
          <a:stretch/>
        </p:blipFill>
        <p:spPr>
          <a:xfrm>
            <a:off x="6629400" y="4419720"/>
            <a:ext cx="228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2571840" y="4821120"/>
            <a:ext cx="2500200" cy="1873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кам.уг.доб.01.jpg"/>
          <p:cNvPicPr/>
          <p:nvPr/>
        </p:nvPicPr>
        <p:blipFill>
          <a:blip r:embed="rId2"/>
          <a:stretch/>
        </p:blipFill>
        <p:spPr>
          <a:xfrm>
            <a:off x="5715000" y="1143000"/>
            <a:ext cx="3087720" cy="207180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1714680" y="285840"/>
            <a:ext cx="3357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1. Твёрдый, но хруп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2. Черного цвета, блес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3. Хорошо и ярко г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4. В воде не раство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7929720" y="285840"/>
            <a:ext cx="7142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2623680" y="21420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2" descr="Безимени-8.gif"/>
          <p:cNvPicPr/>
          <p:nvPr/>
        </p:nvPicPr>
        <p:blipFill>
          <a:blip r:embed="rId3"/>
          <a:stretch/>
        </p:blipFill>
        <p:spPr>
          <a:xfrm rot="20862000">
            <a:off x="147600" y="132840"/>
            <a:ext cx="1424160" cy="154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5357880" y="3786120"/>
            <a:ext cx="3481200" cy="23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21420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6"/>
          <a:stretch/>
        </p:blipFill>
        <p:spPr>
          <a:xfrm>
            <a:off x="2928960" y="1857240"/>
            <a:ext cx="3292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1"/>
          <p:cNvSpPr/>
          <p:nvPr/>
        </p:nvSpPr>
        <p:spPr>
          <a:xfrm>
            <a:off x="7572240" y="142920"/>
            <a:ext cx="943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О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3886200" y="1752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Легкий, впитывает вл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ыхлый, непрочный,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79297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70009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3286080" y="928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бразуется из остатков растений на бо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949480" cy="221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50208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333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13T06:5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