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2A6-8D8A-476C-A6FB-0D75B6BD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CE9-4ADC-4162-A913-D5A4F77B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F25-CA9E-49AC-ADB4-BD9E1A56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D5E-4F60-4668-BEBC-CD8F8331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08B1-1643-448F-ADE5-EB6C7E83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0018-030C-47CA-B463-0C42B5D3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4BC9-71E7-4CE0-B7B4-0611F0C6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FCD7-947E-419C-AA85-4237A822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4055-5963-43F3-9920-50F319B7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1BA8-8567-4B65-82B0-50E94C49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C707-C8A1-4902-90A0-53FBC36B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A45-636E-470C-8909-F38EE49A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575A-5E68-445F-9D1D-267957E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1BAB-A2A0-46D9-AA48-AB5D0B71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3732-8B8C-4DA5-9293-C1AD0A29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28C1-0E28-44D5-AA33-4DA542A1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D93E-9C41-42D7-96C8-79097B28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C56-5F41-46C6-8954-A4D0225D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86B-6632-4D38-B56C-F9FD5F53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C4A-2ADC-454B-A851-1961D7A1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B1E-29E1-410E-A974-07B05427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211-951B-4BEB-8A6D-4A16CF26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441-2327-4C5B-A871-F2AB2509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7E8-72BD-4617-B279-F7881A6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EECC-7410-4562-ADE9-AD97AA63B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334C-0A11-4FAB-960E-5384A96FFD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7"/>
          <p:cNvGrpSpPr/>
          <p:nvPr/>
        </p:nvGrpSpPr>
        <p:grpSpPr>
          <a:xfrm>
            <a:off x="539640" y="620640"/>
            <a:ext cx="3455280" cy="5328720"/>
            <a:chOff x="539640" y="620640"/>
            <a:chExt cx="3455280" cy="5328720"/>
          </a:xfrm>
        </p:grpSpPr>
        <p:grpSp>
          <p:nvGrpSpPr>
            <p:cNvPr id="99" name="Group 48"/>
            <p:cNvGrpSpPr/>
            <p:nvPr/>
          </p:nvGrpSpPr>
          <p:grpSpPr>
            <a:xfrm>
              <a:off x="539640" y="620640"/>
              <a:ext cx="2818440" cy="5328720"/>
              <a:chOff x="539640" y="620640"/>
              <a:chExt cx="2818440" cy="5328720"/>
            </a:xfrm>
          </p:grpSpPr>
          <p:grpSp>
            <p:nvGrpSpPr>
              <p:cNvPr id="100" name="Group 49"/>
              <p:cNvGrpSpPr/>
              <p:nvPr/>
            </p:nvGrpSpPr>
            <p:grpSpPr>
              <a:xfrm>
                <a:off x="1055880" y="620640"/>
                <a:ext cx="896760" cy="1891800"/>
                <a:chOff x="1055880" y="620640"/>
                <a:chExt cx="896760" cy="1891800"/>
              </a:xfrm>
            </p:grpSpPr>
            <p:grpSp>
              <p:nvGrpSpPr>
                <p:cNvPr id="101" name="Group 50"/>
                <p:cNvGrpSpPr/>
                <p:nvPr/>
              </p:nvGrpSpPr>
              <p:grpSpPr>
                <a:xfrm>
                  <a:off x="1162080" y="1464120"/>
                  <a:ext cx="790560" cy="1048320"/>
                  <a:chOff x="1162080" y="1464120"/>
                  <a:chExt cx="790560" cy="1048320"/>
                </a:xfrm>
              </p:grpSpPr>
              <p:grpSp>
                <p:nvGrpSpPr>
                  <p:cNvPr id="102" name="Group 51"/>
                  <p:cNvGrpSpPr/>
                  <p:nvPr/>
                </p:nvGrpSpPr>
                <p:grpSpPr>
                  <a:xfrm>
                    <a:off x="1218600" y="1498680"/>
                    <a:ext cx="734040" cy="1013760"/>
                    <a:chOff x="1218600" y="1498680"/>
                    <a:chExt cx="734040" cy="1013760"/>
                  </a:xfrm>
                </p:grpSpPr>
                <p:grpSp>
                  <p:nvGrpSpPr>
                    <p:cNvPr id="103" name="Group 52"/>
                    <p:cNvGrpSpPr/>
                    <p:nvPr/>
                  </p:nvGrpSpPr>
                  <p:grpSpPr>
                    <a:xfrm>
                      <a:off x="1218600" y="1498680"/>
                      <a:ext cx="734040" cy="1013760"/>
                      <a:chOff x="1218600" y="1498680"/>
                      <a:chExt cx="734040" cy="1013760"/>
                    </a:xfrm>
                  </p:grpSpPr>
                  <p:grpSp>
                    <p:nvGrpSpPr>
                      <p:cNvPr id="104" name="Group 53"/>
                      <p:cNvGrpSpPr/>
                      <p:nvPr/>
                    </p:nvGrpSpPr>
                    <p:grpSpPr>
                      <a:xfrm>
                        <a:off x="1218600" y="1498680"/>
                        <a:ext cx="734040" cy="1013760"/>
                        <a:chOff x="1218600" y="1498680"/>
                        <a:chExt cx="734040" cy="1013760"/>
                      </a:xfrm>
                    </p:grpSpPr>
                    <p:sp>
                      <p:nvSpPr>
                        <p:cNvPr id="105" name="Freeform 54"/>
                        <p:cNvSpPr/>
                        <p:nvPr/>
                      </p:nvSpPr>
                      <p:spPr>
                        <a:xfrm>
                          <a:off x="1286640" y="1498680"/>
                          <a:ext cx="653400" cy="1013760"/>
                        </a:xfrm>
                        <a:custGeom>
                          <a:avLst/>
                          <a:gdLst>
                            <a:gd name="textAreaLeft" fmla="*/ 0 w 653400"/>
                            <a:gd name="textAreaRight" fmla="*/ 653760 w 653400"/>
                            <a:gd name="textAreaTop" fmla="*/ 0 h 1013760"/>
                            <a:gd name="textAreaBottom" fmla="*/ 1014120 h 1013760"/>
                          </a:gdLst>
                          <a:ahLst/>
                          <a:rect l="textAreaLeft" t="textAreaTop" r="textAreaRight" b="textAreaBottom"/>
                          <a:pathLst>
                            <a:path w="461" h="643">
                              <a:moveTo>
                                <a:pt x="396" y="48"/>
                              </a:moveTo>
                              <a:lnTo>
                                <a:pt x="386" y="31"/>
                              </a:lnTo>
                              <a:lnTo>
                                <a:pt x="360" y="0"/>
                              </a:lnTo>
                              <a:lnTo>
                                <a:pt x="203" y="17"/>
                              </a:lnTo>
                              <a:lnTo>
                                <a:pt x="63" y="163"/>
                              </a:lnTo>
                              <a:lnTo>
                                <a:pt x="0" y="371"/>
                              </a:lnTo>
                              <a:lnTo>
                                <a:pt x="22" y="416"/>
                              </a:lnTo>
                              <a:lnTo>
                                <a:pt x="90" y="510"/>
                              </a:lnTo>
                              <a:lnTo>
                                <a:pt x="88" y="529"/>
                              </a:lnTo>
                              <a:lnTo>
                                <a:pt x="92" y="548"/>
                              </a:lnTo>
                              <a:lnTo>
                                <a:pt x="102" y="561"/>
                              </a:lnTo>
                              <a:lnTo>
                                <a:pt x="115" y="573"/>
                              </a:lnTo>
                              <a:lnTo>
                                <a:pt x="130" y="586"/>
                              </a:lnTo>
                              <a:lnTo>
                                <a:pt x="143" y="597"/>
                              </a:lnTo>
                              <a:lnTo>
                                <a:pt x="160" y="607"/>
                              </a:lnTo>
                              <a:lnTo>
                                <a:pt x="178" y="618"/>
                              </a:lnTo>
                              <a:lnTo>
                                <a:pt x="195" y="624"/>
                              </a:lnTo>
                              <a:lnTo>
                                <a:pt x="217" y="633"/>
                              </a:lnTo>
                              <a:lnTo>
                                <a:pt x="237" y="639"/>
                              </a:lnTo>
                              <a:lnTo>
                                <a:pt x="257" y="643"/>
                              </a:lnTo>
                              <a:lnTo>
                                <a:pt x="275" y="637"/>
                              </a:lnTo>
                              <a:lnTo>
                                <a:pt x="286" y="631"/>
                              </a:lnTo>
                              <a:lnTo>
                                <a:pt x="300" y="616"/>
                              </a:lnTo>
                              <a:lnTo>
                                <a:pt x="310" y="605"/>
                              </a:lnTo>
                              <a:lnTo>
                                <a:pt x="321" y="616"/>
                              </a:lnTo>
                              <a:lnTo>
                                <a:pt x="336" y="624"/>
                              </a:lnTo>
                              <a:lnTo>
                                <a:pt x="360" y="629"/>
                              </a:lnTo>
                              <a:lnTo>
                                <a:pt x="376" y="620"/>
                              </a:lnTo>
                              <a:lnTo>
                                <a:pt x="390" y="605"/>
                              </a:lnTo>
                              <a:lnTo>
                                <a:pt x="400" y="588"/>
                              </a:lnTo>
                              <a:lnTo>
                                <a:pt x="406" y="563"/>
                              </a:lnTo>
                              <a:lnTo>
                                <a:pt x="461" y="467"/>
                              </a:lnTo>
                              <a:lnTo>
                                <a:pt x="411" y="333"/>
                              </a:lnTo>
                              <a:lnTo>
                                <a:pt x="396" y="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Oval 55"/>
                        <p:cNvSpPr/>
                        <p:nvPr/>
                      </p:nvSpPr>
                      <p:spPr>
                        <a:xfrm>
                          <a:off x="1218600" y="1957320"/>
                          <a:ext cx="142920" cy="20016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Oval 56"/>
                        <p:cNvSpPr/>
                        <p:nvPr/>
                      </p:nvSpPr>
                      <p:spPr>
                        <a:xfrm>
                          <a:off x="1324800" y="2067480"/>
                          <a:ext cx="164160" cy="23796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Oval 57"/>
                        <p:cNvSpPr/>
                        <p:nvPr/>
                      </p:nvSpPr>
                      <p:spPr>
                        <a:xfrm>
                          <a:off x="1737360" y="2073960"/>
                          <a:ext cx="215280" cy="31500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Oval 58"/>
                        <p:cNvSpPr/>
                        <p:nvPr/>
                      </p:nvSpPr>
                      <p:spPr>
                        <a:xfrm>
                          <a:off x="1686240" y="2241000"/>
                          <a:ext cx="182880" cy="25848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0" name="Group 59"/>
                      <p:cNvGrpSpPr/>
                      <p:nvPr/>
                    </p:nvGrpSpPr>
                    <p:grpSpPr>
                      <a:xfrm>
                        <a:off x="1251000" y="1957320"/>
                        <a:ext cx="674640" cy="351000"/>
                        <a:chOff x="1251000" y="1957320"/>
                        <a:chExt cx="674640" cy="351000"/>
                      </a:xfrm>
                    </p:grpSpPr>
                    <p:sp>
                      <p:nvSpPr>
                        <p:cNvPr id="111" name="Oval 60"/>
                        <p:cNvSpPr/>
                        <p:nvPr/>
                      </p:nvSpPr>
                      <p:spPr>
                        <a:xfrm>
                          <a:off x="1531800" y="1957320"/>
                          <a:ext cx="226440" cy="3099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Oval 61"/>
                        <p:cNvSpPr/>
                        <p:nvPr/>
                      </p:nvSpPr>
                      <p:spPr>
                        <a:xfrm>
                          <a:off x="1251000" y="2003040"/>
                          <a:ext cx="95040" cy="1242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400" bIns="414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Oval 62"/>
                        <p:cNvSpPr/>
                        <p:nvPr/>
                      </p:nvSpPr>
                      <p:spPr>
                        <a:xfrm>
                          <a:off x="1680480" y="2124000"/>
                          <a:ext cx="244800" cy="18432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Oval 63"/>
                        <p:cNvSpPr/>
                        <p:nvPr/>
                      </p:nvSpPr>
                      <p:spPr>
                        <a:xfrm>
                          <a:off x="1694880" y="2117520"/>
                          <a:ext cx="230760" cy="16380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Oval 64"/>
                        <p:cNvSpPr/>
                        <p:nvPr/>
                      </p:nvSpPr>
                      <p:spPr>
                        <a:xfrm>
                          <a:off x="1253880" y="2019960"/>
                          <a:ext cx="95040" cy="11340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Oval 65"/>
                        <p:cNvSpPr/>
                        <p:nvPr/>
                      </p:nvSpPr>
                      <p:spPr>
                        <a:xfrm>
                          <a:off x="1513080" y="1980720"/>
                          <a:ext cx="230760" cy="27720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Oval 66"/>
                        <p:cNvSpPr/>
                        <p:nvPr/>
                      </p:nvSpPr>
                      <p:spPr>
                        <a:xfrm>
                          <a:off x="1534320" y="1980720"/>
                          <a:ext cx="230760" cy="26280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8" name="Group 67"/>
                    <p:cNvGrpSpPr/>
                    <p:nvPr/>
                  </p:nvGrpSpPr>
                  <p:grpSpPr>
                    <a:xfrm>
                      <a:off x="1638000" y="1555200"/>
                      <a:ext cx="303840" cy="595080"/>
                      <a:chOff x="1638000" y="1555200"/>
                      <a:chExt cx="303840" cy="595080"/>
                    </a:xfrm>
                  </p:grpSpPr>
                  <p:grpSp>
                    <p:nvGrpSpPr>
                      <p:cNvPr id="119" name="Group 68"/>
                      <p:cNvGrpSpPr/>
                      <p:nvPr/>
                    </p:nvGrpSpPr>
                    <p:grpSpPr>
                      <a:xfrm>
                        <a:off x="1638000" y="1555200"/>
                        <a:ext cx="264600" cy="434520"/>
                        <a:chOff x="1638000" y="1555200"/>
                        <a:chExt cx="264600" cy="434520"/>
                      </a:xfrm>
                    </p:grpSpPr>
                    <p:grpSp>
                      <p:nvGrpSpPr>
                        <p:cNvPr id="120" name="Group 69"/>
                        <p:cNvGrpSpPr/>
                        <p:nvPr/>
                      </p:nvGrpSpPr>
                      <p:grpSpPr>
                        <a:xfrm>
                          <a:off x="1638000" y="1555200"/>
                          <a:ext cx="264600" cy="434520"/>
                          <a:chOff x="1638000" y="1555200"/>
                          <a:chExt cx="264600" cy="434520"/>
                        </a:xfrm>
                      </p:grpSpPr>
                      <p:grpSp>
                        <p:nvGrpSpPr>
                          <p:cNvPr id="121" name="Group 70"/>
                          <p:cNvGrpSpPr/>
                          <p:nvPr/>
                        </p:nvGrpSpPr>
                        <p:grpSpPr>
                          <a:xfrm>
                            <a:off x="1638000" y="1600920"/>
                            <a:ext cx="264600" cy="388800"/>
                            <a:chOff x="1638000" y="1600920"/>
                            <a:chExt cx="264600" cy="388800"/>
                          </a:xfrm>
                        </p:grpSpPr>
                        <p:sp>
                          <p:nvSpPr>
                            <p:cNvPr id="122" name="Oval 71"/>
                            <p:cNvSpPr/>
                            <p:nvPr/>
                          </p:nvSpPr>
                          <p:spPr>
                            <a:xfrm>
                              <a:off x="1638000" y="1600920"/>
                              <a:ext cx="179640" cy="3888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3" name="Oval 72"/>
                            <p:cNvSpPr/>
                            <p:nvPr/>
                          </p:nvSpPr>
                          <p:spPr>
                            <a:xfrm>
                              <a:off x="1776600" y="1600920"/>
                              <a:ext cx="126000" cy="3448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4" name="Group 73"/>
                          <p:cNvGrpSpPr/>
                          <p:nvPr/>
                        </p:nvGrpSpPr>
                        <p:grpSpPr>
                          <a:xfrm>
                            <a:off x="1652040" y="1614960"/>
                            <a:ext cx="247320" cy="374400"/>
                            <a:chOff x="1652040" y="1614960"/>
                            <a:chExt cx="247320" cy="374400"/>
                          </a:xfrm>
                        </p:grpSpPr>
                        <p:sp>
                          <p:nvSpPr>
                            <p:cNvPr id="125" name="Oval 74"/>
                            <p:cNvSpPr/>
                            <p:nvPr/>
                          </p:nvSpPr>
                          <p:spPr>
                            <a:xfrm>
                              <a:off x="1652040" y="1617840"/>
                              <a:ext cx="162720" cy="3715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6" name="Oval 75"/>
                            <p:cNvSpPr/>
                            <p:nvPr/>
                          </p:nvSpPr>
                          <p:spPr>
                            <a:xfrm>
                              <a:off x="1775160" y="1614960"/>
                              <a:ext cx="124200" cy="3607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" name="Group 76"/>
                          <p:cNvGrpSpPr/>
                          <p:nvPr/>
                        </p:nvGrpSpPr>
                        <p:grpSpPr>
                          <a:xfrm>
                            <a:off x="1691640" y="1555200"/>
                            <a:ext cx="172440" cy="133560"/>
                            <a:chOff x="1691640" y="1555200"/>
                            <a:chExt cx="172440" cy="133560"/>
                          </a:xfrm>
                        </p:grpSpPr>
                        <p:sp>
                          <p:nvSpPr>
                            <p:cNvPr id="128" name="Freeform 77"/>
                            <p:cNvSpPr/>
                            <p:nvPr/>
                          </p:nvSpPr>
                          <p:spPr>
                            <a:xfrm>
                              <a:off x="1807560" y="1555200"/>
                              <a:ext cx="56520" cy="13068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0680"/>
                                <a:gd name="textAreaBottom" fmla="*/ 131040 h 130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0" h="83">
                                  <a:moveTo>
                                    <a:pt x="0" y="53"/>
                                  </a:moveTo>
                                  <a:lnTo>
                                    <a:pt x="10" y="83"/>
                                  </a:lnTo>
                                  <a:lnTo>
                                    <a:pt x="40" y="27"/>
                                  </a:lnTo>
                                  <a:lnTo>
                                    <a:pt x="28" y="0"/>
                                  </a:lnTo>
                                  <a:lnTo>
                                    <a:pt x="0" y="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" name="Freeform 78"/>
                            <p:cNvSpPr/>
                            <p:nvPr/>
                          </p:nvSpPr>
                          <p:spPr>
                            <a:xfrm>
                              <a:off x="1691640" y="1564560"/>
                              <a:ext cx="115920" cy="124200"/>
                            </a:xfrm>
                            <a:custGeom>
                              <a:avLst/>
                              <a:gdLst>
                                <a:gd name="textAreaLeft" fmla="*/ 0 w 115920"/>
                                <a:gd name="textAreaRight" fmla="*/ 116280 w 115920"/>
                                <a:gd name="textAreaTop" fmla="*/ 0 h 124200"/>
                                <a:gd name="textAreaBottom" fmla="*/ 124560 h 124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79">
                                  <a:moveTo>
                                    <a:pt x="12" y="0"/>
                                  </a:moveTo>
                                  <a:lnTo>
                                    <a:pt x="82" y="53"/>
                                  </a:lnTo>
                                  <a:lnTo>
                                    <a:pt x="77" y="79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1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0" name="Group 79"/>
                        <p:cNvGrpSpPr/>
                        <p:nvPr/>
                      </p:nvGrpSpPr>
                      <p:grpSpPr>
                        <a:xfrm>
                          <a:off x="1762560" y="1815120"/>
                          <a:ext cx="136440" cy="160560"/>
                          <a:chOff x="1762560" y="1815120"/>
                          <a:chExt cx="136440" cy="160560"/>
                        </a:xfrm>
                      </p:grpSpPr>
                      <p:grpSp>
                        <p:nvGrpSpPr>
                          <p:cNvPr id="131" name="Group 80"/>
                          <p:cNvGrpSpPr/>
                          <p:nvPr/>
                        </p:nvGrpSpPr>
                        <p:grpSpPr>
                          <a:xfrm>
                            <a:off x="1762560" y="1815120"/>
                            <a:ext cx="56160" cy="160560"/>
                            <a:chOff x="1762560" y="1815120"/>
                            <a:chExt cx="56160" cy="160560"/>
                          </a:xfrm>
                        </p:grpSpPr>
                        <p:sp>
                          <p:nvSpPr>
                            <p:cNvPr id="132" name="Oval 81"/>
                            <p:cNvSpPr/>
                            <p:nvPr/>
                          </p:nvSpPr>
                          <p:spPr>
                            <a:xfrm>
                              <a:off x="1769400" y="1815120"/>
                              <a:ext cx="49320" cy="1605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" name="Freeform 82"/>
                            <p:cNvSpPr/>
                            <p:nvPr/>
                          </p:nvSpPr>
                          <p:spPr>
                            <a:xfrm>
                              <a:off x="1762560" y="1865160"/>
                              <a:ext cx="26640" cy="20160"/>
                            </a:xfrm>
                            <a:custGeom>
                              <a:avLst/>
                              <a:gdLst>
                                <a:gd name="textAreaLeft" fmla="*/ 0 w 26640"/>
                                <a:gd name="textAreaRight" fmla="*/ 27000 w 26640"/>
                                <a:gd name="textAreaTop" fmla="*/ 0 h 20160"/>
                                <a:gd name="textAreaBottom" fmla="*/ 20520 h 20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" h="13">
                                  <a:moveTo>
                                    <a:pt x="4" y="0"/>
                                  </a:moveTo>
                                  <a:lnTo>
                                    <a:pt x="19" y="13"/>
                                  </a:lnTo>
                                  <a:lnTo>
                                    <a:pt x="0" y="13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" name="Group 83"/>
                          <p:cNvGrpSpPr/>
                          <p:nvPr/>
                        </p:nvGrpSpPr>
                        <p:grpSpPr>
                          <a:xfrm>
                            <a:off x="1843200" y="1815120"/>
                            <a:ext cx="55800" cy="160560"/>
                            <a:chOff x="1843200" y="1815120"/>
                            <a:chExt cx="55800" cy="160560"/>
                          </a:xfrm>
                        </p:grpSpPr>
                        <p:sp>
                          <p:nvSpPr>
                            <p:cNvPr id="135" name="Oval 84"/>
                            <p:cNvSpPr/>
                            <p:nvPr/>
                          </p:nvSpPr>
                          <p:spPr>
                            <a:xfrm>
                              <a:off x="1850040" y="1815120"/>
                              <a:ext cx="48960" cy="1605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" name="Freeform 85"/>
                            <p:cNvSpPr/>
                            <p:nvPr/>
                          </p:nvSpPr>
                          <p:spPr>
                            <a:xfrm>
                              <a:off x="1843200" y="1865160"/>
                              <a:ext cx="25200" cy="20160"/>
                            </a:xfrm>
                            <a:custGeom>
                              <a:avLst/>
                              <a:gdLst>
                                <a:gd name="textAreaLeft" fmla="*/ 0 w 25200"/>
                                <a:gd name="textAreaRight" fmla="*/ 25560 w 25200"/>
                                <a:gd name="textAreaTop" fmla="*/ 0 h 20160"/>
                                <a:gd name="textAreaBottom" fmla="*/ 20520 h 20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" h="13">
                                  <a:moveTo>
                                    <a:pt x="3" y="0"/>
                                  </a:moveTo>
                                  <a:lnTo>
                                    <a:pt x="18" y="13"/>
                                  </a:lnTo>
                                  <a:lnTo>
                                    <a:pt x="0" y="13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7" name="Group 86"/>
                      <p:cNvGrpSpPr/>
                      <p:nvPr/>
                    </p:nvGrpSpPr>
                    <p:grpSpPr>
                      <a:xfrm>
                        <a:off x="1762560" y="1933560"/>
                        <a:ext cx="179280" cy="216720"/>
                        <a:chOff x="1762560" y="1933560"/>
                        <a:chExt cx="179280" cy="216720"/>
                      </a:xfrm>
                    </p:grpSpPr>
                    <p:sp>
                      <p:nvSpPr>
                        <p:cNvPr id="138" name="Oval 87"/>
                        <p:cNvSpPr/>
                        <p:nvPr/>
                      </p:nvSpPr>
                      <p:spPr>
                        <a:xfrm>
                          <a:off x="1762560" y="1953720"/>
                          <a:ext cx="169920" cy="1965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Oval 88"/>
                        <p:cNvSpPr/>
                        <p:nvPr/>
                      </p:nvSpPr>
                      <p:spPr>
                        <a:xfrm>
                          <a:off x="1772280" y="1933560"/>
                          <a:ext cx="169560" cy="19980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40" name="Freeform 89"/>
                  <p:cNvSpPr/>
                  <p:nvPr/>
                </p:nvSpPr>
                <p:spPr>
                  <a:xfrm>
                    <a:off x="1162080" y="1464120"/>
                    <a:ext cx="497520" cy="556560"/>
                  </a:xfrm>
                  <a:custGeom>
                    <a:avLst/>
                    <a:gdLst>
                      <a:gd name="textAreaLeft" fmla="*/ 0 w 497520"/>
                      <a:gd name="textAreaRight" fmla="*/ 497880 w 497520"/>
                      <a:gd name="textAreaTop" fmla="*/ 0 h 556560"/>
                      <a:gd name="textAreaBottom" fmla="*/ 556920 h 556560"/>
                    </a:gdLst>
                    <a:ahLst/>
                    <a:rect l="textAreaLeft" t="textAreaTop" r="textAreaRight" b="textAreaBottom"/>
                    <a:pathLst>
                      <a:path w="351" h="353">
                        <a:moveTo>
                          <a:pt x="43" y="62"/>
                        </a:moveTo>
                        <a:lnTo>
                          <a:pt x="25" y="92"/>
                        </a:lnTo>
                        <a:lnTo>
                          <a:pt x="12" y="119"/>
                        </a:lnTo>
                        <a:lnTo>
                          <a:pt x="3" y="158"/>
                        </a:lnTo>
                        <a:lnTo>
                          <a:pt x="0" y="200"/>
                        </a:lnTo>
                        <a:lnTo>
                          <a:pt x="2" y="234"/>
                        </a:lnTo>
                        <a:lnTo>
                          <a:pt x="10" y="268"/>
                        </a:lnTo>
                        <a:lnTo>
                          <a:pt x="20" y="300"/>
                        </a:lnTo>
                        <a:lnTo>
                          <a:pt x="35" y="330"/>
                        </a:lnTo>
                        <a:lnTo>
                          <a:pt x="50" y="353"/>
                        </a:lnTo>
                        <a:lnTo>
                          <a:pt x="62" y="338"/>
                        </a:lnTo>
                        <a:lnTo>
                          <a:pt x="75" y="325"/>
                        </a:lnTo>
                        <a:lnTo>
                          <a:pt x="92" y="319"/>
                        </a:lnTo>
                        <a:lnTo>
                          <a:pt x="108" y="315"/>
                        </a:lnTo>
                        <a:lnTo>
                          <a:pt x="127" y="317"/>
                        </a:lnTo>
                        <a:lnTo>
                          <a:pt x="145" y="323"/>
                        </a:lnTo>
                        <a:lnTo>
                          <a:pt x="160" y="336"/>
                        </a:lnTo>
                        <a:lnTo>
                          <a:pt x="171" y="340"/>
                        </a:lnTo>
                        <a:lnTo>
                          <a:pt x="170" y="296"/>
                        </a:lnTo>
                        <a:lnTo>
                          <a:pt x="175" y="264"/>
                        </a:lnTo>
                        <a:lnTo>
                          <a:pt x="183" y="234"/>
                        </a:lnTo>
                        <a:lnTo>
                          <a:pt x="196" y="204"/>
                        </a:lnTo>
                        <a:lnTo>
                          <a:pt x="211" y="177"/>
                        </a:lnTo>
                        <a:lnTo>
                          <a:pt x="226" y="151"/>
                        </a:lnTo>
                        <a:lnTo>
                          <a:pt x="248" y="121"/>
                        </a:lnTo>
                        <a:lnTo>
                          <a:pt x="268" y="98"/>
                        </a:lnTo>
                        <a:lnTo>
                          <a:pt x="293" y="79"/>
                        </a:lnTo>
                        <a:lnTo>
                          <a:pt x="318" y="60"/>
                        </a:lnTo>
                        <a:lnTo>
                          <a:pt x="351" y="36"/>
                        </a:lnTo>
                        <a:lnTo>
                          <a:pt x="201" y="0"/>
                        </a:lnTo>
                        <a:lnTo>
                          <a:pt x="43" y="62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90"/>
                <p:cNvGrpSpPr/>
                <p:nvPr/>
              </p:nvGrpSpPr>
              <p:grpSpPr>
                <a:xfrm>
                  <a:off x="1055880" y="620640"/>
                  <a:ext cx="880560" cy="1205640"/>
                  <a:chOff x="1055880" y="620640"/>
                  <a:chExt cx="880560" cy="1205640"/>
                </a:xfrm>
              </p:grpSpPr>
              <p:grpSp>
                <p:nvGrpSpPr>
                  <p:cNvPr id="142" name="Group 91"/>
                  <p:cNvGrpSpPr/>
                  <p:nvPr/>
                </p:nvGrpSpPr>
                <p:grpSpPr>
                  <a:xfrm>
                    <a:off x="1225800" y="620640"/>
                    <a:ext cx="632520" cy="551520"/>
                    <a:chOff x="1225800" y="620640"/>
                    <a:chExt cx="632520" cy="551520"/>
                  </a:xfrm>
                </p:grpSpPr>
                <p:sp>
                  <p:nvSpPr>
                    <p:cNvPr id="143" name="Freeform 92"/>
                    <p:cNvSpPr/>
                    <p:nvPr/>
                  </p:nvSpPr>
                  <p:spPr>
                    <a:xfrm>
                      <a:off x="1225800" y="677160"/>
                      <a:ext cx="628200" cy="495000"/>
                    </a:xfrm>
                    <a:custGeom>
                      <a:avLst/>
                      <a:gdLst>
                        <a:gd name="textAreaLeft" fmla="*/ 0 w 628200"/>
                        <a:gd name="textAreaRight" fmla="*/ 628560 w 628200"/>
                        <a:gd name="textAreaTop" fmla="*/ 0 h 495000"/>
                        <a:gd name="textAreaBottom" fmla="*/ 495360 h 495000"/>
                      </a:gdLst>
                      <a:ahLst/>
                      <a:rect l="textAreaLeft" t="textAreaTop" r="textAreaRight" b="textAreaBottom"/>
                      <a:pathLst>
                        <a:path w="443" h="314">
                          <a:moveTo>
                            <a:pt x="0" y="0"/>
                          </a:moveTo>
                          <a:lnTo>
                            <a:pt x="12" y="314"/>
                          </a:lnTo>
                          <a:lnTo>
                            <a:pt x="429" y="312"/>
                          </a:lnTo>
                          <a:lnTo>
                            <a:pt x="443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Oval 93"/>
                    <p:cNvSpPr/>
                    <p:nvPr/>
                  </p:nvSpPr>
                  <p:spPr>
                    <a:xfrm>
                      <a:off x="1225800" y="620640"/>
                      <a:ext cx="632520" cy="119520"/>
                    </a:xfrm>
                    <a:prstGeom prst="ellipse">
                      <a:avLst/>
                    </a:pr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" name="Group 94"/>
                  <p:cNvGrpSpPr/>
                  <p:nvPr/>
                </p:nvGrpSpPr>
                <p:grpSpPr>
                  <a:xfrm>
                    <a:off x="1055880" y="965880"/>
                    <a:ext cx="880560" cy="860400"/>
                    <a:chOff x="1055880" y="965880"/>
                    <a:chExt cx="880560" cy="860400"/>
                  </a:xfrm>
                </p:grpSpPr>
                <p:grpSp>
                  <p:nvGrpSpPr>
                    <p:cNvPr id="146" name="Group 95"/>
                    <p:cNvGrpSpPr/>
                    <p:nvPr/>
                  </p:nvGrpSpPr>
                  <p:grpSpPr>
                    <a:xfrm>
                      <a:off x="1236960" y="965880"/>
                      <a:ext cx="606960" cy="554400"/>
                      <a:chOff x="1236960" y="965880"/>
                      <a:chExt cx="606960" cy="554400"/>
                    </a:xfrm>
                  </p:grpSpPr>
                  <p:sp>
                    <p:nvSpPr>
                      <p:cNvPr id="147" name="Freeform 96"/>
                      <p:cNvSpPr/>
                      <p:nvPr/>
                    </p:nvSpPr>
                    <p:spPr>
                      <a:xfrm>
                        <a:off x="1236960" y="1069560"/>
                        <a:ext cx="602280" cy="450720"/>
                      </a:xfrm>
                      <a:custGeom>
                        <a:avLst/>
                        <a:gdLst>
                          <a:gd name="textAreaLeft" fmla="*/ 0 w 602280"/>
                          <a:gd name="textAreaRight" fmla="*/ 602640 w 60228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425" h="286">
                            <a:moveTo>
                              <a:pt x="0" y="0"/>
                            </a:moveTo>
                            <a:lnTo>
                              <a:pt x="12" y="272"/>
                            </a:lnTo>
                            <a:lnTo>
                              <a:pt x="416" y="286"/>
                            </a:lnTo>
                            <a:lnTo>
                              <a:pt x="425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Oval 97"/>
                      <p:cNvSpPr/>
                      <p:nvPr/>
                    </p:nvSpPr>
                    <p:spPr>
                      <a:xfrm>
                        <a:off x="1242720" y="965880"/>
                        <a:ext cx="601200" cy="2268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9" name="Freeform 98"/>
                    <p:cNvSpPr/>
                    <p:nvPr/>
                  </p:nvSpPr>
                  <p:spPr>
                    <a:xfrm>
                      <a:off x="1055880" y="1433880"/>
                      <a:ext cx="880560" cy="392400"/>
                    </a:xfrm>
                    <a:custGeom>
                      <a:avLst/>
                      <a:gdLst>
                        <a:gd name="textAreaLeft" fmla="*/ 0 w 880560"/>
                        <a:gd name="textAreaRight" fmla="*/ 880920 w 880560"/>
                        <a:gd name="textAreaTop" fmla="*/ 0 h 392400"/>
                        <a:gd name="textAreaBottom" fmla="*/ 392760 h 392400"/>
                      </a:gdLst>
                      <a:ahLst/>
                      <a:rect l="textAreaLeft" t="textAreaTop" r="textAreaRight" b="textAreaBottom"/>
                      <a:pathLst>
                        <a:path w="621" h="249">
                          <a:moveTo>
                            <a:pt x="138" y="4"/>
                          </a:moveTo>
                          <a:lnTo>
                            <a:pt x="173" y="0"/>
                          </a:lnTo>
                          <a:lnTo>
                            <a:pt x="220" y="0"/>
                          </a:lnTo>
                          <a:lnTo>
                            <a:pt x="273" y="4"/>
                          </a:lnTo>
                          <a:lnTo>
                            <a:pt x="321" y="15"/>
                          </a:lnTo>
                          <a:lnTo>
                            <a:pt x="370" y="26"/>
                          </a:lnTo>
                          <a:lnTo>
                            <a:pt x="421" y="36"/>
                          </a:lnTo>
                          <a:lnTo>
                            <a:pt x="458" y="43"/>
                          </a:lnTo>
                          <a:lnTo>
                            <a:pt x="486" y="45"/>
                          </a:lnTo>
                          <a:lnTo>
                            <a:pt x="526" y="43"/>
                          </a:lnTo>
                          <a:lnTo>
                            <a:pt x="563" y="41"/>
                          </a:lnTo>
                          <a:lnTo>
                            <a:pt x="588" y="36"/>
                          </a:lnTo>
                          <a:lnTo>
                            <a:pt x="621" y="32"/>
                          </a:lnTo>
                          <a:lnTo>
                            <a:pt x="621" y="55"/>
                          </a:lnTo>
                          <a:lnTo>
                            <a:pt x="589" y="62"/>
                          </a:lnTo>
                          <a:lnTo>
                            <a:pt x="549" y="64"/>
                          </a:lnTo>
                          <a:lnTo>
                            <a:pt x="501" y="66"/>
                          </a:lnTo>
                          <a:lnTo>
                            <a:pt x="446" y="64"/>
                          </a:lnTo>
                          <a:lnTo>
                            <a:pt x="393" y="64"/>
                          </a:lnTo>
                          <a:lnTo>
                            <a:pt x="338" y="62"/>
                          </a:lnTo>
                          <a:lnTo>
                            <a:pt x="285" y="62"/>
                          </a:lnTo>
                          <a:lnTo>
                            <a:pt x="245" y="64"/>
                          </a:lnTo>
                          <a:lnTo>
                            <a:pt x="208" y="72"/>
                          </a:lnTo>
                          <a:lnTo>
                            <a:pt x="175" y="85"/>
                          </a:lnTo>
                          <a:lnTo>
                            <a:pt x="147" y="102"/>
                          </a:lnTo>
                          <a:lnTo>
                            <a:pt x="123" y="121"/>
                          </a:lnTo>
                          <a:lnTo>
                            <a:pt x="102" y="147"/>
                          </a:lnTo>
                          <a:lnTo>
                            <a:pt x="88" y="172"/>
                          </a:lnTo>
                          <a:lnTo>
                            <a:pt x="78" y="196"/>
                          </a:lnTo>
                          <a:lnTo>
                            <a:pt x="77" y="221"/>
                          </a:lnTo>
                          <a:lnTo>
                            <a:pt x="78" y="249"/>
                          </a:lnTo>
                          <a:lnTo>
                            <a:pt x="57" y="242"/>
                          </a:lnTo>
                          <a:lnTo>
                            <a:pt x="42" y="234"/>
                          </a:lnTo>
                          <a:lnTo>
                            <a:pt x="23" y="217"/>
                          </a:lnTo>
                          <a:lnTo>
                            <a:pt x="10" y="196"/>
                          </a:lnTo>
                          <a:lnTo>
                            <a:pt x="2" y="172"/>
                          </a:lnTo>
                          <a:lnTo>
                            <a:pt x="0" y="145"/>
                          </a:lnTo>
                          <a:lnTo>
                            <a:pt x="2" y="119"/>
                          </a:lnTo>
                          <a:lnTo>
                            <a:pt x="7" y="96"/>
                          </a:lnTo>
                          <a:lnTo>
                            <a:pt x="17" y="77"/>
                          </a:lnTo>
                          <a:lnTo>
                            <a:pt x="30" y="62"/>
                          </a:lnTo>
                          <a:lnTo>
                            <a:pt x="47" y="47"/>
                          </a:lnTo>
                          <a:lnTo>
                            <a:pt x="68" y="32"/>
                          </a:lnTo>
                          <a:lnTo>
                            <a:pt x="90" y="21"/>
                          </a:lnTo>
                          <a:lnTo>
                            <a:pt x="113" y="13"/>
                          </a:lnTo>
                          <a:lnTo>
                            <a:pt x="138" y="4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0" name="Group 99"/>
              <p:cNvGrpSpPr/>
              <p:nvPr/>
            </p:nvGrpSpPr>
            <p:grpSpPr>
              <a:xfrm>
                <a:off x="539640" y="1279800"/>
                <a:ext cx="2818440" cy="4669560"/>
                <a:chOff x="539640" y="1279800"/>
                <a:chExt cx="2818440" cy="4669560"/>
              </a:xfrm>
            </p:grpSpPr>
            <p:grpSp>
              <p:nvGrpSpPr>
                <p:cNvPr id="151" name="Group 100"/>
                <p:cNvGrpSpPr/>
                <p:nvPr/>
              </p:nvGrpSpPr>
              <p:grpSpPr>
                <a:xfrm>
                  <a:off x="1018800" y="5050440"/>
                  <a:ext cx="1805400" cy="898920"/>
                  <a:chOff x="1018800" y="5050440"/>
                  <a:chExt cx="1805400" cy="898920"/>
                </a:xfrm>
              </p:grpSpPr>
              <p:sp>
                <p:nvSpPr>
                  <p:cNvPr id="152" name="Freeform 101"/>
                  <p:cNvSpPr/>
                  <p:nvPr/>
                </p:nvSpPr>
                <p:spPr>
                  <a:xfrm>
                    <a:off x="1997280" y="5137200"/>
                    <a:ext cx="826920" cy="630720"/>
                  </a:xfrm>
                  <a:custGeom>
                    <a:avLst/>
                    <a:gdLst>
                      <a:gd name="textAreaLeft" fmla="*/ 0 w 826920"/>
                      <a:gd name="textAreaRight" fmla="*/ 827280 w 826920"/>
                      <a:gd name="textAreaTop" fmla="*/ 0 h 630720"/>
                      <a:gd name="textAreaBottom" fmla="*/ 631080 h 630720"/>
                    </a:gdLst>
                    <a:ahLst/>
                    <a:rect l="textAreaLeft" t="textAreaTop" r="textAreaRight" b="textAreaBottom"/>
                    <a:pathLst>
                      <a:path w="583" h="400">
                        <a:moveTo>
                          <a:pt x="75" y="13"/>
                        </a:moveTo>
                        <a:lnTo>
                          <a:pt x="58" y="28"/>
                        </a:lnTo>
                        <a:lnTo>
                          <a:pt x="43" y="51"/>
                        </a:lnTo>
                        <a:lnTo>
                          <a:pt x="27" y="83"/>
                        </a:lnTo>
                        <a:lnTo>
                          <a:pt x="13" y="113"/>
                        </a:lnTo>
                        <a:lnTo>
                          <a:pt x="5" y="147"/>
                        </a:lnTo>
                        <a:lnTo>
                          <a:pt x="0" y="190"/>
                        </a:lnTo>
                        <a:lnTo>
                          <a:pt x="5" y="228"/>
                        </a:lnTo>
                        <a:lnTo>
                          <a:pt x="18" y="272"/>
                        </a:lnTo>
                        <a:lnTo>
                          <a:pt x="33" y="281"/>
                        </a:lnTo>
                        <a:lnTo>
                          <a:pt x="68" y="279"/>
                        </a:lnTo>
                        <a:lnTo>
                          <a:pt x="75" y="306"/>
                        </a:lnTo>
                        <a:lnTo>
                          <a:pt x="85" y="340"/>
                        </a:lnTo>
                        <a:lnTo>
                          <a:pt x="102" y="353"/>
                        </a:lnTo>
                        <a:lnTo>
                          <a:pt x="133" y="372"/>
                        </a:lnTo>
                        <a:lnTo>
                          <a:pt x="167" y="385"/>
                        </a:lnTo>
                        <a:lnTo>
                          <a:pt x="207" y="396"/>
                        </a:lnTo>
                        <a:lnTo>
                          <a:pt x="243" y="400"/>
                        </a:lnTo>
                        <a:lnTo>
                          <a:pt x="285" y="398"/>
                        </a:lnTo>
                        <a:lnTo>
                          <a:pt x="328" y="394"/>
                        </a:lnTo>
                        <a:lnTo>
                          <a:pt x="368" y="385"/>
                        </a:lnTo>
                        <a:lnTo>
                          <a:pt x="413" y="372"/>
                        </a:lnTo>
                        <a:lnTo>
                          <a:pt x="456" y="355"/>
                        </a:lnTo>
                        <a:lnTo>
                          <a:pt x="489" y="336"/>
                        </a:lnTo>
                        <a:lnTo>
                          <a:pt x="519" y="315"/>
                        </a:lnTo>
                        <a:lnTo>
                          <a:pt x="549" y="285"/>
                        </a:lnTo>
                        <a:lnTo>
                          <a:pt x="566" y="260"/>
                        </a:lnTo>
                        <a:lnTo>
                          <a:pt x="578" y="234"/>
                        </a:lnTo>
                        <a:lnTo>
                          <a:pt x="583" y="213"/>
                        </a:lnTo>
                        <a:lnTo>
                          <a:pt x="579" y="187"/>
                        </a:lnTo>
                        <a:lnTo>
                          <a:pt x="571" y="162"/>
                        </a:lnTo>
                        <a:lnTo>
                          <a:pt x="561" y="145"/>
                        </a:lnTo>
                        <a:lnTo>
                          <a:pt x="546" y="132"/>
                        </a:lnTo>
                        <a:lnTo>
                          <a:pt x="528" y="124"/>
                        </a:lnTo>
                        <a:lnTo>
                          <a:pt x="494" y="111"/>
                        </a:lnTo>
                        <a:lnTo>
                          <a:pt x="440" y="90"/>
                        </a:lnTo>
                        <a:lnTo>
                          <a:pt x="383" y="68"/>
                        </a:lnTo>
                        <a:lnTo>
                          <a:pt x="330" y="51"/>
                        </a:lnTo>
                        <a:lnTo>
                          <a:pt x="298" y="43"/>
                        </a:lnTo>
                        <a:lnTo>
                          <a:pt x="285" y="28"/>
                        </a:lnTo>
                        <a:lnTo>
                          <a:pt x="253" y="0"/>
                        </a:lnTo>
                        <a:lnTo>
                          <a:pt x="75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02"/>
                  <p:cNvSpPr/>
                  <p:nvPr/>
                </p:nvSpPr>
                <p:spPr>
                  <a:xfrm>
                    <a:off x="1018800" y="5050440"/>
                    <a:ext cx="853920" cy="898920"/>
                  </a:xfrm>
                  <a:custGeom>
                    <a:avLst/>
                    <a:gdLst>
                      <a:gd name="textAreaLeft" fmla="*/ 0 w 853920"/>
                      <a:gd name="textAreaRight" fmla="*/ 854280 w 853920"/>
                      <a:gd name="textAreaTop" fmla="*/ 0 h 898920"/>
                      <a:gd name="textAreaBottom" fmla="*/ 899280 h 898920"/>
                    </a:gdLst>
                    <a:ahLst/>
                    <a:rect l="textAreaLeft" t="textAreaTop" r="textAreaRight" b="textAreaBottom"/>
                    <a:pathLst>
                      <a:path w="602" h="570">
                        <a:moveTo>
                          <a:pt x="362" y="4"/>
                        </a:moveTo>
                        <a:lnTo>
                          <a:pt x="336" y="28"/>
                        </a:lnTo>
                        <a:lnTo>
                          <a:pt x="297" y="55"/>
                        </a:lnTo>
                        <a:lnTo>
                          <a:pt x="259" y="87"/>
                        </a:lnTo>
                        <a:lnTo>
                          <a:pt x="233" y="111"/>
                        </a:lnTo>
                        <a:lnTo>
                          <a:pt x="204" y="134"/>
                        </a:lnTo>
                        <a:lnTo>
                          <a:pt x="178" y="155"/>
                        </a:lnTo>
                        <a:lnTo>
                          <a:pt x="148" y="181"/>
                        </a:lnTo>
                        <a:lnTo>
                          <a:pt x="108" y="213"/>
                        </a:lnTo>
                        <a:lnTo>
                          <a:pt x="66" y="242"/>
                        </a:lnTo>
                        <a:lnTo>
                          <a:pt x="51" y="255"/>
                        </a:lnTo>
                        <a:lnTo>
                          <a:pt x="34" y="283"/>
                        </a:lnTo>
                        <a:lnTo>
                          <a:pt x="21" y="313"/>
                        </a:lnTo>
                        <a:lnTo>
                          <a:pt x="10" y="353"/>
                        </a:lnTo>
                        <a:lnTo>
                          <a:pt x="3" y="387"/>
                        </a:lnTo>
                        <a:lnTo>
                          <a:pt x="0" y="423"/>
                        </a:lnTo>
                        <a:lnTo>
                          <a:pt x="0" y="463"/>
                        </a:lnTo>
                        <a:lnTo>
                          <a:pt x="3" y="500"/>
                        </a:lnTo>
                        <a:lnTo>
                          <a:pt x="11" y="534"/>
                        </a:lnTo>
                        <a:lnTo>
                          <a:pt x="18" y="544"/>
                        </a:lnTo>
                        <a:lnTo>
                          <a:pt x="36" y="557"/>
                        </a:lnTo>
                        <a:lnTo>
                          <a:pt x="63" y="565"/>
                        </a:lnTo>
                        <a:lnTo>
                          <a:pt x="103" y="570"/>
                        </a:lnTo>
                        <a:lnTo>
                          <a:pt x="146" y="568"/>
                        </a:lnTo>
                        <a:lnTo>
                          <a:pt x="194" y="561"/>
                        </a:lnTo>
                        <a:lnTo>
                          <a:pt x="238" y="555"/>
                        </a:lnTo>
                        <a:lnTo>
                          <a:pt x="281" y="544"/>
                        </a:lnTo>
                        <a:lnTo>
                          <a:pt x="326" y="531"/>
                        </a:lnTo>
                        <a:lnTo>
                          <a:pt x="367" y="517"/>
                        </a:lnTo>
                        <a:lnTo>
                          <a:pt x="399" y="489"/>
                        </a:lnTo>
                        <a:lnTo>
                          <a:pt x="427" y="444"/>
                        </a:lnTo>
                        <a:lnTo>
                          <a:pt x="449" y="398"/>
                        </a:lnTo>
                        <a:lnTo>
                          <a:pt x="469" y="353"/>
                        </a:lnTo>
                        <a:lnTo>
                          <a:pt x="490" y="315"/>
                        </a:lnTo>
                        <a:lnTo>
                          <a:pt x="510" y="283"/>
                        </a:lnTo>
                        <a:lnTo>
                          <a:pt x="537" y="268"/>
                        </a:lnTo>
                        <a:lnTo>
                          <a:pt x="565" y="245"/>
                        </a:lnTo>
                        <a:lnTo>
                          <a:pt x="589" y="223"/>
                        </a:lnTo>
                        <a:lnTo>
                          <a:pt x="597" y="187"/>
                        </a:lnTo>
                        <a:lnTo>
                          <a:pt x="600" y="149"/>
                        </a:lnTo>
                        <a:lnTo>
                          <a:pt x="602" y="119"/>
                        </a:lnTo>
                        <a:lnTo>
                          <a:pt x="594" y="89"/>
                        </a:lnTo>
                        <a:lnTo>
                          <a:pt x="580" y="64"/>
                        </a:lnTo>
                        <a:lnTo>
                          <a:pt x="567" y="43"/>
                        </a:lnTo>
                        <a:lnTo>
                          <a:pt x="550" y="24"/>
                        </a:lnTo>
                        <a:lnTo>
                          <a:pt x="520" y="0"/>
                        </a:lnTo>
                        <a:lnTo>
                          <a:pt x="36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03"/>
                <p:cNvGrpSpPr/>
                <p:nvPr/>
              </p:nvGrpSpPr>
              <p:grpSpPr>
                <a:xfrm>
                  <a:off x="539640" y="1279800"/>
                  <a:ext cx="2818440" cy="3957480"/>
                  <a:chOff x="539640" y="1279800"/>
                  <a:chExt cx="2818440" cy="3957480"/>
                </a:xfrm>
              </p:grpSpPr>
              <p:grpSp>
                <p:nvGrpSpPr>
                  <p:cNvPr id="155" name="Group 104"/>
                  <p:cNvGrpSpPr/>
                  <p:nvPr/>
                </p:nvGrpSpPr>
                <p:grpSpPr>
                  <a:xfrm>
                    <a:off x="539640" y="1279800"/>
                    <a:ext cx="2818440" cy="3957480"/>
                    <a:chOff x="539640" y="1279800"/>
                    <a:chExt cx="2818440" cy="3957480"/>
                  </a:xfrm>
                </p:grpSpPr>
                <p:grpSp>
                  <p:nvGrpSpPr>
                    <p:cNvPr id="156" name="Group 105"/>
                    <p:cNvGrpSpPr/>
                    <p:nvPr/>
                  </p:nvGrpSpPr>
                  <p:grpSpPr>
                    <a:xfrm>
                      <a:off x="2673000" y="1279800"/>
                      <a:ext cx="685080" cy="827640"/>
                      <a:chOff x="2673000" y="1279800"/>
                      <a:chExt cx="685080" cy="827640"/>
                    </a:xfrm>
                  </p:grpSpPr>
                  <p:sp>
                    <p:nvSpPr>
                      <p:cNvPr id="157" name="Freeform 106"/>
                      <p:cNvSpPr/>
                      <p:nvPr/>
                    </p:nvSpPr>
                    <p:spPr>
                      <a:xfrm>
                        <a:off x="2673000" y="1279800"/>
                        <a:ext cx="685080" cy="827640"/>
                      </a:xfrm>
                      <a:custGeom>
                        <a:avLst/>
                        <a:gdLst>
                          <a:gd name="textAreaLeft" fmla="*/ 0 w 685080"/>
                          <a:gd name="textAreaRight" fmla="*/ 685440 w 685080"/>
                          <a:gd name="textAreaTop" fmla="*/ 0 h 827640"/>
                          <a:gd name="textAreaBottom" fmla="*/ 828000 h 827640"/>
                        </a:gdLst>
                        <a:ahLst/>
                        <a:rect l="textAreaLeft" t="textAreaTop" r="textAreaRight" b="textAreaBottom"/>
                        <a:pathLst>
                          <a:path w="483" h="525">
                            <a:moveTo>
                              <a:pt x="0" y="336"/>
                            </a:moveTo>
                            <a:lnTo>
                              <a:pt x="22" y="319"/>
                            </a:lnTo>
                            <a:lnTo>
                              <a:pt x="50" y="304"/>
                            </a:lnTo>
                            <a:lnTo>
                              <a:pt x="80" y="289"/>
                            </a:lnTo>
                            <a:lnTo>
                              <a:pt x="85" y="255"/>
                            </a:lnTo>
                            <a:lnTo>
                              <a:pt x="93" y="219"/>
                            </a:lnTo>
                            <a:lnTo>
                              <a:pt x="100" y="190"/>
                            </a:lnTo>
                            <a:lnTo>
                              <a:pt x="112" y="158"/>
                            </a:lnTo>
                            <a:lnTo>
                              <a:pt x="128" y="128"/>
                            </a:lnTo>
                            <a:lnTo>
                              <a:pt x="143" y="111"/>
                            </a:lnTo>
                            <a:lnTo>
                              <a:pt x="158" y="96"/>
                            </a:lnTo>
                            <a:lnTo>
                              <a:pt x="177" y="85"/>
                            </a:lnTo>
                            <a:lnTo>
                              <a:pt x="200" y="77"/>
                            </a:lnTo>
                            <a:lnTo>
                              <a:pt x="230" y="73"/>
                            </a:lnTo>
                            <a:lnTo>
                              <a:pt x="265" y="77"/>
                            </a:lnTo>
                            <a:lnTo>
                              <a:pt x="270" y="49"/>
                            </a:lnTo>
                            <a:lnTo>
                              <a:pt x="278" y="22"/>
                            </a:lnTo>
                            <a:lnTo>
                              <a:pt x="300" y="13"/>
                            </a:lnTo>
                            <a:lnTo>
                              <a:pt x="325" y="7"/>
                            </a:lnTo>
                            <a:lnTo>
                              <a:pt x="355" y="0"/>
                            </a:lnTo>
                            <a:lnTo>
                              <a:pt x="366" y="5"/>
                            </a:lnTo>
                            <a:lnTo>
                              <a:pt x="378" y="11"/>
                            </a:lnTo>
                            <a:lnTo>
                              <a:pt x="385" y="20"/>
                            </a:lnTo>
                            <a:lnTo>
                              <a:pt x="388" y="32"/>
                            </a:lnTo>
                            <a:lnTo>
                              <a:pt x="386" y="49"/>
                            </a:lnTo>
                            <a:lnTo>
                              <a:pt x="381" y="66"/>
                            </a:lnTo>
                            <a:lnTo>
                              <a:pt x="371" y="81"/>
                            </a:lnTo>
                            <a:lnTo>
                              <a:pt x="361" y="90"/>
                            </a:lnTo>
                            <a:lnTo>
                              <a:pt x="345" y="102"/>
                            </a:lnTo>
                            <a:lnTo>
                              <a:pt x="328" y="111"/>
                            </a:lnTo>
                            <a:lnTo>
                              <a:pt x="330" y="130"/>
                            </a:lnTo>
                            <a:lnTo>
                              <a:pt x="346" y="134"/>
                            </a:lnTo>
                            <a:lnTo>
                              <a:pt x="365" y="141"/>
                            </a:lnTo>
                            <a:lnTo>
                              <a:pt x="381" y="149"/>
                            </a:lnTo>
                            <a:lnTo>
                              <a:pt x="396" y="162"/>
                            </a:lnTo>
                            <a:lnTo>
                              <a:pt x="408" y="179"/>
                            </a:lnTo>
                            <a:lnTo>
                              <a:pt x="413" y="207"/>
                            </a:lnTo>
                            <a:lnTo>
                              <a:pt x="410" y="234"/>
                            </a:lnTo>
                            <a:lnTo>
                              <a:pt x="433" y="236"/>
                            </a:lnTo>
                            <a:lnTo>
                              <a:pt x="459" y="243"/>
                            </a:lnTo>
                            <a:lnTo>
                              <a:pt x="471" y="264"/>
                            </a:lnTo>
                            <a:lnTo>
                              <a:pt x="479" y="304"/>
                            </a:lnTo>
                            <a:lnTo>
                              <a:pt x="483" y="343"/>
                            </a:lnTo>
                            <a:lnTo>
                              <a:pt x="481" y="379"/>
                            </a:lnTo>
                            <a:lnTo>
                              <a:pt x="476" y="415"/>
                            </a:lnTo>
                            <a:lnTo>
                              <a:pt x="466" y="455"/>
                            </a:lnTo>
                            <a:lnTo>
                              <a:pt x="456" y="487"/>
                            </a:lnTo>
                            <a:lnTo>
                              <a:pt x="448" y="517"/>
                            </a:lnTo>
                            <a:lnTo>
                              <a:pt x="416" y="523"/>
                            </a:lnTo>
                            <a:lnTo>
                              <a:pt x="390" y="525"/>
                            </a:lnTo>
                            <a:lnTo>
                              <a:pt x="370" y="521"/>
                            </a:lnTo>
                            <a:lnTo>
                              <a:pt x="346" y="510"/>
                            </a:lnTo>
                            <a:lnTo>
                              <a:pt x="323" y="502"/>
                            </a:lnTo>
                            <a:lnTo>
                              <a:pt x="296" y="506"/>
                            </a:lnTo>
                            <a:lnTo>
                              <a:pt x="276" y="513"/>
                            </a:lnTo>
                            <a:lnTo>
                              <a:pt x="246" y="517"/>
                            </a:lnTo>
                            <a:lnTo>
                              <a:pt x="220" y="513"/>
                            </a:lnTo>
                            <a:lnTo>
                              <a:pt x="195" y="504"/>
                            </a:lnTo>
                            <a:lnTo>
                              <a:pt x="168" y="489"/>
                            </a:lnTo>
                            <a:lnTo>
                              <a:pt x="150" y="474"/>
                            </a:lnTo>
                            <a:lnTo>
                              <a:pt x="132" y="462"/>
                            </a:lnTo>
                            <a:lnTo>
                              <a:pt x="117" y="476"/>
                            </a:lnTo>
                            <a:lnTo>
                              <a:pt x="100" y="489"/>
                            </a:lnTo>
                            <a:lnTo>
                              <a:pt x="77" y="500"/>
                            </a:lnTo>
                            <a:lnTo>
                              <a:pt x="0" y="3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05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" name="Freeform 107"/>
                      <p:cNvSpPr/>
                      <p:nvPr/>
                    </p:nvSpPr>
                    <p:spPr>
                      <a:xfrm>
                        <a:off x="2882880" y="1571040"/>
                        <a:ext cx="108720" cy="205200"/>
                      </a:xfrm>
                      <a:custGeom>
                        <a:avLst/>
                        <a:gdLst>
                          <a:gd name="textAreaLeft" fmla="*/ 0 w 108720"/>
                          <a:gd name="textAreaRight" fmla="*/ 109080 w 108720"/>
                          <a:gd name="textAreaTop" fmla="*/ 0 h 205200"/>
                          <a:gd name="textAreaBottom" fmla="*/ 205560 h 205200"/>
                        </a:gdLst>
                        <a:ahLst/>
                        <a:rect l="textAreaLeft" t="textAreaTop" r="textAreaRight" b="textAreaBottom"/>
                        <a:pathLst>
                          <a:path w="77" h="130">
                            <a:moveTo>
                              <a:pt x="0" y="130"/>
                            </a:moveTo>
                            <a:lnTo>
                              <a:pt x="32" y="39"/>
                            </a:lnTo>
                            <a:lnTo>
                              <a:pt x="77" y="0"/>
                            </a:lnTo>
                          </a:path>
                        </a:pathLst>
                      </a:custGeom>
                      <a:noFill/>
                      <a:ln w="205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" name="Freeform 108"/>
                      <p:cNvSpPr/>
                      <p:nvPr/>
                    </p:nvSpPr>
                    <p:spPr>
                      <a:xfrm>
                        <a:off x="2928240" y="1645200"/>
                        <a:ext cx="142920" cy="174600"/>
                      </a:xfrm>
                      <a:custGeom>
                        <a:avLst/>
                        <a:gdLst>
                          <a:gd name="textAreaLeft" fmla="*/ 0 w 142920"/>
                          <a:gd name="textAreaRight" fmla="*/ 143280 w 142920"/>
                          <a:gd name="textAreaTop" fmla="*/ 0 h 174600"/>
                          <a:gd name="textAreaBottom" fmla="*/ 174600 h 174600"/>
                        </a:gdLst>
                        <a:ahLst/>
                        <a:rect l="textAreaLeft" t="textAreaTop" r="textAreaRight" b="textAreaBottom"/>
                        <a:pathLst>
                          <a:path w="101" h="111">
                            <a:moveTo>
                              <a:pt x="0" y="111"/>
                            </a:moveTo>
                            <a:lnTo>
                              <a:pt x="40" y="30"/>
                            </a:lnTo>
                            <a:lnTo>
                              <a:pt x="101" y="0"/>
                            </a:lnTo>
                          </a:path>
                        </a:pathLst>
                      </a:custGeom>
                      <a:noFill/>
                      <a:ln w="205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" name="Group 109"/>
                    <p:cNvGrpSpPr/>
                    <p:nvPr/>
                  </p:nvGrpSpPr>
                  <p:grpSpPr>
                    <a:xfrm>
                      <a:off x="539640" y="1785600"/>
                      <a:ext cx="2264400" cy="3451680"/>
                      <a:chOff x="539640" y="1785600"/>
                      <a:chExt cx="2264400" cy="3451680"/>
                    </a:xfrm>
                  </p:grpSpPr>
                  <p:grpSp>
                    <p:nvGrpSpPr>
                      <p:cNvPr id="161" name="Group 110"/>
                      <p:cNvGrpSpPr/>
                      <p:nvPr/>
                    </p:nvGrpSpPr>
                    <p:grpSpPr>
                      <a:xfrm>
                        <a:off x="539640" y="1785600"/>
                        <a:ext cx="2264400" cy="3451680"/>
                        <a:chOff x="539640" y="1785600"/>
                        <a:chExt cx="2264400" cy="3451680"/>
                      </a:xfrm>
                    </p:grpSpPr>
                    <p:grpSp>
                      <p:nvGrpSpPr>
                        <p:cNvPr id="162" name="Group 111"/>
                        <p:cNvGrpSpPr/>
                        <p:nvPr/>
                      </p:nvGrpSpPr>
                      <p:grpSpPr>
                        <a:xfrm>
                          <a:off x="539640" y="2409840"/>
                          <a:ext cx="1279080" cy="1393560"/>
                          <a:chOff x="539640" y="2409840"/>
                          <a:chExt cx="1279080" cy="1393560"/>
                        </a:xfrm>
                      </p:grpSpPr>
                      <p:sp>
                        <p:nvSpPr>
                          <p:cNvPr id="163" name="Freeform 112"/>
                          <p:cNvSpPr/>
                          <p:nvPr/>
                        </p:nvSpPr>
                        <p:spPr>
                          <a:xfrm>
                            <a:off x="969120" y="2780640"/>
                            <a:ext cx="849600" cy="1022760"/>
                          </a:xfrm>
                          <a:custGeom>
                            <a:avLst/>
                            <a:gdLst>
                              <a:gd name="textAreaLeft" fmla="*/ 0 w 849600"/>
                              <a:gd name="textAreaRight" fmla="*/ 849960 w 849600"/>
                              <a:gd name="textAreaTop" fmla="*/ 0 h 1022760"/>
                              <a:gd name="textAreaBottom" fmla="*/ 1023120 h 1022760"/>
                            </a:gdLst>
                            <a:ahLst/>
                            <a:rect l="textAreaLeft" t="textAreaTop" r="textAreaRight" b="textAreaBottom"/>
                            <a:pathLst>
                              <a:path w="599" h="649">
                                <a:moveTo>
                                  <a:pt x="0" y="351"/>
                                </a:moveTo>
                                <a:lnTo>
                                  <a:pt x="23" y="362"/>
                                </a:lnTo>
                                <a:lnTo>
                                  <a:pt x="40" y="377"/>
                                </a:lnTo>
                                <a:lnTo>
                                  <a:pt x="58" y="396"/>
                                </a:lnTo>
                                <a:lnTo>
                                  <a:pt x="69" y="417"/>
                                </a:lnTo>
                                <a:lnTo>
                                  <a:pt x="83" y="443"/>
                                </a:lnTo>
                                <a:lnTo>
                                  <a:pt x="96" y="472"/>
                                </a:lnTo>
                                <a:lnTo>
                                  <a:pt x="109" y="504"/>
                                </a:lnTo>
                                <a:lnTo>
                                  <a:pt x="123" y="530"/>
                                </a:lnTo>
                                <a:lnTo>
                                  <a:pt x="134" y="555"/>
                                </a:lnTo>
                                <a:lnTo>
                                  <a:pt x="149" y="581"/>
                                </a:lnTo>
                                <a:lnTo>
                                  <a:pt x="171" y="606"/>
                                </a:lnTo>
                                <a:lnTo>
                                  <a:pt x="189" y="623"/>
                                </a:lnTo>
                                <a:lnTo>
                                  <a:pt x="216" y="636"/>
                                </a:lnTo>
                                <a:lnTo>
                                  <a:pt x="241" y="644"/>
                                </a:lnTo>
                                <a:lnTo>
                                  <a:pt x="273" y="649"/>
                                </a:lnTo>
                                <a:lnTo>
                                  <a:pt x="301" y="647"/>
                                </a:lnTo>
                                <a:lnTo>
                                  <a:pt x="332" y="636"/>
                                </a:lnTo>
                                <a:lnTo>
                                  <a:pt x="494" y="553"/>
                                </a:lnTo>
                                <a:lnTo>
                                  <a:pt x="599" y="315"/>
                                </a:lnTo>
                                <a:lnTo>
                                  <a:pt x="599" y="73"/>
                                </a:lnTo>
                                <a:lnTo>
                                  <a:pt x="499" y="0"/>
                                </a:lnTo>
                                <a:lnTo>
                                  <a:pt x="406" y="139"/>
                                </a:lnTo>
                                <a:lnTo>
                                  <a:pt x="0" y="35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" name="Freeform 113"/>
                          <p:cNvSpPr/>
                          <p:nvPr/>
                        </p:nvSpPr>
                        <p:spPr>
                          <a:xfrm>
                            <a:off x="657360" y="2409840"/>
                            <a:ext cx="1029600" cy="531360"/>
                          </a:xfrm>
                          <a:custGeom>
                            <a:avLst/>
                            <a:gdLst>
                              <a:gd name="textAreaLeft" fmla="*/ 0 w 1029600"/>
                              <a:gd name="textAreaRight" fmla="*/ 1029960 w 1029600"/>
                              <a:gd name="textAreaTop" fmla="*/ 0 h 531360"/>
                              <a:gd name="textAreaBottom" fmla="*/ 531720 h 531360"/>
                            </a:gdLst>
                            <a:ahLst/>
                            <a:rect l="textAreaLeft" t="textAreaTop" r="textAreaRight" b="textAreaBottom"/>
                            <a:pathLst>
                              <a:path w="726" h="337">
                                <a:moveTo>
                                  <a:pt x="225" y="323"/>
                                </a:moveTo>
                                <a:lnTo>
                                  <a:pt x="22" y="337"/>
                                </a:lnTo>
                                <a:lnTo>
                                  <a:pt x="0" y="284"/>
                                </a:lnTo>
                                <a:lnTo>
                                  <a:pt x="36" y="293"/>
                                </a:lnTo>
                                <a:lnTo>
                                  <a:pt x="61" y="291"/>
                                </a:lnTo>
                                <a:lnTo>
                                  <a:pt x="90" y="289"/>
                                </a:lnTo>
                                <a:lnTo>
                                  <a:pt x="123" y="280"/>
                                </a:lnTo>
                                <a:lnTo>
                                  <a:pt x="153" y="267"/>
                                </a:lnTo>
                                <a:lnTo>
                                  <a:pt x="183" y="252"/>
                                </a:lnTo>
                                <a:lnTo>
                                  <a:pt x="210" y="233"/>
                                </a:lnTo>
                                <a:lnTo>
                                  <a:pt x="233" y="214"/>
                                </a:lnTo>
                                <a:lnTo>
                                  <a:pt x="251" y="193"/>
                                </a:lnTo>
                                <a:lnTo>
                                  <a:pt x="269" y="167"/>
                                </a:lnTo>
                                <a:lnTo>
                                  <a:pt x="288" y="138"/>
                                </a:lnTo>
                                <a:lnTo>
                                  <a:pt x="304" y="110"/>
                                </a:lnTo>
                                <a:lnTo>
                                  <a:pt x="319" y="85"/>
                                </a:lnTo>
                                <a:lnTo>
                                  <a:pt x="336" y="61"/>
                                </a:lnTo>
                                <a:lnTo>
                                  <a:pt x="356" y="40"/>
                                </a:lnTo>
                                <a:lnTo>
                                  <a:pt x="378" y="23"/>
                                </a:lnTo>
                                <a:lnTo>
                                  <a:pt x="403" y="12"/>
                                </a:lnTo>
                                <a:lnTo>
                                  <a:pt x="428" y="6"/>
                                </a:lnTo>
                                <a:lnTo>
                                  <a:pt x="458" y="2"/>
                                </a:lnTo>
                                <a:lnTo>
                                  <a:pt x="488" y="0"/>
                                </a:lnTo>
                                <a:lnTo>
                                  <a:pt x="519" y="2"/>
                                </a:lnTo>
                                <a:lnTo>
                                  <a:pt x="547" y="6"/>
                                </a:lnTo>
                                <a:lnTo>
                                  <a:pt x="579" y="10"/>
                                </a:lnTo>
                                <a:lnTo>
                                  <a:pt x="611" y="17"/>
                                </a:lnTo>
                                <a:lnTo>
                                  <a:pt x="642" y="23"/>
                                </a:lnTo>
                                <a:lnTo>
                                  <a:pt x="672" y="29"/>
                                </a:lnTo>
                                <a:lnTo>
                                  <a:pt x="707" y="36"/>
                                </a:lnTo>
                                <a:lnTo>
                                  <a:pt x="726" y="112"/>
                                </a:lnTo>
                                <a:lnTo>
                                  <a:pt x="453" y="167"/>
                                </a:lnTo>
                                <a:lnTo>
                                  <a:pt x="225" y="3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1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5" name="Freeform 114"/>
                          <p:cNvSpPr/>
                          <p:nvPr/>
                        </p:nvSpPr>
                        <p:spPr>
                          <a:xfrm>
                            <a:off x="539640" y="2539080"/>
                            <a:ext cx="1149120" cy="824400"/>
                          </a:xfrm>
                          <a:custGeom>
                            <a:avLst/>
                            <a:gdLst>
                              <a:gd name="textAreaLeft" fmla="*/ 0 w 1149120"/>
                              <a:gd name="textAreaRight" fmla="*/ 1149480 w 1149120"/>
                              <a:gd name="textAreaTop" fmla="*/ 0 h 824400"/>
                              <a:gd name="textAreaBottom" fmla="*/ 824760 h 824400"/>
                            </a:gdLst>
                            <a:ahLst/>
                            <a:rect l="textAreaLeft" t="textAreaTop" r="textAreaRight" b="textAreaBottom"/>
                            <a:pathLst>
                              <a:path w="810" h="523">
                                <a:moveTo>
                                  <a:pt x="772" y="11"/>
                                </a:moveTo>
                                <a:lnTo>
                                  <a:pt x="742" y="5"/>
                                </a:lnTo>
                                <a:lnTo>
                                  <a:pt x="712" y="3"/>
                                </a:lnTo>
                                <a:lnTo>
                                  <a:pt x="682" y="0"/>
                                </a:lnTo>
                                <a:lnTo>
                                  <a:pt x="639" y="5"/>
                                </a:lnTo>
                                <a:lnTo>
                                  <a:pt x="602" y="11"/>
                                </a:lnTo>
                                <a:lnTo>
                                  <a:pt x="561" y="20"/>
                                </a:lnTo>
                                <a:lnTo>
                                  <a:pt x="527" y="30"/>
                                </a:lnTo>
                                <a:lnTo>
                                  <a:pt x="496" y="45"/>
                                </a:lnTo>
                                <a:lnTo>
                                  <a:pt x="476" y="64"/>
                                </a:lnTo>
                                <a:lnTo>
                                  <a:pt x="456" y="85"/>
                                </a:lnTo>
                                <a:lnTo>
                                  <a:pt x="434" y="109"/>
                                </a:lnTo>
                                <a:lnTo>
                                  <a:pt x="417" y="128"/>
                                </a:lnTo>
                                <a:lnTo>
                                  <a:pt x="399" y="143"/>
                                </a:lnTo>
                                <a:lnTo>
                                  <a:pt x="374" y="164"/>
                                </a:lnTo>
                                <a:lnTo>
                                  <a:pt x="346" y="183"/>
                                </a:lnTo>
                                <a:lnTo>
                                  <a:pt x="321" y="198"/>
                                </a:lnTo>
                                <a:lnTo>
                                  <a:pt x="291" y="211"/>
                                </a:lnTo>
                                <a:lnTo>
                                  <a:pt x="263" y="219"/>
                                </a:lnTo>
                                <a:lnTo>
                                  <a:pt x="231" y="226"/>
                                </a:lnTo>
                                <a:lnTo>
                                  <a:pt x="201" y="228"/>
                                </a:lnTo>
                                <a:lnTo>
                                  <a:pt x="171" y="226"/>
                                </a:lnTo>
                                <a:lnTo>
                                  <a:pt x="141" y="224"/>
                                </a:lnTo>
                                <a:lnTo>
                                  <a:pt x="110" y="215"/>
                                </a:lnTo>
                                <a:lnTo>
                                  <a:pt x="81" y="209"/>
                                </a:lnTo>
                                <a:lnTo>
                                  <a:pt x="53" y="196"/>
                                </a:lnTo>
                                <a:lnTo>
                                  <a:pt x="25" y="175"/>
                                </a:lnTo>
                                <a:lnTo>
                                  <a:pt x="5" y="156"/>
                                </a:lnTo>
                                <a:lnTo>
                                  <a:pt x="1" y="179"/>
                                </a:lnTo>
                                <a:lnTo>
                                  <a:pt x="0" y="207"/>
                                </a:lnTo>
                                <a:lnTo>
                                  <a:pt x="0" y="232"/>
                                </a:lnTo>
                                <a:lnTo>
                                  <a:pt x="3" y="260"/>
                                </a:lnTo>
                                <a:lnTo>
                                  <a:pt x="8" y="287"/>
                                </a:lnTo>
                                <a:lnTo>
                                  <a:pt x="16" y="317"/>
                                </a:lnTo>
                                <a:lnTo>
                                  <a:pt x="28" y="343"/>
                                </a:lnTo>
                                <a:lnTo>
                                  <a:pt x="40" y="368"/>
                                </a:lnTo>
                                <a:lnTo>
                                  <a:pt x="55" y="389"/>
                                </a:lnTo>
                                <a:lnTo>
                                  <a:pt x="71" y="411"/>
                                </a:lnTo>
                                <a:lnTo>
                                  <a:pt x="88" y="428"/>
                                </a:lnTo>
                                <a:lnTo>
                                  <a:pt x="106" y="445"/>
                                </a:lnTo>
                                <a:lnTo>
                                  <a:pt x="129" y="462"/>
                                </a:lnTo>
                                <a:lnTo>
                                  <a:pt x="153" y="474"/>
                                </a:lnTo>
                                <a:lnTo>
                                  <a:pt x="178" y="487"/>
                                </a:lnTo>
                                <a:lnTo>
                                  <a:pt x="203" y="498"/>
                                </a:lnTo>
                                <a:lnTo>
                                  <a:pt x="231" y="508"/>
                                </a:lnTo>
                                <a:lnTo>
                                  <a:pt x="263" y="517"/>
                                </a:lnTo>
                                <a:lnTo>
                                  <a:pt x="299" y="521"/>
                                </a:lnTo>
                                <a:lnTo>
                                  <a:pt x="334" y="523"/>
                                </a:lnTo>
                                <a:lnTo>
                                  <a:pt x="359" y="521"/>
                                </a:lnTo>
                                <a:lnTo>
                                  <a:pt x="392" y="517"/>
                                </a:lnTo>
                                <a:lnTo>
                                  <a:pt x="426" y="510"/>
                                </a:lnTo>
                                <a:lnTo>
                                  <a:pt x="466" y="500"/>
                                </a:lnTo>
                                <a:lnTo>
                                  <a:pt x="496" y="487"/>
                                </a:lnTo>
                                <a:lnTo>
                                  <a:pt x="526" y="474"/>
                                </a:lnTo>
                                <a:lnTo>
                                  <a:pt x="552" y="462"/>
                                </a:lnTo>
                                <a:lnTo>
                                  <a:pt x="584" y="445"/>
                                </a:lnTo>
                                <a:lnTo>
                                  <a:pt x="620" y="421"/>
                                </a:lnTo>
                                <a:lnTo>
                                  <a:pt x="652" y="398"/>
                                </a:lnTo>
                                <a:lnTo>
                                  <a:pt x="680" y="377"/>
                                </a:lnTo>
                                <a:lnTo>
                                  <a:pt x="712" y="351"/>
                                </a:lnTo>
                                <a:lnTo>
                                  <a:pt x="742" y="321"/>
                                </a:lnTo>
                                <a:lnTo>
                                  <a:pt x="802" y="158"/>
                                </a:lnTo>
                                <a:lnTo>
                                  <a:pt x="810" y="92"/>
                                </a:lnTo>
                                <a:lnTo>
                                  <a:pt x="772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6" name="Group 115"/>
                        <p:cNvGrpSpPr/>
                        <p:nvPr/>
                      </p:nvGrpSpPr>
                      <p:grpSpPr>
                        <a:xfrm>
                          <a:off x="1292760" y="1785600"/>
                          <a:ext cx="1511280" cy="3451680"/>
                          <a:chOff x="1292760" y="1785600"/>
                          <a:chExt cx="1511280" cy="3451680"/>
                        </a:xfrm>
                      </p:grpSpPr>
                      <p:grpSp>
                        <p:nvGrpSpPr>
                          <p:cNvPr id="167" name="Group 116"/>
                          <p:cNvGrpSpPr/>
                          <p:nvPr/>
                        </p:nvGrpSpPr>
                        <p:grpSpPr>
                          <a:xfrm>
                            <a:off x="1292760" y="1785600"/>
                            <a:ext cx="1511280" cy="3451680"/>
                            <a:chOff x="1292760" y="1785600"/>
                            <a:chExt cx="1511280" cy="3451680"/>
                          </a:xfrm>
                        </p:grpSpPr>
                        <p:grpSp>
                          <p:nvGrpSpPr>
                            <p:cNvPr id="168" name="Group 117"/>
                            <p:cNvGrpSpPr/>
                            <p:nvPr/>
                          </p:nvGrpSpPr>
                          <p:grpSpPr>
                            <a:xfrm>
                              <a:off x="1504080" y="1785600"/>
                              <a:ext cx="1299960" cy="3451680"/>
                              <a:chOff x="1504080" y="1785600"/>
                              <a:chExt cx="1299960" cy="3451680"/>
                            </a:xfrm>
                          </p:grpSpPr>
                          <p:grpSp>
                            <p:nvGrpSpPr>
                              <p:cNvPr id="169" name="Group 118"/>
                              <p:cNvGrpSpPr/>
                              <p:nvPr/>
                            </p:nvGrpSpPr>
                            <p:grpSpPr>
                              <a:xfrm>
                                <a:off x="1844640" y="1785600"/>
                                <a:ext cx="959400" cy="2754360"/>
                                <a:chOff x="1844640" y="1785600"/>
                                <a:chExt cx="959400" cy="2754360"/>
                              </a:xfrm>
                            </p:grpSpPr>
                            <p:sp>
                              <p:nvSpPr>
                                <p:cNvPr id="170" name="Freeform 119"/>
                                <p:cNvSpPr/>
                                <p:nvPr/>
                              </p:nvSpPr>
                              <p:spPr>
                                <a:xfrm>
                                  <a:off x="1972080" y="1785600"/>
                                  <a:ext cx="831960" cy="871920"/>
                                </a:xfrm>
                                <a:custGeom>
                                  <a:avLst/>
                                  <a:gdLst>
                                    <a:gd name="textAreaLeft" fmla="*/ 0 w 831960"/>
                                    <a:gd name="textAreaRight" fmla="*/ 832320 w 831960"/>
                                    <a:gd name="textAreaTop" fmla="*/ 0 h 871920"/>
                                    <a:gd name="textAreaBottom" fmla="*/ 872280 h 8719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7" h="553">
                                      <a:moveTo>
                                        <a:pt x="0" y="387"/>
                                      </a:moveTo>
                                      <a:lnTo>
                                        <a:pt x="27" y="372"/>
                                      </a:lnTo>
                                      <a:lnTo>
                                        <a:pt x="80" y="342"/>
                                      </a:lnTo>
                                      <a:lnTo>
                                        <a:pt x="128" y="315"/>
                                      </a:lnTo>
                                      <a:lnTo>
                                        <a:pt x="173" y="294"/>
                                      </a:lnTo>
                                      <a:lnTo>
                                        <a:pt x="211" y="274"/>
                                      </a:lnTo>
                                      <a:lnTo>
                                        <a:pt x="246" y="257"/>
                                      </a:lnTo>
                                      <a:lnTo>
                                        <a:pt x="276" y="226"/>
                                      </a:lnTo>
                                      <a:lnTo>
                                        <a:pt x="314" y="187"/>
                                      </a:lnTo>
                                      <a:lnTo>
                                        <a:pt x="351" y="151"/>
                                      </a:lnTo>
                                      <a:lnTo>
                                        <a:pt x="388" y="119"/>
                                      </a:lnTo>
                                      <a:lnTo>
                                        <a:pt x="418" y="87"/>
                                      </a:lnTo>
                                      <a:lnTo>
                                        <a:pt x="449" y="47"/>
                                      </a:lnTo>
                                      <a:lnTo>
                                        <a:pt x="488" y="0"/>
                                      </a:lnTo>
                                      <a:lnTo>
                                        <a:pt x="511" y="32"/>
                                      </a:lnTo>
                                      <a:lnTo>
                                        <a:pt x="532" y="70"/>
                                      </a:lnTo>
                                      <a:lnTo>
                                        <a:pt x="557" y="121"/>
                                      </a:lnTo>
                                      <a:lnTo>
                                        <a:pt x="574" y="151"/>
                                      </a:lnTo>
                                      <a:lnTo>
                                        <a:pt x="587" y="181"/>
                                      </a:lnTo>
                                      <a:lnTo>
                                        <a:pt x="562" y="211"/>
                                      </a:lnTo>
                                      <a:lnTo>
                                        <a:pt x="532" y="243"/>
                                      </a:lnTo>
                                      <a:lnTo>
                                        <a:pt x="504" y="272"/>
                                      </a:lnTo>
                                      <a:lnTo>
                                        <a:pt x="478" y="302"/>
                                      </a:lnTo>
                                      <a:lnTo>
                                        <a:pt x="449" y="325"/>
                                      </a:lnTo>
                                      <a:lnTo>
                                        <a:pt x="419" y="353"/>
                                      </a:lnTo>
                                      <a:lnTo>
                                        <a:pt x="386" y="379"/>
                                      </a:lnTo>
                                      <a:lnTo>
                                        <a:pt x="361" y="398"/>
                                      </a:lnTo>
                                      <a:lnTo>
                                        <a:pt x="329" y="419"/>
                                      </a:lnTo>
                                      <a:lnTo>
                                        <a:pt x="298" y="440"/>
                                      </a:lnTo>
                                      <a:lnTo>
                                        <a:pt x="276" y="455"/>
                                      </a:lnTo>
                                      <a:lnTo>
                                        <a:pt x="250" y="476"/>
                                      </a:lnTo>
                                      <a:lnTo>
                                        <a:pt x="223" y="498"/>
                                      </a:lnTo>
                                      <a:lnTo>
                                        <a:pt x="200" y="519"/>
                                      </a:lnTo>
                                      <a:lnTo>
                                        <a:pt x="161" y="553"/>
                                      </a:lnTo>
                                      <a:lnTo>
                                        <a:pt x="71" y="521"/>
                                      </a:lnTo>
                                      <a:lnTo>
                                        <a:pt x="0" y="38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d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1" name="Freeform 120"/>
                                <p:cNvSpPr/>
                                <p:nvPr/>
                              </p:nvSpPr>
                              <p:spPr>
                                <a:xfrm>
                                  <a:off x="1926360" y="2401920"/>
                                  <a:ext cx="368640" cy="696600"/>
                                </a:xfrm>
                                <a:custGeom>
                                  <a:avLst/>
                                  <a:gdLst>
                                    <a:gd name="textAreaLeft" fmla="*/ 0 w 368640"/>
                                    <a:gd name="textAreaRight" fmla="*/ 369000 w 368640"/>
                                    <a:gd name="textAreaTop" fmla="*/ 0 h 696600"/>
                                    <a:gd name="textAreaBottom" fmla="*/ 696960 h 696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60" h="442">
                                      <a:moveTo>
                                        <a:pt x="0" y="2"/>
                                      </a:moveTo>
                                      <a:lnTo>
                                        <a:pt x="112" y="0"/>
                                      </a:lnTo>
                                      <a:lnTo>
                                        <a:pt x="112" y="109"/>
                                      </a:lnTo>
                                      <a:lnTo>
                                        <a:pt x="192" y="79"/>
                                      </a:lnTo>
                                      <a:lnTo>
                                        <a:pt x="202" y="196"/>
                                      </a:lnTo>
                                      <a:lnTo>
                                        <a:pt x="258" y="402"/>
                                      </a:lnTo>
                                      <a:lnTo>
                                        <a:pt x="260" y="436"/>
                                      </a:lnTo>
                                      <a:lnTo>
                                        <a:pt x="243" y="442"/>
                                      </a:lnTo>
                                      <a:lnTo>
                                        <a:pt x="183" y="334"/>
                                      </a:lnTo>
                                      <a:lnTo>
                                        <a:pt x="59" y="183"/>
                                      </a:lnTo>
                                      <a:lnTo>
                                        <a:pt x="7" y="138"/>
                                      </a:lnTo>
                                      <a:lnTo>
                                        <a:pt x="0" y="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00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2" name="Freeform 121"/>
                                <p:cNvSpPr/>
                                <p:nvPr/>
                              </p:nvSpPr>
                              <p:spPr>
                                <a:xfrm>
                                  <a:off x="1844640" y="3622320"/>
                                  <a:ext cx="333000" cy="917640"/>
                                </a:xfrm>
                                <a:custGeom>
                                  <a:avLst/>
                                  <a:gdLst>
                                    <a:gd name="textAreaLeft" fmla="*/ 0 w 333000"/>
                                    <a:gd name="textAreaRight" fmla="*/ 333360 w 333000"/>
                                    <a:gd name="textAreaTop" fmla="*/ 0 h 917640"/>
                                    <a:gd name="textAreaBottom" fmla="*/ 918000 h 917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5" h="582">
                                      <a:moveTo>
                                        <a:pt x="235" y="59"/>
                                      </a:moveTo>
                                      <a:lnTo>
                                        <a:pt x="230" y="79"/>
                                      </a:lnTo>
                                      <a:lnTo>
                                        <a:pt x="225" y="98"/>
                                      </a:lnTo>
                                      <a:lnTo>
                                        <a:pt x="215" y="113"/>
                                      </a:lnTo>
                                      <a:lnTo>
                                        <a:pt x="203" y="127"/>
                                      </a:lnTo>
                                      <a:lnTo>
                                        <a:pt x="190" y="140"/>
                                      </a:lnTo>
                                      <a:lnTo>
                                        <a:pt x="175" y="153"/>
                                      </a:lnTo>
                                      <a:lnTo>
                                        <a:pt x="161" y="164"/>
                                      </a:lnTo>
                                      <a:lnTo>
                                        <a:pt x="145" y="176"/>
                                      </a:lnTo>
                                      <a:lnTo>
                                        <a:pt x="123" y="195"/>
                                      </a:lnTo>
                                      <a:lnTo>
                                        <a:pt x="108" y="212"/>
                                      </a:lnTo>
                                      <a:lnTo>
                                        <a:pt x="98" y="227"/>
                                      </a:lnTo>
                                      <a:lnTo>
                                        <a:pt x="87" y="246"/>
                                      </a:lnTo>
                                      <a:lnTo>
                                        <a:pt x="77" y="270"/>
                                      </a:lnTo>
                                      <a:lnTo>
                                        <a:pt x="70" y="295"/>
                                      </a:lnTo>
                                      <a:lnTo>
                                        <a:pt x="63" y="321"/>
                                      </a:lnTo>
                                      <a:lnTo>
                                        <a:pt x="60" y="346"/>
                                      </a:lnTo>
                                      <a:lnTo>
                                        <a:pt x="58" y="376"/>
                                      </a:lnTo>
                                      <a:lnTo>
                                        <a:pt x="60" y="408"/>
                                      </a:lnTo>
                                      <a:lnTo>
                                        <a:pt x="62" y="438"/>
                                      </a:lnTo>
                                      <a:lnTo>
                                        <a:pt x="68" y="465"/>
                                      </a:lnTo>
                                      <a:lnTo>
                                        <a:pt x="77" y="493"/>
                                      </a:lnTo>
                                      <a:lnTo>
                                        <a:pt x="90" y="514"/>
                                      </a:lnTo>
                                      <a:lnTo>
                                        <a:pt x="107" y="540"/>
                                      </a:lnTo>
                                      <a:lnTo>
                                        <a:pt x="123" y="559"/>
                                      </a:lnTo>
                                      <a:lnTo>
                                        <a:pt x="145" y="582"/>
                                      </a:lnTo>
                                      <a:lnTo>
                                        <a:pt x="117" y="576"/>
                                      </a:lnTo>
                                      <a:lnTo>
                                        <a:pt x="100" y="563"/>
                                      </a:lnTo>
                                      <a:lnTo>
                                        <a:pt x="85" y="550"/>
                                      </a:lnTo>
                                      <a:lnTo>
                                        <a:pt x="68" y="533"/>
                                      </a:lnTo>
                                      <a:lnTo>
                                        <a:pt x="55" y="516"/>
                                      </a:lnTo>
                                      <a:lnTo>
                                        <a:pt x="42" y="501"/>
                                      </a:lnTo>
                                      <a:lnTo>
                                        <a:pt x="32" y="484"/>
                                      </a:lnTo>
                                      <a:lnTo>
                                        <a:pt x="20" y="461"/>
                                      </a:lnTo>
                                      <a:lnTo>
                                        <a:pt x="8" y="438"/>
                                      </a:lnTo>
                                      <a:lnTo>
                                        <a:pt x="0" y="408"/>
                                      </a:lnTo>
                                      <a:lnTo>
                                        <a:pt x="103" y="55"/>
                                      </a:lnTo>
                                      <a:lnTo>
                                        <a:pt x="150" y="0"/>
                                      </a:lnTo>
                                      <a:lnTo>
                                        <a:pt x="208" y="8"/>
                                      </a:lnTo>
                                      <a:lnTo>
                                        <a:pt x="230" y="32"/>
                                      </a:lnTo>
                                      <a:lnTo>
                                        <a:pt x="235" y="5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00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73" name="Freeform 122"/>
                              <p:cNvSpPr/>
                              <p:nvPr/>
                            </p:nvSpPr>
                            <p:spPr>
                              <a:xfrm>
                                <a:off x="1504080" y="2589840"/>
                                <a:ext cx="890640" cy="2647440"/>
                              </a:xfrm>
                              <a:custGeom>
                                <a:avLst/>
                                <a:gdLst>
                                  <a:gd name="textAreaLeft" fmla="*/ 0 w 890640"/>
                                  <a:gd name="textAreaRight" fmla="*/ 891000 w 890640"/>
                                  <a:gd name="textAreaTop" fmla="*/ 0 h 2647440"/>
                                  <a:gd name="textAreaBottom" fmla="*/ 2647440 h 2647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28" h="1679">
                                    <a:moveTo>
                                      <a:pt x="310" y="0"/>
                                    </a:moveTo>
                                    <a:lnTo>
                                      <a:pt x="355" y="39"/>
                                    </a:lnTo>
                                    <a:lnTo>
                                      <a:pt x="395" y="79"/>
                                    </a:lnTo>
                                    <a:lnTo>
                                      <a:pt x="436" y="126"/>
                                    </a:lnTo>
                                    <a:lnTo>
                                      <a:pt x="473" y="177"/>
                                    </a:lnTo>
                                    <a:lnTo>
                                      <a:pt x="510" y="228"/>
                                    </a:lnTo>
                                    <a:lnTo>
                                      <a:pt x="538" y="270"/>
                                    </a:lnTo>
                                    <a:lnTo>
                                      <a:pt x="550" y="294"/>
                                    </a:lnTo>
                                    <a:lnTo>
                                      <a:pt x="594" y="632"/>
                                    </a:lnTo>
                                    <a:lnTo>
                                      <a:pt x="594" y="1450"/>
                                    </a:lnTo>
                                    <a:lnTo>
                                      <a:pt x="608" y="1545"/>
                                    </a:lnTo>
                                    <a:lnTo>
                                      <a:pt x="628" y="1594"/>
                                    </a:lnTo>
                                    <a:lnTo>
                                      <a:pt x="581" y="1652"/>
                                    </a:lnTo>
                                    <a:lnTo>
                                      <a:pt x="488" y="1679"/>
                                    </a:lnTo>
                                    <a:lnTo>
                                      <a:pt x="416" y="1660"/>
                                    </a:lnTo>
                                    <a:lnTo>
                                      <a:pt x="433" y="1469"/>
                                    </a:lnTo>
                                    <a:lnTo>
                                      <a:pt x="443" y="1329"/>
                                    </a:lnTo>
                                    <a:lnTo>
                                      <a:pt x="471" y="976"/>
                                    </a:lnTo>
                                    <a:lnTo>
                                      <a:pt x="478" y="793"/>
                                    </a:lnTo>
                                    <a:lnTo>
                                      <a:pt x="476" y="759"/>
                                    </a:lnTo>
                                    <a:lnTo>
                                      <a:pt x="475" y="731"/>
                                    </a:lnTo>
                                    <a:lnTo>
                                      <a:pt x="470" y="704"/>
                                    </a:lnTo>
                                    <a:lnTo>
                                      <a:pt x="463" y="685"/>
                                    </a:lnTo>
                                    <a:lnTo>
                                      <a:pt x="450" y="670"/>
                                    </a:lnTo>
                                    <a:lnTo>
                                      <a:pt x="435" y="663"/>
                                    </a:lnTo>
                                    <a:lnTo>
                                      <a:pt x="416" y="659"/>
                                    </a:lnTo>
                                    <a:lnTo>
                                      <a:pt x="396" y="661"/>
                                    </a:lnTo>
                                    <a:lnTo>
                                      <a:pt x="381" y="668"/>
                                    </a:lnTo>
                                    <a:lnTo>
                                      <a:pt x="368" y="685"/>
                                    </a:lnTo>
                                    <a:lnTo>
                                      <a:pt x="353" y="714"/>
                                    </a:lnTo>
                                    <a:lnTo>
                                      <a:pt x="273" y="972"/>
                                    </a:lnTo>
                                    <a:lnTo>
                                      <a:pt x="233" y="1095"/>
                                    </a:lnTo>
                                    <a:lnTo>
                                      <a:pt x="197" y="1399"/>
                                    </a:lnTo>
                                    <a:lnTo>
                                      <a:pt x="195" y="1639"/>
                                    </a:lnTo>
                                    <a:lnTo>
                                      <a:pt x="0" y="1598"/>
                                    </a:lnTo>
                                    <a:lnTo>
                                      <a:pt x="27" y="1526"/>
                                    </a:lnTo>
                                    <a:lnTo>
                                      <a:pt x="42" y="1424"/>
                                    </a:lnTo>
                                    <a:lnTo>
                                      <a:pt x="99" y="1186"/>
                                    </a:lnTo>
                                    <a:lnTo>
                                      <a:pt x="153" y="942"/>
                                    </a:lnTo>
                                    <a:lnTo>
                                      <a:pt x="207" y="719"/>
                                    </a:lnTo>
                                    <a:lnTo>
                                      <a:pt x="307" y="538"/>
                                    </a:lnTo>
                                    <a:lnTo>
                                      <a:pt x="297" y="272"/>
                                    </a:lnTo>
                                    <a:lnTo>
                                      <a:pt x="187" y="13"/>
                                    </a:lnTo>
                                    <a:lnTo>
                                      <a:pt x="31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3fd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4" name="Freeform 123"/>
                            <p:cNvSpPr/>
                            <p:nvPr/>
                          </p:nvSpPr>
                          <p:spPr>
                            <a:xfrm>
                              <a:off x="1292760" y="2589840"/>
                              <a:ext cx="672480" cy="1800720"/>
                            </a:xfrm>
                            <a:custGeom>
                              <a:avLst/>
                              <a:gdLst>
                                <a:gd name="textAreaLeft" fmla="*/ 0 w 672480"/>
                                <a:gd name="textAreaRight" fmla="*/ 672840 w 672480"/>
                                <a:gd name="textAreaTop" fmla="*/ 0 h 1800720"/>
                                <a:gd name="textAreaBottom" fmla="*/ 1801080 h 1800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4" h="1142">
                                  <a:moveTo>
                                    <a:pt x="191" y="0"/>
                                  </a:moveTo>
                                  <a:lnTo>
                                    <a:pt x="331" y="0"/>
                                  </a:lnTo>
                                  <a:lnTo>
                                    <a:pt x="356" y="32"/>
                                  </a:lnTo>
                                  <a:lnTo>
                                    <a:pt x="372" y="58"/>
                                  </a:lnTo>
                                  <a:lnTo>
                                    <a:pt x="391" y="96"/>
                                  </a:lnTo>
                                  <a:lnTo>
                                    <a:pt x="409" y="134"/>
                                  </a:lnTo>
                                  <a:lnTo>
                                    <a:pt x="426" y="175"/>
                                  </a:lnTo>
                                  <a:lnTo>
                                    <a:pt x="441" y="215"/>
                                  </a:lnTo>
                                  <a:lnTo>
                                    <a:pt x="456" y="251"/>
                                  </a:lnTo>
                                  <a:lnTo>
                                    <a:pt x="471" y="289"/>
                                  </a:lnTo>
                                  <a:lnTo>
                                    <a:pt x="474" y="325"/>
                                  </a:lnTo>
                                  <a:lnTo>
                                    <a:pt x="467" y="532"/>
                                  </a:lnTo>
                                  <a:lnTo>
                                    <a:pt x="456" y="570"/>
                                  </a:lnTo>
                                  <a:lnTo>
                                    <a:pt x="444" y="604"/>
                                  </a:lnTo>
                                  <a:lnTo>
                                    <a:pt x="431" y="634"/>
                                  </a:lnTo>
                                  <a:lnTo>
                                    <a:pt x="414" y="661"/>
                                  </a:lnTo>
                                  <a:lnTo>
                                    <a:pt x="396" y="689"/>
                                  </a:lnTo>
                                  <a:lnTo>
                                    <a:pt x="371" y="712"/>
                                  </a:lnTo>
                                  <a:lnTo>
                                    <a:pt x="347" y="731"/>
                                  </a:lnTo>
                                  <a:lnTo>
                                    <a:pt x="317" y="748"/>
                                  </a:lnTo>
                                  <a:lnTo>
                                    <a:pt x="289" y="763"/>
                                  </a:lnTo>
                                  <a:lnTo>
                                    <a:pt x="259" y="778"/>
                                  </a:lnTo>
                                  <a:lnTo>
                                    <a:pt x="231" y="793"/>
                                  </a:lnTo>
                                  <a:lnTo>
                                    <a:pt x="204" y="804"/>
                                  </a:lnTo>
                                  <a:lnTo>
                                    <a:pt x="174" y="819"/>
                                  </a:lnTo>
                                  <a:lnTo>
                                    <a:pt x="151" y="831"/>
                                  </a:lnTo>
                                  <a:lnTo>
                                    <a:pt x="128" y="848"/>
                                  </a:lnTo>
                                  <a:lnTo>
                                    <a:pt x="103" y="870"/>
                                  </a:lnTo>
                                  <a:lnTo>
                                    <a:pt x="83" y="893"/>
                                  </a:lnTo>
                                  <a:lnTo>
                                    <a:pt x="66" y="918"/>
                                  </a:lnTo>
                                  <a:lnTo>
                                    <a:pt x="53" y="948"/>
                                  </a:lnTo>
                                  <a:lnTo>
                                    <a:pt x="41" y="980"/>
                                  </a:lnTo>
                                  <a:lnTo>
                                    <a:pt x="30" y="1016"/>
                                  </a:lnTo>
                                  <a:lnTo>
                                    <a:pt x="21" y="1050"/>
                                  </a:lnTo>
                                  <a:lnTo>
                                    <a:pt x="15" y="1088"/>
                                  </a:lnTo>
                                  <a:lnTo>
                                    <a:pt x="10" y="1131"/>
                                  </a:lnTo>
                                  <a:lnTo>
                                    <a:pt x="6" y="1142"/>
                                  </a:lnTo>
                                  <a:lnTo>
                                    <a:pt x="0" y="1054"/>
                                  </a:lnTo>
                                  <a:lnTo>
                                    <a:pt x="3" y="993"/>
                                  </a:lnTo>
                                  <a:lnTo>
                                    <a:pt x="6" y="946"/>
                                  </a:lnTo>
                                  <a:lnTo>
                                    <a:pt x="13" y="912"/>
                                  </a:lnTo>
                                  <a:lnTo>
                                    <a:pt x="20" y="876"/>
                                  </a:lnTo>
                                  <a:lnTo>
                                    <a:pt x="33" y="848"/>
                                  </a:lnTo>
                                  <a:lnTo>
                                    <a:pt x="45" y="823"/>
                                  </a:lnTo>
                                  <a:lnTo>
                                    <a:pt x="59" y="797"/>
                                  </a:lnTo>
                                  <a:lnTo>
                                    <a:pt x="79" y="770"/>
                                  </a:lnTo>
                                  <a:lnTo>
                                    <a:pt x="98" y="748"/>
                                  </a:lnTo>
                                  <a:lnTo>
                                    <a:pt x="119" y="723"/>
                                  </a:lnTo>
                                  <a:lnTo>
                                    <a:pt x="144" y="695"/>
                                  </a:lnTo>
                                  <a:lnTo>
                                    <a:pt x="173" y="663"/>
                                  </a:lnTo>
                                  <a:lnTo>
                                    <a:pt x="196" y="636"/>
                                  </a:lnTo>
                                  <a:lnTo>
                                    <a:pt x="218" y="606"/>
                                  </a:lnTo>
                                  <a:lnTo>
                                    <a:pt x="236" y="576"/>
                                  </a:lnTo>
                                  <a:lnTo>
                                    <a:pt x="251" y="547"/>
                                  </a:lnTo>
                                  <a:lnTo>
                                    <a:pt x="266" y="517"/>
                                  </a:lnTo>
                                  <a:lnTo>
                                    <a:pt x="278" y="483"/>
                                  </a:lnTo>
                                  <a:lnTo>
                                    <a:pt x="289" y="447"/>
                                  </a:lnTo>
                                  <a:lnTo>
                                    <a:pt x="296" y="421"/>
                                  </a:lnTo>
                                  <a:lnTo>
                                    <a:pt x="19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00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5" name="Group 124"/>
                          <p:cNvGrpSpPr/>
                          <p:nvPr/>
                        </p:nvGrpSpPr>
                        <p:grpSpPr>
                          <a:xfrm>
                            <a:off x="1417320" y="2624400"/>
                            <a:ext cx="788400" cy="849600"/>
                            <a:chOff x="1417320" y="2624400"/>
                            <a:chExt cx="788400" cy="849600"/>
                          </a:xfrm>
                        </p:grpSpPr>
                        <p:sp>
                          <p:nvSpPr>
                            <p:cNvPr id="176" name="Freeform 125"/>
                            <p:cNvSpPr/>
                            <p:nvPr/>
                          </p:nvSpPr>
                          <p:spPr>
                            <a:xfrm>
                              <a:off x="1417320" y="2624400"/>
                              <a:ext cx="675000" cy="837360"/>
                            </a:xfrm>
                            <a:custGeom>
                              <a:avLst/>
                              <a:gdLst>
                                <a:gd name="textAreaLeft" fmla="*/ 0 w 675000"/>
                                <a:gd name="textAreaRight" fmla="*/ 675360 w 675000"/>
                                <a:gd name="textAreaTop" fmla="*/ 0 h 837360"/>
                                <a:gd name="textAreaBottom" fmla="*/ 837720 h 837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6" h="531">
                                  <a:moveTo>
                                    <a:pt x="140" y="14"/>
                                  </a:moveTo>
                                  <a:lnTo>
                                    <a:pt x="118" y="6"/>
                                  </a:lnTo>
                                  <a:lnTo>
                                    <a:pt x="90" y="0"/>
                                  </a:lnTo>
                                  <a:lnTo>
                                    <a:pt x="65" y="4"/>
                                  </a:lnTo>
                                  <a:lnTo>
                                    <a:pt x="40" y="12"/>
                                  </a:lnTo>
                                  <a:lnTo>
                                    <a:pt x="20" y="29"/>
                                  </a:lnTo>
                                  <a:lnTo>
                                    <a:pt x="10" y="48"/>
                                  </a:lnTo>
                                  <a:lnTo>
                                    <a:pt x="3" y="76"/>
                                  </a:lnTo>
                                  <a:lnTo>
                                    <a:pt x="0" y="102"/>
                                  </a:lnTo>
                                  <a:lnTo>
                                    <a:pt x="1" y="127"/>
                                  </a:lnTo>
                                  <a:lnTo>
                                    <a:pt x="5" y="157"/>
                                  </a:lnTo>
                                  <a:lnTo>
                                    <a:pt x="10" y="195"/>
                                  </a:lnTo>
                                  <a:lnTo>
                                    <a:pt x="15" y="212"/>
                                  </a:lnTo>
                                  <a:lnTo>
                                    <a:pt x="40" y="229"/>
                                  </a:lnTo>
                                  <a:lnTo>
                                    <a:pt x="60" y="244"/>
                                  </a:lnTo>
                                  <a:lnTo>
                                    <a:pt x="80" y="259"/>
                                  </a:lnTo>
                                  <a:lnTo>
                                    <a:pt x="100" y="278"/>
                                  </a:lnTo>
                                  <a:lnTo>
                                    <a:pt x="120" y="299"/>
                                  </a:lnTo>
                                  <a:lnTo>
                                    <a:pt x="138" y="318"/>
                                  </a:lnTo>
                                  <a:lnTo>
                                    <a:pt x="156" y="337"/>
                                  </a:lnTo>
                                  <a:lnTo>
                                    <a:pt x="176" y="365"/>
                                  </a:lnTo>
                                  <a:lnTo>
                                    <a:pt x="196" y="397"/>
                                  </a:lnTo>
                                  <a:lnTo>
                                    <a:pt x="214" y="425"/>
                                  </a:lnTo>
                                  <a:lnTo>
                                    <a:pt x="221" y="433"/>
                                  </a:lnTo>
                                  <a:lnTo>
                                    <a:pt x="253" y="446"/>
                                  </a:lnTo>
                                  <a:lnTo>
                                    <a:pt x="294" y="463"/>
                                  </a:lnTo>
                                  <a:lnTo>
                                    <a:pt x="334" y="484"/>
                                  </a:lnTo>
                                  <a:lnTo>
                                    <a:pt x="371" y="505"/>
                                  </a:lnTo>
                                  <a:lnTo>
                                    <a:pt x="403" y="518"/>
                                  </a:lnTo>
                                  <a:lnTo>
                                    <a:pt x="441" y="531"/>
                                  </a:lnTo>
                                  <a:lnTo>
                                    <a:pt x="476" y="531"/>
                                  </a:lnTo>
                                  <a:lnTo>
                                    <a:pt x="456" y="291"/>
                                  </a:lnTo>
                                  <a:lnTo>
                                    <a:pt x="413" y="295"/>
                                  </a:lnTo>
                                  <a:lnTo>
                                    <a:pt x="376" y="289"/>
                                  </a:lnTo>
                                  <a:lnTo>
                                    <a:pt x="346" y="280"/>
                                  </a:lnTo>
                                  <a:lnTo>
                                    <a:pt x="318" y="272"/>
                                  </a:lnTo>
                                  <a:lnTo>
                                    <a:pt x="296" y="250"/>
                                  </a:lnTo>
                                  <a:lnTo>
                                    <a:pt x="276" y="231"/>
                                  </a:lnTo>
                                  <a:lnTo>
                                    <a:pt x="251" y="210"/>
                                  </a:lnTo>
                                  <a:lnTo>
                                    <a:pt x="228" y="193"/>
                                  </a:lnTo>
                                  <a:lnTo>
                                    <a:pt x="216" y="182"/>
                                  </a:lnTo>
                                  <a:lnTo>
                                    <a:pt x="201" y="144"/>
                                  </a:lnTo>
                                  <a:lnTo>
                                    <a:pt x="180" y="104"/>
                                  </a:lnTo>
                                  <a:lnTo>
                                    <a:pt x="163" y="61"/>
                                  </a:lnTo>
                                  <a:lnTo>
                                    <a:pt x="140" y="1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bf5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7" name="Oval 126"/>
                            <p:cNvSpPr/>
                            <p:nvPr/>
                          </p:nvSpPr>
                          <p:spPr>
                            <a:xfrm>
                              <a:off x="1979280" y="3079800"/>
                              <a:ext cx="226440" cy="394200"/>
                            </a:xfrm>
                            <a:prstGeom prst="ellipse">
                              <a:avLst/>
                            </a:prstGeom>
                            <a:solidFill>
                              <a:srgbClr val="5f00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8" name="Group 127"/>
                      <p:cNvGrpSpPr/>
                      <p:nvPr/>
                    </p:nvGrpSpPr>
                    <p:grpSpPr>
                      <a:xfrm>
                        <a:off x="1620360" y="2356200"/>
                        <a:ext cx="394200" cy="397440"/>
                        <a:chOff x="1620360" y="2356200"/>
                        <a:chExt cx="394200" cy="397440"/>
                      </a:xfrm>
                    </p:grpSpPr>
                    <p:sp>
                      <p:nvSpPr>
                        <p:cNvPr id="179" name="Freeform 128"/>
                        <p:cNvSpPr/>
                        <p:nvPr/>
                      </p:nvSpPr>
                      <p:spPr>
                        <a:xfrm>
                          <a:off x="1620360" y="2356200"/>
                          <a:ext cx="394200" cy="397440"/>
                        </a:xfrm>
                        <a:custGeom>
                          <a:avLst/>
                          <a:gdLst>
                            <a:gd name="textAreaLeft" fmla="*/ 0 w 394200"/>
                            <a:gd name="textAreaRight" fmla="*/ 394560 w 394200"/>
                            <a:gd name="textAreaTop" fmla="*/ 0 h 397440"/>
                            <a:gd name="textAreaBottom" fmla="*/ 397800 h 397440"/>
                          </a:gdLst>
                          <a:ahLst/>
                          <a:rect l="textAreaLeft" t="textAreaTop" r="textAreaRight" b="textAreaBottom"/>
                          <a:pathLst>
                            <a:path w="278" h="252">
                              <a:moveTo>
                                <a:pt x="153" y="70"/>
                              </a:moveTo>
                              <a:lnTo>
                                <a:pt x="180" y="2"/>
                              </a:lnTo>
                              <a:lnTo>
                                <a:pt x="200" y="0"/>
                              </a:lnTo>
                              <a:lnTo>
                                <a:pt x="218" y="4"/>
                              </a:lnTo>
                              <a:lnTo>
                                <a:pt x="236" y="12"/>
                              </a:lnTo>
                              <a:lnTo>
                                <a:pt x="251" y="25"/>
                              </a:lnTo>
                              <a:lnTo>
                                <a:pt x="263" y="44"/>
                              </a:lnTo>
                              <a:lnTo>
                                <a:pt x="273" y="65"/>
                              </a:lnTo>
                              <a:lnTo>
                                <a:pt x="278" y="93"/>
                              </a:lnTo>
                              <a:lnTo>
                                <a:pt x="276" y="125"/>
                              </a:lnTo>
                              <a:lnTo>
                                <a:pt x="268" y="150"/>
                              </a:lnTo>
                              <a:lnTo>
                                <a:pt x="258" y="174"/>
                              </a:lnTo>
                              <a:lnTo>
                                <a:pt x="248" y="191"/>
                              </a:lnTo>
                              <a:lnTo>
                                <a:pt x="238" y="206"/>
                              </a:lnTo>
                              <a:lnTo>
                                <a:pt x="148" y="157"/>
                              </a:lnTo>
                              <a:lnTo>
                                <a:pt x="123" y="170"/>
                              </a:lnTo>
                              <a:lnTo>
                                <a:pt x="60" y="252"/>
                              </a:lnTo>
                              <a:lnTo>
                                <a:pt x="45" y="242"/>
                              </a:lnTo>
                              <a:lnTo>
                                <a:pt x="35" y="231"/>
                              </a:lnTo>
                              <a:lnTo>
                                <a:pt x="25" y="216"/>
                              </a:lnTo>
                              <a:lnTo>
                                <a:pt x="15" y="197"/>
                              </a:lnTo>
                              <a:lnTo>
                                <a:pt x="5" y="174"/>
                              </a:lnTo>
                              <a:lnTo>
                                <a:pt x="0" y="146"/>
                              </a:lnTo>
                              <a:lnTo>
                                <a:pt x="0" y="116"/>
                              </a:lnTo>
                              <a:lnTo>
                                <a:pt x="3" y="91"/>
                              </a:lnTo>
                              <a:lnTo>
                                <a:pt x="8" y="65"/>
                              </a:lnTo>
                              <a:lnTo>
                                <a:pt x="15" y="48"/>
                              </a:lnTo>
                              <a:lnTo>
                                <a:pt x="23" y="29"/>
                              </a:lnTo>
                              <a:lnTo>
                                <a:pt x="108" y="74"/>
                              </a:lnTo>
                              <a:lnTo>
                                <a:pt x="15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Oval 129"/>
                        <p:cNvSpPr/>
                        <p:nvPr/>
                      </p:nvSpPr>
                      <p:spPr>
                        <a:xfrm>
                          <a:off x="1747800" y="2446200"/>
                          <a:ext cx="156960" cy="193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130"/>
                        <p:cNvSpPr/>
                        <p:nvPr/>
                      </p:nvSpPr>
                      <p:spPr>
                        <a:xfrm>
                          <a:off x="1723680" y="2449440"/>
                          <a:ext cx="158760" cy="193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Oval 131"/>
                        <p:cNvSpPr/>
                        <p:nvPr/>
                      </p:nvSpPr>
                      <p:spPr>
                        <a:xfrm>
                          <a:off x="1734840" y="2446200"/>
                          <a:ext cx="158760" cy="193680"/>
                        </a:xfrm>
                        <a:prstGeom prst="ellipse">
                          <a:avLst/>
                        </a:pr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3" name="Group 132"/>
                  <p:cNvGrpSpPr/>
                  <p:nvPr/>
                </p:nvGrpSpPr>
                <p:grpSpPr>
                  <a:xfrm>
                    <a:off x="2052000" y="2895840"/>
                    <a:ext cx="723600" cy="776520"/>
                    <a:chOff x="2052000" y="2895840"/>
                    <a:chExt cx="723600" cy="776520"/>
                  </a:xfrm>
                </p:grpSpPr>
                <p:grpSp>
                  <p:nvGrpSpPr>
                    <p:cNvPr id="184" name="Group 133"/>
                    <p:cNvGrpSpPr/>
                    <p:nvPr/>
                  </p:nvGrpSpPr>
                  <p:grpSpPr>
                    <a:xfrm>
                      <a:off x="2052000" y="3152880"/>
                      <a:ext cx="189720" cy="267480"/>
                      <a:chOff x="2052000" y="3152880"/>
                      <a:chExt cx="189720" cy="267480"/>
                    </a:xfrm>
                  </p:grpSpPr>
                  <p:sp>
                    <p:nvSpPr>
                      <p:cNvPr id="185" name="Oval 134"/>
                      <p:cNvSpPr/>
                      <p:nvPr/>
                    </p:nvSpPr>
                    <p:spPr>
                      <a:xfrm>
                        <a:off x="2052000" y="3166920"/>
                        <a:ext cx="168480" cy="253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Oval 135"/>
                      <p:cNvSpPr/>
                      <p:nvPr/>
                    </p:nvSpPr>
                    <p:spPr>
                      <a:xfrm>
                        <a:off x="2076120" y="3152880"/>
                        <a:ext cx="165600" cy="255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7" name="Group 136"/>
                    <p:cNvGrpSpPr/>
                    <p:nvPr/>
                  </p:nvGrpSpPr>
                  <p:grpSpPr>
                    <a:xfrm>
                      <a:off x="2175120" y="2895840"/>
                      <a:ext cx="600480" cy="776520"/>
                      <a:chOff x="2175120" y="2895840"/>
                      <a:chExt cx="600480" cy="776520"/>
                    </a:xfrm>
                  </p:grpSpPr>
                  <p:grpSp>
                    <p:nvGrpSpPr>
                      <p:cNvPr id="188" name="Group 137"/>
                      <p:cNvGrpSpPr/>
                      <p:nvPr/>
                    </p:nvGrpSpPr>
                    <p:grpSpPr>
                      <a:xfrm>
                        <a:off x="2179080" y="2914560"/>
                        <a:ext cx="596520" cy="757800"/>
                        <a:chOff x="2179080" y="2914560"/>
                        <a:chExt cx="596520" cy="757800"/>
                      </a:xfrm>
                    </p:grpSpPr>
                    <p:grpSp>
                      <p:nvGrpSpPr>
                        <p:cNvPr id="189" name="Group 138"/>
                        <p:cNvGrpSpPr/>
                        <p:nvPr/>
                      </p:nvGrpSpPr>
                      <p:grpSpPr>
                        <a:xfrm>
                          <a:off x="2179080" y="2914560"/>
                          <a:ext cx="596520" cy="757800"/>
                          <a:chOff x="2179080" y="2914560"/>
                          <a:chExt cx="596520" cy="757800"/>
                        </a:xfrm>
                      </p:grpSpPr>
                      <p:sp>
                        <p:nvSpPr>
                          <p:cNvPr id="190" name="Oval 139"/>
                          <p:cNvSpPr/>
                          <p:nvPr/>
                        </p:nvSpPr>
                        <p:spPr>
                          <a:xfrm>
                            <a:off x="2179080" y="3042360"/>
                            <a:ext cx="392760" cy="508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" name="Oval 140"/>
                          <p:cNvSpPr/>
                          <p:nvPr/>
                        </p:nvSpPr>
                        <p:spPr>
                          <a:xfrm>
                            <a:off x="2675160" y="3277080"/>
                            <a:ext cx="96120" cy="1432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" name="Oval 141"/>
                          <p:cNvSpPr/>
                          <p:nvPr/>
                        </p:nvSpPr>
                        <p:spPr>
                          <a:xfrm>
                            <a:off x="2566080" y="3444120"/>
                            <a:ext cx="95040" cy="1450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" name="Oval 142"/>
                          <p:cNvSpPr/>
                          <p:nvPr/>
                        </p:nvSpPr>
                        <p:spPr>
                          <a:xfrm>
                            <a:off x="2433960" y="3544920"/>
                            <a:ext cx="87840" cy="1274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920" bIns="439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" name="Oval 143"/>
                          <p:cNvSpPr/>
                          <p:nvPr/>
                        </p:nvSpPr>
                        <p:spPr>
                          <a:xfrm>
                            <a:off x="2686320" y="3092760"/>
                            <a:ext cx="89280" cy="1339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" name="Oval 144"/>
                          <p:cNvSpPr/>
                          <p:nvPr/>
                        </p:nvSpPr>
                        <p:spPr>
                          <a:xfrm>
                            <a:off x="2472480" y="2914560"/>
                            <a:ext cx="124560" cy="1954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6" name="Freeform 145"/>
                        <p:cNvSpPr/>
                        <p:nvPr/>
                      </p:nvSpPr>
                      <p:spPr>
                        <a:xfrm>
                          <a:off x="2312280" y="2925360"/>
                          <a:ext cx="420840" cy="723240"/>
                        </a:xfrm>
                        <a:custGeom>
                          <a:avLst/>
                          <a:gdLst>
                            <a:gd name="textAreaLeft" fmla="*/ 0 w 420840"/>
                            <a:gd name="textAreaRight" fmla="*/ 421200 w 420840"/>
                            <a:gd name="textAreaTop" fmla="*/ 0 h 723240"/>
                            <a:gd name="textAreaBottom" fmla="*/ 723600 h 723240"/>
                          </a:gdLst>
                          <a:ahLst/>
                          <a:rect l="textAreaLeft" t="textAreaTop" r="textAreaRight" b="textAreaBottom"/>
                          <a:pathLst>
                            <a:path w="297" h="459">
                              <a:moveTo>
                                <a:pt x="29" y="74"/>
                              </a:moveTo>
                              <a:lnTo>
                                <a:pt x="136" y="0"/>
                              </a:lnTo>
                              <a:lnTo>
                                <a:pt x="189" y="100"/>
                              </a:lnTo>
                              <a:lnTo>
                                <a:pt x="136" y="142"/>
                              </a:lnTo>
                              <a:lnTo>
                                <a:pt x="287" y="106"/>
                              </a:lnTo>
                              <a:lnTo>
                                <a:pt x="297" y="187"/>
                              </a:lnTo>
                              <a:lnTo>
                                <a:pt x="194" y="212"/>
                              </a:lnTo>
                              <a:lnTo>
                                <a:pt x="287" y="221"/>
                              </a:lnTo>
                              <a:lnTo>
                                <a:pt x="286" y="312"/>
                              </a:lnTo>
                              <a:lnTo>
                                <a:pt x="191" y="295"/>
                              </a:lnTo>
                              <a:lnTo>
                                <a:pt x="234" y="342"/>
                              </a:lnTo>
                              <a:lnTo>
                                <a:pt x="191" y="408"/>
                              </a:lnTo>
                              <a:lnTo>
                                <a:pt x="133" y="368"/>
                              </a:lnTo>
                              <a:lnTo>
                                <a:pt x="146" y="425"/>
                              </a:lnTo>
                              <a:lnTo>
                                <a:pt x="93" y="459"/>
                              </a:lnTo>
                              <a:lnTo>
                                <a:pt x="0" y="382"/>
                              </a:lnTo>
                              <a:lnTo>
                                <a:pt x="29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7" name="Group 146"/>
                      <p:cNvGrpSpPr/>
                      <p:nvPr/>
                    </p:nvGrpSpPr>
                    <p:grpSpPr>
                      <a:xfrm>
                        <a:off x="2175120" y="2895840"/>
                        <a:ext cx="596520" cy="756360"/>
                        <a:chOff x="2175120" y="2895840"/>
                        <a:chExt cx="596520" cy="756360"/>
                      </a:xfrm>
                    </p:grpSpPr>
                    <p:grpSp>
                      <p:nvGrpSpPr>
                        <p:cNvPr id="198" name="Group 147"/>
                        <p:cNvGrpSpPr/>
                        <p:nvPr/>
                      </p:nvGrpSpPr>
                      <p:grpSpPr>
                        <a:xfrm>
                          <a:off x="2175120" y="2895840"/>
                          <a:ext cx="596520" cy="756360"/>
                          <a:chOff x="2175120" y="2895840"/>
                          <a:chExt cx="596520" cy="756360"/>
                        </a:xfrm>
                      </p:grpSpPr>
                      <p:sp>
                        <p:nvSpPr>
                          <p:cNvPr id="199" name="Oval 148"/>
                          <p:cNvSpPr/>
                          <p:nvPr/>
                        </p:nvSpPr>
                        <p:spPr>
                          <a:xfrm>
                            <a:off x="2175120" y="3021840"/>
                            <a:ext cx="390960" cy="510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0" name="Oval 149"/>
                          <p:cNvSpPr/>
                          <p:nvPr/>
                        </p:nvSpPr>
                        <p:spPr>
                          <a:xfrm>
                            <a:off x="2669760" y="3256560"/>
                            <a:ext cx="97560" cy="145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1" name="Oval 150"/>
                          <p:cNvSpPr/>
                          <p:nvPr/>
                        </p:nvSpPr>
                        <p:spPr>
                          <a:xfrm>
                            <a:off x="2562120" y="3425400"/>
                            <a:ext cx="94680" cy="1432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" name="Oval 151"/>
                          <p:cNvSpPr/>
                          <p:nvPr/>
                        </p:nvSpPr>
                        <p:spPr>
                          <a:xfrm>
                            <a:off x="2430000" y="3524760"/>
                            <a:ext cx="86400" cy="1274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920" bIns="439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3" name="Oval 152"/>
                          <p:cNvSpPr/>
                          <p:nvPr/>
                        </p:nvSpPr>
                        <p:spPr>
                          <a:xfrm>
                            <a:off x="2682360" y="3072240"/>
                            <a:ext cx="89280" cy="1339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4" name="Oval 153"/>
                          <p:cNvSpPr/>
                          <p:nvPr/>
                        </p:nvSpPr>
                        <p:spPr>
                          <a:xfrm>
                            <a:off x="2467080" y="2895840"/>
                            <a:ext cx="126000" cy="1940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5" name="Freeform 154"/>
                        <p:cNvSpPr/>
                        <p:nvPr/>
                      </p:nvSpPr>
                      <p:spPr>
                        <a:xfrm>
                          <a:off x="2306880" y="2905200"/>
                          <a:ext cx="422280" cy="723240"/>
                        </a:xfrm>
                        <a:custGeom>
                          <a:avLst/>
                          <a:gdLst>
                            <a:gd name="textAreaLeft" fmla="*/ 0 w 422280"/>
                            <a:gd name="textAreaRight" fmla="*/ 422640 w 422280"/>
                            <a:gd name="textAreaTop" fmla="*/ 0 h 723240"/>
                            <a:gd name="textAreaBottom" fmla="*/ 723600 h 723240"/>
                          </a:gdLst>
                          <a:ahLst/>
                          <a:rect l="textAreaLeft" t="textAreaTop" r="textAreaRight" b="textAreaBottom"/>
                          <a:pathLst>
                            <a:path w="298" h="459">
                              <a:moveTo>
                                <a:pt x="30" y="74"/>
                              </a:moveTo>
                              <a:lnTo>
                                <a:pt x="137" y="0"/>
                              </a:lnTo>
                              <a:lnTo>
                                <a:pt x="190" y="100"/>
                              </a:lnTo>
                              <a:lnTo>
                                <a:pt x="137" y="142"/>
                              </a:lnTo>
                              <a:lnTo>
                                <a:pt x="288" y="106"/>
                              </a:lnTo>
                              <a:lnTo>
                                <a:pt x="298" y="187"/>
                              </a:lnTo>
                              <a:lnTo>
                                <a:pt x="195" y="213"/>
                              </a:lnTo>
                              <a:lnTo>
                                <a:pt x="288" y="221"/>
                              </a:lnTo>
                              <a:lnTo>
                                <a:pt x="286" y="312"/>
                              </a:lnTo>
                              <a:lnTo>
                                <a:pt x="192" y="295"/>
                              </a:lnTo>
                              <a:lnTo>
                                <a:pt x="235" y="342"/>
                              </a:lnTo>
                              <a:lnTo>
                                <a:pt x="193" y="408"/>
                              </a:lnTo>
                              <a:lnTo>
                                <a:pt x="133" y="368"/>
                              </a:lnTo>
                              <a:lnTo>
                                <a:pt x="147" y="425"/>
                              </a:lnTo>
                              <a:lnTo>
                                <a:pt x="93" y="459"/>
                              </a:lnTo>
                              <a:lnTo>
                                <a:pt x="0" y="383"/>
                              </a:lnTo>
                              <a:lnTo>
                                <a:pt x="30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6" name="Group 155"/>
                      <p:cNvGrpSpPr/>
                      <p:nvPr/>
                    </p:nvGrpSpPr>
                    <p:grpSpPr>
                      <a:xfrm>
                        <a:off x="2256120" y="3216960"/>
                        <a:ext cx="181080" cy="182880"/>
                        <a:chOff x="2256120" y="3216960"/>
                        <a:chExt cx="181080" cy="182880"/>
                      </a:xfrm>
                    </p:grpSpPr>
                    <p:sp>
                      <p:nvSpPr>
                        <p:cNvPr id="207" name="Line 156"/>
                        <p:cNvSpPr/>
                        <p:nvPr/>
                      </p:nvSpPr>
                      <p:spPr>
                        <a:xfrm flipV="1">
                          <a:off x="2277000" y="3216960"/>
                          <a:ext cx="145440" cy="14040"/>
                        </a:xfrm>
                        <a:prstGeom prst="line">
                          <a:avLst/>
                        </a:prstGeom>
                        <a:ln w="20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157"/>
                        <p:cNvSpPr/>
                        <p:nvPr/>
                      </p:nvSpPr>
                      <p:spPr>
                        <a:xfrm>
                          <a:off x="2256120" y="3322800"/>
                          <a:ext cx="181080" cy="77040"/>
                        </a:xfrm>
                        <a:prstGeom prst="line">
                          <a:avLst/>
                        </a:prstGeom>
                        <a:ln w="20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209" name="Group 158"/>
            <p:cNvGrpSpPr/>
            <p:nvPr/>
          </p:nvGrpSpPr>
          <p:grpSpPr>
            <a:xfrm>
              <a:off x="3171240" y="1827360"/>
              <a:ext cx="823680" cy="827280"/>
              <a:chOff x="3171240" y="1827360"/>
              <a:chExt cx="823680" cy="827280"/>
            </a:xfrm>
          </p:grpSpPr>
          <p:sp>
            <p:nvSpPr>
              <p:cNvPr id="210" name="Oval 159"/>
              <p:cNvSpPr/>
              <p:nvPr/>
            </p:nvSpPr>
            <p:spPr>
              <a:xfrm>
                <a:off x="3171240" y="1827360"/>
                <a:ext cx="59400" cy="691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60"/>
              <p:cNvSpPr/>
              <p:nvPr/>
            </p:nvSpPr>
            <p:spPr>
              <a:xfrm>
                <a:off x="3178080" y="1830240"/>
                <a:ext cx="474840" cy="46764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335" h="297">
                    <a:moveTo>
                      <a:pt x="27" y="0"/>
                    </a:moveTo>
                    <a:lnTo>
                      <a:pt x="335" y="251"/>
                    </a:lnTo>
                    <a:lnTo>
                      <a:pt x="300" y="297"/>
                    </a:lnTo>
                    <a:lnTo>
                      <a:pt x="0" y="3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61"/>
              <p:cNvSpPr/>
              <p:nvPr/>
            </p:nvSpPr>
            <p:spPr>
              <a:xfrm>
                <a:off x="3596760" y="2229120"/>
                <a:ext cx="333000" cy="36108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235" h="229">
                    <a:moveTo>
                      <a:pt x="38" y="0"/>
                    </a:moveTo>
                    <a:lnTo>
                      <a:pt x="235" y="155"/>
                    </a:lnTo>
                    <a:lnTo>
                      <a:pt x="195" y="229"/>
                    </a:lnTo>
                    <a:lnTo>
                      <a:pt x="0" y="4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162"/>
              <p:cNvSpPr/>
              <p:nvPr/>
            </p:nvSpPr>
            <p:spPr>
              <a:xfrm>
                <a:off x="3584880" y="2217960"/>
                <a:ext cx="83880" cy="914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163"/>
              <p:cNvSpPr/>
              <p:nvPr/>
            </p:nvSpPr>
            <p:spPr>
              <a:xfrm>
                <a:off x="3863160" y="2463840"/>
                <a:ext cx="131760" cy="19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164"/>
              <p:cNvSpPr/>
              <p:nvPr/>
            </p:nvSpPr>
            <p:spPr>
              <a:xfrm>
                <a:off x="3881520" y="2490840"/>
                <a:ext cx="95040" cy="13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Line 169"/>
          <p:cNvSpPr/>
          <p:nvPr/>
        </p:nvSpPr>
        <p:spPr>
          <a:xfrm>
            <a:off x="4284720" y="1197000"/>
            <a:ext cx="0" cy="6476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70"/>
          <p:cNvSpPr/>
          <p:nvPr/>
        </p:nvSpPr>
        <p:spPr>
          <a:xfrm>
            <a:off x="3708360" y="1341360"/>
            <a:ext cx="792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6"/>
          <p:cNvSpPr/>
          <p:nvPr/>
        </p:nvSpPr>
        <p:spPr>
          <a:xfrm>
            <a:off x="4572000" y="189000"/>
            <a:ext cx="4248000" cy="17398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17.12.12</a:t>
            </a: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Чт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ёё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0" name="bukva_f.wmv" descr=""/>
          <p:cNvPicPr/>
          <p:nvPr/>
        </p:nvPicPr>
        <p:blipFill>
          <a:blip r:embed="rId1"/>
          <a:stretch/>
        </p:blipFill>
        <p:spPr>
          <a:xfrm>
            <a:off x="468360" y="763560"/>
            <a:ext cx="8351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358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223" name="Рисунок 3" descr="10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281160"/>
            <a:ext cx="6716880" cy="79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то это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57560" cy="446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"/>
          <p:cNvPicPr/>
          <p:nvPr/>
        </p:nvPicPr>
        <p:blipFill>
          <a:blip r:embed="rId2"/>
          <a:stretch/>
        </p:blipFill>
        <p:spPr>
          <a:xfrm>
            <a:off x="838080" y="1700280"/>
            <a:ext cx="366264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Жира</a:t>
            </a:r>
            <a:r>
              <a:rPr b="0" lang="ru-RU" sz="8000" spc="-1" strike="noStrike">
                <a:solidFill>
                  <a:srgbClr val="0000cc"/>
                </a:solidFill>
                <a:latin typeface="Arial"/>
              </a:rPr>
              <a:t>ф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Уда</a:t>
            </a:r>
            <a:r>
              <a:rPr b="0" lang="ru-RU" sz="80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7" descr="0075"/>
          <p:cNvPicPr/>
          <p:nvPr/>
        </p:nvPicPr>
        <p:blipFill>
          <a:blip r:embed="rId1"/>
          <a:stretch/>
        </p:blipFill>
        <p:spPr>
          <a:xfrm>
            <a:off x="6443640" y="333360"/>
            <a:ext cx="2349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path" presetID="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4785 L -0.6875 -0.04785 L -0.6875 0.63315 L -0.01024 0.63315 L -0.01024 -0.04785 Z">
                                      <p:cBhvr>
                                        <p:cTn id="25" dur="10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4785 L -0.67969 0.62321 E">
                                      <p:cBhvr>
                                        <p:cTn id="2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75 -0.04785 L -0.01823 0.62321 E">
                                      <p:cBhvr>
                                        <p:cTn id="31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052 0.27139 C -0.75052 0.43574 -0.66215 0.57074 -0.55434 0.57074 C -0.42708 0.57074 -0.38073 0.42071 -0.36163 0.33102 L -0.34184 0.21175 C -0.32153 0.12206 -0.27257 -0.02704 -0.12882 -0.02704 C -0.03663 -0.02704 0.0684 0.10703 0.0684 0.27139 C 0.0684 0.43574 -0.03663 0.57074 -0.12882 0.57074 C -0.27257 0.57074 -0.32153 0.42071 -0.34184 0.33102 L -0.36163 0.21175 C -0.38073 0.12206 -0.42708 -0.02704 -0.55434 -0.02704 C -0.66215 -0.02704 -0.75052 0.10703 -0.75052 0.27139 Z">
                                      <p:cBhvr>
                                        <p:cTn id="34" dur="10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Солнышко"/>
          <p:cNvPicPr/>
          <p:nvPr/>
        </p:nvPicPr>
        <p:blipFill>
          <a:blip r:embed="rId1"/>
          <a:stretch/>
        </p:blipFill>
        <p:spPr>
          <a:xfrm>
            <a:off x="395280" y="404640"/>
            <a:ext cx="16444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3 0.31369 L 0.35469 -0.11188 L 0.7684 0.31369 L 0.35469 0.73902 L -0.05833 0.31369 Z">
                                      <p:cBhvr>
                                        <p:cTn id="40" dur="10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69 -0.02612 C 0.49844 -0.02612 0.61892 0.12436 0.61892 0.30906 C 0.61892 0.49422 0.49844 0.64494 0.35069 0.64494 C 0.20312 0.64494 0.08333 0.49422 0.08333 0.30906 C 0.08333 0.12436 0.20312 -0.02612 0.35069 -0.02612 Z">
                                      <p:cBhvr>
                                        <p:cTn id="44" dur="7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короговор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6913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Фотограф Фом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фотографирова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6" name="funtik.wmv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203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7:39:26Z</dcterms:created>
  <dc:creator>1</dc:creator>
  <dc:description/>
  <dc:language>en-US</dc:language>
  <cp:lastModifiedBy>kab36</cp:lastModifiedBy>
  <dcterms:modified xsi:type="dcterms:W3CDTF">2012-12-17T05:18:47Z</dcterms:modified>
  <cp:revision>10</cp:revision>
  <dc:subject/>
  <dc:title>Слайд 1</dc:title>
</cp:coreProperties>
</file>