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BA009-A822-4BE8-B966-4D0548EC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82D17-8091-42C2-9153-F0FEFA8B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A858C-F56B-4802-A7EC-143509BB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E7972-A14A-4C29-8CB8-D0130E69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A30E-7B2D-47D2-9AB9-852CF260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0354-C47E-49CF-8A3A-6F676095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4902-CA83-479A-BED7-F6555060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C0CE-E82C-4989-813A-A00342F5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2E61-5D9C-4886-AC58-EF5678A2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2BAF-8B67-41A6-A799-300FC5DE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385B-B751-48F8-8094-ADB51D24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28416-03CA-4E0C-9E9D-0BAEED66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BB12-DC4C-44CD-A1D2-3B56056A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D1B8-4959-48C5-9E65-224AE2B9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9F0D-18C6-4717-BFC8-73B64470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8FB8-1586-4EAC-BBA3-FA235B0B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B496-18DD-4351-8E36-88A7BBDF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3B97F-EAC1-40E3-8939-3F3A8724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10A08-93A5-4964-93E7-17861DFA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01C6D-3066-4883-9785-9DE9532E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E61E3-EE55-4EF2-92C7-C042E4CF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CA28A-12FB-4582-89B3-D8B9EE21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7CD43-5AA3-488B-86A4-59F8BC3E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F0F63-0341-495C-A1E6-244F4D9C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0EAC-0922-4131-84A4-CFE62BF426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694D-5A79-4B9E-8629-8726F1977A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&#1058;&#1077;&#1093;&#1085;&#1086;&#1083;&#1086;&#1075;&#1080;&#1103;%20&#1089;&#1087;&#1072;&#1080;&#1074;&#1072;&#1085;&#1080;&#1103;%20(2012).mp4" TargetMode="External"/><Relationship Id="rId2" Type="http://schemas.openxmlformats.org/officeDocument/2006/relationships/hyperlink" Target="file:///../&#1058;&#1077;&#1093;&#1085;&#1086;&#1083;&#1086;&#1075;&#1080;&#1103;%20&#1089;&#1087;&#1072;&#1080;&#1074;&#1072;&#1085;&#1080;&#1103;%20(2012).mp4" TargetMode="External"/><Relationship Id="rId3" Type="http://schemas.openxmlformats.org/officeDocument/2006/relationships/hyperlink" Target="file:///&#1055;&#1088;&#1077;&#1079;&#1077;&#1085;&#1090;&#1072;&#1094;&#1080;&#1103;1.ppt#9." TargetMode="External"/><Relationship Id="rId4" Type="http://schemas.openxmlformats.org/officeDocument/2006/relationships/hyperlink" Target="file:///&#1055;&#1088;&#1077;&#1079;&#1077;&#1085;&#1090;&#1072;&#1094;&#1080;&#1103;1.ppt#11. &#1054;&#1089;&#1086;&#1073;&#1077;&#1085;&#1085;&#1086;&#1089;&#1090;&#1080; &#1089;&#1077;&#1084;&#1077;&#1081;&#1085;&#1086;&#1075;&#1086; &#1074;&#1086;&#1089;&#1087;&#1080;&#1090;&#1072;&#1085;&#1080;&#1103;.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7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Родительское собрание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0" y="1773360"/>
            <a:ext cx="44578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редным привычкам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ажем "НЕТ!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429264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Особенности 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семейного воспитани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0384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чень опасно семей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спитание по тип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ИПООПЕ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недост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нимания и забот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этом дети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тролируются, оказыв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оставленными сами себ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ичи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небрежение родительскими обязанностя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оянные конфликты между родителя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шая загруженность родителей  на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0" y="155700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асен и противоположный ти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спитания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ИПЕРОПЕК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и эт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тролируют каждый шаг ребе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дают проявить самостоятельно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бенок не может отстаивать своё м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148360" y="4862520"/>
            <a:ext cx="298764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Очень важн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0435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арактер атмосферы, складывающийся до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ей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ади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или отсутствие эмоциональной близости и доверия между взросл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дет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780000" y="1484280"/>
            <a:ext cx="5364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Выработка стратегий поведения родит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447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сь  слушать и понимать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бенок должен знать, ч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м интересны 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утренний мир, 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живания и трев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пытайтесь понять, ч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го беспокоит, ка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блемы он пыт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ь в настоя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. Выразите св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зусловную любовь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му, веру в его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648320" y="1600200"/>
            <a:ext cx="4244760" cy="4525920"/>
            <a:chOff x="4648320" y="1600200"/>
            <a:chExt cx="4244760" cy="45259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424476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 txBox="1"/>
            <p:nvPr/>
          </p:nvSpPr>
          <p:spPr>
            <a:xfrm>
              <a:off x="4648320" y="1600200"/>
              <a:ext cx="424476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814716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Подумайте о своем приме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удно предположить, что кто-то поверит советам родителей, злоупотребляющий курение и алкого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0" t="0" r="4631" b="0"/>
          <a:stretch/>
        </p:blipFill>
        <p:spPr>
          <a:xfrm>
            <a:off x="1763640" y="2332080"/>
            <a:ext cx="60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360" y="333360"/>
            <a:ext cx="79912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Давайте советы, но не давите сове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росток с детства стремится вырваться из под диктата взрослых.  Надо с детства ставить ребенка в ситуации, когда он должен самостоятельно что-то реш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770580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40384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Почаще задавайте детям вопро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«Что думаешь об этом? А как бы поступил твой приятель? А ты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Не поступайтесь твердостью реш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старайтесь сохранять открытость в общении с ребе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Научите ребенка говорить «спасибо, н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Поддерживайте в ребенке самоуважение и думайте о его самореал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0" y="981000"/>
            <a:ext cx="43848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ение итог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395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спитательное воздейств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удь то профилактическое действие или решение существующих проблем, должно строит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 принципах уважени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924360" y="1844640"/>
            <a:ext cx="5219640" cy="3468600"/>
            <a:chOff x="3924360" y="1844640"/>
            <a:chExt cx="5219640" cy="346860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924360" y="1844640"/>
              <a:ext cx="5219640" cy="34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 txBox="1"/>
            <p:nvPr/>
          </p:nvSpPr>
          <p:spPr>
            <a:xfrm>
              <a:off x="3924360" y="1844640"/>
              <a:ext cx="5219640" cy="346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360" y="4221000"/>
            <a:ext cx="822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аботка классного руководителя 7-а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БОУ СОШ №1, г.Данилова Ярославской об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вановой Н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700360" y="765000"/>
            <a:ext cx="3960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 внимание!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9640" y="620640"/>
            <a:ext cx="5327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ростковый возрас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64000" y="2349360"/>
            <a:ext cx="2355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348000" y="3573360"/>
            <a:ext cx="4876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искованное поведение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441972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084720" y="189000"/>
            <a:ext cx="28400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400" y="472392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Заставляют действова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920" y="1628640"/>
            <a:ext cx="2449440" cy="143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ЗНА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156360" y="1628640"/>
            <a:ext cx="273672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ЩЕ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627280" y="3500280"/>
            <a:ext cx="4249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МОУТВЕРЖДЕНИ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32000" y="2060640"/>
            <a:ext cx="28195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ОВЫ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ЩУЩЕН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4341960" y="4595760"/>
            <a:ext cx="976320" cy="6588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64520 h 658800"/>
              <a:gd name="textAreaBottom" fmla="*/ 494280 h 658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ин из самых простых и быстрых способов удовлетворения потребностей подрос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24360" y="1600200"/>
            <a:ext cx="5040360" cy="4525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2124000" y="404640"/>
            <a:ext cx="511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ЛКОГОЛЬ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287280"/>
            <a:ext cx="82090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Пивной алкогол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ая проблема стран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статистике Минздрава РФ в Москве около 60% молодежи страдает пивным алкоголизм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1895400"/>
            <a:ext cx="550872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акторы рис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повышающие вероятность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ннего приобщения ребенка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алкоголю или кур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8229600" cy="29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Государственная полит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Биологические факто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Характерологические особенности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Особенности семейного вос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0" y="1412640"/>
            <a:ext cx="518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детей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 неустойчивым типом акцентуации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арактер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зкая переключаем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возможность длительно сосредотачиваться на выполнении зад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ыстрая утомляемость, вызванная даже не очень сложной работ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асто не доводят дело до кон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ыстрые перепады настро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рко выражена жажда развлече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иск новых ощущ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этому такие дети легко идут на «эксперименты» с алкоголем,  курением, наркот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60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Акцентуация характ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чрезмерное заострение некоторых личностных чер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56360" y="1555200"/>
            <a:ext cx="388764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нимания требуют и дети с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истероидным типом акцентуаци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и отличаются сильнейшим желанием постоянно быть в центре внимания окружающих (не важно, хвалят их или осуждаю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и могут использовать алкоголь, курить даже не потому, что это им нравится, а для того, чтобы завоевать авторитет, подчеркнуть свою значим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и подвержены внешнему влия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Важно!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 суметь научить ребен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гулировать своё состоя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довлетворять потребность в получении удовольствия за счет разнообразных источников, не разрушающих его физическое и психическое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103640" y="1413000"/>
            <a:ext cx="5040360" cy="3844800"/>
          </a:xfrm>
          <a:prstGeom prst="rect">
            <a:avLst/>
          </a:prstGeom>
          <a:ln w="0">
            <a:noFill/>
          </a:ln>
        </p:spPr>
      </p:pic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7812000" y="5877000"/>
            <a:ext cx="682560" cy="539640"/>
          </a:xfrm>
          <a:custGeom>
            <a:avLst/>
            <a:gdLst>
              <a:gd name="textAreaLeft" fmla="*/ 34920 w 682560"/>
              <a:gd name="textAreaRight" fmla="*/ 647640 w 6825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7317" h="21600">
                <a:moveTo>
                  <a:pt x="0" y="0"/>
                </a:moveTo>
                <a:lnTo>
                  <a:pt x="27317" y="0"/>
                </a:lnTo>
                <a:lnTo>
                  <a:pt x="27317" y="21600"/>
                </a:lnTo>
                <a:lnTo>
                  <a:pt x="0" y="21600"/>
                </a:lnTo>
                <a:close/>
              </a:path>
              <a:path fill="lightenLess" w="27317" h="21600">
                <a:moveTo>
                  <a:pt x="0" y="0"/>
                </a:moveTo>
                <a:lnTo>
                  <a:pt x="27317" y="0"/>
                </a:lnTo>
                <a:lnTo>
                  <a:pt x="25917" y="1400"/>
                </a:lnTo>
                <a:lnTo>
                  <a:pt x="1400" y="1400"/>
                </a:lnTo>
                <a:close/>
              </a:path>
              <a:path fill="darken" w="27317" h="21600">
                <a:moveTo>
                  <a:pt x="27317" y="0"/>
                </a:moveTo>
                <a:lnTo>
                  <a:pt x="27317" y="21600"/>
                </a:lnTo>
                <a:lnTo>
                  <a:pt x="25917" y="20200"/>
                </a:lnTo>
                <a:lnTo>
                  <a:pt x="25917" y="1400"/>
                </a:lnTo>
                <a:close/>
              </a:path>
              <a:path fill="darkenLess" w="27317" h="21600">
                <a:moveTo>
                  <a:pt x="27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17" y="20200"/>
                </a:lnTo>
                <a:close/>
              </a:path>
              <a:path fill="lighten" w="27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17" h="21600">
                <a:moveTo>
                  <a:pt x="13658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317" h="21600">
                <a:moveTo>
                  <a:pt x="13658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317" h="21600">
                <a:moveTo>
                  <a:pt x="11082" y="8224"/>
                </a:moveTo>
                <a:lnTo>
                  <a:pt x="14947" y="8224"/>
                </a:lnTo>
                <a:lnTo>
                  <a:pt x="14947" y="15221"/>
                </a:lnTo>
                <a:lnTo>
                  <a:pt x="16235" y="15221"/>
                </a:lnTo>
                <a:lnTo>
                  <a:pt x="16235" y="16144"/>
                </a:lnTo>
                <a:lnTo>
                  <a:pt x="11082" y="16144"/>
                </a:lnTo>
                <a:lnTo>
                  <a:pt x="11082" y="15221"/>
                </a:lnTo>
                <a:lnTo>
                  <a:pt x="12370" y="15221"/>
                </a:lnTo>
                <a:lnTo>
                  <a:pt x="12370" y="9129"/>
                </a:lnTo>
                <a:lnTo>
                  <a:pt x="11082" y="912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067280" y="1413000"/>
            <a:ext cx="507672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08:58:30Z</dcterms:created>
  <dc:creator>зам по УВР</dc:creator>
  <dc:description/>
  <dc:language>en-US</dc:language>
  <cp:lastModifiedBy>ученик</cp:lastModifiedBy>
  <dcterms:modified xsi:type="dcterms:W3CDTF">2013-01-14T08:37:22Z</dcterms:modified>
  <cp:revision>10</cp:revision>
  <dc:subject/>
  <dc:title>Слайд 1</dc:title>
</cp:coreProperties>
</file>