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69BD4-B5EE-48C4-B17D-16BCA44E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B0E1-A7DE-42C3-925C-12126B11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5517-4B0E-41E3-86D1-69B13973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3BCAF-6E4C-420A-9F93-FBC14DCD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5040-B7B3-43B2-A799-748BC54B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208D-F80D-4DCC-B246-BBAFF278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E845-D9F5-4EB2-B076-C4DB9CBE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42FB-0728-4A7E-8695-9A00A940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9382-B04C-4C0A-946C-07DA697E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6BCC-8605-48A7-8541-2273FD8F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539-70D4-4BD0-9A8B-3154794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B4A6-2621-47A5-8D8B-8F466E23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3EF8-06EF-41B5-AABF-A69CFF34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FE25-8965-47AC-9155-50B2D3B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83DF-49ED-4982-9179-58EE2CE1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5B8A-610A-4B88-8964-E5A47E57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CCB-1615-4143-93C5-048A85A7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7FEE-A14C-4A58-ADB6-CC3C33DF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347A-D54C-46BF-AACB-17327F87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D112-921C-41AD-BA2C-0D3F5ECE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A3D8-172E-4DB6-BC78-885497E4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4C62-8E23-4F40-A15D-531EE556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5958-3734-48A0-8A6A-5BDF673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50B24-9331-4C1A-82EE-0379AA0D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6A7F-DC74-4FDD-B2E4-3179AB2F7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EBFC-38D8-415A-A330-2DDBFD331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&#1058;&#1077;&#1093;&#1085;&#1086;&#1083;&#1086;&#1075;&#1080;&#1103;%20&#1089;&#1087;&#1072;&#1080;&#1074;&#1072;&#1085;&#1080;&#1103;%20(2012).mp4" TargetMode="External"/><Relationship Id="rId2" Type="http://schemas.openxmlformats.org/officeDocument/2006/relationships/hyperlink" Target="file:///../&#1058;&#1077;&#1093;&#1085;&#1086;&#1083;&#1086;&#1075;&#1080;&#1103;%20&#1089;&#1087;&#1072;&#1080;&#1074;&#1072;&#1085;&#1080;&#1103;%20(2012).mp4" TargetMode="External"/><Relationship Id="rId3" Type="http://schemas.openxmlformats.org/officeDocument/2006/relationships/hyperlink" Target="file:///&#1055;&#1088;&#1077;&#1079;&#1077;&#1085;&#1090;&#1072;&#1094;&#1080;&#1103;1.ppt#9." TargetMode="External"/><Relationship Id="rId4" Type="http://schemas.openxmlformats.org/officeDocument/2006/relationships/hyperlink" Target="file:///&#1055;&#1088;&#1077;&#1079;&#1077;&#1085;&#1090;&#1072;&#1094;&#1080;&#1103;1.ppt#11. &#1054;&#1089;&#1086;&#1073;&#1077;&#1085;&#1085;&#1086;&#1089;&#1090;&#1080; &#1089;&#1077;&#1084;&#1077;&#1081;&#1085;&#1086;&#1075;&#1086; &#1074;&#1086;&#1089;&#1087;&#1080;&#1090;&#1072;&#1085;&#1080;&#1103;.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Родительское собрание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1773360"/>
            <a:ext cx="44578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дным привычкам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жем "НЕТ!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42926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собенности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семейного воспит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чень опасно семей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ие по тип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ООП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ед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имания и заб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м дети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ируются, оказы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оставленными сами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небрежение родительскими обязанност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ые конфликты между родите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ая загруженность родителей  на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0" y="15570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асен и противоположный 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спитания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ИПЕРОПЕК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олируют каждый шаг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ают проявить самостоя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не может отстаивать своё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148360" y="4862520"/>
            <a:ext cx="2987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Очень важ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435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 атмосферы, складывающийся д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ей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ади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или отсутствие эмоциональной близости и доверия между взросл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36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Выработка стратегий поведения ро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сь  слушать и понимать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бенок должен зна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м интересны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енний мир, 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живания и трев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ытайтесь понять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беспокоит, ка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лемы он пы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ь в настоя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. Выразите с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условную любовь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му, веру в его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648320" y="1600200"/>
            <a:ext cx="4244760" cy="4525920"/>
            <a:chOff x="4648320" y="1600200"/>
            <a:chExt cx="4244760" cy="45259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2447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4648320" y="1600200"/>
              <a:ext cx="42447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Подумайте о своем прим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удно предположить, что кто-то поверит советам родителей, злоупотребляющий курение и алкого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4631" b="0"/>
          <a:stretch/>
        </p:blipFill>
        <p:spPr>
          <a:xfrm>
            <a:off x="1763640" y="2332080"/>
            <a:ext cx="60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991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Давайте советы, но не давите со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росток с детства стремится вырваться из под диктата взрослых.  Надо с детства ставить ребенка в ситуации, когда он должен самостоятельно что-то реш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70580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0384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Почаще задавайте детям 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Что думаешь об этом? А как бы поступил твой приятель? А т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Не поступайтесь твердостью 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тарайтесь сохранять открытость в общении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Научите ребенка говорить «спасибо, н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Поддерживайте в ребенке самоуважение и думайте о его само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0" y="981000"/>
            <a:ext cx="4384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95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ательное воздейств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удь то профилактическое действие или решение существующих проблем, должно стро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принципах уваж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24360" y="1844640"/>
            <a:ext cx="5219640" cy="3468600"/>
            <a:chOff x="3924360" y="1844640"/>
            <a:chExt cx="5219640" cy="34686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924360" y="1844640"/>
              <a:ext cx="521964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 txBox="1"/>
            <p:nvPr/>
          </p:nvSpPr>
          <p:spPr>
            <a:xfrm>
              <a:off x="3924360" y="1844640"/>
              <a:ext cx="5219640" cy="346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классного руководителя 7-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БОУ СОШ №1, г.Данилова Ярославской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ановой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00360" y="765000"/>
            <a:ext cx="3960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620640"/>
            <a:ext cx="532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дростковый возра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64000" y="2349360"/>
            <a:ext cx="2355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348000" y="3573360"/>
            <a:ext cx="487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искованное повед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441972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400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Заставляют действов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628640"/>
            <a:ext cx="2449440" cy="14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ЗН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56360" y="1628640"/>
            <a:ext cx="27367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Щ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627280" y="3500280"/>
            <a:ext cx="424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УТВЕРЖДЕН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2060640"/>
            <a:ext cx="281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ОВЫ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ЩУЩ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4341960" y="4595760"/>
            <a:ext cx="976320" cy="6588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4520 h 658800"/>
              <a:gd name="textAreaBottom" fmla="*/ 494280 h 65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из самых простых и быстрых способов удовлетворения потребностей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24360" y="1600200"/>
            <a:ext cx="504036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124000" y="404640"/>
            <a:ext cx="511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КОГО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28728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Пивной алкого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ая проблема стра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статистике Минздрава РФ в Москве около 60% молодежи страдает пивным алкоголиз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1895400"/>
            <a:ext cx="5508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повышающие вероятность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ннего приобщения ребенк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алкоголю или ку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8229600" cy="29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Государственная поли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Биологические факт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Характерологические особенности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Особенности семейного вос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0" y="1412640"/>
            <a:ext cx="518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 неустойчивым типом акцентуации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рактер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ая переключае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длительно сосредотачиваться на выполнении зад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страя утомляемость, вызванная даже не очень сложной работ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о не доводят дело до ко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стрые перепады настро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рко выражена жажда развлеч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иск новых ощу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такие дети легко идут на «эксперименты» с алкоголем,  курением, наркот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0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Акцентуация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резмерное заострение некоторых личностных чер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6360" y="1555200"/>
            <a:ext cx="388764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нимания требуют и дети с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стероидным типом акцентуаци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отличаются сильнейшим желанием постоянно быть в центре внимания окружающих (не важно, хвалят их или осуждаю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 могут использовать алкоголь, курить даже не потому, что это им нравится, а для того, чтобы завоевать авторитет, подчеркнуть свою знач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и подвержены внешнему вли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Важно!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суметь научить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гулировать своё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овлетворять потребность в получении удовольствия за счет разнообразных источников, не разрушающих его физическое и психическое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03640" y="1413000"/>
            <a:ext cx="5040360" cy="384480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7812000" y="5877000"/>
            <a:ext cx="682560" cy="539640"/>
          </a:xfrm>
          <a:custGeom>
            <a:avLst/>
            <a:gdLst>
              <a:gd name="textAreaLeft" fmla="*/ 34920 w 682560"/>
              <a:gd name="textAreaRight" fmla="*/ 647640 w 6825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7317" h="21600">
                <a:moveTo>
                  <a:pt x="0" y="0"/>
                </a:moveTo>
                <a:lnTo>
                  <a:pt x="27317" y="0"/>
                </a:lnTo>
                <a:lnTo>
                  <a:pt x="27317" y="21600"/>
                </a:lnTo>
                <a:lnTo>
                  <a:pt x="0" y="21600"/>
                </a:lnTo>
                <a:close/>
              </a:path>
              <a:path fill="lightenLess" w="27317" h="21600">
                <a:moveTo>
                  <a:pt x="0" y="0"/>
                </a:moveTo>
                <a:lnTo>
                  <a:pt x="27317" y="0"/>
                </a:lnTo>
                <a:lnTo>
                  <a:pt x="25917" y="1400"/>
                </a:lnTo>
                <a:lnTo>
                  <a:pt x="1400" y="1400"/>
                </a:lnTo>
                <a:close/>
              </a:path>
              <a:path fill="darken" w="27317" h="21600">
                <a:moveTo>
                  <a:pt x="27317" y="0"/>
                </a:moveTo>
                <a:lnTo>
                  <a:pt x="27317" y="21600"/>
                </a:lnTo>
                <a:lnTo>
                  <a:pt x="25917" y="20200"/>
                </a:lnTo>
                <a:lnTo>
                  <a:pt x="25917" y="1400"/>
                </a:lnTo>
                <a:close/>
              </a:path>
              <a:path fill="darkenLess" w="27317" h="21600">
                <a:moveTo>
                  <a:pt x="27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17" y="20200"/>
                </a:lnTo>
                <a:close/>
              </a:path>
              <a:path fill="lighten" w="27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17" h="21600">
                <a:moveTo>
                  <a:pt x="1365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317" h="21600">
                <a:moveTo>
                  <a:pt x="1365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317" h="21600">
                <a:moveTo>
                  <a:pt x="11082" y="8224"/>
                </a:moveTo>
                <a:lnTo>
                  <a:pt x="14947" y="8224"/>
                </a:lnTo>
                <a:lnTo>
                  <a:pt x="14947" y="15221"/>
                </a:lnTo>
                <a:lnTo>
                  <a:pt x="16235" y="15221"/>
                </a:lnTo>
                <a:lnTo>
                  <a:pt x="16235" y="16144"/>
                </a:lnTo>
                <a:lnTo>
                  <a:pt x="11082" y="16144"/>
                </a:lnTo>
                <a:lnTo>
                  <a:pt x="11082" y="15221"/>
                </a:lnTo>
                <a:lnTo>
                  <a:pt x="12370" y="15221"/>
                </a:lnTo>
                <a:lnTo>
                  <a:pt x="12370" y="9129"/>
                </a:lnTo>
                <a:lnTo>
                  <a:pt x="11082" y="91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67280" y="1413000"/>
            <a:ext cx="50767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8:58:30Z</dcterms:created>
  <dc:creator>зам по УВР</dc:creator>
  <dc:description/>
  <dc:language>en-US</dc:language>
  <cp:lastModifiedBy>ученик</cp:lastModifiedBy>
  <dcterms:modified xsi:type="dcterms:W3CDTF">2013-01-14T08:37:22Z</dcterms:modified>
  <cp:revision>10</cp:revision>
  <dc:subject/>
  <dc:title>Слайд 1</dc:title>
</cp:coreProperties>
</file>