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1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4.png" ContentType="image/png"/>
  <Override PartName="/ppt/media/image2.jpeg" ContentType="image/jpeg"/>
  <Override PartName="/ppt/media/image3.jpeg" ContentType="image/jpeg"/>
  <Override PartName="/ppt/media/image15.png" ContentType="image/png"/>
  <Override PartName="/ppt/media/image5.jpeg" ContentType="image/jpeg"/>
  <Override PartName="/ppt/media/image10.jpeg" ContentType="image/jpeg"/>
  <Override PartName="/ppt/media/image6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7F867-2661-4115-8CF8-C58E8B2F7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2C009-F317-4B2B-B1D7-A46DD7020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AD647-937B-488B-91A1-F576357FE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50509-B2E0-481F-9AC4-5E05AC0E1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895EF-8AA5-4B99-846E-C69B310ED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09B6D-0459-4428-8AD5-C6BC8554A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25329-E6FE-46B1-8D41-42DCED5FE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61F86-CDC8-4E23-B124-215669DD2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6B27A-BBC7-4678-8C26-C4414BE0B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D7535-F7FD-4618-84BE-7C6F4C9B3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0CC93-864F-4342-A96C-40BBBA39D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02070-93A0-4339-B1EF-191C338DA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DFC1A-4B28-41E6-9366-8780C0784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BC80C-EC7E-48F8-B971-7ABB4254B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14D84-6677-4C39-B621-A94D4E355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EB3C4-F552-444F-B622-14CBFFA86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D0E35-CEA8-40AA-BB93-5C04C6324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D20864-1109-4B4E-99EF-C39E37436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8141F1-85EB-4BD3-B065-2EF1D62C4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EF936F-A385-4B26-BE39-DBDE9D902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E232BC-A58D-4E30-B707-281B788B2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87C8EA-729C-41C1-8FED-3310E1215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293AD-B1A6-4FAD-89FA-8C4DFF06F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F1ED9F-E18C-4ABE-9A38-398E5AE35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B0FCEC-4D67-44BB-8351-6AB7046F1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4DD498-E3D6-4BF3-B748-C72B68B18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E92F04-2B3D-4643-AFFF-E9ACA472F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5A6F2F-BDAB-4226-8A75-F5AAF143F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4D5DC8-2A62-4C89-9D36-5DC158FEF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1B6F13-D73F-4EE3-94D5-A5ADE313F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0BD1AA-8CB9-4C81-B199-C26D93984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D12D79-C9C5-4571-B152-1B7A2E63A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6DEBF3-FC91-4D05-A184-D6A447467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58C58-5596-42BA-8F98-158C429D9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C99064-2B31-4DFA-A8A7-F828B1D94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E71A3F-0C90-412B-A51A-E6A4C1324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2FA008-804E-4843-9D88-D519FA481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A06B0B-342B-4FEC-AF28-8E0B6AE73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ED7F74-5106-49CB-99F4-48873C509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BB2E0C-AF3A-4E61-AB06-A2C48C4FC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43E277-EAB2-4166-9E67-D8C5DB4AA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1E2C0D-CC83-4DF7-AAB4-B13178701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9FD11E-6232-47BE-A3B4-6CDFD4B83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EDA423-4128-45D9-B29B-F46C4538B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02DC1-8EAF-44C2-956F-12A461C39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F75D67-6257-4DD8-8548-47B683FF7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11BEF5-9C9F-4F60-B1B1-9CE268C33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F84FAC-D354-402C-B8AB-34D169340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9879C6-091A-4D20-BECA-A2F017F58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F129AF-E421-4376-8BEB-A9BCB0772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EEE6F6-769D-403C-AA5A-3B7AB939E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4E99C6-7131-46AF-8F54-E66D9988E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438580-BD9F-4453-AC0A-E4A264013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084A64-9BDD-43ED-A294-E4B32EF3B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2A2F19-45C5-4D6C-ADE2-42D9A1AB7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DA1B7-9DFF-40C8-94EB-3B3EF5A9D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EAC7B1-EA04-4CBE-82BF-7746C2CC6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DCA972-0939-4A00-A81D-99A126B03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C58F36-7A47-4CDD-A070-9A9BF9C05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173564-93C1-493B-9571-07E91054B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F8E8A4-C7C1-40D9-B4CC-D7D97C612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8ACDAC-A056-4887-8868-80ED23630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A5618F-328D-4E9F-9F96-FF6756566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ADAD21-3EA2-4493-B4DF-9CC3D6DBB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CEE0D1-1336-4AA7-A308-4DDC1A4A9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A1341A-DFF5-452F-B30C-97F082724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38C2E-7AC8-4109-BE63-97EBAF037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8DEAFF-143A-48F3-A299-23200518A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1BA361-2FDB-4202-8EB8-DAED767E8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1209FA-FD1A-4176-BB82-A96322024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FEFBE4-1F22-48AF-9756-FE5C4F2FB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CF2839-67B9-4BCA-8B03-B5D69CD90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EFA341-5334-42BD-849F-3A569BD9A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E4428D-3308-4C7A-AF8A-F9677528B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ADB390-6F17-40BD-B6E3-8B8DD67A6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12923D-6B43-431D-BE03-841913B78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734F61-DC09-4933-8300-997382413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2FCF0-FECB-49CC-9FB3-39617F310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AD2F33-134D-4B52-B50B-FAB4FFD84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8555A2-F723-4375-B51B-C6EE5296A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54BFA2-8A27-4F20-B67B-9B20938C4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A40DB1-5073-419D-90EA-1F57DD4B6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2F1D9E-6F08-4D9F-B3B0-29E54C26B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4907E-A68A-4502-9A83-850BC4E42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37BBF-4E8A-464E-9C2D-3C7E98859D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8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1F1A4-5172-4446-99F1-53E90BC645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429BF-9430-48C3-9219-F098E2C6C8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838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70F56-1BF0-4D9B-A8AE-FE3354053E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59405-96E4-462A-9D25-DD1274B7FF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AE69D-1311-4737-A3CB-B3EC6C07A7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20F0C-92AE-4464-A7F0-C4FD2FC789B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1;&#1072;&#1090;&#1080;&#1085;&#1089;&#1082;&#1080;&#1081;_&#1103;&#1079;&#1099;&#1082;" TargetMode="External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TextBox 4" descr=""/>
          <p:cNvPicPr/>
          <p:nvPr/>
        </p:nvPicPr>
        <p:blipFill>
          <a:blip r:embed="rId1"/>
          <a:stretch/>
        </p:blipFill>
        <p:spPr>
          <a:xfrm>
            <a:off x="0" y="262080"/>
            <a:ext cx="8809200" cy="128088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13" descr=""/>
          <p:cNvPicPr/>
          <p:nvPr/>
        </p:nvPicPr>
        <p:blipFill>
          <a:blip r:embed="rId2"/>
          <a:stretch/>
        </p:blipFill>
        <p:spPr>
          <a:xfrm>
            <a:off x="611280" y="1989000"/>
            <a:ext cx="2678040" cy="3311640"/>
          </a:xfrm>
          <a:prstGeom prst="rect">
            <a:avLst/>
          </a:prstGeom>
          <a:ln w="0">
            <a:noFill/>
          </a:ln>
        </p:spPr>
      </p:pic>
      <p:sp>
        <p:nvSpPr>
          <p:cNvPr id="289" name="TextBox 7"/>
          <p:cNvSpPr/>
          <p:nvPr/>
        </p:nvSpPr>
        <p:spPr>
          <a:xfrm>
            <a:off x="2556000" y="5805360"/>
            <a:ext cx="579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боту выполнил обучающийся 8 класс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У СОШ № 11 с. Золотое  Кадыков Макси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Picture 6" descr=""/>
          <p:cNvPicPr/>
          <p:nvPr/>
        </p:nvPicPr>
        <p:blipFill>
          <a:blip r:embed="rId3"/>
          <a:stretch/>
        </p:blipFill>
        <p:spPr>
          <a:xfrm>
            <a:off x="5651640" y="1989000"/>
            <a:ext cx="2797200" cy="324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" dur="3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3000"/>
                            </p:stCondLst>
                            <p:childTnLst>
                              <p:par>
                                <p:cTn id="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" dur="2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8" dur="2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4"/>
          <p:cNvSpPr/>
          <p:nvPr/>
        </p:nvSpPr>
        <p:spPr>
          <a:xfrm>
            <a:off x="322200" y="1425960"/>
            <a:ext cx="8497800" cy="30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679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Wide Latin"/>
              </a:rPr>
              <a:t>    </a:t>
            </a:r>
            <a:r>
              <a:rPr b="1" lang="ru-RU" sz="2800" spc="-1" strike="noStrike" u="sng">
                <a:solidFill>
                  <a:srgbClr val="ffffff"/>
                </a:solidFill>
                <a:uFillTx/>
                <a:latin typeface="Wide Latin"/>
              </a:rPr>
              <a:t>Задач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679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Wide Latin"/>
              </a:rPr>
              <a:t>Изучить  историю  создания  герба  Саратовской области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679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Wide Latin"/>
              </a:rPr>
              <a:t>Изучить  историю  создания  герба   Красноармейского райо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679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Wide Latin"/>
              </a:rPr>
              <a:t>Исследовать геральдические  традиции, нормы  и  правила  создания  герб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679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Wide Latin"/>
              </a:rPr>
              <a:t>Создать  модель  герба  се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Picture 4" descr=""/>
          <p:cNvPicPr/>
          <p:nvPr/>
        </p:nvPicPr>
        <p:blipFill>
          <a:blip r:embed="rId1"/>
          <a:stretch/>
        </p:blipFill>
        <p:spPr>
          <a:xfrm>
            <a:off x="5724360" y="4508640"/>
            <a:ext cx="1738440" cy="1989000"/>
          </a:xfrm>
          <a:prstGeom prst="rect">
            <a:avLst/>
          </a:prstGeom>
          <a:ln w="0">
            <a:noFill/>
          </a:ln>
        </p:spPr>
      </p:pic>
      <p:sp>
        <p:nvSpPr>
          <p:cNvPr id="293" name="Rectangle 5"/>
          <p:cNvSpPr/>
          <p:nvPr/>
        </p:nvSpPr>
        <p:spPr>
          <a:xfrm>
            <a:off x="971640" y="476280"/>
            <a:ext cx="511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Цель работы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создать  герб родного сел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5" dur="2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4"/>
          <p:cNvSpPr/>
          <p:nvPr/>
        </p:nvSpPr>
        <p:spPr>
          <a:xfrm>
            <a:off x="2340000" y="987480"/>
            <a:ext cx="64087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ставление герба регулируется особыми правилами и законами, которые изучает специальная  наука - </a:t>
            </a: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геральдик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 (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лат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heraldu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— глашатай) или гербовед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Picture 5" descr=""/>
          <p:cNvPicPr/>
          <p:nvPr/>
        </p:nvPicPr>
        <p:blipFill>
          <a:blip r:embed="rId2"/>
          <a:stretch/>
        </p:blipFill>
        <p:spPr>
          <a:xfrm>
            <a:off x="714240" y="3857760"/>
            <a:ext cx="2820960" cy="225720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6" descr=""/>
          <p:cNvPicPr/>
          <p:nvPr/>
        </p:nvPicPr>
        <p:blipFill>
          <a:blip r:embed="rId3"/>
          <a:stretch/>
        </p:blipFill>
        <p:spPr>
          <a:xfrm>
            <a:off x="4786200" y="2928960"/>
            <a:ext cx="2786040" cy="317484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7" descr=""/>
          <p:cNvPicPr/>
          <p:nvPr/>
        </p:nvPicPr>
        <p:blipFill>
          <a:blip r:embed="rId4"/>
          <a:stretch/>
        </p:blipFill>
        <p:spPr>
          <a:xfrm>
            <a:off x="173160" y="201600"/>
            <a:ext cx="2041560" cy="3370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21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3)" transition="in">
                                      <p:cBhvr additive="repl">
                                        <p:cTn id="39" dur="2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2000"/>
                            </p:stCondLst>
                            <p:childTnLst>
                              <p:par>
                                <p:cTn id="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2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2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2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Picture 5" descr=""/>
          <p:cNvPicPr/>
          <p:nvPr/>
        </p:nvPicPr>
        <p:blipFill>
          <a:blip r:embed="rId1"/>
          <a:stretch/>
        </p:blipFill>
        <p:spPr>
          <a:xfrm>
            <a:off x="4921200" y="3141720"/>
            <a:ext cx="2984400" cy="3301920"/>
          </a:xfrm>
          <a:prstGeom prst="rect">
            <a:avLst/>
          </a:prstGeom>
          <a:ln w="0">
            <a:noFill/>
          </a:ln>
        </p:spPr>
      </p:pic>
      <p:sp>
        <p:nvSpPr>
          <p:cNvPr id="299" name="Rectangle 6"/>
          <p:cNvSpPr/>
          <p:nvPr/>
        </p:nvSpPr>
        <p:spPr>
          <a:xfrm>
            <a:off x="3924360" y="692280"/>
            <a:ext cx="457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Monotype Corsiva"/>
              </a:rPr>
              <a:t>В чем сила символа простого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Monotype Corsiva"/>
              </a:rPr>
              <a:t>Где кроется его основ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Monotype Corsiva"/>
              </a:rPr>
              <a:t>Конфуций полагает так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Monotype Corsiva"/>
              </a:rPr>
              <a:t>Что не закон, не слово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Monotype Corsiva"/>
              </a:rPr>
              <a:t>А миром правит - знак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Picture 7" descr=""/>
          <p:cNvPicPr/>
          <p:nvPr/>
        </p:nvPicPr>
        <p:blipFill>
          <a:blip r:embed="rId2"/>
          <a:stretch/>
        </p:blipFill>
        <p:spPr>
          <a:xfrm>
            <a:off x="684360" y="260280"/>
            <a:ext cx="2419200" cy="3024360"/>
          </a:xfrm>
          <a:prstGeom prst="rect">
            <a:avLst/>
          </a:prstGeom>
          <a:ln w="0">
            <a:noFill/>
          </a:ln>
        </p:spPr>
      </p:pic>
      <p:sp>
        <p:nvSpPr>
          <p:cNvPr id="301" name="Rectangle 8"/>
          <p:cNvSpPr/>
          <p:nvPr/>
        </p:nvSpPr>
        <p:spPr>
          <a:xfrm>
            <a:off x="179280" y="4000680"/>
            <a:ext cx="44290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Первый геральдист Росс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ff3300"/>
                </a:solidFill>
                <a:latin typeface="Arial"/>
              </a:rPr>
              <a:t>Франциск Сан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6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9" dur="2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2000"/>
                            </p:stCondLst>
                            <p:childTnLst>
                              <p:par>
                                <p:cTn id="6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2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2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Picture 7" descr="sar_g_new"/>
          <p:cNvPicPr/>
          <p:nvPr/>
        </p:nvPicPr>
        <p:blipFill>
          <a:blip r:embed="rId1"/>
          <a:stretch/>
        </p:blipFill>
        <p:spPr>
          <a:xfrm>
            <a:off x="642960" y="428760"/>
            <a:ext cx="3403440" cy="3743280"/>
          </a:xfrm>
          <a:prstGeom prst="rect">
            <a:avLst/>
          </a:prstGeom>
          <a:ln w="0">
            <a:noFill/>
          </a:ln>
        </p:spPr>
      </p:pic>
      <p:sp>
        <p:nvSpPr>
          <p:cNvPr id="303" name="Прямоугольник 6"/>
          <p:cNvSpPr/>
          <p:nvPr/>
        </p:nvSpPr>
        <p:spPr>
          <a:xfrm>
            <a:off x="4500720" y="1857240"/>
            <a:ext cx="44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Утвержден Законом Саратовской области в марте 2001 год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73" dur="2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6" dur="2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Заголовок 5" descr=""/>
          <p:cNvPicPr/>
          <p:nvPr/>
        </p:nvPicPr>
        <p:blipFill>
          <a:blip r:embed="rId1"/>
          <a:stretch/>
        </p:blipFill>
        <p:spPr>
          <a:xfrm>
            <a:off x="3481560" y="-103320"/>
            <a:ext cx="5503680" cy="1730520"/>
          </a:xfrm>
          <a:prstGeom prst="rect">
            <a:avLst/>
          </a:prstGeom>
          <a:ln w="0">
            <a:noFill/>
          </a:ln>
        </p:spPr>
      </p:pic>
      <p:pic>
        <p:nvPicPr>
          <p:cNvPr id="305" name="Рисунок 2" descr="Герб города Красноармейск и Красноармейского района"/>
          <p:cNvPicPr/>
          <p:nvPr/>
        </p:nvPicPr>
        <p:blipFill>
          <a:blip r:embed="rId2"/>
          <a:stretch/>
        </p:blipFill>
        <p:spPr>
          <a:xfrm>
            <a:off x="0" y="142920"/>
            <a:ext cx="3714840" cy="4846680"/>
          </a:xfrm>
          <a:prstGeom prst="rect">
            <a:avLst/>
          </a:prstGeom>
          <a:ln w="0">
            <a:noFill/>
          </a:ln>
        </p:spPr>
      </p:pic>
      <p:sp>
        <p:nvSpPr>
          <p:cNvPr id="306" name="Rectangle 6"/>
          <p:cNvSpPr/>
          <p:nvPr/>
        </p:nvSpPr>
        <p:spPr>
          <a:xfrm>
            <a:off x="3851280" y="1874520"/>
            <a:ext cx="4935600" cy="375156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"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В червленом (красном), мурованном золотом поле возникающий сверху серебряный свиток. В левой вольной части - герб Саратовской облас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(три положенные в вилообразный крест, сообращенные серебряные стерляди в лазуревом поле)"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3" dur="2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6" dur="2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90" dur="2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Picture 4" descr=""/>
          <p:cNvPicPr/>
          <p:nvPr/>
        </p:nvPicPr>
        <p:blipFill>
          <a:blip r:embed="rId1"/>
          <a:stretch/>
        </p:blipFill>
        <p:spPr>
          <a:xfrm>
            <a:off x="4572000" y="3340080"/>
            <a:ext cx="3929040" cy="294660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7" descr=""/>
          <p:cNvPicPr/>
          <p:nvPr/>
        </p:nvPicPr>
        <p:blipFill>
          <a:blip r:embed="rId2"/>
          <a:stretch/>
        </p:blipFill>
        <p:spPr>
          <a:xfrm>
            <a:off x="357120" y="3571920"/>
            <a:ext cx="3400560" cy="255096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4" descr=""/>
          <p:cNvPicPr/>
          <p:nvPr/>
        </p:nvPicPr>
        <p:blipFill>
          <a:blip r:embed="rId3"/>
          <a:srcRect l="0" t="0" r="0" b="29274"/>
          <a:stretch/>
        </p:blipFill>
        <p:spPr>
          <a:xfrm>
            <a:off x="428760" y="714240"/>
            <a:ext cx="3181320" cy="207180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3" descr="SDC11063"/>
          <p:cNvPicPr/>
          <p:nvPr/>
        </p:nvPicPr>
        <p:blipFill>
          <a:blip r:embed="rId4"/>
          <a:stretch/>
        </p:blipFill>
        <p:spPr>
          <a:xfrm>
            <a:off x="4857840" y="428760"/>
            <a:ext cx="3203640" cy="2276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7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TextBox 1"/>
          <p:cNvSpPr/>
          <p:nvPr/>
        </p:nvSpPr>
        <p:spPr>
          <a:xfrm>
            <a:off x="1692360" y="285840"/>
            <a:ext cx="607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 Narrow"/>
              </a:rPr>
              <a:t>Результаты анкетиров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1"/>
          <p:cNvSpPr/>
          <p:nvPr/>
        </p:nvSpPr>
        <p:spPr>
          <a:xfrm>
            <a:off x="2268360" y="1054440"/>
            <a:ext cx="4248360" cy="5009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00"/>
                </a:solidFill>
                <a:latin typeface="Arial"/>
                <a:ea typeface="Times New Roman"/>
              </a:rPr>
              <a:t>    </a:t>
            </a:r>
            <a:r>
              <a:rPr b="1" lang="ru-RU" sz="2000" spc="-1" strike="noStrike">
                <a:solidFill>
                  <a:srgbClr val="ff3300"/>
                </a:solidFill>
                <a:latin typeface="Arial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ff3300"/>
                </a:solidFill>
                <a:latin typeface="Franklin Gothic Demi Cond"/>
              </a:rPr>
              <a:t>церковь </a:t>
            </a:r>
            <a:r>
              <a:rPr b="1" lang="ru-RU" sz="2000" spc="-1" strike="noStrike">
                <a:solidFill>
                  <a:srgbClr val="00ff00"/>
                </a:solidFill>
                <a:latin typeface="Franklin Gothic Demi Cond"/>
              </a:rPr>
              <a:t>-   39 челове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ff00"/>
              </a:buClr>
              <a:buFont typeface="Franklin Gothic Demi C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00"/>
                </a:solidFill>
                <a:latin typeface="Franklin Gothic Demi Cond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ff3300"/>
                </a:solidFill>
                <a:latin typeface="Franklin Gothic Demi Cond"/>
                <a:ea typeface="Times New Roman"/>
              </a:rPr>
              <a:t>чайки -</a:t>
            </a:r>
            <a:r>
              <a:rPr b="1" lang="ru-RU" sz="2000" spc="-1" strike="noStrike">
                <a:solidFill>
                  <a:srgbClr val="00ff00"/>
                </a:solidFill>
                <a:latin typeface="Franklin Gothic Demi Cond"/>
                <a:ea typeface="Times New Roman"/>
              </a:rPr>
              <a:t>           47 человек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ff00"/>
              </a:buClr>
              <a:buFont typeface="Franklin Gothic Demi C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00"/>
                </a:solidFill>
                <a:latin typeface="Franklin Gothic Demi Cond"/>
                <a:ea typeface="Times New Roman"/>
              </a:rPr>
              <a:t>   </a:t>
            </a:r>
            <a:r>
              <a:rPr b="1" lang="ru-RU" sz="2000" spc="-1" strike="noStrike">
                <a:solidFill>
                  <a:srgbClr val="ff3300"/>
                </a:solidFill>
                <a:latin typeface="Franklin Gothic Demi Cond"/>
                <a:ea typeface="Times New Roman"/>
              </a:rPr>
              <a:t>река Волга</a:t>
            </a:r>
            <a:r>
              <a:rPr b="1" lang="ru-RU" sz="2000" spc="-1" strike="noStrike">
                <a:solidFill>
                  <a:srgbClr val="00ff00"/>
                </a:solidFill>
                <a:latin typeface="Franklin Gothic Demi Cond"/>
                <a:ea typeface="Times New Roman"/>
              </a:rPr>
              <a:t> -   52 человек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ff00"/>
              </a:buClr>
              <a:buFont typeface="Franklin Gothic Demi C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ff00"/>
              </a:buClr>
              <a:buFont typeface="Franklin Gothic Demi C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00"/>
                </a:solidFill>
                <a:latin typeface="Franklin Gothic Demi Cond"/>
                <a:ea typeface="Times New Roman"/>
              </a:rPr>
              <a:t>   </a:t>
            </a:r>
            <a:r>
              <a:rPr b="1" lang="ru-RU" sz="2000" spc="-1" strike="noStrike">
                <a:solidFill>
                  <a:srgbClr val="ff3300"/>
                </a:solidFill>
                <a:latin typeface="Franklin Gothic Demi Cond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ff3300"/>
                </a:solidFill>
                <a:latin typeface="Franklin Gothic Demi Cond"/>
                <a:ea typeface="Times New Roman"/>
              </a:rPr>
              <a:t>рыба </a:t>
            </a:r>
            <a:r>
              <a:rPr b="1" lang="ru-RU" sz="2000" spc="-1" strike="noStrike">
                <a:solidFill>
                  <a:srgbClr val="00ff00"/>
                </a:solidFill>
                <a:latin typeface="Franklin Gothic Demi Cond"/>
                <a:ea typeface="Times New Roman"/>
              </a:rPr>
              <a:t>-         35 человек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ff00"/>
              </a:buClr>
              <a:buFont typeface="Franklin Gothic Demi C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ff00"/>
              </a:buClr>
              <a:buFont typeface="Franklin Gothic Demi C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00"/>
                </a:solidFill>
                <a:latin typeface="Franklin Gothic Demi Cond"/>
                <a:ea typeface="Times New Roman"/>
              </a:rPr>
              <a:t>   </a:t>
            </a:r>
            <a:r>
              <a:rPr b="1" lang="ru-RU" sz="2000" spc="-1" strike="noStrike">
                <a:solidFill>
                  <a:srgbClr val="ff3300"/>
                </a:solidFill>
                <a:latin typeface="Franklin Gothic Demi Cond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ff3300"/>
                </a:solidFill>
                <a:latin typeface="Franklin Gothic Demi Cond"/>
                <a:ea typeface="Times New Roman"/>
              </a:rPr>
              <a:t>корабли</a:t>
            </a:r>
            <a:r>
              <a:rPr b="1" lang="ru-RU" sz="2000" spc="-1" strike="noStrike">
                <a:solidFill>
                  <a:srgbClr val="00ff00"/>
                </a:solidFill>
                <a:latin typeface="Franklin Gothic Demi Cond"/>
                <a:ea typeface="Times New Roman"/>
              </a:rPr>
              <a:t> -    21 человек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ff00"/>
              </a:buClr>
              <a:buFont typeface="Franklin Gothic Demi C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ff00"/>
              </a:buClr>
              <a:buFont typeface="Franklin Gothic Demi C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00"/>
                </a:solidFill>
                <a:latin typeface="Franklin Gothic Demi Cond"/>
                <a:ea typeface="Times New Roman"/>
              </a:rPr>
              <a:t>   </a:t>
            </a:r>
            <a:r>
              <a:rPr b="1" lang="ru-RU" sz="2000" spc="-1" strike="noStrike">
                <a:solidFill>
                  <a:srgbClr val="ff3300"/>
                </a:solidFill>
                <a:latin typeface="Franklin Gothic Demi Cond"/>
                <a:ea typeface="Times New Roman"/>
              </a:rPr>
              <a:t>солнце -</a:t>
            </a:r>
            <a:r>
              <a:rPr b="1" lang="ru-RU" sz="2000" spc="-1" strike="noStrike">
                <a:solidFill>
                  <a:srgbClr val="00ff00"/>
                </a:solidFill>
                <a:latin typeface="Franklin Gothic Demi Cond"/>
                <a:ea typeface="Times New Roman"/>
              </a:rPr>
              <a:t>     52 человек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ff00"/>
              </a:buClr>
              <a:buFont typeface="Franklin Gothic Demi C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ff00"/>
              </a:buClr>
              <a:buFont typeface="Franklin Gothic Demi C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00"/>
                </a:solidFill>
                <a:latin typeface="Franklin Gothic Demi Cond"/>
                <a:ea typeface="Times New Roman"/>
              </a:rPr>
              <a:t>    </a:t>
            </a:r>
            <a:r>
              <a:rPr b="1" lang="ru-RU" sz="2000" spc="-1" strike="noStrike">
                <a:solidFill>
                  <a:srgbClr val="ff3300"/>
                </a:solidFill>
                <a:latin typeface="Franklin Gothic Demi Cond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ff3300"/>
                </a:solidFill>
                <a:latin typeface="Franklin Gothic Demi Cond"/>
                <a:ea typeface="Times New Roman"/>
              </a:rPr>
              <a:t>бакены</a:t>
            </a:r>
            <a:r>
              <a:rPr b="1" lang="ru-RU" sz="2000" spc="-1" strike="noStrike">
                <a:solidFill>
                  <a:srgbClr val="00ff00"/>
                </a:solidFill>
                <a:latin typeface="Franklin Gothic Demi Cond"/>
                <a:ea typeface="Times New Roman"/>
              </a:rPr>
              <a:t>-     17 человек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ff00"/>
              </a:buClr>
              <a:buFont typeface="Franklin Gothic Demi C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00"/>
                </a:solidFill>
                <a:latin typeface="Arial"/>
                <a:ea typeface="Times New Roman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Picture 4" descr="герб"/>
          <p:cNvPicPr/>
          <p:nvPr/>
        </p:nvPicPr>
        <p:blipFill>
          <a:blip r:embed="rId1"/>
          <a:stretch/>
        </p:blipFill>
        <p:spPr>
          <a:xfrm>
            <a:off x="2195640" y="216000"/>
            <a:ext cx="4829040" cy="6308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6T19:20:56Z</dcterms:created>
  <dc:creator>комп</dc:creator>
  <dc:description/>
  <dc:language>en-US</dc:language>
  <cp:lastModifiedBy>Кадыкова ТА</cp:lastModifiedBy>
  <dcterms:modified xsi:type="dcterms:W3CDTF">2013-01-14T09:53:43Z</dcterms:modified>
  <cp:revision>68</cp:revision>
  <dc:subject/>
  <dc:title>Слайд 1</dc:title>
</cp:coreProperties>
</file>