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630-A3C6-42CD-9A4A-ACAAAB92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061-06C2-4D1B-A22E-3B2C2DFC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A8C0-5C7D-40CB-9EB1-8C45CF69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572-BD0C-4824-913C-B01C217B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2AFF-DE51-4ED3-B7A1-24A7C12D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87A9-FE06-4452-986E-6B514F2A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44B2-8EC3-4C4E-B43B-90F0EDC1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F94F-B328-4F30-B4AA-384602A3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B958-BCB1-4D05-B8D1-31509917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6594-B658-43C3-8B8F-206E7550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F12E-C6BD-4071-95DB-B2904215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25D-94B2-4C52-BF45-CB9F4FA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CD0C-697E-4AB9-8263-E6DF507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F65E-6625-4D68-B855-0EDA08FF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4E4C-F35D-4660-B717-A2E33B7D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7394-A72F-4394-BD39-B2D5A8F5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561A-7A53-459B-98B8-AB235BF2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D2AC-FCFA-4784-AAC7-35CA2979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407B-956D-41A8-861C-8A6B37D8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A5BE-5039-4741-9F8D-FB300CCF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88D12-460E-401A-8EBF-C10B0C3F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8E35-7BBF-4267-BA4B-347A4FAF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820-42B2-49A0-A24A-9E2F28C3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AC50-0B87-4306-BE03-47C95314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0E99-DE9E-4D4B-9B1C-AD6E3211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42D6-D3D1-4AFD-8DB2-507C950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AAEA-F4DF-415D-8066-E65A91A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1D5CD-BD5A-49C5-88AE-F387D1A2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2D4DE-D0D6-4FB6-8887-384BEEAE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453E-5079-46C5-BA98-D2E6F2B6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FDEE-6056-4B44-AFFA-ABB5E58E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4316D-C0FD-4289-ACAA-F2C38181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79604-BBCC-42CA-B4F1-E7D84640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510-7ABD-4D81-9C62-CC038687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D9884-CDF0-4F49-B43A-008519EF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7AA3-7B6E-46E9-A938-80A6D865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5DDC-774F-499D-BBED-AE1801AB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AA8A-0EF9-4567-9047-2FE9B981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3AF9F-BCA4-4FE7-B983-6D20FA8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8AC1-7DC9-486A-9E92-3332D39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B7F8D-B80B-4119-B9EC-6C9E33F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87756-3AAB-4539-9DFD-086BC65F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77B3-403F-4E77-858A-FA6A7F81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FCE72-5D26-4BD3-B8B4-00447680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483-10D8-4F28-B074-F6BEEFCB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EC08-B27C-417D-B5BD-462E36A9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233A-FC99-4D58-AADA-2D692213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37B87-5851-40CA-8EC2-07F5D64F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AAAF-480F-410C-930F-DA487643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610D-EF61-4101-859C-4CA62E8F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C0ED-557A-49F2-BBD9-63CFD45C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C7340-BA91-491E-9FEF-A48AC2F5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F27DD-83B5-48E0-9E27-0A10E693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2A8B9-6309-476C-A92A-509B9C08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53E1F-5C6D-4E7A-8F8D-5AC4D756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C92-E97B-4602-A586-17D4DBD9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7D29-99F6-4FC5-B227-D1BB4872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631CC-EFFA-41C2-B1DA-8FF5DC44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6B91-9EF6-41D4-B820-7B5A4AD7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E1685-1954-49B4-B692-60FD73C8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7E115-46B2-44E1-B5FB-2614897A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FB7E2-CFB5-406B-90C2-BF37EC39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C634F-02D3-4887-A6F7-EB86A895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0685E-9452-4C90-8CB4-7BFD1C5F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CD43A-EE0A-460D-96DE-164F0B14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9CBEB-D839-4129-8377-65E46759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8B3-06E2-42C4-9A06-05F4FF5D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705AA-C25E-4473-B004-75838F1F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534B8-33A5-4BBE-A548-7C2189F9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41777-4854-4F34-B552-66AA21A8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0871-FD08-4AA9-AC74-C226F3AC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9035C-3132-449B-8A66-7FC6706C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3349-9880-48A5-85FC-5246610F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5EA6A-165B-4330-8722-9F63812D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BB347-8AB4-408C-987F-56EB4B15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72735-0C69-410F-8E0C-FD4477CE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F3A33-5257-4A9F-84D2-824053F6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EB1-A325-4A95-9C4E-AFDEA232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73E9C-D5A0-4F57-B521-F4045DD0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1DA12-9A46-4D5C-A5AA-13457AFF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5E28E-B925-476F-AA41-BAD6EC9B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F0588-E335-4E06-B411-837C8C0C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35DA8-353F-4EF5-B3F7-DB5350CC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AAC-0EF6-4DE7-BFCD-E512EE25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EB41-2F5E-4190-BEB5-9E85C1BAA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595C-40B4-449E-82C5-0CEEDA76A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A4C1-CDB5-463A-949D-7C4571ECC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DAA9-624C-4303-9E68-4CE767F5E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5100-07A1-42DD-A554-33D8B21B6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2344-F0A8-4693-865E-AA95D5470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C06C-0C8B-4C67-A9D0-69202788F9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extBox 4" descr=""/>
          <p:cNvPicPr/>
          <p:nvPr/>
        </p:nvPicPr>
        <p:blipFill>
          <a:blip r:embed="rId1"/>
          <a:stretch/>
        </p:blipFill>
        <p:spPr>
          <a:xfrm>
            <a:off x="0" y="262080"/>
            <a:ext cx="8809200" cy="1280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3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678040" cy="33116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7"/>
          <p:cNvSpPr/>
          <p:nvPr/>
        </p:nvSpPr>
        <p:spPr>
          <a:xfrm>
            <a:off x="2556000" y="58053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обучающийся 8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11 с. Золотое  Кады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79720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22200" y="1425960"/>
            <a:ext cx="8497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Wide Latin"/>
              </a:rPr>
              <a:t>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Wide Lati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Wide Latin"/>
              </a:rPr>
              <a:t>Изучить  историю  создания  герба  Саратовской област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Wide Latin"/>
              </a:rPr>
              <a:t>Изучить  историю  создания  герба   Красноармейского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Wide Latin"/>
              </a:rPr>
              <a:t>Исследовать геральдические  традиции, нормы  и  правила  создания  гер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Wide Latin"/>
              </a:rPr>
              <a:t>Создать  модель  герба  с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5724360" y="4508640"/>
            <a:ext cx="1738440" cy="19890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5"/>
          <p:cNvSpPr/>
          <p:nvPr/>
        </p:nvSpPr>
        <p:spPr>
          <a:xfrm>
            <a:off x="971640" y="47628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ель работ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здать  герб родного с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2340000" y="987480"/>
            <a:ext cx="640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герба регулируется особыми правилами и законами, которые изучает специальная  наука -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гераль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herald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глашатай) или герб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714240" y="3857760"/>
            <a:ext cx="2820960" cy="2257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3"/>
          <a:stretch/>
        </p:blipFill>
        <p:spPr>
          <a:xfrm>
            <a:off x="4786200" y="2928960"/>
            <a:ext cx="2786040" cy="3174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4"/>
          <a:stretch/>
        </p:blipFill>
        <p:spPr>
          <a:xfrm>
            <a:off x="173160" y="201600"/>
            <a:ext cx="2041560" cy="33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4921200" y="3141720"/>
            <a:ext cx="2984400" cy="33019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6"/>
          <p:cNvSpPr/>
          <p:nvPr/>
        </p:nvSpPr>
        <p:spPr>
          <a:xfrm>
            <a:off x="3924360" y="69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В чем сила символа прост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Где кроется его осн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Конфуций полагает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Что не закон, не сл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А миром правит - зн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2419200" cy="30243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8"/>
          <p:cNvSpPr/>
          <p:nvPr/>
        </p:nvSpPr>
        <p:spPr>
          <a:xfrm>
            <a:off x="179280" y="4000680"/>
            <a:ext cx="442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вый геральдист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Франциск Сан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sar_g_new"/>
          <p:cNvPicPr/>
          <p:nvPr/>
        </p:nvPicPr>
        <p:blipFill>
          <a:blip r:embed="rId1"/>
          <a:stretch/>
        </p:blipFill>
        <p:spPr>
          <a:xfrm>
            <a:off x="642960" y="428760"/>
            <a:ext cx="3403440" cy="37432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6"/>
          <p:cNvSpPr/>
          <p:nvPr/>
        </p:nvSpPr>
        <p:spPr>
          <a:xfrm>
            <a:off x="450072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твержден Законом Саратовской области в марте 2001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5" descr=""/>
          <p:cNvPicPr/>
          <p:nvPr/>
        </p:nvPicPr>
        <p:blipFill>
          <a:blip r:embed="rId1"/>
          <a:stretch/>
        </p:blipFill>
        <p:spPr>
          <a:xfrm>
            <a:off x="3481560" y="-103320"/>
            <a:ext cx="5503680" cy="173052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2" descr="Герб города Красноармейск и Красноармейского района"/>
          <p:cNvPicPr/>
          <p:nvPr/>
        </p:nvPicPr>
        <p:blipFill>
          <a:blip r:embed="rId2"/>
          <a:stretch/>
        </p:blipFill>
        <p:spPr>
          <a:xfrm>
            <a:off x="0" y="142920"/>
            <a:ext cx="3714840" cy="48466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6"/>
          <p:cNvSpPr/>
          <p:nvPr/>
        </p:nvSpPr>
        <p:spPr>
          <a:xfrm>
            <a:off x="3851280" y="1874520"/>
            <a:ext cx="4935600" cy="3751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"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В червленом (красном), мурованном золотом поле возникающий сверху серебряный свиток. В левой вольной части - герб Саратов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(три положенные в вилообразный крест, сообращенные серебряные стерляди в лазуревом поле)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4572000" y="3340080"/>
            <a:ext cx="3929040" cy="2946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357120" y="3571920"/>
            <a:ext cx="3400560" cy="2550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3"/>
          <a:srcRect l="0" t="0" r="0" b="29274"/>
          <a:stretch/>
        </p:blipFill>
        <p:spPr>
          <a:xfrm>
            <a:off x="428760" y="714240"/>
            <a:ext cx="3181320" cy="2071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SDC11063"/>
          <p:cNvPicPr/>
          <p:nvPr/>
        </p:nvPicPr>
        <p:blipFill>
          <a:blip r:embed="rId4"/>
          <a:stretch/>
        </p:blipFill>
        <p:spPr>
          <a:xfrm>
            <a:off x="4857840" y="428760"/>
            <a:ext cx="320364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1692360" y="285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Narrow"/>
              </a:rPr>
              <a:t>Результаты анке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2268360" y="1054440"/>
            <a:ext cx="4248360" cy="50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</a:rPr>
              <a:t>церковь 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</a:rPr>
              <a:t>-   39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чайки -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        47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река Волга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-   52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рыба 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-         35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корабли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-    21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солнце -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  52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Franklin Gothic Demi Cond"/>
                <a:ea typeface="Times New Roman"/>
              </a:rPr>
              <a:t>бакены</a:t>
            </a:r>
            <a:r>
              <a:rPr b="1" lang="ru-RU" sz="2000" spc="-1" strike="noStrike">
                <a:solidFill>
                  <a:srgbClr val="00ff00"/>
                </a:solidFill>
                <a:latin typeface="Franklin Gothic Demi Cond"/>
                <a:ea typeface="Times New Roman"/>
              </a:rPr>
              <a:t>-     17 челов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ff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герб"/>
          <p:cNvPicPr/>
          <p:nvPr/>
        </p:nvPicPr>
        <p:blipFill>
          <a:blip r:embed="rId1"/>
          <a:stretch/>
        </p:blipFill>
        <p:spPr>
          <a:xfrm>
            <a:off x="2195640" y="216000"/>
            <a:ext cx="48290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9:20:56Z</dcterms:created>
  <dc:creator>комп</dc:creator>
  <dc:description/>
  <dc:language>en-US</dc:language>
  <cp:lastModifiedBy>Кадыкова ТА</cp:lastModifiedBy>
  <dcterms:modified xsi:type="dcterms:W3CDTF">2013-01-14T09:53:43Z</dcterms:modified>
  <cp:revision>68</cp:revision>
  <dc:subject/>
  <dc:title>Слайд 1</dc:title>
</cp:coreProperties>
</file>