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435-3723-40D4-A082-778B9D23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438-9975-4299-9233-EC1C3813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5D3-C0DD-495C-8558-C1547D61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369-BAB4-41A4-B6D2-4D976EB1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F438-BB24-4AB9-9F52-8DE09CAF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D283-D45A-4CEC-BBD8-3002946E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AB2A-FA4B-42AF-AB8D-E21D9944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AA20-2D6C-44FF-BAAA-4F461B56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79FF-C505-4302-A948-BFC26CD9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924-8A85-4556-B4FA-4C326438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D18A-25C6-4A73-8426-1D0EA9C7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6EE-3819-4A99-BAE4-30E5C353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3213-A0E1-4741-8B8F-26A7254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1B53-9D69-4249-82DB-3BAA98DD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C759-ADAC-4202-8B72-9435EB7D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FD9D-1BCF-4FD0-B0ED-9E8A6BFA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4104-4A54-411D-9483-B07B1F03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AA3-C31E-4FE1-A77E-EBD82761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7F0-153D-47CF-AF9E-D244E355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A32-745C-4354-8C7F-5FC14088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F92-17A7-4769-90F5-6CD3DA13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7B9-30B1-472A-AC01-79759623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E77-B652-42F0-A08A-67099CC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EA9-6C9B-4F05-AE8B-9FD7FB1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7C1-0D47-451C-B4EF-B774F2EE2E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C829-5B43-480B-B2E3-C6258824CA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1%E5%EC%FC%FF&amp;imsrc=http%3A%2F%2Fgsn.tatar.ru%2Ffile%2Flogo_year_2008-1%285%29.gif&amp;rch=e&amp;jsa=1&amp;sf=40&amp;cf=55&amp;is=0&amp;type=al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0%EB%EA%EE%E3%EE%EB%E8%EA&amp;imsrc=http%3A%2F%2Fgazeta.aif.ru%2Fdata%2Fmags%2Fhealth%2F339%2Fpics%2F09_01_00.jpg&amp;rch=e&amp;jsa=1&amp;sf=20&amp;cf=26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НФОРМАЦИОННЫЙ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8000" y="2131920"/>
            <a:ext cx="6278760" cy="61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девиантного поведения несовершеннолетних, оказавших в трудной жизненной ситуации (алкоголизм родителей) в системе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69640" y="-203040"/>
            <a:ext cx="6359400" cy="86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112840" y="4064040"/>
            <a:ext cx="2435400" cy="1270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бе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тру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изн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 flipV="1">
            <a:off x="3395520" y="3422520"/>
            <a:ext cx="324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112840" y="2286000"/>
            <a:ext cx="2514600" cy="111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росткам на улице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м зан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76200" y="2820960"/>
            <a:ext cx="1162080" cy="1625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иш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бод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63440" y="507960"/>
            <a:ext cx="1847880" cy="16257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1671480" y="3073320"/>
            <a:ext cx="33984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1050840" y="22334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4714920" y="2946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5070600" y="2233440"/>
            <a:ext cx="1503360" cy="1424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ув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полез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H="1" flipV="1">
            <a:off x="4517640" y="1625400"/>
            <a:ext cx="88596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1"/>
          <p:cNvSpPr/>
          <p:nvPr/>
        </p:nvSpPr>
        <p:spPr>
          <a:xfrm>
            <a:off x="3322800" y="355680"/>
            <a:ext cx="1314360" cy="1422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когол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6019920" y="167796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4"/>
          <p:cNvSpPr/>
          <p:nvPr/>
        </p:nvSpPr>
        <p:spPr>
          <a:xfrm>
            <a:off x="5008680" y="507960"/>
            <a:ext cx="1542960" cy="11178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ицид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уп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2232000" y="5867280"/>
            <a:ext cx="2286000" cy="1244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изкий уров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бразова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 flipH="1">
            <a:off x="1654200" y="6512040"/>
            <a:ext cx="4795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4587840" y="6586560"/>
            <a:ext cx="51120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309600" y="6095880"/>
            <a:ext cx="1219320" cy="152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5200560" y="6027840"/>
            <a:ext cx="1333440" cy="1117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4"/>
          <p:cNvSpPr/>
          <p:nvPr/>
        </p:nvSpPr>
        <p:spPr>
          <a:xfrm>
            <a:off x="3414600" y="721368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2013120" y="7721640"/>
            <a:ext cx="3085920" cy="711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зкая занятость молоде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880" y="303120"/>
            <a:ext cx="631188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циальный пасп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8360" y="1676160"/>
            <a:ext cx="6354720" cy="64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 класса, 20__/20__учебный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ный руководитель _____  Подпись  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3581280"/>
          <a:ext cx="6305400" cy="4037040"/>
        </p:xfrm>
        <a:graphic>
          <a:graphicData uri="http://schemas.openxmlformats.org/drawingml/2006/table">
            <a:tbl>
              <a:tblPr/>
              <a:tblGrid>
                <a:gridCol w="393840"/>
                <a:gridCol w="1182600"/>
                <a:gridCol w="788760"/>
                <a:gridCol w="722520"/>
                <a:gridCol w="722160"/>
                <a:gridCol w="854280"/>
                <a:gridCol w="787320"/>
                <a:gridCol w="853920"/>
              </a:tblGrid>
              <a:tr h="159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ро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ий 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е 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профессиона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специа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должение 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133720"/>
          <a:ext cx="6095880" cy="4465440"/>
        </p:xfrm>
        <a:graphic>
          <a:graphicData uri="http://schemas.openxmlformats.org/drawingml/2006/table">
            <a:tbl>
              <a:tblPr/>
              <a:tblGrid>
                <a:gridCol w="714240"/>
                <a:gridCol w="666720"/>
                <a:gridCol w="806760"/>
                <a:gridCol w="768240"/>
                <a:gridCol w="577800"/>
                <a:gridCol w="990720"/>
                <a:gridCol w="784080"/>
                <a:gridCol w="787320"/>
              </a:tblGrid>
              <a:tr h="194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ый ребе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ется инвали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ывается с отчим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ая 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ходится под опекой и попеч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мате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от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лишены родительских пр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находятся в тюрь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880" y="303120"/>
            <a:ext cx="62355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должение 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2362320"/>
          <a:ext cx="6202440" cy="3201840"/>
        </p:xfrm>
        <a:graphic>
          <a:graphicData uri="http://schemas.openxmlformats.org/drawingml/2006/table">
            <a:tbl>
              <a:tblPr/>
              <a:tblGrid>
                <a:gridCol w="1035000"/>
                <a:gridCol w="1032120"/>
                <a:gridCol w="1035000"/>
                <a:gridCol w="1033560"/>
                <a:gridCol w="1033200"/>
                <a:gridCol w="1033560"/>
              </a:tblGrid>
              <a:tr h="24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вает в детском до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ывается с другими родственни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обеспеченная 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лагополучная 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злоупотребляют спиртными напит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4880" y="303120"/>
            <a:ext cx="560700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ая карта семь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000" y="1523520"/>
            <a:ext cx="6278760" cy="66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овершеннолетнего 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.И.О. ребен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егося ______________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дрес фактического проживания: 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 жиль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агоустроенная квартира в каменном до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агоустроенная квартира в деревянном до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а общежит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ежит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04560" y="304560"/>
            <a:ext cx="6172200" cy="78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ведения о родител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И.О. мамы 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рождения: 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средн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редн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профессиональ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ш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работы (должность): 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й телефон: 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8360" y="507600"/>
            <a:ext cx="553896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И.О. папы 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рождения: 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средн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редн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профессиональ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ш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работы (должность): 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й телефон: 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 семьи составля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ее 3000 руб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3000 до 5000 руб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  5000 до 10 000 руб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ыше 10 000 руб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8360" y="609120"/>
            <a:ext cx="5538960" cy="75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лько несовершеннолетних детей в семье? 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И.О., дата рождения, место учебы или работы 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ашний телефон: 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е контактные телефоны для связи с вами (сотовые, телефоны соседей или родственников) 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8000" y="507960"/>
            <a:ext cx="6278760" cy="83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точка учета (характеристика) на учащегося для постановки на внутришкольный уч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И.О. учащегося, класс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, месяц и год рождения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ашний адрес, № телефона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дения о родителях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5715000"/>
          <a:ext cx="5086080" cy="2651040"/>
        </p:xfrm>
        <a:graphic>
          <a:graphicData uri="http://schemas.openxmlformats.org/drawingml/2006/table">
            <a:tbl>
              <a:tblPr/>
              <a:tblGrid>
                <a:gridCol w="1695240"/>
                <a:gridCol w="1695600"/>
                <a:gridCol w="1695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е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го телеф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8360" y="914400"/>
            <a:ext cx="5538960" cy="721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Сведения о других членах семь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бушка, дедушка, сестры, братья, прочие (подчеркнут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на, возрас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их работы, уче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8360" y="711360"/>
            <a:ext cx="5538960" cy="74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бы узнать ребенка, надо хорошо знать его семью”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В.А.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logo%5Fyear%5F2008-1%285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759120"/>
            <a:ext cx="41148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98360" y="2743200"/>
            <a:ext cx="553896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7" descr="PahaL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1200240" y="4064040"/>
            <a:ext cx="360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48564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«СЕМЬЯ В ПОРЯДКЕ, РЕБЕНОК В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                                                 ДОСТАТ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092ab4c12485b1c8e7f9481d991ffe91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743040" y="2540160"/>
            <a:ext cx="479412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Я!!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98000" y="380880"/>
            <a:ext cx="6126120" cy="774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ать систему психолого-педагогической поддержки несовершеннолетних в трудной жизненной ситуации, связанные с алкогольно-зависимыми родител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09%5F01%5F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2960" y="3784680"/>
            <a:ext cx="33339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98360" y="609120"/>
            <a:ext cx="5538960" cy="75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систем и анализ эффективных метод психолог - педагогической поддержки несовершеннолетни в трудной жизненной ситуации, связанных с алкоголе - зависимыми родител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ая обоснованность и экспериментальное апробирование систему  психолого – педагогической поддержки несовершеннолетни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дрить данную систему в практику работы образовательных учрежд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8360" y="609120"/>
            <a:ext cx="5538960" cy="75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тсутствие системы профилактики в алкоголезависимой семье, судебной системы наказания и принудительного ле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65420531_lechenie"/>
          <p:cNvPicPr/>
          <p:nvPr/>
        </p:nvPicPr>
        <p:blipFill>
          <a:blip r:embed="rId1"/>
          <a:stretch/>
        </p:blipFill>
        <p:spPr>
          <a:xfrm>
            <a:off x="1600200" y="3200400"/>
            <a:ext cx="30002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98360" y="507600"/>
            <a:ext cx="553896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туальность проблемы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коголизм родителей влияет на чувство бесполезности несовершеннолетнего, низкий уровень образованности, рост девиантного и суицидального  по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тиворечия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ушений связей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ья – ребенок  -   образо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реждение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пятствующих воспитанию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ю несовершеннолетн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42560" y="545760"/>
            <a:ext cx="553860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енок в проблемной семье (в семье алкоголе – зависимых родител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ъек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е учре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39634563%5Fsleza"/>
          <p:cNvPicPr/>
          <p:nvPr/>
        </p:nvPicPr>
        <p:blipFill>
          <a:blip r:embed="rId1"/>
          <a:stretch/>
        </p:blipFill>
        <p:spPr>
          <a:xfrm>
            <a:off x="3124080" y="4673520"/>
            <a:ext cx="2514600" cy="311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1285930632%5Fshkola"/>
          <p:cNvPicPr/>
          <p:nvPr/>
        </p:nvPicPr>
        <p:blipFill>
          <a:blip r:embed="rId2"/>
          <a:stretch/>
        </p:blipFill>
        <p:spPr>
          <a:xfrm>
            <a:off x="457200" y="3962520"/>
            <a:ext cx="22287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360" y="380880"/>
            <a:ext cx="5538960" cy="774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е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тировани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ац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кетиров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ограммы для структур наказ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ограмм содействия педагогического коллектива ОПД, КДН, ПД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8360" y="609120"/>
            <a:ext cx="5538960" cy="75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ая жизненная ситуац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лом определяется (Дементьева И.Ф., Евграфова И.Н., Кусов А.Ф.) как временная, объективно или субъективно создавшаяся ситуация; неизбежное событие в жизненном цикле, порождающее эмоциональные напряжения и стрессы; препятствия в реализации важных жизненных целей, с которыми нельзя справиться с помощью привычных средств; ситуация, объективно нарушающая жизнедеятельность; нарушение привычных внутренних связей; невозможность реализации внутренних стимулов (мотивов, стремлений, ценност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фира</cp:lastModifiedBy>
  <dcterms:modified xsi:type="dcterms:W3CDTF">2012-03-03T12:00:4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