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E85-2619-4420-A22B-CD786452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D2F-AF1C-4DF1-884E-D3BD0F04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3A8-B7BA-4B39-B26F-9416D30E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CD2-E3A1-401D-AFA8-AEC01183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1A49-56EC-4845-B114-C0F9AA91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21C7-891D-4419-8BED-3819CDF6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847C-5516-4F2C-A16D-FCC732CA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5DC-B3A3-4285-AC16-4679A2E4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198A-9DE2-4FAC-8078-6A0B70C5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1B05-98C8-4282-B44E-8C8F4334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D115-C6F2-4DAD-A283-A0F12808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0BD-310F-4145-B75C-FF156FC7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F04D-8964-4E40-8475-201BEEE3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85AB-51B9-4832-AC9F-56F849A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6611-DDCD-4FD5-8027-4FDF0937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8D01-A8C5-4BE7-8BA8-2A352D0D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64D7-0344-4841-A3EC-F62617B4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72D-76EB-4DBC-B9A7-807D23E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B2E-A083-4D45-AB5B-AE4B4ADC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87D-1B79-4C5B-A869-FAC8F9CC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D15-B53C-4D19-A386-4F374B35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833-BA6C-40C4-B187-146985F2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444-DE45-4151-9D25-A46350B7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9E7-BE36-4F1B-9FE4-245A654A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8cc072"/>
                </a:gs>
                <a:gs pos="100000">
                  <a:srgbClr val="b6d9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6d9af"/>
                </a:gs>
                <a:gs pos="100000">
                  <a:srgbClr val="8cc0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d9af"/>
                  </a:gs>
                  <a:gs pos="100000">
                    <a:srgbClr val="8cc0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b6d9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d9af"/>
                  </a:gs>
                  <a:gs pos="100000">
                    <a:srgbClr val="8cc0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8cc0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234008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8cc0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234008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400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23400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23400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01D4-DA16-4451-BA23-85828610947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b6d9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d9af"/>
                  </a:gs>
                  <a:gs pos="100000">
                    <a:srgbClr val="8cc0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234008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8cc072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8cc0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d9af"/>
                  </a:gs>
                  <a:gs pos="100000">
                    <a:srgbClr val="8cc0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b6d9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d9af"/>
                  </a:gs>
                  <a:gs pos="100000">
                    <a:srgbClr val="8cc0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8cc0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234008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8130-8E3D-42ED-B1CC-4B8A0CC359F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jpeg"/><Relationship Id="rId3" Type="http://schemas.openxmlformats.org/officeDocument/2006/relationships/slide" Target="slide10.xml"/><Relationship Id="rId4" Type="http://schemas.openxmlformats.org/officeDocument/2006/relationships/image" Target="../media/image12.jpeg"/><Relationship Id="rId5" Type="http://schemas.openxmlformats.org/officeDocument/2006/relationships/slide" Target="slide11.xml"/><Relationship Id="rId6" Type="http://schemas.openxmlformats.org/officeDocument/2006/relationships/image" Target="../media/image13.jpeg"/><Relationship Id="rId7" Type="http://schemas.openxmlformats.org/officeDocument/2006/relationships/slide" Target="slide12.xm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0228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9AF-1AC0-4519-AEF5-39130BE38DBD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.Грабар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Февральская  лазур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2880" y="333360"/>
            <a:ext cx="3610080" cy="6189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33" name=""/>
          <p:cNvSpPr/>
          <p:nvPr/>
        </p:nvSpPr>
        <p:spPr>
          <a:xfrm>
            <a:off x="457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356-34B7-41CC-82BE-3B104FD0637A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57146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.А.Коровин.  Зимо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8680" cy="5264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36" name=""/>
          <p:cNvSpPr/>
          <p:nvPr/>
        </p:nvSpPr>
        <p:spPr>
          <a:xfrm>
            <a:off x="457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717-72EA-43DD-8A91-99C6D3CB9D15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5409720"/>
            <a:ext cx="7543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.Ф.Юон. Мартовское утро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04160" cy="5230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457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ED1-A015-4C22-91A8-7F066A071F87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48080" y="304920"/>
            <a:ext cx="4047840" cy="2652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2309760" cy="3408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4"/>
          <a:srcRect l="4117" t="0" r="4117" b="8736"/>
          <a:stretch/>
        </p:blipFill>
        <p:spPr>
          <a:xfrm>
            <a:off x="6400800" y="3200400"/>
            <a:ext cx="2408400" cy="3386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141720" y="3200400"/>
            <a:ext cx="2860560" cy="33703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5B7-F3F9-4FCF-99F3-50D1AA866864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5730840"/>
            <a:ext cx="8381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А.Куинджи. Берёзовая роща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97840" cy="5311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46" name=""/>
          <p:cNvSpPr/>
          <p:nvPr/>
        </p:nvSpPr>
        <p:spPr>
          <a:xfrm>
            <a:off x="1522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DB0-6310-4D56-91A5-E34589E804E1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А.Куиндж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Берёзовая рощ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195800" cy="6189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49" name=""/>
          <p:cNvSpPr/>
          <p:nvPr/>
        </p:nvSpPr>
        <p:spPr>
          <a:xfrm>
            <a:off x="45720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90C-5259-4877-A0F2-0BF0A2DF1BE5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.И. Левитан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Берёзовая рощ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0" y="336600"/>
            <a:ext cx="4371840" cy="6184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52" name=""/>
          <p:cNvSpPr/>
          <p:nvPr/>
        </p:nvSpPr>
        <p:spPr>
          <a:xfrm>
            <a:off x="457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CA9-DAC7-43FE-8ACB-A2F33BAC779C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5943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.И.Левитан.  Большая в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4768920" cy="5618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55" name=""/>
          <p:cNvSpPr/>
          <p:nvPr/>
        </p:nvSpPr>
        <p:spPr>
          <a:xfrm>
            <a:off x="457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657-E29E-422F-9185-360547AC4992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2743200" y="447840"/>
            <a:ext cx="3657600" cy="5962320"/>
            <a:chOff x="2743200" y="447840"/>
            <a:chExt cx="3657600" cy="596232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4768" t="1728" r="73687" b="51282"/>
            <a:stretch/>
          </p:blipFill>
          <p:spPr>
            <a:xfrm>
              <a:off x="2743200" y="447840"/>
              <a:ext cx="3627360" cy="59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943600" y="5952960"/>
              <a:ext cx="457200" cy="45720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66880" y="457200"/>
            <a:ext cx="3735360" cy="5943600"/>
            <a:chOff x="2666880" y="457200"/>
            <a:chExt cx="3735360" cy="5943600"/>
          </a:xfrm>
        </p:grpSpPr>
        <p:grpSp>
          <p:nvGrpSpPr>
            <p:cNvPr id="160" name=""/>
            <p:cNvGrpSpPr/>
            <p:nvPr/>
          </p:nvGrpSpPr>
          <p:grpSpPr>
            <a:xfrm>
              <a:off x="2666880" y="457200"/>
              <a:ext cx="3735360" cy="5943600"/>
              <a:chOff x="2666880" y="457200"/>
              <a:chExt cx="3735360" cy="5943600"/>
            </a:xfrm>
          </p:grpSpPr>
          <p:sp>
            <p:nvSpPr>
              <p:cNvPr id="161" name=""/>
              <p:cNvSpPr/>
              <p:nvPr/>
            </p:nvSpPr>
            <p:spPr>
              <a:xfrm>
                <a:off x="5943240" y="5943600"/>
                <a:ext cx="457200" cy="457200"/>
              </a:xfrm>
              <a:prstGeom prst="rect">
                <a:avLst/>
              </a:prstGeom>
              <a:solidFill>
                <a:srgbClr val="b6d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" name="" descr=""/>
              <p:cNvPicPr/>
              <p:nvPr/>
            </p:nvPicPr>
            <p:blipFill>
              <a:blip r:embed="rId2"/>
              <a:srcRect l="37279" t="2305" r="40746" b="51282"/>
              <a:stretch/>
            </p:blipFill>
            <p:spPr>
              <a:xfrm>
                <a:off x="2666880" y="457200"/>
                <a:ext cx="3735360" cy="5943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5934240" y="5931000"/>
              <a:ext cx="466560" cy="46980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743200" y="457200"/>
            <a:ext cx="3657240" cy="5943240"/>
            <a:chOff x="2743200" y="457200"/>
            <a:chExt cx="3657240" cy="594324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rcRect l="70219" t="2305" r="8669" b="51282"/>
            <a:stretch/>
          </p:blipFill>
          <p:spPr>
            <a:xfrm>
              <a:off x="2743200" y="457200"/>
              <a:ext cx="3652560" cy="59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923440" y="5931360"/>
              <a:ext cx="477000" cy="46908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43200" y="457200"/>
            <a:ext cx="3657240" cy="6019560"/>
            <a:chOff x="2743200" y="457200"/>
            <a:chExt cx="3657240" cy="601956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rcRect l="4334" t="49553" r="74120" b="3457"/>
            <a:stretch/>
          </p:blipFill>
          <p:spPr>
            <a:xfrm>
              <a:off x="2743200" y="457200"/>
              <a:ext cx="3641040" cy="60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923440" y="5995440"/>
              <a:ext cx="477000" cy="48132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66880" y="457200"/>
            <a:ext cx="3733560" cy="6019560"/>
            <a:chOff x="2666880" y="457200"/>
            <a:chExt cx="3733560" cy="601956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rcRect l="36846" t="49553" r="41180" b="3457"/>
            <a:stretch/>
          </p:blipFill>
          <p:spPr>
            <a:xfrm>
              <a:off x="2666880" y="457200"/>
              <a:ext cx="3733560" cy="60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920920" y="6000840"/>
              <a:ext cx="475920" cy="47592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90920" y="457200"/>
            <a:ext cx="3809520" cy="6019560"/>
            <a:chOff x="2590920" y="457200"/>
            <a:chExt cx="3809520" cy="6019560"/>
          </a:xfrm>
        </p:grpSpPr>
        <p:pic>
          <p:nvPicPr>
            <p:cNvPr id="174" name="" descr=""/>
            <p:cNvPicPr/>
            <p:nvPr/>
          </p:nvPicPr>
          <p:blipFill>
            <a:blip r:embed="rId6"/>
            <a:srcRect l="69786" t="49553" r="8235" b="3457"/>
            <a:stretch/>
          </p:blipFill>
          <p:spPr>
            <a:xfrm>
              <a:off x="2590920" y="457200"/>
              <a:ext cx="3781080" cy="601956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234008">
                  <a:alpha val="50000"/>
                </a:srgbClr>
              </a:outerShdw>
            </a:effectLst>
          </p:spPr>
        </p:pic>
        <p:sp>
          <p:nvSpPr>
            <p:cNvPr id="175" name=""/>
            <p:cNvSpPr/>
            <p:nvPr/>
          </p:nvSpPr>
          <p:spPr>
            <a:xfrm>
              <a:off x="5914080" y="5995440"/>
              <a:ext cx="486360" cy="48132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  <a:effectLst>
              <a:outerShdw dist="107932" dir="18900000" blurRad="0" rotWithShape="0">
                <a:srgbClr val="2340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8534520" y="4343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820-6B9B-4F8D-8799-782CBD7DD275}" type="slidenum">
              <a:t>18</a:t>
            </a:fld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6668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ыучить наизусть стихотворение С.Есенина «Берёза» или  стихотворения других  авторов о берёзе.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9040" y="1981080"/>
            <a:ext cx="830592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Спасибо за работ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824-D35C-412C-9C9D-9112977B2A23}" type="slidenum">
              <a:t>19</a:t>
            </a:fld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37440" cy="6087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ергей Есенин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  « Берёза»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6868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815-E942-417A-BC7D-DA4F52DD4259}" type="slidenum">
              <a:t>2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1268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81480" y="22096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лександрови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сени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895 - 19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286160" cy="5790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B65-0717-4907-B300-1AF9DBDDAA77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20360" cy="708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70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872720" cy="704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3F2-94B8-4D38-8886-357862DDFCAF}" type="slidenum">
              <a:t>4</a:t>
            </a:fld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07440" cy="5631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C21-9B65-4AE4-9B05-E55B5BE44508}" type="slidenum">
              <a:t>5</a:t>
            </a:fld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ловарная работа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00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й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полоса на краю издел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3400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ахро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свободно свисающие нити на краю тк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804-4A9B-42E2-A4E9-17B4166D2290}" type="slidenum">
              <a:t>6</a:t>
            </a:fld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028840" y="28191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ётр Ильич Чайковск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095720" cy="5743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A42-A736-4725-B1FA-CC81D5555A6D}" type="slidenum">
              <a:t>7</a:t>
            </a:fld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3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1324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1266840"/>
            <a:ext cx="2022480" cy="43228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2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29400" y="1425600"/>
            <a:ext cx="2335320" cy="4005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2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38280" y="380880"/>
            <a:ext cx="3807000" cy="2630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2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590920" y="3429000"/>
            <a:ext cx="3670200" cy="2741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61A-F611-4511-8DFA-0EED2C45E884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4197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.Грабар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елая зима.    Грачиные гнёз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2903400" cy="6189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1F6-522E-4A2A-9B25-9172B223815E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2-04T14:27:57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