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B2E-A590-4D36-A551-4DBE2B97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512-6298-4EC0-A77E-EC0C7184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C02-6CDE-451C-8E16-68C7A8BD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BAF8-44C1-4414-8F05-1ED1BC95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EF1A-8CEC-4D1E-8A3B-FE162384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045C-4D8B-420C-A951-D61C2C5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0AE5-6A4C-4434-B503-AAFF070C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70E1-2E25-46BC-A7C6-374E2FE9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171F-0BC8-4E9D-A702-E725B950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102-D832-4F86-A2FB-C447EBB1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12C9-D94B-451E-82BC-B54AC1E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BA4-5FEC-4F16-8358-4FEDC550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961-C4CB-4F05-8442-56EBD357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D63F-EFAF-414D-9E9C-A09B51B2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028-1B7B-487E-A02E-F47E0B1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F9C8-84E5-4F17-B4AF-749A0442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9140-298E-4DC8-B2C2-C72C6F59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D97-797F-4F27-9F0A-8B06067B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ECD-F77B-4004-805A-9F4B1A5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E58-6295-4D2C-8C8A-C64ED9E7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F4F-09D7-42B4-AF25-3B84ACC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D00-69FA-4C77-9E4D-7CCBE66C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42F-4A28-4E23-B2F8-6134582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A13-8787-4E5F-971D-1CB32F7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8cc072"/>
                </a:gs>
                <a:gs pos="100000">
                  <a:srgbClr val="b6d9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6d9af"/>
                </a:gs>
                <a:gs pos="100000">
                  <a:srgbClr val="8cc0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436-BD6B-427E-BD21-A641F32889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234008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8cc072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8cc0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b6d9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6d9af"/>
                  </a:gs>
                  <a:gs pos="100000">
                    <a:srgbClr val="8cc0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8cc0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c072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234008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E903-3AFB-4E80-A5F7-CBE28D3D19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1.jpeg"/><Relationship Id="rId3" Type="http://schemas.openxmlformats.org/officeDocument/2006/relationships/slide" Target="slide10.xml"/><Relationship Id="rId4" Type="http://schemas.openxmlformats.org/officeDocument/2006/relationships/image" Target="../media/image12.jpeg"/><Relationship Id="rId5" Type="http://schemas.openxmlformats.org/officeDocument/2006/relationships/slide" Target="slide11.xml"/><Relationship Id="rId6" Type="http://schemas.openxmlformats.org/officeDocument/2006/relationships/image" Target="../media/image13.jpeg"/><Relationship Id="rId7" Type="http://schemas.openxmlformats.org/officeDocument/2006/relationships/slide" Target="slide12.xm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A0B-063B-4F8F-97D2-E8B32AAADEA7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.Грабар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Февральская  лазур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2880" y="333360"/>
            <a:ext cx="3610080" cy="618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3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4A9-4BC6-4972-93A2-0D32C494CFA7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7720" y="57146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.А.Коровин.  Зимо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8680" cy="5264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6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04C-7A26-4F31-919D-7D684B8B49CE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5409720"/>
            <a:ext cx="7543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.Ф.Юон. Мартовское утро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04160" cy="5230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57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FDC-6869-434E-98C9-AF4002A96150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48080" y="304920"/>
            <a:ext cx="4047840" cy="2652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3200400"/>
            <a:ext cx="2309760" cy="3408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4"/>
          <a:srcRect l="4117" t="0" r="4117" b="8736"/>
          <a:stretch/>
        </p:blipFill>
        <p:spPr>
          <a:xfrm>
            <a:off x="6400800" y="3200400"/>
            <a:ext cx="2408400" cy="338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141720" y="3200400"/>
            <a:ext cx="2860560" cy="33703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115-24FE-4DF5-9F69-600790249C0A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5730840"/>
            <a:ext cx="8381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А.Куинджи. Берёзовая роща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97840" cy="5311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46" name=""/>
          <p:cNvSpPr/>
          <p:nvPr/>
        </p:nvSpPr>
        <p:spPr>
          <a:xfrm>
            <a:off x="15228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9E1-B65C-44D6-B3B3-214FC618F92B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А.Куиндж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ерёзовая рощ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195800" cy="6189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45720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89B-43CD-4DAB-87D2-CF8BC79EDE75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.И. Левита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Берёзовая рощ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0" y="336600"/>
            <a:ext cx="4371840" cy="6184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52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98C-55BE-4BCE-A0B1-1FB42BF0280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5943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.И.Левитан.  Большая в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4768920" cy="5618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754-D619-4AF7-B0C4-83DB9FAD8A3B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2743200" y="447840"/>
            <a:ext cx="3657600" cy="5962320"/>
            <a:chOff x="2743200" y="447840"/>
            <a:chExt cx="3657600" cy="596232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4768" t="1728" r="73687" b="51282"/>
            <a:stretch/>
          </p:blipFill>
          <p:spPr>
            <a:xfrm>
              <a:off x="2743200" y="447840"/>
              <a:ext cx="3627360" cy="59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943600" y="5952960"/>
              <a:ext cx="457200" cy="45720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66880" y="457200"/>
            <a:ext cx="3735360" cy="5943600"/>
            <a:chOff x="2666880" y="457200"/>
            <a:chExt cx="3735360" cy="5943600"/>
          </a:xfrm>
        </p:grpSpPr>
        <p:grpSp>
          <p:nvGrpSpPr>
            <p:cNvPr id="160" name=""/>
            <p:cNvGrpSpPr/>
            <p:nvPr/>
          </p:nvGrpSpPr>
          <p:grpSpPr>
            <a:xfrm>
              <a:off x="2666880" y="457200"/>
              <a:ext cx="3735360" cy="5943600"/>
              <a:chOff x="2666880" y="457200"/>
              <a:chExt cx="3735360" cy="5943600"/>
            </a:xfrm>
          </p:grpSpPr>
          <p:sp>
            <p:nvSpPr>
              <p:cNvPr id="161" name=""/>
              <p:cNvSpPr/>
              <p:nvPr/>
            </p:nvSpPr>
            <p:spPr>
              <a:xfrm>
                <a:off x="5943240" y="5943600"/>
                <a:ext cx="457200" cy="457200"/>
              </a:xfrm>
              <a:prstGeom prst="rect">
                <a:avLst/>
              </a:prstGeom>
              <a:solidFill>
                <a:srgbClr val="b6d9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2" name="" descr=""/>
              <p:cNvPicPr/>
              <p:nvPr/>
            </p:nvPicPr>
            <p:blipFill>
              <a:blip r:embed="rId2"/>
              <a:srcRect l="37279" t="2305" r="40746" b="51282"/>
              <a:stretch/>
            </p:blipFill>
            <p:spPr>
              <a:xfrm>
                <a:off x="2666880" y="457200"/>
                <a:ext cx="3735360" cy="594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5934240" y="5931000"/>
              <a:ext cx="466560" cy="46980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743200" y="457200"/>
            <a:ext cx="3657240" cy="5943240"/>
            <a:chOff x="2743200" y="457200"/>
            <a:chExt cx="3657240" cy="594324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70219" t="2305" r="8669" b="51282"/>
            <a:stretch/>
          </p:blipFill>
          <p:spPr>
            <a:xfrm>
              <a:off x="2743200" y="457200"/>
              <a:ext cx="3652560" cy="59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923440" y="5931360"/>
              <a:ext cx="477000" cy="46908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43200" y="457200"/>
            <a:ext cx="3657240" cy="6019560"/>
            <a:chOff x="2743200" y="457200"/>
            <a:chExt cx="3657240" cy="60195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4334" t="49553" r="74120" b="3457"/>
            <a:stretch/>
          </p:blipFill>
          <p:spPr>
            <a:xfrm>
              <a:off x="2743200" y="457200"/>
              <a:ext cx="3641040" cy="60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923440" y="5995440"/>
              <a:ext cx="477000" cy="4813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66880" y="457200"/>
            <a:ext cx="3733560" cy="6019560"/>
            <a:chOff x="2666880" y="457200"/>
            <a:chExt cx="3733560" cy="601956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36846" t="49553" r="41180" b="3457"/>
            <a:stretch/>
          </p:blipFill>
          <p:spPr>
            <a:xfrm>
              <a:off x="2666880" y="457200"/>
              <a:ext cx="3733560" cy="60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920920" y="6000840"/>
              <a:ext cx="475920" cy="4759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90920" y="457200"/>
            <a:ext cx="3809520" cy="6019560"/>
            <a:chOff x="2590920" y="457200"/>
            <a:chExt cx="3809520" cy="601956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69786" t="49553" r="8235" b="3457"/>
            <a:stretch/>
          </p:blipFill>
          <p:spPr>
            <a:xfrm>
              <a:off x="2590920" y="457200"/>
              <a:ext cx="3781080" cy="601956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234008">
                  <a:alpha val="50000"/>
                </a:srgbClr>
              </a:outerShdw>
            </a:effectLst>
          </p:spPr>
        </p:pic>
        <p:sp>
          <p:nvSpPr>
            <p:cNvPr id="175" name=""/>
            <p:cNvSpPr/>
            <p:nvPr/>
          </p:nvSpPr>
          <p:spPr>
            <a:xfrm>
              <a:off x="5914080" y="5995440"/>
              <a:ext cx="486360" cy="481320"/>
            </a:xfrm>
            <a:prstGeom prst="rect">
              <a:avLst/>
            </a:prstGeom>
            <a:solidFill>
              <a:srgbClr val="b6d9af"/>
            </a:solidFill>
            <a:ln w="0">
              <a:noFill/>
            </a:ln>
            <a:effectLst>
              <a:outerShdw dist="107932" dir="18900000" blurRad="0" rotWithShape="0">
                <a:srgbClr val="2340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8534520" y="4343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955-280A-431E-88B6-BBE6573EA7A0}" type="slidenum">
              <a:t>18</a:t>
            </a:fld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6668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ыучить наизусть стихотворение С.Есенина «Берёза» или  стихотворения других  авторов о берёзе.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9040" y="1981080"/>
            <a:ext cx="830592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mic Sans MS"/>
              </a:rPr>
              <a:t>Спасибо за работ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mic Sans MS"/>
              <a:ea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F0B-47FD-4CDE-9AFF-C972F738422A}" type="slidenum">
              <a:t>19</a:t>
            </a:fld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37440" cy="608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ергей Есенин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       « Берёза»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68680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294-7883-43BA-8F3A-0BC3E0F14BB3}" type="slidenum">
              <a:t>2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1268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181480" y="22096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лександрович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сени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95 - 19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4286160" cy="5790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8C1-8951-4CE0-813B-17FCAAD67D27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20360" cy="708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5335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70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872720" cy="704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828-03A9-4119-9997-D028CDD5DA6F}" type="slidenum">
              <a:t>4</a:t>
            </a:fld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07440" cy="5631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7CA-8CA1-46FC-8753-653148994200}" type="slidenum">
              <a:t>5</a:t>
            </a:fld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Словарная работа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й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полоса на краю издел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3400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ахро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свободно свисающие нити на краю тка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874-35DD-4CF8-B24F-DD6E18948C05}" type="slidenum">
              <a:t>6</a:t>
            </a:fld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028840" y="28191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ётр Ильич Чайковск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095720" cy="57438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4D2-0C97-42E4-8523-E4C82CAB4D9C}" type="slidenum">
              <a:t>7</a:t>
            </a:fld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3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1324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1266840"/>
            <a:ext cx="2022480" cy="43228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29400" y="1425600"/>
            <a:ext cx="2335320" cy="4005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38280" y="380880"/>
            <a:ext cx="3807000" cy="2630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pic>
        <p:nvPicPr>
          <p:cNvPr id="12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590920" y="3429000"/>
            <a:ext cx="3670200" cy="2741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58B-E703-4949-ACCA-45FDD4178099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6d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4197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.Грабар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лая зима.    Грачиные гнёз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2903400" cy="61898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234008">
                <a:alpha val="50000"/>
              </a:srgbClr>
            </a:outerShdw>
          </a:effectLst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cc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F7A-95AD-46C8-B212-3E2303CE269C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2-04T14:27:57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