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9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897-B75D-42DC-BD77-4359C3A5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A57-810A-4C3C-B472-0DD1DC30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042-989C-4D08-B4CF-9D5367C1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CB0-FFD8-487F-BB1D-20B8D7B1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A49-EC7C-44FB-9E61-3B911D64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7FB-95BB-453A-9649-56F59EAE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950-48F7-4E3D-8941-571665E6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A32-B8A0-4027-9A25-89EE0E78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589-F03A-483C-A5A1-4A61CE0C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5C0-6BC3-4411-81CC-43AF1772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BC8-8193-4F70-A370-B8184F4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FC6-26B5-45D9-9BD8-3F2EB048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2A01-ED4C-4D70-A462-E88281C2DF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297 из 83330"/>
          <p:cNvPicPr/>
          <p:nvPr/>
        </p:nvPicPr>
        <p:blipFill>
          <a:blip r:embed="rId1"/>
          <a:stretch/>
        </p:blipFill>
        <p:spPr>
          <a:xfrm>
            <a:off x="2214720" y="1143000"/>
            <a:ext cx="5032080" cy="3687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622440" y="5175360"/>
            <a:ext cx="801504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143080" y="890640"/>
            <a:ext cx="4473720" cy="26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:\Мои документы\Мои рисунки\я.bmp"/>
          <p:cNvPicPr/>
          <p:nvPr/>
        </p:nvPicPr>
        <p:blipFill>
          <a:blip r:embed="rId2"/>
          <a:stretch/>
        </p:blipFill>
        <p:spPr>
          <a:xfrm>
            <a:off x="5357880" y="2917800"/>
            <a:ext cx="37861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"/>
          <p:cNvPicPr/>
          <p:nvPr/>
        </p:nvPicPr>
        <p:blipFill>
          <a:blip r:embed="rId1"/>
          <a:srcRect l="0" t="3126" r="0" b="0"/>
          <a:stretch/>
        </p:blipFill>
        <p:spPr>
          <a:xfrm>
            <a:off x="1357200" y="928800"/>
            <a:ext cx="6000840" cy="45003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-49320" y="719280"/>
            <a:ext cx="919332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662040" y="547560"/>
            <a:ext cx="2981160" cy="37832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2"/>
          <a:stretch/>
        </p:blipFill>
        <p:spPr>
          <a:xfrm>
            <a:off x="5492880" y="1268280"/>
            <a:ext cx="17668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-main-pic" descr="Картинка 200 из 83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143000" cy="1454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3786120" y="2643120"/>
            <a:ext cx="3929040" cy="3090960"/>
          </a:xfrm>
          <a:prstGeom prst="rect">
            <a:avLst/>
          </a:prstGeom>
          <a:ln w="0">
            <a:noFill/>
          </a:ln>
        </p:spPr>
      </p:pic>
      <p:sp>
        <p:nvSpPr>
          <p:cNvPr id="50" name="Выноска-облако 4"/>
          <p:cNvSpPr/>
          <p:nvPr/>
        </p:nvSpPr>
        <p:spPr>
          <a:xfrm>
            <a:off x="2500200" y="1857240"/>
            <a:ext cx="1000080" cy="642960"/>
          </a:xfrm>
          <a:prstGeom prst="cloudCallout">
            <a:avLst>
              <a:gd name="adj1" fmla="val 138333"/>
              <a:gd name="adj2" fmla="val 8310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013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4694400" y="476280"/>
            <a:ext cx="2882880" cy="10713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4833000" y="235728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 Black"/>
              </a:rPr>
              <a:t>11,2 км/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1357200" y="571680"/>
            <a:ext cx="2786040" cy="39304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3"/>
          <a:stretch/>
        </p:blipFill>
        <p:spPr>
          <a:xfrm>
            <a:off x="4784760" y="4048200"/>
            <a:ext cx="3110040" cy="149868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лево 5"/>
          <p:cNvSpPr/>
          <p:nvPr/>
        </p:nvSpPr>
        <p:spPr>
          <a:xfrm rot="1660200">
            <a:off x="4241880" y="4206600"/>
            <a:ext cx="977760" cy="357120"/>
          </a:xfrm>
          <a:prstGeom prst="leftArrow">
            <a:avLst>
              <a:gd name="adj1" fmla="val 33944"/>
              <a:gd name="adj2" fmla="val 12828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2643120" cy="36558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4334040"/>
            <a:ext cx="3582720" cy="15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Мои документы\зухра\С.П.Королёв.jpeg"/>
          <p:cNvPicPr/>
          <p:nvPr/>
        </p:nvPicPr>
        <p:blipFill>
          <a:blip r:embed="rId3"/>
          <a:stretch/>
        </p:blipFill>
        <p:spPr>
          <a:xfrm>
            <a:off x="4572000" y="571680"/>
            <a:ext cx="2571840" cy="3500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4138560" y="4346640"/>
            <a:ext cx="32259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Картинка 1 из 20439"/>
          <p:cNvPicPr/>
          <p:nvPr/>
        </p:nvPicPr>
        <p:blipFill>
          <a:blip r:embed="rId1"/>
          <a:stretch/>
        </p:blipFill>
        <p:spPr>
          <a:xfrm>
            <a:off x="2857680" y="682560"/>
            <a:ext cx="4071600" cy="30812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828720" y="4164120"/>
            <a:ext cx="70358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Картинка 7 из 18701"/>
          <p:cNvPicPr/>
          <p:nvPr/>
        </p:nvPicPr>
        <p:blipFill>
          <a:blip r:embed="rId1"/>
          <a:stretch/>
        </p:blipFill>
        <p:spPr>
          <a:xfrm>
            <a:off x="714240" y="2071800"/>
            <a:ext cx="2786040" cy="3792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5357880" y="2071800"/>
            <a:ext cx="2714400" cy="38718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3" descr=""/>
          <p:cNvPicPr/>
          <p:nvPr/>
        </p:nvPicPr>
        <p:blipFill>
          <a:blip r:embed="rId3"/>
          <a:stretch/>
        </p:blipFill>
        <p:spPr>
          <a:xfrm>
            <a:off x="2584440" y="231840"/>
            <a:ext cx="2682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20:16:29Z</dcterms:created>
  <dc:creator>Admin</dc:creator>
  <dc:description/>
  <dc:language>en-US</dc:language>
  <cp:lastModifiedBy>iu-name</cp:lastModifiedBy>
  <dcterms:modified xsi:type="dcterms:W3CDTF">2012-12-10T04:01:00Z</dcterms:modified>
  <cp:revision>44</cp:revision>
  <dc:subject/>
  <dc:title>Слайд 1</dc:title>
</cp:coreProperties>
</file>