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113-D0D4-4CF3-BA0E-D69B7B52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4D7-76A1-4F41-AE96-D2484FD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F56-E553-47AE-8C66-2F2DC765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898-2FCD-4397-AC80-7219380E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25E-BDCD-42E7-B8BB-267EAAC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F03-66D9-4B88-8C72-9229DA8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D69-17B0-4EA1-978F-88DF0E17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31A-9D11-431A-BF55-2C35ECE9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A0F-02BE-4B5C-A437-E5A88C4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7E1-4578-4C7C-8DED-89E1EFE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A5C-578F-40D7-AFD1-4C4E784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ECE-2232-4E87-ACF5-D9A021B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E0BF-94DB-4F99-B08E-3C54BE4E6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297 из 83330"/>
          <p:cNvPicPr/>
          <p:nvPr/>
        </p:nvPicPr>
        <p:blipFill>
          <a:blip r:embed="rId1"/>
          <a:stretch/>
        </p:blipFill>
        <p:spPr>
          <a:xfrm>
            <a:off x="2214720" y="1143000"/>
            <a:ext cx="5032080" cy="3687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622440" y="5175360"/>
            <a:ext cx="80150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143080" y="890640"/>
            <a:ext cx="4473720" cy="26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Мои документы\Мои рисунки\я.bmp"/>
          <p:cNvPicPr/>
          <p:nvPr/>
        </p:nvPicPr>
        <p:blipFill>
          <a:blip r:embed="rId2"/>
          <a:stretch/>
        </p:blipFill>
        <p:spPr>
          <a:xfrm>
            <a:off x="5357880" y="2917800"/>
            <a:ext cx="37861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rcRect l="0" t="3126" r="0" b="0"/>
          <a:stretch/>
        </p:blipFill>
        <p:spPr>
          <a:xfrm>
            <a:off x="1357200" y="928800"/>
            <a:ext cx="6000840" cy="45003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49320" y="719280"/>
            <a:ext cx="919332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662040" y="547560"/>
            <a:ext cx="2981160" cy="37832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5492880" y="1268280"/>
            <a:ext cx="1766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-main-pic" descr="Картинка 200 из 83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14300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3786120" y="2643120"/>
            <a:ext cx="3929040" cy="3090960"/>
          </a:xfrm>
          <a:prstGeom prst="rect">
            <a:avLst/>
          </a:prstGeom>
          <a:ln w="0">
            <a:noFill/>
          </a:ln>
        </p:spPr>
      </p:pic>
      <p:sp>
        <p:nvSpPr>
          <p:cNvPr id="50" name="Выноска-облако 4"/>
          <p:cNvSpPr/>
          <p:nvPr/>
        </p:nvSpPr>
        <p:spPr>
          <a:xfrm>
            <a:off x="2500200" y="1857240"/>
            <a:ext cx="1000080" cy="642960"/>
          </a:xfrm>
          <a:prstGeom prst="cloudCallout">
            <a:avLst>
              <a:gd name="adj1" fmla="val 138333"/>
              <a:gd name="adj2" fmla="val 8310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013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4694400" y="476280"/>
            <a:ext cx="2882880" cy="1071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833000" y="235728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 Black"/>
              </a:rPr>
              <a:t>11,2 км/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1357200" y="571680"/>
            <a:ext cx="2786040" cy="3930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4784760" y="4048200"/>
            <a:ext cx="3110040" cy="14986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лево 5"/>
          <p:cNvSpPr/>
          <p:nvPr/>
        </p:nvSpPr>
        <p:spPr>
          <a:xfrm rot="1660200">
            <a:off x="4241880" y="4206600"/>
            <a:ext cx="977760" cy="357120"/>
          </a:xfrm>
          <a:prstGeom prst="leftArrow">
            <a:avLst>
              <a:gd name="adj1" fmla="val 33944"/>
              <a:gd name="adj2" fmla="val 12828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2643120" cy="3655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4334040"/>
            <a:ext cx="358272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Мои документы\зухра\С.П.Королёв.jpeg"/>
          <p:cNvPicPr/>
          <p:nvPr/>
        </p:nvPicPr>
        <p:blipFill>
          <a:blip r:embed="rId3"/>
          <a:stretch/>
        </p:blipFill>
        <p:spPr>
          <a:xfrm>
            <a:off x="4572000" y="571680"/>
            <a:ext cx="257184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138560" y="4346640"/>
            <a:ext cx="32259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Картинка 1 из 20439"/>
          <p:cNvPicPr/>
          <p:nvPr/>
        </p:nvPicPr>
        <p:blipFill>
          <a:blip r:embed="rId1"/>
          <a:stretch/>
        </p:blipFill>
        <p:spPr>
          <a:xfrm>
            <a:off x="2857680" y="682560"/>
            <a:ext cx="4071600" cy="3081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828720" y="4164120"/>
            <a:ext cx="7035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7 из 18701"/>
          <p:cNvPicPr/>
          <p:nvPr/>
        </p:nvPicPr>
        <p:blipFill>
          <a:blip r:embed="rId1"/>
          <a:stretch/>
        </p:blipFill>
        <p:spPr>
          <a:xfrm>
            <a:off x="714240" y="2071800"/>
            <a:ext cx="278604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5357880" y="2071800"/>
            <a:ext cx="2714400" cy="3871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2584440" y="231840"/>
            <a:ext cx="2682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0:16:29Z</dcterms:created>
  <dc:creator>Admin</dc:creator>
  <dc:description/>
  <dc:language>en-US</dc:language>
  <cp:lastModifiedBy>iu-name</cp:lastModifiedBy>
  <dcterms:modified xsi:type="dcterms:W3CDTF">2012-12-10T04:01:00Z</dcterms:modified>
  <cp:revision>44</cp:revision>
  <dc:subject/>
  <dc:title>Слайд 1</dc:title>
</cp:coreProperties>
</file>