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3.jpeg" ContentType="image/jpeg"/>
  <Override PartName="/ppt/media/image3.gif" ContentType="image/gif"/>
  <Override PartName="/ppt/media/image12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617-D01A-40DD-9947-54D069CB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E57-C4DB-45E0-9F27-6C262C0C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4D20-C978-4B5F-93D9-981A798D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CFE-70CB-48B5-B533-EC57D13E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AEA-7C58-4C19-B563-3C9EF495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65A-8D64-40DF-B2FC-C9CCE4DE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60A-2F8D-4B38-945D-6C9CC726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4BA-35C7-4912-91E1-DAE2210F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BA2-2F45-47A6-8264-2134D83D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C48-C951-48CE-BFF7-35A8411A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96C-14B9-4454-BF35-F4771840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115-DA24-4C7E-A203-123CCCE6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FF6F-C3DA-40CC-A96C-B415652185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нно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8487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зентация разработана для внеклассного мероприятия  </a:t>
            </a:r>
            <a:r>
              <a:rPr b="1" i="1" lang="en-US" sz="2400" spc="-1" strike="noStrike">
                <a:solidFill>
                  <a:srgbClr val="009999"/>
                </a:solidFill>
                <a:latin typeface="Comic Sans MS"/>
              </a:rPr>
              <a:t>«Что ? Где ? Когда»</a:t>
            </a:r>
            <a:r>
              <a:rPr b="1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в 9 – 11 классах .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ели:  развитие у учащихся интереса к изучению математики,         развитие их интеллекта , способности логически мысл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4724280"/>
            <a:ext cx="640872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дготовила 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редней школы № 33 г. Саранск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Богачева Ольга Михайл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опрос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032360" cy="4319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43280" y="1484280"/>
            <a:ext cx="4268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братите внимание на бубновый король. На карте вы видите изображение ромба. Почему на картах бубновой масти изображен именно ромб, а не что–нибудь  друг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3716280"/>
            <a:ext cx="88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08720" y="5300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Вопрос 6.(Бли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56360" y="1197000"/>
            <a:ext cx="1944720" cy="1582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57360" y="1700280"/>
            <a:ext cx="323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Единица упрям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227640" y="2924280"/>
            <a:ext cx="1893960" cy="1511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8760" y="3357720"/>
            <a:ext cx="481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 Самый маленький рост дев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262560" y="4869000"/>
            <a:ext cx="1657440" cy="165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50880" y="5249880"/>
            <a:ext cx="507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. Два в квадрате – 4, три в квадрате – 9. Чему равен угол в квадра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56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360" y="907560"/>
            <a:ext cx="4546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каком числе идет речь в стихотворении С.  Боброва: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рдый Рим трубил победу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д твердыней Сиракуз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 трудами Архимеда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ного больше я горжусь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до нынче нам заняться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казать старинке честь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тобы нам не ошибиться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тоб окружность верно счесть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до только постараться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запомнить все как есть: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ри – четырнадцать – пятнадцать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вяносто два и шес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6200" y="28116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опрос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529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720" y="1700280"/>
            <a:ext cx="5626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Вавилоняне во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 II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тыс. до н.э. удовлетворялись значением   </a:t>
            </a:r>
            <a:r>
              <a:rPr b="1" i="1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= 3.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Нидерладский математик Лудолф ван Цейлен (1540-1610) вычислил 35 десятичных знаков после запятой у числа  </a:t>
            </a:r>
            <a:r>
              <a:rPr b="1" i="1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    В течение 20 лет (с 1853 по 1873 г. г.) английский математик У. Шенк вычислил 707 десятичных знаков у числа </a:t>
            </a:r>
            <a:r>
              <a:rPr b="1" i="1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    В 1989 году японский ученый Я. Канэда, используя суперкомпьютер получил для числа  </a:t>
            </a:r>
            <a:r>
              <a:rPr b="1" i="1" lang="el-GR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π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201 326 000 цифровых знаков после запя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2735280" cy="4753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16000" y="26028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сли число, выражающее длину окружности, разделить на число, выражающее диаметр этой окружности, то получится   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3,1415926535 …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опрос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240000" cy="4969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80000" y="1341360"/>
            <a:ext cx="511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дин человек, оказавшись  случайно в небольшом городке и желая  хоть как–то убить время, решил подстричься. В городке было всего два мастера (у каждого из них своя парикмахерская). Заглянув к одному мастеру, он  увидел , что в салоне грязно, сам мастер одет неряшливо и небрежно подстрижен. В салоне другого мастера было идеально чисто, а владелец был безукоризненно одет и аккуратно подстрижен. Поразмыслив, человек отправился стричься к первому парикмахеру, Объясните причину столь странного ,на первый взгляд, решен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Вопрос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2879640" cy="252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95280" y="3716280"/>
            <a:ext cx="2736720" cy="2481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635280" y="1916280"/>
            <a:ext cx="51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 и 2 февраля 1972 года в Мексиканском заливе исчез огромный танкер. Судно было обнаружено лишь 14 февраля , лежащим на дне. Все 38 членов экипажа бесследно исчезли. Но, что самое потрясающее, 39 человек – капитан танкера – был найден у себя в каюте сидящим за столом, в его руках еще была кофейная чашка!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О чем идет речь, как называется это таинственное место, форму какой геометрической фигуры оно име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8036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опрос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3322440" cy="4535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24360" y="1916280"/>
            <a:ext cx="4968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спомните отрывок из сказки Шарля Перо «Золушка», когда мачеха со своими дочерьми отправляется на бал и дает поручения Золушке: «…посадить 40 кустов роз, натереть полы, наносить вод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меются ведра емкостью 3 и 5 литров. Надо принести ровно 4 литра воды , используя только эти ве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3789000"/>
            <a:ext cx="82803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3 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► 5(пустой)л + (3 л)         2)  3 л  ► 5 (3)л + 2 л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3) 1 л ► 5(пустой)+1 л           4) 3 л ► 5(1) = 4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47176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356000" y="620640"/>
            <a:ext cx="262908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13280" y="7128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 ли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53640" y="7128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 ли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8036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0" y="1413000"/>
            <a:ext cx="5472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, мудрые братья! Я подвел итог предшествующему развитию греческой математики, создал фундамент для дальнейшего ее развития. Мой труд состоит из 13 книг. Первая книга содержит важнейшие предложения о сторонах и углах треугольника, о построении треугольника, о перпендикулярах и параллельных прямых, о параллелограммах и их площадях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, потомки! Поведайте же мне, кто 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80560" y="25560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Вопрос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9600" y="1197000"/>
            <a:ext cx="31100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95640" y="476280"/>
            <a:ext cx="4773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Евклид, опираясь на исследования древнегреческих ученых, привел в систему накопленные по геометрии сведения, дополнил их своими  открытиями, а затем последовательно изложил их в 13 книгах, назвав их «Начала». Его труд на протяжении свыше 2000 лет служил учебным пособием по гео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2950920" cy="4176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380360" y="522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Внеклассное меропри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3033720" cy="4105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08360" y="1341360"/>
            <a:ext cx="2252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Comic Sans MS"/>
              </a:rPr>
              <a:t>Что?</a:t>
            </a:r>
            <a:r>
              <a:rPr b="1" lang="en-US" sz="44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47280" y="4508640"/>
            <a:ext cx="285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Comic Sans MS"/>
              </a:rPr>
              <a:t>Когда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2080" y="3068640"/>
            <a:ext cx="193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Comic Sans MS"/>
              </a:rPr>
              <a:t>Гд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Comic Sans MS"/>
              </a:rPr>
              <a:t>Ничто с такой  не побуждает высокие умы к работе над обогащением знания, как постановка трудной и в то же время полезной задачи.    </a:t>
            </a:r>
            <a:r>
              <a:rPr b="1" i="1" lang="ru-RU" sz="2000" spc="-1" strike="noStrike">
                <a:solidFill>
                  <a:srgbClr val="009999"/>
                </a:solidFill>
                <a:latin typeface="Comic Sans MS"/>
              </a:rPr>
              <a:t>Иоганн </a:t>
            </a:r>
            <a:r>
              <a:rPr b="1" i="1" lang="en-US" sz="2000" spc="-1" strike="noStrike">
                <a:solidFill>
                  <a:srgbClr val="009999"/>
                </a:solidFill>
                <a:latin typeface="Comic Sans MS"/>
              </a:rPr>
              <a:t>I</a:t>
            </a:r>
            <a:r>
              <a:rPr b="1" i="1" lang="ru-RU" sz="2000" spc="-1" strike="noStrike">
                <a:solidFill>
                  <a:srgbClr val="009999"/>
                </a:solidFill>
                <a:latin typeface="Comic Sans MS"/>
              </a:rPr>
              <a:t> Бернул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4358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1400" spc="-1" strike="noStrike">
                <a:solidFill>
                  <a:srgbClr val="996633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Comic Sans MS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16000" y="4941720"/>
            <a:ext cx="1295280" cy="144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80000" y="5877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Comic Sans MS"/>
              </a:rPr>
              <a:t>В  добрый  путь 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43760" y="1844640"/>
            <a:ext cx="152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Вопро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91200" y="23493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19920" y="31417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86440" y="3789360"/>
            <a:ext cx="152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Вопро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05520" y="450864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опрос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7040" y="1941480"/>
            <a:ext cx="152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Вопро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36120" y="2565360"/>
            <a:ext cx="152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Вопро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64480" y="3213000"/>
            <a:ext cx="152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Вопро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91400" y="3860640"/>
            <a:ext cx="152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Вопро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26240" y="4508640"/>
            <a:ext cx="169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Вопрос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52920" y="51148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опрос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опрос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87640" y="650520"/>
            <a:ext cx="5905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Кто автор литературных произведений «Воспоминания детства», «Нигилистка», «Борьба за счасть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2579400" cy="3673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003640" y="2349360"/>
            <a:ext cx="2664000" cy="3672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опрос 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зовите русский учебник по математике. Вратами своей учености назвал его Ломоносов. Как он называется? Кто автор этого учеб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411280" y="1989000"/>
            <a:ext cx="4608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64000" y="274680"/>
            <a:ext cx="51228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 знак признания достоинств этого математика Петр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I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пожаловал ему другую фамилию – Магницкий, чем хотел подчеркнуть, что развитый ум и знания привлекают к человеку других людей с такой силой с какой магнит притягивает к себе железо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241440" cy="504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5164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51280" y="2743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опрос3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исло 365 – число дней в го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65 = 1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+1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+12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65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²+14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шите  пример уст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²+11²+12²+13²+14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___________________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35272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840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я, чт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²+11²+12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=365;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3²+14²=36,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²+11²+12²+13²+14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²+11²+12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3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4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_________________   =        _________  +    _______ =1+1=2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365                                  365                  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484360" y="3357720"/>
            <a:ext cx="2951280" cy="3168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6764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опрос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529080" cy="528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95640" y="836640"/>
            <a:ext cx="4773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В шляпную лавку вошел господин средних лет с желанием купить шляпу за 30 рублей. Свою покупку он оплатил 100 рублевой банкнотой. У хозяина лавки не было сдачи, он послал приказчика в соседний магазин разменять банкноту, после чего покупателю была выдана понравившаяся ему шляпа, 70 рублей, и он удалился. Примерно через час прибежал хозяин соседнего магазина , сообщил, что 100 рублевая банкнота фальшивая и потребовал взять ее назад. Ничего не оставалось, как выплатить соседу 100 рублей настоящих денег. Вечером хозяин лавки подсчитал убытки.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 Скажите: сколько всего рублей он потерял в этот ден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5:25:43Z</dcterms:created>
  <dc:creator>User</dc:creator>
  <dc:description/>
  <dc:language>en-US</dc:language>
  <cp:lastModifiedBy>Qween</cp:lastModifiedBy>
  <dcterms:modified xsi:type="dcterms:W3CDTF">2012-12-02T15:31:39Z</dcterms:modified>
  <cp:revision>94</cp:revision>
  <dc:subject/>
  <dc:title>Внеклассное мероприятие</dc:title>
</cp:coreProperties>
</file>