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jpeg" ContentType="image/jpeg"/>
  <Override PartName="/ppt/media/image3.gif" ContentType="image/gif"/>
  <Override PartName="/ppt/media/image12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437-D6A6-4EB1-BC94-044322D0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917-5E01-4797-9738-3BD31F4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BCF-FC7A-4D2C-86FE-F5054D5B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020-FBBB-481F-9B1F-83A888FF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16E-FE2E-4E14-A96C-E2D9ED9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7C2-7E57-45EA-9E46-DB3B7BBB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2B1-65BB-4F45-B874-777750B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1DF-6ADE-41D5-B520-D531904D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F67-0D7D-43D4-8CBB-E279068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0AB-A152-4EF1-A423-C17CF41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DF1-F13C-4CEB-BF1A-DD18376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5B0-DDBA-4DD1-BC27-C2FE252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F690-FAA7-417A-8D3B-ADCB03859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84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зентация разработана для внеклассного мероприятия  </a:t>
            </a:r>
            <a:r>
              <a:rPr b="1" i="1" lang="en-US" sz="2400" spc="-1" strike="noStrike">
                <a:solidFill>
                  <a:srgbClr val="009999"/>
                </a:solidFill>
                <a:latin typeface="Comic Sans MS"/>
              </a:rPr>
              <a:t>«Что ? Где ? Когда»</a:t>
            </a:r>
            <a:r>
              <a:rPr b="1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в 9 – 11 классах 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и:  развитие у учащихся интереса к изучению математики,         развитие их интеллекта , способности логически мысл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4724280"/>
            <a:ext cx="6408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ней школы № 33 г. Саран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Богачева Ольга Михайл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2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3280" y="1484280"/>
            <a:ext cx="426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братите внимание на бубновый король. На карте вы видите изображение ромба. Почему на картах бубновой масти изображен именно ромб, а не что–нибудь  друг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3716280"/>
            <a:ext cx="8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опрос 6.(Бл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1944720" cy="158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7360" y="1700280"/>
            <a:ext cx="32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Единица упрям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189396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8760" y="335772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Самый маленький рост дев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62560" y="4869000"/>
            <a:ext cx="1657440" cy="165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0880" y="5249880"/>
            <a:ext cx="507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Два в квадрате – 4, три в квадрате – 9. Чему равен угол в квадра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360" y="907560"/>
            <a:ext cx="4546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каком числе идет речь в стихотворении С.  Боброва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дый Рим трубил победу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 твердыней Сиракуз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 трудами Архимед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ого больше я горжус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о нынче нам занятьс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азать старинке честь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бы нам не ошибиться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б окружность верно счесть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о только постаратьс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запомнить все как есть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и – четырнадцать – пятнадцат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вяносто два и ше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6200" y="28116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52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1700280"/>
            <a:ext cx="562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авилоняне во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II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тыс. до н.э. удовлетворялись значением 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= 3.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Нидерладский математик Лудолф ван Цейлен (1540-1610) вычислил 35 десятичных знаков после запятой у числа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 В течение 20 лет (с 1853 по 1873 г. г.) английский математик У. Шенк вычислил 707 десятичных знаков у числа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В 1989 году японский ученый Я. Канэда, используя суперкомпьютер получил для числа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01 326 000 цифровых знаков посл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735280" cy="475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число, выражающее длину окружности, разделить на число, выражающее диаметр этой окружности, то получится   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3,1415926535 …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240000" cy="496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80000" y="1341360"/>
            <a:ext cx="51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человек, оказавшись  случайно в небольшом городке и желая  хоть как–то убить время, решил подстричься. В городке было всего два мастера (у каждого из них своя парикмахерская). Заглянув к одному мастеру, он  увидел , что в салоне грязно, сам мастер одет неряшливо и небрежно подстрижен. В салоне другого мастера было идеально чисто, а владелец был безукоризненно одет и аккуратно подстрижен. Поразмыслив, человек отправился стричься к первому парикмахеру, Объясните причину столь странного ,на первый взгляд, реш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опрос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879640" cy="25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2736720" cy="2481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35280" y="1916280"/>
            <a:ext cx="51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и 2 февраля 1972 года в Мексиканском заливе исчез огромный танкер. Судно было обнаружено лишь 14 февраля , лежащим на дне. Все 38 членов экипажа бесследно исчезли. Но, что самое потрясающее, 39 человек – капитан танкера – был найден у себя в каюте сидящим за столом, в его руках еще была кофейная чашка!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О чем идет речь, как называется это таинственное место, форму какой геометрической фигуры оно име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32244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24360" y="1916280"/>
            <a:ext cx="496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помните отрывок из сказки Шарля Перо «Золушка», когда мачеха со своими дочерьми отправляется на бал и дает поручения Золушке: «…посадить 40 кустов роз, натереть полы, наносить во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меются ведра емкостью 3 и 5 литров. Надо принести ровно 4 литра воды , используя только эти ве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78900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3 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 5(пустой)л + (3 л)         2)  3 л  ► 5 (3)л + 2 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3) 1 л ► 5(пустой)+1 л           4) 3 л ► 5(1) = 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47176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356000" y="620640"/>
            <a:ext cx="262908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13280" y="712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 ли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3640" y="712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 ли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0" y="1413000"/>
            <a:ext cx="54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, мудрые братья! Я подвел итог предшествующему развитию греческой математики, создал фундамент для дальнейшего ее развития. Мой труд состоит из 13 книг. Первая книга содержит важнейшие предложения о сторонах и углах треугольника, о построении треугольника, о перпендикулярах и параллельных прямых, о параллелограммах и их площадях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, потомки! Поведайте же мне, кто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0560" y="2556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Вопрос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9600" y="1197000"/>
            <a:ext cx="3110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5640" y="476280"/>
            <a:ext cx="4773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Евклид, опираясь на исследования древнегреческих ученых, привел в систему накопленные по геометрии сведения, дополнил их своими  открытиями, а затем последовательно изложил их в 13 книгах, назвав их «Начала». Его труд на протяжении свыше 2000 лет служил учебным пособием по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95092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80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неклассное меро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033720" cy="410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1341360"/>
            <a:ext cx="2252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Что?</a:t>
            </a:r>
            <a:r>
              <a:rPr b="1" lang="en-US" sz="4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7280" y="4508640"/>
            <a:ext cx="28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Ког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080" y="3068640"/>
            <a:ext cx="19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Гд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Comic Sans MS"/>
              </a:rPr>
              <a:t>Ничто с такой  не побуждает высокие умы к работе над обогащением знания, как постановка трудной и в то же время полезной задачи.    </a:t>
            </a:r>
            <a:r>
              <a:rPr b="1" i="1" lang="ru-RU" sz="2000" spc="-1" strike="noStrike">
                <a:solidFill>
                  <a:srgbClr val="009999"/>
                </a:solidFill>
                <a:latin typeface="Comic Sans MS"/>
              </a:rPr>
              <a:t>Иоганн </a:t>
            </a:r>
            <a:r>
              <a:rPr b="1" i="1" lang="en-US" sz="20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1" i="1" lang="ru-RU" sz="2000" spc="-1" strike="noStrike">
                <a:solidFill>
                  <a:srgbClr val="009999"/>
                </a:solidFill>
                <a:latin typeface="Comic Sans MS"/>
              </a:rPr>
              <a:t> Бернул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1295280" cy="14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5877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omic Sans MS"/>
              </a:rPr>
              <a:t>В  добрый  путь 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3760" y="184464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91200" y="2349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19920" y="31417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86440" y="378936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5520" y="450864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7040" y="194148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36120" y="256536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64480" y="321300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91400" y="386064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26240" y="4508640"/>
            <a:ext cx="169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52920" y="5114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87640" y="650520"/>
            <a:ext cx="5905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Кто автор литературных произведений «Воспоминания детства», «Нигилистка», «Борьба за счасть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579400" cy="367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266400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зовите русский учебник по математике. Вратами своей учености назвал его Ломоносов. Как он называется? Кто автор этого учеб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608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4000" y="274680"/>
            <a:ext cx="51228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знак признания достоинств этого математика Петр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пожаловал ему другую фамилию – Магницкий, чем хотел подчеркнуть, что развитый ум и знания привлекают к человеку других людей с такой силой с какой магнит притягивает к себе железо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24144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51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3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ло 365 – число дней в г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65 = 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1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12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65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²+14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шите  пример уст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²+11²+12²+13²+14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_______________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5272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я, 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=365;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²+14²=36,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+13²+14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_________________   =        _________  +    _______ =1+1=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365                                  365                  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2951280" cy="3168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529080" cy="528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95640" y="836640"/>
            <a:ext cx="477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В шляпную лавку вошел господин средних лет с желанием купить шляпу за 30 рублей. Свою покупку он оплатил 100 рублевой банкнотой. У хозяина лавки не было сдачи, он послал приказчика в соседний магазин разменять банкноту, после чего покупателю была выдана понравившаяся ему шляпа, 70 рублей, и он удалился. Примерно через час прибежал хозяин соседнего магазина , сообщил, что 100 рублевая банкнота фальшивая и потребовал взять ее назад. Ничего не оставалось, как выплатить соседу 100 рублей настоящих денег. Вечером хозяин лавки подсчитал убытки.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Скажите: сколько всего рублей он потерял в этот де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5:25:43Z</dcterms:created>
  <dc:creator>User</dc:creator>
  <dc:description/>
  <dc:language>en-US</dc:language>
  <cp:lastModifiedBy>Qween</cp:lastModifiedBy>
  <dcterms:modified xsi:type="dcterms:W3CDTF">2012-12-02T15:31:39Z</dcterms:modified>
  <cp:revision>94</cp:revision>
  <dc:subject/>
  <dc:title>Внеклассное мероприятие</dc:title>
</cp:coreProperties>
</file>