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858-C20A-4D50-B751-DB2ECFD7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7AC-9A9D-4C60-ADF0-093E772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7E0-E134-4DB8-AAAB-F540B718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2A6-577A-4242-A40E-F2919416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619-8200-4EC1-A02A-B8FE692A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ABD-7AC7-41C9-A6A2-949F7FF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659-A519-4E2A-98C4-F3934442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C6C-B8C6-4BCC-B2D9-2DE18B9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0D7-1113-46CD-9F2E-3EB91545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749-F111-41A6-941E-8CF9CD7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C8C-F53D-4CF7-A3F7-C5EDDAD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40A-CA1F-4B1C-9CFE-8D7F2C5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B5B-4F8C-4461-909D-12A2AD26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видуальные образовательные маршру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ия и практика ре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19920" y="46483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ю 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БВ(С)ОУ «ЦО№ 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арегородцева Н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9520" y="6132600"/>
            <a:ext cx="38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боксары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дельные данные по учащимся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80880" y="1676520"/>
            <a:ext cx="2743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2"/>
          <p:cNvSpPr/>
          <p:nvPr/>
        </p:nvSpPr>
        <p:spPr>
          <a:xfrm>
            <a:off x="3505320" y="1676520"/>
            <a:ext cx="25146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6400800" y="1676520"/>
            <a:ext cx="25146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380880" y="1687680"/>
            <a:ext cx="26672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циальный 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полные семьи -78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чие - 6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ужащие - 1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нсионеры, инвалиды, безработные - 14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едприниматели – 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3506760" y="1676520"/>
            <a:ext cx="2436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бные заведения, учащиеся которых обучаются в шко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дицинский колле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зыкальное уч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удожественное уч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лектромеханический коллед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0"/>
          <p:cNvSpPr/>
          <p:nvPr/>
        </p:nvSpPr>
        <p:spPr>
          <a:xfrm>
            <a:off x="6400800" y="1687680"/>
            <a:ext cx="23623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зультаты ввод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с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кс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усский язы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кс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1"/>
          <p:cNvSpPr/>
          <p:nvPr/>
        </p:nvSpPr>
        <p:spPr>
          <a:xfrm>
            <a:off x="1066680" y="434340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зникающие проблемы в обуче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изкий уровень мотивации к учеб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ный уровень знаний и прилежания к учеб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хватка времени для посещения учебны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954960" indent="33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благоприятной и мотивирующей на продолжение дальнейшей учебы может строиться только на основе воспитания навыков самоконтроля и  самообразования,  т.е. принципов изначально заложенных в обучении по индивидуальным образовательным маршру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62120" y="40464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й образовательный маршру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структурированная программа действий ученика на некотором фиксированном этапе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и учащихся в рамках индивидуального маршру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ает проблему недостатка свободного времени для посещения учебных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ет возмож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ределять индивидуальный объем изучения учебных дисципли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оставляет учащимся возможность выбора оптимальных форм и темп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именять те способы учения, которые наиболее соответствуют индивидуаль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тавить собственные цели в изучении конкретной 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уществлять оценку и корректировку своей образовательной деятельности на основе осознанного отношения к своей позиции в уч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жидаемы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бучении по индивидуальным маршру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шное освоение учебных дисциплин в объеме, предусмотренном выбранным общим учебным пла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владение навыками самостоятельн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привычки к самоконтролю и самооцен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уктура индивидуального марш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ременная структура индивидуаль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держательная структура индивидуального образовательного маршр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тролирующая структура индивидуального образовательного маршру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рректировка индивидуаль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Аттестация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ржание индивидуального маршр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тульный л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ние изучаем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ния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кущий и итоговый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удности для учителя при работе по индивидуальным маршру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яжение при проведении занятий, поскольку ученики находятся в разных точках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предусмотреть работу с разноуровневыми уче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разрабатывать уроки сразу для всей те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льшое количество раздаточного материала на одном  уро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я уче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комфортность условий: каждый работает в своем темпе и самостоятельно продвигается по маршруту, учитель выступает в роли консульта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же если ученик отсутствовал на уроке, то пропущенный материал он может усво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учителя имеется возможность работать индивидуально с каждым учен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05T08:47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