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A53-9863-41EA-855A-22E90045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C1E-57F4-40A6-B404-926C3C21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46A-36E1-43D2-96D3-08FA7CE8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AD09-51F6-4F1A-B156-999C9370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3ED-9C39-4E5C-AB17-DA86D9BC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D7C-ACA8-48AB-A2CC-6DD588B7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C56D-6175-4145-BE21-6A35444E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9B32-C38A-4F1F-A56C-3BF39E91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808-7124-4B5B-8BF7-CD0AF9A6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1BE7-BB61-494E-8C3E-0163CFA9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B093-6F76-40F2-93C9-441AF577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DF0-DEC7-4E3E-80B1-BC842906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34E1-B00A-4409-8003-2D42DE55E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дивидуальные образовательные маршру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ория и практика реа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019920" y="464832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зентацию выполн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итель биологии и хим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БВ(С)ОУ «ЦО№ 2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арегородцева Н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819520" y="6132600"/>
            <a:ext cx="38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ебоксары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дельные данные по учащимся шко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1"/>
          <p:cNvSpPr/>
          <p:nvPr/>
        </p:nvSpPr>
        <p:spPr>
          <a:xfrm>
            <a:off x="380880" y="1676520"/>
            <a:ext cx="2743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2"/>
          <p:cNvSpPr/>
          <p:nvPr/>
        </p:nvSpPr>
        <p:spPr>
          <a:xfrm>
            <a:off x="3505320" y="1676520"/>
            <a:ext cx="25146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3"/>
          <p:cNvSpPr/>
          <p:nvPr/>
        </p:nvSpPr>
        <p:spPr>
          <a:xfrm>
            <a:off x="6400800" y="1676520"/>
            <a:ext cx="25146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380880" y="1687680"/>
            <a:ext cx="266724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оциальный соста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родител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полные семьи -78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бочие - 66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лужащие - 17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енсионеры, инвалиды, безработные - 14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Предприниматели – 3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7"/>
          <p:cNvSpPr/>
          <p:nvPr/>
        </p:nvSpPr>
        <p:spPr>
          <a:xfrm>
            <a:off x="3506760" y="1676520"/>
            <a:ext cx="24368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ебные заведения, учащиеся которых обучаются в шко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едицинский коллед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узыкальное училищ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Художественное училищ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лектромеханический коллед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0"/>
          <p:cNvSpPr/>
          <p:nvPr/>
        </p:nvSpPr>
        <p:spPr>
          <a:xfrm>
            <a:off x="6400800" y="1687680"/>
            <a:ext cx="236232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Результаты ввод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тестир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Матема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мальный балл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аксимальный балл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усский язы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мальный балл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аксимальный балл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1"/>
          <p:cNvSpPr/>
          <p:nvPr/>
        </p:nvSpPr>
        <p:spPr>
          <a:xfrm>
            <a:off x="1066680" y="4343400"/>
            <a:ext cx="754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озникающие проблемы в обуче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изкий уровень мотивации к учеб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ный уровень знаний и прилежания к учеб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хватка времени для посещения учебных заня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954960" indent="338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здание благоприятной и мотивирующей на продолжение дальнейшей учебы может строиться только на основе воспитания навыков самоконтроля и  самообразования,  т.е. принципов изначально заложенных в обучении по индивидуальным образовательным маршрут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762120" y="40464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дивидуальный образовательный маршру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это структурированная программа действий ученика на некотором фиксированном этапе обуч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можности учащихся в рамках индивидуального маршру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шает проблему недостатка свободного времени для посещения учебных занят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ет возмож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пределять индивидуальный объем изучения учебных дисциплин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доставляет учащимся возможность выбора оптимальных форм и темпов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применять те способы учения, которые наиболее соответствуют индивидуальным особенностя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ставить собственные цели в изучении конкретной 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существлять оценку и корректировку своей образовательной деятельности на основе осознанного отношения к своей позиции в уч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жидаемы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обучении по индивидуальным маршру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спешное освоение учебных дисциплин в объеме, предусмотренном выбранным общим учебным план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владение навыками самостоятельной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витие привычки к самоконтролю и самооцен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руктура индивидуального маршру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ременная структура индивидуального образовательного маршру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держательная структура индивидуального образовательного маршр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тролирующая структура индивидуального образовательного маршру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Корректировка индивидуального образовательного маршру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Аттестация дости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держание индивидуального маршру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итульный ли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яснительная запи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ланирование учебн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ание изучаемого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дания для самостоятель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кущий и итоговый контр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писок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клю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рудности для учителя при работе по индивидуальным маршру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пряжение при проведении занятий, поскольку ученики находятся в разных точках маршру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бходимо предусмотреть работу с разноуровневыми учени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еобходимо разрабатывать уроки сразу для всей те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большое количество раздаточного материала на одном  урок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ля учен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это комфортность условий: каждый работает в своем темпе и самостоятельно продвигается по маршруту, учитель выступает в роли консультан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аже если ученик отсутствовал на уроке, то пропущенный материал он может усво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 учителя имеется возможность работать индивидуально с каждым учени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05T08:47:4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