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B19-A913-411E-8BE5-844FCB8C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07B-D20B-4745-91D7-A4191F76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DD3-A338-4DF2-AC4B-69B3EBE8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0F8-61BE-484F-80E0-216142A9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F5E2-A83C-463D-82EC-EE289FE5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6A65-2BE6-4247-B53A-97E75A13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CF48-4386-4026-B745-8F31564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74A-B267-415B-9E44-2E45546F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1A47-6A4C-47D4-9453-54ECA43B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8377-0BEC-497A-88CB-AD808DD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CB43-8EDD-4E0B-BA02-1A344DF2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DAE-79D4-4484-9823-A31006A5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C00B-39B3-42BD-A8FD-00BC4D2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5880-D1C3-45CC-B9A5-BE3D97C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E6F1-BCA5-4BD9-ACF4-1C10D285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FA79-29BB-48FF-98FC-A6CB85EA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669C-D480-497E-BE93-8F1AF7EC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BA0-BAE8-49F5-B190-435461AD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40F-6C8A-4C70-A9D0-13D8267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05D-2098-456B-A84A-CF830DA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1EF-99D3-418D-8B8E-5404C2F9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598-F2A9-4BBC-B48D-3B26D2D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CAB-7DC6-4360-9D16-303528AA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090-60A6-402A-9B4B-AB5A1F0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0C20-21A1-46FF-ABE7-9FF18F9B2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647D-59D7-49D9-B226-D242D4527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Урок - иг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5280" y="1483920"/>
            <a:ext cx="8353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Тема: «Производная и интеграл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Цель: повторить теоретический материал по темам: «Производная», «Интеграл»; привить умения решать задания с производной и интеграл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4560" y="259920"/>
            <a:ext cx="8209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7.Этот ученый в своей книге высказал изучаемую ныне теорему о том, если производная функции у(х) положительна, то данная функция на этом участке возрастает; если же производная отрицательна, то функция убывает.</a:t>
            </a: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          Кто этот ученый?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3716280"/>
            <a:ext cx="7931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Эйл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иет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199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Ответы: 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е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 2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м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0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р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х ≤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-4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к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             1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ф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4,5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а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;   х≥0(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м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ить уравне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’ (x) = f (x),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 (x) = x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² +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точку минимума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 x² -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угловой коэффициент касательной к графику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 ln x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в точке с абсциссой х ₒ =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 интервалы возрастания функци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 (x) =e˟- 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йти площадь фигуры, ограниченной заданными линиями:      у = х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+ 1 и прямой у = х +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зелен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0920" y="234936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йти дл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 (x) =sin2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образную, график которой проходит через точку М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остроить эскиз графика функ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 =f (x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, определенной на [а; в], если а=-1, в=3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’ (x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&lt;x &lt; 3; f (0) = 0; f (3) = -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Найти наибольшее целое решение неравенств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’ (x) &lt; 0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 (x) = 1⁄3 x³ - x² - 3x + 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желт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Найти первообразную функции 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) = 3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˟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Вычислите сумму значений фун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= 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- 3х + 2   в точках экстрему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Задания «красной» дорожк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Найти площадь фигуры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граниченной параболой  у = 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+ 10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касательными к этой параболе, проведенными из точки (0;1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Заключительный ту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42472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йти на парабол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 = х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    точку, ближайшую к точке А (2; 0,5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333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21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«Величие человека в его способности мыслить»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66400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58920" y="2060640"/>
            <a:ext cx="280980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66544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059280" y="4076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284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797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8160" y="34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2349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20000" y="522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тборочный ту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1840" y="188640"/>
            <a:ext cx="7921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1.В Париже в 1800 году в книге «Вычисление производных» был впервые введен термин «производная». Кто был автором этой книг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агранж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рбогаст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о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Арбога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4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2.Кем был предложен термин «интеграл»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ер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ернул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арроу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аска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Бернулли (1696 г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.Кто ввел обозначение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f ‘(x)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ьютон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ейбни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опита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Лагран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агран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20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4.Кем был введен символ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ʃ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y dx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Эйлер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ш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Бернул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  (1686 г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440" y="-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" y="6422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4560" y="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5.В какой книге Леонард Эйлер уделяет главное внимание понятию «производная»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0360" y="3025800"/>
            <a:ext cx="7491600" cy="16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«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Интегральные исчисл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Б) «Дифференциальные исчисления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«Начала …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Введение в анализ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4000" y="537336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«Дифференциальные исчисления» (1755 г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01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6.Если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0</a:t>
            </a: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- точка экстремума дифференцируемой функции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(x)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, то</a:t>
            </a:r>
            <a:br>
              <a:rPr sz="2800"/>
            </a:b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f’(x</a:t>
            </a:r>
            <a:r>
              <a:rPr b="1" i="1" lang="en-US" sz="1600" spc="-1" strike="noStrike">
                <a:solidFill>
                  <a:srgbClr val="333399"/>
                </a:solidFill>
                <a:latin typeface="Tahoma"/>
              </a:rPr>
              <a:t>0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) = 0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. Чье имя носит это утверждение 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3549240"/>
            <a:ext cx="7491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В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ифаг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ши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Г)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Лейбн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9280" y="5373360"/>
            <a:ext cx="7859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Фер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6:25:24Z</dcterms:created>
  <dc:creator>Qween</dc:creator>
  <dc:description/>
  <dc:language>en-US</dc:language>
  <cp:lastModifiedBy>Qween</cp:lastModifiedBy>
  <dcterms:modified xsi:type="dcterms:W3CDTF">2012-12-04T19:42:33Z</dcterms:modified>
  <cp:revision>64</cp:revision>
  <dc:subject/>
  <dc:title>Урок - игра</dc:title>
</cp:coreProperties>
</file>