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02B-A20E-4178-AF16-7781FCBF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442-AE99-4292-BE50-C1DC7BF7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0EF-7118-469A-AB80-2CA22D41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51F-9125-4070-84DD-BC7418D2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4B6D-767F-460D-9338-F7A679DF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A1D3-B955-44B1-B1A2-EFBCAB1F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4E55-224A-4F0A-9EE6-3DFE33DC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BC90-AD9A-4FB8-9B54-8AE2475E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C043-45E3-421D-A40F-5C660C90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4AAA-4F98-4349-88CB-DBE79889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491E-A6E7-48E6-9C64-D95A32BD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6E2-DA33-414F-89F3-26A1E967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9E06-8604-4713-8EEC-0B3A08CD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E89B-2848-4184-B0E1-2F209995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0089-85EC-47C6-879E-20686B44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6AC2-A22D-43EE-AF1C-A43C9173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209F-7B7D-4652-96D5-038C7E8B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A58-68C7-457B-A426-66536DEF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BFB-28F2-431F-B7F0-DD40F5CA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D76-42A6-4EF4-A830-3CD48D50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252-4952-49EF-8A69-909FC905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A6D-1C40-48F0-B3E4-6ED42444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709-4B27-494A-A76C-346BC322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E7E-C223-456C-98B1-0C6FEC7B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17EF-AF6B-4F80-913A-671E65A6B5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5855-815E-4C82-8A82-0C88228C3E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Урок - иг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Тема: «Производная и интеграл»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Цель: повторить теоретический материал по темам: «Производная», «Интеграл»; привить умения решать задания с производной и интеграл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4560" y="259920"/>
            <a:ext cx="820908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7.Этот ученый в своей книге высказал изучаемую ныне теорему о том, если производная функции у(х) положительна, то данная функция на этом участке возрастает; если же производная отрицательна, то функция убывает.</a:t>
            </a: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          Кто этот ученый?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3716280"/>
            <a:ext cx="7931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Ферма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В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Эйле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Виет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Г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Лейбни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9280" y="537336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Лейбниц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7199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Ответы: 0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е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    2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м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   0,5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р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   х ≤0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в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  -4,5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к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             1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ф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   4,5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а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   х≥0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м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ить уравнение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’ (x) = f (x)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 (x) = x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² +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йти точку минимума функци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 (x) = x² -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йти угловой коэффициент касательной к графику функци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 (x) = ln x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в точке с абсциссой х ₒ =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йти  интервалы возрастания функци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 (x) =e˟- 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йти площадь фигуры, ограниченной заданными линиями:      у = х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+ 1 и прямой у = х +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Задания «зеленой» дорожк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йти для функци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 (x) =sin2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ообразную, график которой проходит через точку М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Построить эскиз графика функц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 =f (x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, определенной на [а; в], если а=-1, в=3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’ (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&lt;x &lt; 3; f (0) = 0; f (3) = -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Найти наибольшее целое решение неравенств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’ (x) &lt; 0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f (x) = 1⁄3 x³ - x² - 3x + 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Задания «желтой» дорожк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Найти первообразную функции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) = 3 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˟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2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Вычислите сумму значений фун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= 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- 3х + 2   в точках экстремум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Задания «красной» дорожк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Найти площадь фигуры,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граниченной параболой  у = 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+ 10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касательными к этой параболе, проведенными из точки (0;1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Заключительный ту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42472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айти на парабол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 = х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    точку, ближайшую к точке А (2; 0,5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333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2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«Величие человека в его способности мыслить»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2664000" cy="43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58920" y="2060640"/>
            <a:ext cx="2809800" cy="43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867280" y="2060640"/>
            <a:ext cx="2665440" cy="43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059280" y="4076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328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4797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816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2349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000" y="522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Отборочный ту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1840" y="188640"/>
            <a:ext cx="7921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1.В Париже в 1800 году в книге «Вычисление производных» был впервые введен термин «производная». Кто был автором этой книги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0360" y="3549240"/>
            <a:ext cx="7491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агранж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В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ейбни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рбогаст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Г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Кош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9280" y="537336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рбогас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4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2.Кем был предложен термин «интеграл»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0360" y="3549240"/>
            <a:ext cx="7491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ер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В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Бернул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Барроу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Г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аска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9280" y="537336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Бернулли (1696 г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58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.Кто ввел обозначение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f ‘(x)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0360" y="3549240"/>
            <a:ext cx="7491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ьютон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В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ейбни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опитал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Г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агран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9280" y="537336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Лагран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201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4.Кем был введен символ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ʃ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y dx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  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0360" y="3549240"/>
            <a:ext cx="7491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Эйлер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В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ош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Лейбниц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Г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Бернул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9280" y="537336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Лейбниц  (1686 г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0" y="6422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4560" y="0"/>
            <a:ext cx="8209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5.В какой книге Леонард Эйлер уделяет главное внимание понятию «производная»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0360" y="3025800"/>
            <a:ext cx="7491600" cy="16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«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Интегральные исчисле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Б) «Дифференциальные исчисления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«Начала …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«Введение в анализ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4000" y="537336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«Дифференциальные исчисления» (1755 г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201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6.Если 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0</a:t>
            </a: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- точка экстремума дифференцируемой функции 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(x)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, то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f’(x</a:t>
            </a:r>
            <a:r>
              <a:rPr b="1" i="1" lang="en-US" sz="1600" spc="-1" strike="noStrike">
                <a:solidFill>
                  <a:srgbClr val="333399"/>
                </a:solidFill>
                <a:latin typeface="Tahoma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) = 0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. Чье имя носит это утверждение 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0360" y="3549240"/>
            <a:ext cx="7491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Ферма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В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ифаго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оши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Г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Лейбн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9280" y="537336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Фер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6:25:24Z</dcterms:created>
  <dc:creator>Qween</dc:creator>
  <dc:description/>
  <dc:language>en-US</dc:language>
  <cp:lastModifiedBy>Qween</cp:lastModifiedBy>
  <dcterms:modified xsi:type="dcterms:W3CDTF">2012-12-04T19:42:33Z</dcterms:modified>
  <cp:revision>64</cp:revision>
  <dc:subject/>
  <dc:title>Урок - игра</dc:title>
</cp:coreProperties>
</file>