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65B-844E-474E-B8EE-4DA9DC01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9E8-2AFB-4E43-9962-82CFFBC4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510-727D-425E-BBA5-1D909C87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B9A-4552-4A79-B8C3-DDD2A8A2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857-E23E-4F94-9BA8-B30AD71A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746-E9DD-4751-8AE1-C91DB0EA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AE1-9F6C-43B4-810C-32C168B8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1FB-A54B-4716-B08B-6F4BB7CB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F18-7904-45CA-B76A-B347E12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E84-E609-4259-85B0-86508151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768-2014-4ED9-81E5-5FD948B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250-52F1-444A-94E0-383D9B0A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FC84-A67C-4EB3-B4A1-6CCFC0882F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42976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Творческий проект на тему: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онументальная живопись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Витраж.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4200" y="2928600"/>
            <a:ext cx="58579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ца 7 класса «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23   п.Айха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чарова Ольга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уководитель: учитель ИЗО и черчения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Гумарова Л.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3" descr="D:\мамо\витраж образцы\untitled.bmp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3.  Подобрать цветовую гамму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vitraj-mozaika"/>
          <p:cNvPicPr/>
          <p:nvPr/>
        </p:nvPicPr>
        <p:blipFill>
          <a:blip r:embed="rId3"/>
          <a:stretch/>
        </p:blipFill>
        <p:spPr>
          <a:xfrm>
            <a:off x="4525920" y="3363840"/>
            <a:ext cx="93600" cy="13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P1020632"/>
          <p:cNvPicPr/>
          <p:nvPr/>
        </p:nvPicPr>
        <p:blipFill>
          <a:blip r:embed="rId4"/>
          <a:stretch/>
        </p:blipFill>
        <p:spPr>
          <a:xfrm>
            <a:off x="0" y="17146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4056120" cy="6429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4.  Подложить эскиз под стекло и обвести рисунок контуром, создавая замкнутое пространство;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5.  Разукрасить рисунок (залить участки нужным цветом) и дать высохнуть работе;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6.   Добавление контуром линий для композиции рисунка;</a:t>
            </a:r>
            <a:br>
              <a:rPr sz="20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Picture 6" descr="vitraj-mozaika"/>
          <p:cNvPicPr/>
          <p:nvPr/>
        </p:nvPicPr>
        <p:blipFill>
          <a:blip r:embed="rId3"/>
          <a:stretch/>
        </p:blipFill>
        <p:spPr>
          <a:xfrm>
            <a:off x="4714920" y="285840"/>
            <a:ext cx="4214880" cy="62150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85680" y="500040"/>
            <a:ext cx="6026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ои творческие рабо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Содержимое 4" descr="P1020344 - копия (2).JPG"/>
          <p:cNvPicPr/>
          <p:nvPr/>
        </p:nvPicPr>
        <p:blipFill>
          <a:blip r:embed="rId1"/>
          <a:stretch/>
        </p:blipFill>
        <p:spPr>
          <a:xfrm>
            <a:off x="285840" y="642960"/>
            <a:ext cx="2386080" cy="34862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5" descr="3 в пикселях.JPG"/>
          <p:cNvPicPr/>
          <p:nvPr/>
        </p:nvPicPr>
        <p:blipFill>
          <a:blip r:embed="rId2"/>
          <a:stretch/>
        </p:blipFill>
        <p:spPr>
          <a:xfrm>
            <a:off x="6500880" y="3000240"/>
            <a:ext cx="2413080" cy="359280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пиксели2.JPG"/>
          <p:cNvPicPr/>
          <p:nvPr/>
        </p:nvPicPr>
        <p:blipFill>
          <a:blip r:embed="rId3"/>
          <a:stretch/>
        </p:blipFill>
        <p:spPr>
          <a:xfrm>
            <a:off x="1928880" y="4357800"/>
            <a:ext cx="292572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в пикс.JPG"/>
          <p:cNvPicPr/>
          <p:nvPr/>
        </p:nvPicPr>
        <p:blipFill>
          <a:blip r:embed="rId4"/>
          <a:stretch/>
        </p:blipFill>
        <p:spPr>
          <a:xfrm>
            <a:off x="3286080" y="1928880"/>
            <a:ext cx="290376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318440" cy="11682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d4d4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ьзуемая литератур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3360" y="1357200"/>
            <a:ext cx="81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ильные украшения для дома своими руками, издательство «Книжный клуб» гг.Харьков, Белгород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Большая Российская энциклопедия, В 30т/ т.2 М.Большая Российская Энциклопедия 2005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дбор рекламных фотографий с изображением витраж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311960" cy="928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одержание проект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2760" y="2142720"/>
            <a:ext cx="8541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ой выбор проекта, обоснование пробл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пределение конкретной задачи и её формулир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ыявление основных параметров и огранич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стория возникновения витр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ланирование и изгото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азработка идей и вариа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ехнология изгото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8143920" cy="9288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ebfa"/>
              </a:gs>
            </a:gsLst>
            <a:lin ang="2700000"/>
          </a:gradFill>
          <a:ln cap="sq" w="1260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й выбор проекта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основание проблемы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8143920" cy="457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ebfa"/>
              </a:gs>
            </a:gsLst>
            <a:lin ang="2700000"/>
          </a:gradFill>
          <a:ln w="12600">
            <a:solidFill>
              <a:srgbClr val="4d4d4d"/>
            </a:solidFill>
            <a:miter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В этом году на уроках ИЗО  мы изучали тему «Монументальное искусство». Наша учительница Лариса Васильевна показала  новый для нас вид творчества роспись по стеклу акриловыми красками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Мне вообще очень нравится рисовать или что-то делать своими руками. Хочется, чтобы вокруг было всё красивое и яркое. В кабинете я давно любовалась работами других детей в технике «Витраж». Вот  и я наконец-то </a:t>
            </a:r>
            <a:r>
              <a:rPr b="0" lang="ru-RU" sz="2800" spc="-1" strike="noStrike">
                <a:solidFill>
                  <a:srgbClr val="000052"/>
                </a:solidFill>
                <a:latin typeface="Times New Roman"/>
              </a:rPr>
              <a:t>попробую выполнить работы в это</a:t>
            </a: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й техни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680" y="928800"/>
            <a:ext cx="8229600" cy="5643360"/>
          </a:xfrm>
          <a:prstGeom prst="rect">
            <a:avLst/>
          </a:prstGeom>
          <a:gradFill rotWithShape="0">
            <a:gsLst>
              <a:gs pos="0">
                <a:srgbClr val="009973"/>
              </a:gs>
              <a:gs pos="100000">
                <a:srgbClr val="ffebfa"/>
              </a:gs>
            </a:gsLst>
            <a:lin ang="2700000"/>
          </a:gradFill>
          <a:ln w="12600">
            <a:solidFill>
              <a:srgbClr val="0099cc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Рассмотрев свои возмож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я  поставила перед собой задач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5d45"/>
                </a:solidFill>
                <a:latin typeface="Arial"/>
              </a:rPr>
              <a:t>-   изучить теоретический материал по теме  «Монументальная живопись», узнать боль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d45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5d45"/>
                </a:solidFill>
                <a:latin typeface="Arial"/>
              </a:rPr>
              <a:t>о витраж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4d"/>
                </a:solidFill>
                <a:latin typeface="Arial"/>
              </a:rPr>
              <a:t>-   создать несколько картин в технике роспись по стеклу по технологии «Витраж», которые могут украсить не только мою комнату и одновременно могут быть хорошим подарком для моих  родителей и бабушки</a:t>
            </a:r>
            <a:r>
              <a:rPr b="1" i="1" lang="ru-RU" sz="2800" spc="-1" strike="noStrike">
                <a:solidFill>
                  <a:srgbClr val="0066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215120" cy="1071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7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пределение конкретной задачи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и её формулировк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advTm="9000">
    <p:cover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6280" y="228600"/>
            <a:ext cx="7070760" cy="1200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явление основных параметров и ограничений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291520" cy="4643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1260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акие требования предъявляем к своему будущему издел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я картина должна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расивой и оригинальн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оответствовать интерьеру комна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ачественно и аккуратно выполне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Цветовая гамма должна сочетаться со стилем комн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:\мамо\витраж образцы\untitled18.bmp"/>
          <p:cNvPicPr/>
          <p:nvPr/>
        </p:nvPicPr>
        <p:blipFill>
          <a:blip r:embed="rId1"/>
          <a:stretch/>
        </p:blipFill>
        <p:spPr>
          <a:xfrm>
            <a:off x="5429160" y="3071880"/>
            <a:ext cx="3714840" cy="378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:\мамо\витраж образцы\untitled20.bmp"/>
          <p:cNvPicPr/>
          <p:nvPr/>
        </p:nvPicPr>
        <p:blipFill>
          <a:blip r:embed="rId2"/>
          <a:stretch/>
        </p:blipFill>
        <p:spPr>
          <a:xfrm>
            <a:off x="0" y="0"/>
            <a:ext cx="3000240" cy="357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48808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d1ff"/>
                </a:solidFill>
                <a:latin typeface="Arial"/>
              </a:rPr>
              <a:t>История возникновения витраж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итраж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произошло от французского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itre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(оконное стекло)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пытки создание чего – то похожего на витраж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дпринимались ещё в 5 – 6вв. Так, например, в   раннехристианск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азиликах 5 -6 вв.  окна заполнялись специально подобранны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нчайшими прозрачными пластинами алебастра, составляющи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личные орнаменты.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зрачные и бесцветные стёкла появились одновременно с христианством в отличие, от непрозрачного стекла в Египте, хотя и было поначалу очень неоднородно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ждение витража, как такового можно датировать приблизитель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 – 7вв. нашей эры, когда для создания особой эмоциональ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тмосферы витражи  стала использовать христианска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толическая церковь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эпоху Возрождения витражи в полной мере становит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инами с реалистической передачей объёма. Они создаются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 живопись на стекле на основе полотен известных художник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 подлинный расцвет витражного искусства начался в Запад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ропе в эпоху Ренессанс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мамо\витраж образцы\untitled2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5057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5072040" cy="11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4d4d4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В   наше   время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58" name="Rectangle 3"/>
          <p:cNvGrpSpPr/>
          <p:nvPr/>
        </p:nvGrpSpPr>
        <p:grpSpPr>
          <a:xfrm>
            <a:off x="-12600" y="4133880"/>
            <a:ext cx="9169200" cy="2736720"/>
            <a:chOff x="-12600" y="4133880"/>
            <a:chExt cx="9169200" cy="2736720"/>
          </a:xfrm>
        </p:grpSpPr>
        <p:pic>
          <p:nvPicPr>
            <p:cNvPr id="59" name="Rectangle 3" descr=""/>
            <p:cNvPicPr/>
            <p:nvPr/>
          </p:nvPicPr>
          <p:blipFill>
            <a:blip r:embed="rId2"/>
            <a:stretch/>
          </p:blipFill>
          <p:spPr>
            <a:xfrm>
              <a:off x="-12600" y="4133880"/>
              <a:ext cx="91692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4143240"/>
              <a:ext cx="914400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25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XX век</a:t>
              </a:r>
              <a:r>
                <a:rPr b="0" lang="ru-RU" sz="2400" spc="-1" strike="noStrike">
                  <a:solidFill>
                    <a:srgbClr val="ffc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как и подобает веку научно-технических революций и прогресса, внёс свои  уникальные изменения в витраж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Times New Roman"/>
                </a:rPr>
                <a:t>Теперь  художественный витраж – это технология + красота + искусство + человеческая потребность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 жилище проникает цветной солнечный свет, оказывая благотворное влияние на здоровье человек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4000">
    <p:split dir="in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6413400" cy="9856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ланирование и изготовление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00280" y="1785960"/>
            <a:ext cx="55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спользуемый материа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Diagram 6"/>
          <p:cNvGrpSpPr/>
          <p:nvPr/>
        </p:nvGrpSpPr>
        <p:grpSpPr>
          <a:xfrm>
            <a:off x="519840" y="2143080"/>
            <a:ext cx="3492720" cy="3996360"/>
            <a:chOff x="519840" y="2143080"/>
            <a:chExt cx="3492720" cy="3996360"/>
          </a:xfrm>
        </p:grpSpPr>
        <p:sp>
          <p:nvSpPr>
            <p:cNvPr id="64" name="_s1028"/>
            <p:cNvSpPr/>
            <p:nvPr/>
          </p:nvSpPr>
          <p:spPr>
            <a:xfrm flipH="1" flipV="1">
              <a:off x="1419840" y="3637800"/>
              <a:ext cx="427680" cy="25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1029"/>
            <p:cNvSpPr/>
            <p:nvPr/>
          </p:nvSpPr>
          <p:spPr>
            <a:xfrm>
              <a:off x="519840" y="2896200"/>
              <a:ext cx="969480" cy="997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</a:rPr>
                <a:t>Бумага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1030"/>
            <p:cNvSpPr/>
            <p:nvPr/>
          </p:nvSpPr>
          <p:spPr>
            <a:xfrm flipH="1">
              <a:off x="1419840" y="4387680"/>
              <a:ext cx="427680" cy="25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1031"/>
            <p:cNvSpPr/>
            <p:nvPr/>
          </p:nvSpPr>
          <p:spPr>
            <a:xfrm>
              <a:off x="524160" y="4395240"/>
              <a:ext cx="968760" cy="997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Рамка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дл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стекл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1032"/>
            <p:cNvSpPr/>
            <p:nvPr/>
          </p:nvSpPr>
          <p:spPr>
            <a:xfrm>
              <a:off x="2265120" y="4636440"/>
              <a:ext cx="0" cy="507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785600" y="5141160"/>
              <a:ext cx="968760" cy="998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Краск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по стекл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1034"/>
            <p:cNvSpPr/>
            <p:nvPr/>
          </p:nvSpPr>
          <p:spPr>
            <a:xfrm>
              <a:off x="2681280" y="4387680"/>
              <a:ext cx="427680" cy="25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3043800" y="4391280"/>
              <a:ext cx="968760" cy="998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Контуры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по стекл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_s1036"/>
            <p:cNvSpPr/>
            <p:nvPr/>
          </p:nvSpPr>
          <p:spPr>
            <a:xfrm flipV="1">
              <a:off x="2681280" y="3637440"/>
              <a:ext cx="427680" cy="25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_s1037"/>
            <p:cNvSpPr/>
            <p:nvPr/>
          </p:nvSpPr>
          <p:spPr>
            <a:xfrm>
              <a:off x="3043800" y="2891880"/>
              <a:ext cx="968760" cy="998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</a:rPr>
                <a:t>Стекло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_s1038"/>
            <p:cNvSpPr/>
            <p:nvPr/>
          </p:nvSpPr>
          <p:spPr>
            <a:xfrm flipV="1">
              <a:off x="2265120" y="3136680"/>
              <a:ext cx="0" cy="507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_s1039"/>
            <p:cNvSpPr/>
            <p:nvPr/>
          </p:nvSpPr>
          <p:spPr>
            <a:xfrm>
              <a:off x="1781640" y="2143080"/>
              <a:ext cx="969480" cy="997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Эски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_s1040"/>
            <p:cNvSpPr/>
            <p:nvPr/>
          </p:nvSpPr>
          <p:spPr>
            <a:xfrm>
              <a:off x="1781640" y="3645360"/>
              <a:ext cx="969480" cy="998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Роспис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п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стекл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7" name="Picture 22" descr="S6302261"/>
          <p:cNvPicPr/>
          <p:nvPr/>
        </p:nvPicPr>
        <p:blipFill>
          <a:blip r:embed="rId2"/>
          <a:stretch/>
        </p:blipFill>
        <p:spPr>
          <a:xfrm>
            <a:off x="4429080" y="3143160"/>
            <a:ext cx="4500720" cy="3286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advTm="5000"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998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98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986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Технология изготовления 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1. Сначала нужно нарисовать  несколько эскизов;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2.   Выбрать наиболее понравившийся;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P1020632"/>
          <p:cNvPicPr/>
          <p:nvPr/>
        </p:nvPicPr>
        <p:blipFill>
          <a:blip r:embed="rId3"/>
          <a:srcRect l="47259" t="47067" r="6257" b="10899"/>
          <a:stretch/>
        </p:blipFill>
        <p:spPr>
          <a:xfrm>
            <a:off x="1214280" y="2571840"/>
            <a:ext cx="671544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8:56:54Z</dcterms:created>
  <dc:creator>Stars</dc:creator>
  <dc:description/>
  <dc:language>en-US</dc:language>
  <cp:lastModifiedBy>Пользователь</cp:lastModifiedBy>
  <dcterms:modified xsi:type="dcterms:W3CDTF">2013-01-12T12:18:30Z</dcterms:modified>
  <cp:revision>29</cp:revision>
  <dc:subject/>
  <dc:title>РАБОТУ ВЫПОНИЛИ</dc:title>
</cp:coreProperties>
</file>