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1A5-DFF5-4002-901E-12FCCD30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CB6-56BF-456C-93A5-D8B352DF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B2C-7625-46C3-8D07-47702D21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E52-AB8C-46A9-AF98-17C59867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67D-0821-44EE-933A-CFD124D7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7B1-FFD9-4FE9-A717-92480585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E52-31C9-43AC-9515-4D5738DA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C75-8585-445C-A1E0-F3A240AB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726-275F-4871-8F45-AECF5549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B7E-6DCA-4B06-AC3C-4E3F3D65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31D-29BA-4637-B099-4C4B022C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215-3959-48C0-B1C7-5BA1F96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5FDB-5675-4210-B903-81FA53DAD5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920" y="356760"/>
            <a:ext cx="842976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Творческий проект на тему: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Монументальная живопись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Витраж.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4200" y="2928600"/>
            <a:ext cx="58579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ца 7 класса «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 СОШ №23   п.Айха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чарова Ольга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уководитель: учитель ИЗО и черчения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Гумарова Л.В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3" descr="D:\мамо\витраж образцы\untitled.bmp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3.  Подобрать цветовую гамму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vitraj-mozaika"/>
          <p:cNvPicPr/>
          <p:nvPr/>
        </p:nvPicPr>
        <p:blipFill>
          <a:blip r:embed="rId3"/>
          <a:stretch/>
        </p:blipFill>
        <p:spPr>
          <a:xfrm>
            <a:off x="4525920" y="3363840"/>
            <a:ext cx="93600" cy="130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P1020632"/>
          <p:cNvPicPr/>
          <p:nvPr/>
        </p:nvPicPr>
        <p:blipFill>
          <a:blip r:embed="rId4"/>
          <a:stretch/>
        </p:blipFill>
        <p:spPr>
          <a:xfrm>
            <a:off x="0" y="17146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4056120" cy="6429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844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4.  Подложить эскиз под стекло и обвести рисунок контуром, создавая замкнутое пространство;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5.  Разукрасить рисунок (залить участки нужным цветом) и дать высохнуть работе;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6.   Добавление контуром линий для композиции рисунка;</a:t>
            </a:r>
            <a:br>
              <a:rPr sz="20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Picture 6" descr="vitraj-mozaika"/>
          <p:cNvPicPr/>
          <p:nvPr/>
        </p:nvPicPr>
        <p:blipFill>
          <a:blip r:embed="rId3"/>
          <a:stretch/>
        </p:blipFill>
        <p:spPr>
          <a:xfrm>
            <a:off x="4714920" y="285840"/>
            <a:ext cx="4214880" cy="621504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85680" y="500040"/>
            <a:ext cx="6026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ои творческие работ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Содержимое 4" descr="P1020344 - копия (2).JPG"/>
          <p:cNvPicPr/>
          <p:nvPr/>
        </p:nvPicPr>
        <p:blipFill>
          <a:blip r:embed="rId1"/>
          <a:stretch/>
        </p:blipFill>
        <p:spPr>
          <a:xfrm>
            <a:off x="285840" y="642960"/>
            <a:ext cx="2386080" cy="34862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5" descr="3 в пикселях.JPG"/>
          <p:cNvPicPr/>
          <p:nvPr/>
        </p:nvPicPr>
        <p:blipFill>
          <a:blip r:embed="rId2"/>
          <a:stretch/>
        </p:blipFill>
        <p:spPr>
          <a:xfrm>
            <a:off x="6500880" y="3000240"/>
            <a:ext cx="2413080" cy="359280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4" descr="пиксели2.JPG"/>
          <p:cNvPicPr/>
          <p:nvPr/>
        </p:nvPicPr>
        <p:blipFill>
          <a:blip r:embed="rId3"/>
          <a:stretch/>
        </p:blipFill>
        <p:spPr>
          <a:xfrm>
            <a:off x="1928880" y="4357800"/>
            <a:ext cx="292572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5" descr="в пикс.JPG"/>
          <p:cNvPicPr/>
          <p:nvPr/>
        </p:nvPicPr>
        <p:blipFill>
          <a:blip r:embed="rId4"/>
          <a:stretch/>
        </p:blipFill>
        <p:spPr>
          <a:xfrm>
            <a:off x="3286080" y="1928880"/>
            <a:ext cx="290376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318440" cy="11682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d4d4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ьзуемая литература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3360" y="1357200"/>
            <a:ext cx="818352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ильные украшения для дома своими руками, издательство «Книжный клуб» гг.Харьков, Белгород 2007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Большая Российская энциклопедия, В 30т/ т.2 М.Большая Российская Энциклопедия 2005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дбор рекламных фотографий с изображением витраж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311960" cy="928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одержание проект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2760" y="2142720"/>
            <a:ext cx="85410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ой выбор проекта, обоснование пробл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пределение конкретной задачи и её формулиро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ыявление основных параметров и огранич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стория возникновения витр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ланирование и изгото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азработка идей и вариа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ехнология изгото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8143920" cy="9288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ebfa"/>
              </a:gs>
            </a:gsLst>
            <a:lin ang="2700000"/>
          </a:gradFill>
          <a:ln cap="sq" w="1260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й выбор проекта,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основание проблемы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8143920" cy="457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ebfa"/>
              </a:gs>
            </a:gsLst>
            <a:lin ang="2700000"/>
          </a:gradFill>
          <a:ln w="12600">
            <a:solidFill>
              <a:srgbClr val="4d4d4d"/>
            </a:solidFill>
            <a:miter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В этом году на уроках ИЗО  мы изучали тему «Монументальное искусство». Наша учительница Лариса Васильевна показала  новый для нас вид творчества роспись по стеклу акриловыми красками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Мне вообще очень нравится рисовать или что-то делать своими руками. Хочется, чтобы вокруг было всё красивое и яркое. В кабинете я давно любовалась работами других детей в технике «Витраж». Вот  и я наконец-то </a:t>
            </a:r>
            <a:r>
              <a:rPr b="0" lang="ru-RU" sz="2800" spc="-1" strike="noStrike">
                <a:solidFill>
                  <a:srgbClr val="000052"/>
                </a:solidFill>
                <a:latin typeface="Times New Roman"/>
              </a:rPr>
              <a:t>попробую выполнить работы в это</a:t>
            </a: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й техни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680" y="928800"/>
            <a:ext cx="8229600" cy="5643360"/>
          </a:xfrm>
          <a:prstGeom prst="rect">
            <a:avLst/>
          </a:prstGeom>
          <a:gradFill rotWithShape="0">
            <a:gsLst>
              <a:gs pos="0">
                <a:srgbClr val="009973"/>
              </a:gs>
              <a:gs pos="100000">
                <a:srgbClr val="ffebfa"/>
              </a:gs>
            </a:gsLst>
            <a:lin ang="2700000"/>
          </a:gradFill>
          <a:ln w="12600">
            <a:solidFill>
              <a:srgbClr val="0099cc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Рассмотрев свои возмож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я  поставила перед собой задач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5d45"/>
                </a:solidFill>
                <a:latin typeface="Arial"/>
              </a:rPr>
              <a:t>-   изучить теоретический материал по теме  «Монументальная живопись», узнать больш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d45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5d45"/>
                </a:solidFill>
                <a:latin typeface="Arial"/>
              </a:rPr>
              <a:t>о витраж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4d"/>
                </a:solidFill>
                <a:latin typeface="Arial"/>
              </a:rPr>
              <a:t>-   создать несколько картин в технике роспись по стеклу по технологии «Витраж», которые могут украсить не только мою комнату и одновременно могут быть хорошим подарком для моих  родителей и бабушки</a:t>
            </a:r>
            <a:r>
              <a:rPr b="1" i="1" lang="ru-RU" sz="2800" spc="-1" strike="noStrike">
                <a:solidFill>
                  <a:srgbClr val="0066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215120" cy="1071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00007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пределение конкретной задачи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и её формулировк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advTm="9000">
    <p:cover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6280" y="228600"/>
            <a:ext cx="7070760" cy="1200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1260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ыявление основных параметров и ограничений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7120" y="1856880"/>
            <a:ext cx="8291520" cy="4643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1260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Какие требования предъявляем к своему будущему издели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я картина должна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расивой и оригинальн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оответствовать интерьеру комна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ачественно и аккуратно выполне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Цветовая гамма должна сочетаться со стилем комна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:\мамо\витраж образцы\untitled18.bmp"/>
          <p:cNvPicPr/>
          <p:nvPr/>
        </p:nvPicPr>
        <p:blipFill>
          <a:blip r:embed="rId1"/>
          <a:stretch/>
        </p:blipFill>
        <p:spPr>
          <a:xfrm>
            <a:off x="5429160" y="3071880"/>
            <a:ext cx="3714840" cy="378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:\мамо\витраж образцы\untitled20.bmp"/>
          <p:cNvPicPr/>
          <p:nvPr/>
        </p:nvPicPr>
        <p:blipFill>
          <a:blip r:embed="rId2"/>
          <a:stretch/>
        </p:blipFill>
        <p:spPr>
          <a:xfrm>
            <a:off x="0" y="0"/>
            <a:ext cx="3000240" cy="357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48808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d1ff"/>
                </a:solidFill>
                <a:latin typeface="Arial"/>
              </a:rPr>
              <a:t>История возникновения витраж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71680"/>
            <a:ext cx="91440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итраж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произошло от французского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itre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(оконное стекло)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пытки создание чего – то похожего на витраж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дпринимались ещё в 5 – 6вв. Так, например, в   раннехристианск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азиликах 5 -6 вв.  окна заполнялись специально подобранны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ончайшими прозрачными пластинами алебастра, составляющи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личные орнаменты.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зрачные и бесцветные стёкла появились одновременно с христианством в отличие, от непрозрачного стекла в Египте, хотя и было поначалу очень неоднородно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ждение витража, как такового можно датировать приблизитель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 – 7вв. нашей эры, когда для создания особой эмоциональ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тмосферы витражи  стала использовать христианска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толическая церковь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эпоху Возрождения витражи в полной мере становит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ртинами с реалистической передачей объёма. Они создаются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ак живопись на стекле на основе полотен известных художник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о подлинный расцвет витражного искусства начался в Запад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ропе в эпоху Ренессанс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мамо\витраж образцы\untitled2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5057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5072040" cy="11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4d4d4d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В   наше   время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58" name="Rectangle 3"/>
          <p:cNvGrpSpPr/>
          <p:nvPr/>
        </p:nvGrpSpPr>
        <p:grpSpPr>
          <a:xfrm>
            <a:off x="-12600" y="4133880"/>
            <a:ext cx="9169200" cy="2736720"/>
            <a:chOff x="-12600" y="4133880"/>
            <a:chExt cx="9169200" cy="2736720"/>
          </a:xfrm>
        </p:grpSpPr>
        <p:pic>
          <p:nvPicPr>
            <p:cNvPr id="59" name="Rectangle 3" descr=""/>
            <p:cNvPicPr/>
            <p:nvPr/>
          </p:nvPicPr>
          <p:blipFill>
            <a:blip r:embed="rId2"/>
            <a:stretch/>
          </p:blipFill>
          <p:spPr>
            <a:xfrm>
              <a:off x="-12600" y="4133880"/>
              <a:ext cx="916920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0" y="4143240"/>
              <a:ext cx="914400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125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XX век</a:t>
              </a:r>
              <a:r>
                <a:rPr b="0" lang="ru-RU" sz="2400" spc="-1" strike="noStrike">
                  <a:solidFill>
                    <a:srgbClr val="ffc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ffff00"/>
                  </a:solidFill>
                  <a:latin typeface="Times New Roman"/>
                </a:rPr>
                <a:t>как и подобает веку научно-технических революций и прогресса, внёс свои  уникальные изменения в витраж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161616"/>
                  </a:solidFill>
                  <a:latin typeface="Times New Roman"/>
                </a:rPr>
                <a:t>Теперь  художественный витраж – это технология + красота + искусство + человеческая потребность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 жилище проникает цветной солнечный свет, оказывая благотворное влияние на здоровье человека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4000">
    <p:split dir="in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6413400" cy="9856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1260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ланирование и изготовление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00280" y="1785960"/>
            <a:ext cx="55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спользуемый материа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Diagram 6"/>
          <p:cNvGrpSpPr/>
          <p:nvPr/>
        </p:nvGrpSpPr>
        <p:grpSpPr>
          <a:xfrm>
            <a:off x="519840" y="2143080"/>
            <a:ext cx="3492720" cy="3996360"/>
            <a:chOff x="519840" y="2143080"/>
            <a:chExt cx="3492720" cy="3996360"/>
          </a:xfrm>
        </p:grpSpPr>
        <p:sp>
          <p:nvSpPr>
            <p:cNvPr id="64" name="_s1028"/>
            <p:cNvSpPr/>
            <p:nvPr/>
          </p:nvSpPr>
          <p:spPr>
            <a:xfrm flipH="1" flipV="1">
              <a:off x="1419840" y="3637800"/>
              <a:ext cx="427680" cy="25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_s1029"/>
            <p:cNvSpPr/>
            <p:nvPr/>
          </p:nvSpPr>
          <p:spPr>
            <a:xfrm>
              <a:off x="519840" y="2896200"/>
              <a:ext cx="969480" cy="997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</a:rPr>
                <a:t>Бумага</a:t>
              </a:r>
              <a:r>
                <a:rPr b="1" lang="en-US" sz="2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_s1030"/>
            <p:cNvSpPr/>
            <p:nvPr/>
          </p:nvSpPr>
          <p:spPr>
            <a:xfrm flipH="1">
              <a:off x="1419840" y="4387680"/>
              <a:ext cx="427680" cy="25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1031"/>
            <p:cNvSpPr/>
            <p:nvPr/>
          </p:nvSpPr>
          <p:spPr>
            <a:xfrm>
              <a:off x="524160" y="4395240"/>
              <a:ext cx="968760" cy="997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Рамка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для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стекл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1032"/>
            <p:cNvSpPr/>
            <p:nvPr/>
          </p:nvSpPr>
          <p:spPr>
            <a:xfrm>
              <a:off x="2265120" y="4636440"/>
              <a:ext cx="0" cy="507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1033"/>
            <p:cNvSpPr/>
            <p:nvPr/>
          </p:nvSpPr>
          <p:spPr>
            <a:xfrm>
              <a:off x="1785600" y="5141160"/>
              <a:ext cx="968760" cy="998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Краск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по стекл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1034"/>
            <p:cNvSpPr/>
            <p:nvPr/>
          </p:nvSpPr>
          <p:spPr>
            <a:xfrm>
              <a:off x="2681280" y="4387680"/>
              <a:ext cx="427680" cy="25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3043800" y="4391280"/>
              <a:ext cx="968760" cy="998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Контуры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по стекл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_s1036"/>
            <p:cNvSpPr/>
            <p:nvPr/>
          </p:nvSpPr>
          <p:spPr>
            <a:xfrm flipV="1">
              <a:off x="2681280" y="3637440"/>
              <a:ext cx="427680" cy="255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_s1037"/>
            <p:cNvSpPr/>
            <p:nvPr/>
          </p:nvSpPr>
          <p:spPr>
            <a:xfrm>
              <a:off x="3043800" y="2891880"/>
              <a:ext cx="968760" cy="998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Arial"/>
                </a:rPr>
                <a:t>Стекло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_s1038"/>
            <p:cNvSpPr/>
            <p:nvPr/>
          </p:nvSpPr>
          <p:spPr>
            <a:xfrm flipV="1">
              <a:off x="2265120" y="3136680"/>
              <a:ext cx="0" cy="507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_s1039"/>
            <p:cNvSpPr/>
            <p:nvPr/>
          </p:nvSpPr>
          <p:spPr>
            <a:xfrm>
              <a:off x="1781640" y="2143080"/>
              <a:ext cx="969480" cy="9975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Эскиз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_s1040"/>
            <p:cNvSpPr/>
            <p:nvPr/>
          </p:nvSpPr>
          <p:spPr>
            <a:xfrm>
              <a:off x="1781640" y="3645360"/>
              <a:ext cx="969480" cy="99828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Роспис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п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стекл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7" name="Picture 22" descr="S6302261"/>
          <p:cNvPicPr/>
          <p:nvPr/>
        </p:nvPicPr>
        <p:blipFill>
          <a:blip r:embed="rId2"/>
          <a:stretch/>
        </p:blipFill>
        <p:spPr>
          <a:xfrm>
            <a:off x="4429080" y="3143160"/>
            <a:ext cx="4500720" cy="3286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advTm="5000"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998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98"/>
                            </p:stCondLst>
                            <p:childTnLst>
                              <p:par>
                                <p:cTn id="2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986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Технология изготовления 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1. Сначала нужно нарисовать  несколько эскизов;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2.   Выбрать наиболее понравившийся;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9" name="Picture 5" descr="P1020632"/>
          <p:cNvPicPr/>
          <p:nvPr/>
        </p:nvPicPr>
        <p:blipFill>
          <a:blip r:embed="rId3"/>
          <a:srcRect l="47259" t="47067" r="6257" b="10899"/>
          <a:stretch/>
        </p:blipFill>
        <p:spPr>
          <a:xfrm>
            <a:off x="1214280" y="2571840"/>
            <a:ext cx="671544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8:56:54Z</dcterms:created>
  <dc:creator>Stars</dc:creator>
  <dc:description/>
  <dc:language>en-US</dc:language>
  <cp:lastModifiedBy>Пользователь</cp:lastModifiedBy>
  <dcterms:modified xsi:type="dcterms:W3CDTF">2013-01-12T12:18:30Z</dcterms:modified>
  <cp:revision>29</cp:revision>
  <dc:subject/>
  <dc:title>РАБОТУ ВЫПОНИЛИ</dc:title>
</cp:coreProperties>
</file>