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1CE-053D-45B1-BA78-3D4D3B18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F82-23D4-4373-9959-FEBF13DD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093-EFA3-49A8-9FD7-B1DB604C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B2D-EE08-4C86-80FF-52F2CA95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107-F46A-486C-8041-E8A85072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AFE-9785-4000-9AB2-E1F2CD96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319-0D8B-4946-92D3-A48B5532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556-500C-4408-BC19-DCC9DEC5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820-1AF4-4FAA-925C-BD7BBA8E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941-5AE0-419B-98C5-013F61B3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2D5-600D-4C53-9FE0-8553D277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185-99AC-4AD4-81D8-101E6019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C659-A317-44B7-8C0A-C813F45973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роект: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истанционные конкурсы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1 полугод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Учитель ГБОУ СОШ №53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Антропова Э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2012-2013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Реши до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1) . _  . .     . . _       _ _ _ .     _ _ _ _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_ _     .     _ .     _ . . _     _ _ _ _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_ . .     . 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_ . . .     _ . _ _     . . .     _     . _ .     .     .  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2)   − · ·   · − −   · −         · − − ·   · − · ·   · · − −   · · ·         −   · − ·   · 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3) ПГХЗПГХЛНГ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ЩГУЛЩ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ЕФЗ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РГЦН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Некоторые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1616040" y="2192400"/>
          <a:ext cx="5910120" cy="334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192400"/>
                    <a:ext cx="59101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504d"/>
                </a:solidFill>
                <a:latin typeface="Calibri"/>
              </a:rPr>
              <a:t>Осенняя интернет-олимпиада по математике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на сайте «Меташкола» </a:t>
            </a:r>
            <a:r>
              <a:rPr b="1" lang="ru-RU" sz="2200" spc="-1" strike="noStrike">
                <a:solidFill>
                  <a:srgbClr val="c0504d"/>
                </a:solidFill>
                <a:latin typeface="Calibri"/>
              </a:rPr>
              <a:t>21 ноября в 19:00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c0504d"/>
                </a:solidFill>
                <a:latin typeface="Calibri"/>
              </a:rPr>
              <a:t>  2012 г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413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Участники: Смирнова Арина5а, Ковалёва Ксения5а,  Мустофаева Алсу 5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220500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Times New Roman"/>
              </a:rPr>
              <a:t>Как принять участие в олимпиад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1.Зарегистрироваться в МетаШколе (повторно регистрироваться не нужно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2. Войти в МетаШколу с логином и паролем и записаться на олимпиад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3. Настроить компьютер для участия в олимпиаде. После настройки еще раз войти в МетаШколу, перейти на страницу олимпиады и проверить дату и время нача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4. За день до начала олимпиады убедиться, что Вы знаете свой логин и пароль, умеете входить в МетаШкол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5. Минут за 10-15 до начала олимпиады войти в МетаШколу с логином и паролем и перейти на страницу олимпиады. Таймер будет отсчитывать время до начала олимпиа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6. Как только олимпиада начнется, на экране появятся задачи. К каждой задаче будет дано несколько вариантов ответа, один из которых - правильный. Во время олимпиады нужно решить задачи (в любом порядке) и прямо на экране выбрать правильный вариант ответа к каждой задаче. Таймер будет отсчитывать время до конца олимпиад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7. </a:t>
            </a:r>
            <a:r>
              <a:rPr b="1" lang="ru-RU" sz="1600" spc="-1" strike="noStrike">
                <a:solidFill>
                  <a:srgbClr val="c0504d"/>
                </a:solidFill>
                <a:latin typeface="Times New Roman"/>
              </a:rPr>
              <a:t>За несколько минут до окончания олимпиады</a:t>
            </a: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 отправить свои ответы, для этого нажать на кнопку </a:t>
            </a:r>
            <a:r>
              <a:rPr b="0" i="1" lang="ru-RU" sz="1600" spc="-1" strike="noStrike">
                <a:solidFill>
                  <a:srgbClr val="c0504d"/>
                </a:solidFill>
                <a:latin typeface="Times New Roman"/>
              </a:rPr>
              <a:t>Отправить</a:t>
            </a: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 внизу страницы с задачами. Можно отправлять ответы, даже если не все задачи решены. Отправлять ответы можно один раз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Times New Roman"/>
              </a:rPr>
              <a:t>8. Убедиться, что ответы отправились (появится сообщение о том, что ответы получены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учеренкоНН«Из опыта работы с одарёнными деть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удрявцев СА«Система работы с одаренными по математике детьми в нашей гимназии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ахмутский А.Е. Школьная система мониторинга качества образования. Псков: АНО «Центр социального проектирования «Возрождение» , 2004. – 96 с.2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едотова Н. К. Из опыта работы с одаренными детьми / Н. К. Федотова // Вестник НГУ. Серия: Педагогика / Новосиб гос ун-т. — 2008. — Т. 9, вып. 1. — С. 53 — 56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станционный образовательный портал «Продлёнка» http://www.prodlenka.or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таШкола http://www.metaschool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стантное обучение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http://www.desc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ИМЦ Кировского района - Официальный информационный порта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http://www.nmc-kirov.spb.ru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08000" y="2565360"/>
            <a:ext cx="8856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аждый человек талантлив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Добьётся ли человек успеха, в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многом зависит от того, будет ли выявлен его талант, получит ли о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шанс использовать свою  одарён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1128600" y="7650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Концепция общенациональной систе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выявления и развития молодых тала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220640" y="4797360"/>
            <a:ext cx="38109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Утвержде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Президентом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.А. Медведев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3 апреля 2012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Указ Президента РФ от 7 мая 2012 г. N 599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«О мерах по реализации государственной политики в области образования и наук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1341360"/>
            <a:ext cx="8569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равительству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обеспечить реализацию следующих мероприятий в области образ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внесение в июле 2012 г. в Государственную Думу Федерального Собрания Российской Федерации проекта федерального закона "Об образовании в Российской Федерации"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разработку и утверждение в декабре 2013 г. Концепции развития математического образования в Российской Федерации на основе аналитических данных о состоянии математического образования на различных уровнях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разработку и реализацию до конца декабря 2012 г. мер, направленных на повышение эффективности единого государственного экзаме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разработку к июню 2012 г. комплекса мер, направленных на выявление и поддержку одаренных детей и молодеж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.Пу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Система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  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ыявление одаренных детей;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  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витие творческих способностей на урок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 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развитие способностей во внеурочной деятельности (олимпиады, конкурсы, исследовательская работа, проектная деятельность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создание условий для всестороннего развития одаренных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1 полугод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курс по игре Судоку на сайте «Мета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курс по кодам и шифрам на сайте «Мета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курс по игре «Японские кроссворды» на сайте «Мета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ческая Интернет-карусель на                                                                                сайте «Дистантное обучение: центр дополнительного образования детей 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есоюзный интернет-Конкурс по СУДОКУ на «Меташкола»15.10.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Участники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: Смирнова Арина  5а, Коссе Юра 6б, Питерцева Светлана 10, Чинина Настя 5а, Ахмедьянова Вика 10, Панова Лера 10, Птицына Лиза 1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Подготовка к конкурсу(некоторые материалы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Домашняя недельная работа-два квадрата Судоку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835280" y="3429000"/>
          <a:ext cx="5473440" cy="309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429000"/>
                    <a:ext cx="547344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Всесоюзный  интернет-Конкурс по кодам и шифрам на сайте «Меташкола»15.11.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12500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Участники: Смирнова Арина 5а (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1степень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), Кочура Иван 5а (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1 степень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), Питерцева Светлана 10 (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2 степень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), Ковалёва Ксения 5а (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3 степень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), Ахмедьянова Вика 10 (</a:t>
            </a: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3 степень</a:t>
            </a:r>
            <a:r>
              <a:rPr b="0" lang="ru-RU" sz="2400" spc="-1" strike="noStrike">
                <a:solidFill>
                  <a:srgbClr val="c0504d"/>
                </a:solidFill>
                <a:latin typeface="Calibri"/>
              </a:rPr>
              <a:t>), Кудрявцева Лиза10, Головчанова Маша10, Климова5а, Мустофаева Алсу 5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одготовка к конкурсу(некоторые материалы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1)Шифр Цезар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Исходный алфавит:АБВГДЕЁЖЗИЙКЛМНОПРСТУФХЦЧШЩЪЫЬЭЮ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Шифрованный:ГДЕЁЖЗИЙКЛМНОПРСТУФХЦЧШЩЪЫЬЭЮЯАБ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2)Расшифруй таблицей и реши до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родолжи: бувибедышкзальутнориревыз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родолжи: соозттдоомитренраррезьаж…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родолжи: нслеетейиойсмратеуиойбм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1808280" y="260280"/>
          <a:ext cx="459108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8280" y="260280"/>
                    <a:ext cx="459108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3"/>
          <p:cNvGraphicFramePr/>
          <p:nvPr/>
        </p:nvGraphicFramePr>
        <p:xfrm>
          <a:off x="2633760" y="609480"/>
          <a:ext cx="38764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3760" y="609480"/>
                    <a:ext cx="38764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7"/>
          <p:cNvSpPr/>
          <p:nvPr/>
        </p:nvSpPr>
        <p:spPr>
          <a:xfrm>
            <a:off x="755640" y="260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Пляшущие человеч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0:40:15Z</dcterms:created>
  <dc:creator>Андроп</dc:creator>
  <dc:description/>
  <dc:language>en-US</dc:language>
  <cp:lastModifiedBy>acer</cp:lastModifiedBy>
  <dcterms:modified xsi:type="dcterms:W3CDTF">2013-01-13T17:37:08Z</dcterms:modified>
  <cp:revision>154</cp:revision>
  <dc:subject/>
  <dc:title>PowerPoint Presentation</dc:title>
</cp:coreProperties>
</file>