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A65-6461-4A5C-ADD8-9C1CADF7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DBA-B571-4924-92AB-39F1114D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ED4-E996-4D37-A3FC-C43F17D5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EDB-15CB-43EB-ADA9-434B9D6F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E2F-9DAB-4BA2-984D-853BADF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B63-35DB-4DC9-BD49-8146B1A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80B-15F9-42FE-9599-FB8C03A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B30-EE50-44B0-A8B5-5BAD955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322-1B52-40E4-849A-EF2AFC4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E3F-C811-4E48-879C-984EA71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C72-D740-4BEC-B91E-2713AF9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AEE-B02A-4DFE-8D2E-1676149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BA1E-F76A-4233-94EA-9EC52BEC91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роект: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станционные конкурсы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1 полугод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Учитель ГБОУ СОШ №53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нтропова Э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012-2013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Реши до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1) . _  . .     . . _       _ _ _ .     _ _ _ _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_     .     _ .     _ . . _     _ _ _ _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. .     . 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. . .     _ . _ _     . . .     _     . _ .     .     .  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2)   − · ·   · − −   · −         · − − ·   · − · ·   · · − −   · · ·         −   · − ·   · 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3) ПГХЗПГХЛНГ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ЩГУЛЩ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ЕФЗ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РГЦН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екоторые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1616040" y="2192400"/>
          <a:ext cx="591012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192400"/>
                    <a:ext cx="59101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Осенняя интернет-олимпиада по математике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а сайте «Меташкола» </a:t>
            </a: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21 ноября в 19:00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  2012 г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: Смирнова Арина5а, Ковалёва Ксения5а,  Мустофаева Алсу 5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22050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Times New Roman"/>
              </a:rPr>
              <a:t>Как принять участие в олимпиад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1.Зарегистрироваться в МетаШколе (повторно регистрироваться не нужно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2. Войти в МетаШколу с логином и паролем и записаться на олимпиад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3. Настроить компьютер для участия в олимпиаде. После настройки еще раз войти в МетаШколу, перейти на страницу олимпиады и проверить дату и время нач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4. За день до начала олимпиады убедиться, что Вы знаете свой логин и пароль, умеете входить в МетаШк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5. Минут за 10-15 до начала олимпиады войти в МетаШколу с логином и паролем и перейти на страницу олимпиады. Таймер будет отсчитывать время до начала олимпиа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6. Как только олимпиада начнется, на экране появятся задачи. К каждой задаче будет дано несколько вариантов ответа, один из которых - правильный. Во время олимпиады нужно решить задачи (в любом порядке) и прямо на экране выбрать правильный вариант ответа к каждой задаче. Таймер будет отсчитывать время до конца олимпиа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7. </a:t>
            </a:r>
            <a:r>
              <a:rPr b="1" lang="ru-RU" sz="1600" spc="-1" strike="noStrike">
                <a:solidFill>
                  <a:srgbClr val="c0504d"/>
                </a:solidFill>
                <a:latin typeface="Times New Roman"/>
              </a:rPr>
              <a:t>За несколько минут до окончания олимпиады</a:t>
            </a: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 отправить свои ответы, для этого нажать на кнопку </a:t>
            </a:r>
            <a:r>
              <a:rPr b="0" i="1" lang="ru-RU" sz="1600" spc="-1" strike="noStrike">
                <a:solidFill>
                  <a:srgbClr val="c0504d"/>
                </a:solidFill>
                <a:latin typeface="Times New Roman"/>
              </a:rPr>
              <a:t>Отправить</a:t>
            </a: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 внизу страницы с задачами. Можно отправлять ответы, даже если не все задачи решены. Отправлять ответы можно один р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8. Убедиться, что ответы отправились (появится сообщение о том, что ответы получены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черенкоНН«Из опыта работы с одарёнными деть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дрявцев СА«Система работы с одаренными по математике детьми в нашей гимназии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хмутский А.Е. Школьная система мониторинга качества образования. Псков: АНО «Центр социального проектирования «Возрождение» , 2004. – 96 с.2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дотова Н. К. Из опыта работы с одаренными детьми / Н. К. Федотова // Вестник НГУ. Серия: Педагогика / Новосиб гос ун-т. — 2008. — Т. 9, вып. 1. — С. 53 — 56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ционный образовательный портал «Продлёнка» http://www.prodlenka.or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аШкола http://www.metaschoo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тное обучение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desc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МЦ Кировского района - Официальный информационный порт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nmc-kirov.spb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8000" y="2565360"/>
            <a:ext cx="8856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ждый человек талантлив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Добьётся ли человек успеха, в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многом зависит от того, будет ли выявлен его талант, получит ли 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шанс использовать свою  одарё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28600" y="765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Концепция общенациональной систе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ыявления и развития молодых тала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220640" y="4797360"/>
            <a:ext cx="3810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Утвержде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Президентом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.А. Медведев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3 апреля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Указ Президента РФ от 7 мая 2012 г. N 599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«О мерах по реализации государственной политики в области образования и нау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обеспечить реализацию следующих мероприятий в области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несение в июле 2012 г. в Государственную Думу Федерального Собрания Российской Федерации проекта федерального закона "Об образовании в Российской Федерации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и утверждение в декабре 2013 г. Концепции развития математического образования в Российской Федерации на основе аналитических данных о состоянии математического образования на различных уровнях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и реализацию до конца декабря 2012 г. мер, направленных на повышение эффективности единого государственного экза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к июню 2012 г. комплекса мер, направленных на выявление и поддержку одаренных детей и молодеж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.Пу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истем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ыявление одаренных детей;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витие творческих способностей на урок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витие способностей во внеурочной деятельности (олимпиады, конкурсы, исследовательская работа, проектная деятельност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оздание условий для всестороннего развития одаренны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 полугод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игре Судоку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кодам и шифрам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игре «Японские кроссворды»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Дистантное обучение: центр дополнительного образования детей 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союзный интернет-Конкурс по СУДОКУ на «Меташкола»15.10.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: Смирнова Арина  5а, Коссе Юра 6б, Питерцева Светлана 10, Чинина Настя 5а, Ахмедьянова Вика 10, Панова Лера 10, Птицына Лиза 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Подготовка к конкурсу(некоторые материалы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Домашняя недельная работа-два квадрата Судоку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835280" y="3429000"/>
          <a:ext cx="5473440" cy="30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429000"/>
                    <a:ext cx="5473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Всесоюзный  интернет-Конкурс по кодам и шифрам на сайте «Меташкола»15.11.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12500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: Смирнова Арина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1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очура Иван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1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Питерцева Светлана 10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2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овалёва Ксения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3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Ахмедьянова Вика 10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3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удрявцева Лиза10, Головчанова Маша10, Климова5а, Мустофаева Алсу 5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готовка к конкурсу(некоторые материалы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)Шифр Цезар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сходный алфавит:АБВГДЕЁЖЗИЙКЛМНОПРСТУФХЦЧШЩЪЫЬЭЮ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Шифрованный:ГДЕЁЖЗИЙКЛМНОПРСТУФХЦЧШЩЪЫЬЭЮЯАБ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2)Расшифруй таблицей и реши до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бувибедышкзальутнориревыз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соозттдоомитренраррезьаж…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нслеетейиойсмратеуиойб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1808280" y="260280"/>
          <a:ext cx="459108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260280"/>
                    <a:ext cx="4591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2633760" y="609480"/>
          <a:ext cx="38764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3760" y="609480"/>
                    <a:ext cx="3876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"/>
          <p:cNvSpPr/>
          <p:nvPr/>
        </p:nvSpPr>
        <p:spPr>
          <a:xfrm>
            <a:off x="755640" y="260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Пляшущие челове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0:40:15Z</dcterms:created>
  <dc:creator>Андроп</dc:creator>
  <dc:description/>
  <dc:language>en-US</dc:language>
  <cp:lastModifiedBy>acer</cp:lastModifiedBy>
  <dcterms:modified xsi:type="dcterms:W3CDTF">2013-01-13T17:37:08Z</dcterms:modified>
  <cp:revision>154</cp:revision>
  <dc:subject/>
  <dc:title>PowerPoint Presentation</dc:title>
</cp:coreProperties>
</file>